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EA22-15D0-4E54-9FE4-701526A00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E432-DA43-4529-94A1-C1BBF94C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EABD-428D-4BF1-9AD3-923ED71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F65A-A297-44F3-92AB-267D3F988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19D6-F13C-4F98-91FC-D82CE9AC9E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406A6-1589-4762-9761-A0F23BF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80E02-468C-43E2-839B-21D60ED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83D7E-886B-4BA9-9825-2770AFA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847E4-D74C-4655-9E17-9C9F20E4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F1FC3-42E2-406A-AE7F-4818CD5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F175-42B0-47F4-9FFD-30F67000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1E8A-17D7-4268-8581-536388AC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CCEA-6E5F-49E5-A9A1-FA770089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1201D-86FA-4812-858F-6B357CD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81206-8281-4A6E-B505-AA58F23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4D2F-F4B4-4D26-B4A9-F5FA0D4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F5F6-08B8-4A82-A3CE-5FED8CD35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50A8-B699-4E11-AFA7-2E768989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252F-F023-4D32-97AD-A7893A14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61DA-7175-465F-9A18-0B61DB2A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978E-C5EB-445F-A72D-89C4C588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9B1B-C9DE-4FB7-A85D-BBFA3B9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A685-8833-441A-B73F-ADD3690A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6F0B-C424-4421-90C4-7B108A4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/18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ACCA256-EF48-4896-88E2-C462A0E4AE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/18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C0E8082-BB3F-46B5-A583-8033404355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482 -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ly talk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e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war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bas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for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ass Diagr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Use Case Diagr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everything clear and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ly e-business concepts that you have learnt in the lecture and demonstrate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ort is recommended to be approximately of 10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tly written and presented, well formed and design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mpress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