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46B9E-F448-4474-96AA-919FE70CA4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29F25-8EEE-435D-A7C8-B02FACBD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DD289-4659-4C1C-B57B-993FA772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4EF95-7975-4E74-93A1-C0492FE7A0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3933B-994C-463C-811E-0F80E74813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13106-F9DF-49A7-A70F-9AB74613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4FEC2-B5C5-4B56-80A5-21D9338C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A79B3-E1FC-438D-B2EE-F06D01E4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F1623-A333-4C75-B2BA-1EDADA3A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B6C61-12B5-4374-AE5A-53F9EA23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91C73-8D6F-47F7-A34D-56E03CEB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E978B-9D7D-4E83-836A-65087B16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CC014-224B-49A4-9556-BEF356C4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D2D7E-B154-48FD-B632-CF5EBE99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EE122-0F22-483E-BC65-B65058DD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9921D-2FA7-45B7-BFB8-5FA12670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9DAB9-D7DB-4A4C-A7CA-435B430E04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84C92-0334-46D9-B498-099A1404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74F48-0454-4651-8355-F37E2438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3D1A4-F5FB-4599-82E7-BB3392F1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1D8C9-6723-4D38-B6FB-FA5FD5B6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F995F-F97A-42B1-8734-A2666246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F9A61-9E3F-4BC6-8A6B-B71A9DD3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F0B50-B424-4B83-BC14-4BA79B57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2/18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F3F8C011-05D6-492C-95EE-2033D17FD52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0000"/>
          </a:bodyPr>
          <a:p>
            <a:pPr marL="30852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08520" indent="-30852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2/18/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-11798280" y="-11798280"/>
            <a:ext cx="11798280" cy="117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1FA32AC5-0455-4A17-91C1-34B071508A2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482 -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efly talk about th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e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isting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ed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ware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ware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bas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 form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ML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lass Diagra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Use Case Diagra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equenc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 snapsh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everything clear and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ly e-business concepts that you have learnt in the lecture and demonstrate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port is recommended to be approximately of 10 p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atly written and presented, well formed and designe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mpress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Good Luck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