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3B88-8C60-49A5-8A64-5153DC4121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4775-BA24-4CD0-95A5-788A7E946D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1D8C-43BE-4EE2-9E40-83315772681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D921-51F1-428E-8463-4942992606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4C5F-A448-4CF0-9C35-E051EB5747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F33D-0DA8-45FC-9E93-555F894444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2E4D-B95C-41B0-8760-891DF5AA78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BAF1-0819-4427-812F-5C37A50469D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D69A-0892-4F37-9302-4DFD2E0A01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3A54-3B9F-49D3-976D-94E9525115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0C94-B316-4FC2-8CA4-A44E482EF8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4ADC-6220-4150-A828-6FA5E1EE42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EC98-E1BA-486F-8B2E-3E59161C5D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62CB-4D4E-43D6-98A9-5802C3C480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2311-6562-41DB-B0EB-E5A4B1B77B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99F7-5606-40D8-9354-5387C759A0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5C30-328A-4B7E-BC94-3C369B98CE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A52D-8604-4BFB-AD90-E07DDA28AF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8685-1652-42A7-A9B1-79F5D5FBD6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5BB1-6482-427D-9459-0DFCC9AD92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B1E0-3612-497E-8FF7-60C6D3DBF5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0578-1F44-46BB-94BB-B0E350CBBB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71E1-361F-4B10-B3B9-EE3C8EF73F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D63B-2A89-41A1-A51C-D0EF208FCE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D481-D1EF-4E53-95D8-CC0FFC887E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E93B-4D27-4F76-8D9E-ADB4531D64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EC6B-EC38-4848-A0D3-F07040F4C9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B8D8-3400-4C6A-A648-5A2F632EF4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9411-5186-4FBF-882F-08F702E147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1372-DB31-4488-A73E-0F8F30329A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3EBD-2C7F-4C8B-B8A7-6F43F18B3F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567F-1C93-44DC-ACAF-622393C172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7865-B015-47C7-9D68-04F127423F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C7C7-3EE9-4AFA-BA54-D1A78ADD9A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2B51-8CBB-4B0E-9DFB-C3357DB25C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B8BF-DAA2-42B2-9BFA-1B5E01B47E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20846-D388-46E4-848D-B2E672750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D2DB-05EF-4D6D-AB34-9F16F489D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65ADD-B829-4FA3-8EBE-10752456C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024D7-4A55-4866-8656-64924E52B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F05DA-4C8A-4940-92DD-154A692E3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6000F-368D-4FD1-A3B6-C3F0DC9E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83FEA-1663-44CC-8DBF-4C3D3E549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1226-64E4-4DE2-9DB0-8307CF4F0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242B3-51A6-4EEE-AB91-178D764B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70F6-878C-4FB7-9061-18E510870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0D10D-BFF2-477C-BBED-27408E9C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3F7BC-2D21-44EF-8730-576E98185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titled-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EBEA-DD4A-4900-A600-5903613F3E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8" descr="SUMYAH LOGOI"/>
          <p:cNvPicPr/>
          <p:nvPr/>
        </p:nvPicPr>
        <p:blipFill>
          <a:blip r:embed="rId3"/>
          <a:stretch/>
        </p:blipFill>
        <p:spPr>
          <a:xfrm>
            <a:off x="7596360" y="6297480"/>
            <a:ext cx="1547640" cy="56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471C-3059-49F0-A95B-A4EA12E6066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1116000" y="162864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7200" spc="-1" strike="noStrike">
                <a:solidFill>
                  <a:srgbClr val="000000"/>
                </a:solidFill>
                <a:latin typeface="Arial"/>
              </a:rPr>
              <a:t>نظرية الإشراط الكلاسيكي وتطبيقاته </a:t>
            </a:r>
            <a:endParaRPr b="1" lang="en-US" sz="7200" spc="-1" strike="noStrike">
              <a:solidFill>
                <a:srgbClr val="000000"/>
              </a:solidFill>
              <a:latin typeface="Arial"/>
            </a:endParaRPr>
          </a:p>
        </p:txBody>
      </p:sp>
      <p:sp>
        <p:nvSpPr>
          <p:cNvPr id="53" name="PlaceHolder 2"/>
          <p:cNvSpPr>
            <a:spLocks noGrp="1"/>
          </p:cNvSpPr>
          <p:nvPr>
            <p:ph type="subTitle"/>
          </p:nvPr>
        </p:nvSpPr>
        <p:spPr>
          <a:xfrm>
            <a:off x="1332000" y="3908520"/>
            <a:ext cx="7232400" cy="175248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600" spc="-1" strike="noStrike">
                <a:solidFill>
                  <a:srgbClr val="000000"/>
                </a:solidFill>
                <a:latin typeface="Arial"/>
              </a:rPr>
              <a:t>العلاج السلوكي (نفس </a:t>
            </a:r>
            <a:r>
              <a:rPr b="0" lang="ar-AE" sz="3600" spc="-1" strike="noStrike">
                <a:solidFill>
                  <a:srgbClr val="000000"/>
                </a:solidFill>
                <a:latin typeface="Arial"/>
              </a:rPr>
              <a:t>477</a:t>
            </a:r>
            <a:r>
              <a:rPr b="0" lang="ar-AE" sz="3600" spc="-1" strike="noStrike">
                <a:solidFill>
                  <a:srgbClr val="000000"/>
                </a:solidFill>
                <a:latin typeface="Arial"/>
              </a:rPr>
              <a:t>)</a:t>
            </a:r>
            <a:endParaRPr b="1" lang="en-US" sz="3600" spc="-1" strike="noStrike">
              <a:solidFill>
                <a:srgbClr val="000000"/>
              </a:solidFill>
              <a:latin typeface="Arial"/>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600" spc="-1" strike="noStrike">
                <a:solidFill>
                  <a:srgbClr val="000000"/>
                </a:solidFill>
                <a:latin typeface="Arial"/>
              </a:rPr>
              <a:t>د.سمية النجاشي</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CE1E-4B0E-4E10-882F-005DEE58E8B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5</a:t>
            </a:r>
            <a:r>
              <a:rPr b="1" lang="ar-SA" sz="3200" spc="-1" strike="noStrike" u="sng">
                <a:solidFill>
                  <a:srgbClr val="000000"/>
                </a:solidFill>
                <a:uFillTx/>
                <a:latin typeface="Arial"/>
              </a:rPr>
              <a:t> – مبدأ الاسترجاع التلقائي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إنطفاء لا يؤدي لزوال الاستجابة الشرطية نهائيا ،فعقب فترة من الزمن لا يحدث فيها أي تدعيم للاستجابة الشرطية تعود الاستجابة بمجرد ظهور المثير الشرطي ،وإذا تكررت فترة عدم التدعيم وبعدها الاسترجاع التلقائي بمجرد ظهور المثير الشرطي عدة مرات يضعف الاسترجاع التلقائي حتى يتلاشى في النهاية (نجاتي:</a:t>
            </a:r>
            <a:r>
              <a:rPr b="1" lang="ar-SA" sz="3200" spc="-1" strike="noStrike">
                <a:solidFill>
                  <a:srgbClr val="000000"/>
                </a:solidFill>
                <a:latin typeface="Arial"/>
              </a:rPr>
              <a:t>1423</a:t>
            </a:r>
            <a:r>
              <a:rPr b="1" lang="ar-SA" sz="3200" spc="-1" strike="noStrike">
                <a:solidFill>
                  <a:srgbClr val="000000"/>
                </a:solidFill>
                <a:latin typeface="Arial"/>
              </a:rPr>
              <a:t>).</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975F-A886-4730-B7E5-217E58BC76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6</a:t>
            </a:r>
            <a:r>
              <a:rPr b="1" lang="ar-SA" sz="3200" spc="-1" strike="noStrike" u="sng">
                <a:solidFill>
                  <a:srgbClr val="000000"/>
                </a:solidFill>
                <a:uFillTx/>
                <a:latin typeface="Arial"/>
              </a:rPr>
              <a:t> – مبدأ التعميم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و انتقال أثر المثير الشرطي إلى مثيرات أخرى تشبهه أو ترمز له ،وكلما زاد التشابه كان احتمال انتقال التعميم كبيرا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3611-67F7-4620-B8BB-32EFA96EDA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7</a:t>
            </a:r>
            <a:r>
              <a:rPr b="1" lang="ar-SA" sz="3200" spc="-1" strike="noStrike" u="sng">
                <a:solidFill>
                  <a:srgbClr val="000000"/>
                </a:solidFill>
                <a:uFillTx/>
                <a:latin typeface="Arial"/>
              </a:rPr>
              <a:t> – مبدأ التمييز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و التفرقة بين المثير الأصلي والمثيرات الشبيهة به من خلال تدعيم المثير الأصلي وعدم تدعيم المثيرات الأخرى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C52B-AFA7-4CFD-80A6-04A09A11D1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8</a:t>
            </a:r>
            <a:r>
              <a:rPr b="1" lang="ar-SA" sz="3200" spc="-1" strike="noStrike" u="sng">
                <a:solidFill>
                  <a:srgbClr val="000000"/>
                </a:solidFill>
                <a:uFillTx/>
                <a:latin typeface="Arial"/>
              </a:rPr>
              <a:t> – مبدأ الاستتباع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د ينقل المثير الشرطي أثره إلى مثير آخر يسبقه مباشرة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سمى الاستجابة في هذه الحالة استجابة من الدرجة الثانية.</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مكن أن ينتقل أثر المثير الشرطي إلى مثير ثالث ورابع ..فنحصل على استجابة من الدرجة الثالثة ..وهكذا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طبيقات نظرية الإشراط الكلاسيكي </a:t>
            </a:r>
            <a:endParaRPr b="1" lang="en-US"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0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FFF8-8B4A-463C-894E-8F57DC50FA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0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D79D-E4B6-4E31-94BE-E45B1C360A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أساليب العلاج المستندة إلى الإشراط الكلاسيكي </a:t>
            </a:r>
            <a:endParaRPr b="1"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قليل الحساسية التدريج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تنفير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تنفير الخفي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معالجة بالإضاف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1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A6E9-2279-4F78-AEC8-60BEB8DA362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طور جوزيف ولبي </a:t>
            </a:r>
            <a:r>
              <a:rPr b="1" lang="en-GB" sz="3200" spc="-1" strike="noStrike">
                <a:solidFill>
                  <a:srgbClr val="000000"/>
                </a:solidFill>
                <a:latin typeface="Arial"/>
              </a:rPr>
              <a:t>Joseph Wolpe</a:t>
            </a:r>
            <a:r>
              <a:rPr b="1" lang="en-GB" sz="3200" spc="-1" strike="noStrike">
                <a:solidFill>
                  <a:srgbClr val="000000"/>
                </a:solidFill>
                <a:latin typeface="Arial"/>
              </a:rPr>
              <a:t> </a:t>
            </a:r>
            <a:r>
              <a:rPr b="1" lang="ar-AE" sz="3200" spc="-1" strike="noStrike">
                <a:solidFill>
                  <a:srgbClr val="000000"/>
                </a:solidFill>
                <a:latin typeface="Arial"/>
              </a:rPr>
              <a:t> أسلوب تقليل الحساسية التدريجي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قليل الحساسية التدريجي هو أحد أشكال الإشراط البديل </a:t>
            </a:r>
            <a:r>
              <a:rPr b="1" lang="en-GB" sz="3200" spc="-1" strike="noStrike">
                <a:solidFill>
                  <a:srgbClr val="000000"/>
                </a:solidFill>
                <a:latin typeface="Arial"/>
              </a:rPr>
              <a:t>(</a:t>
            </a:r>
            <a:r>
              <a:rPr b="1" lang="en-GB" sz="3200" spc="-1" strike="noStrike">
                <a:solidFill>
                  <a:srgbClr val="000000"/>
                </a:solidFill>
                <a:latin typeface="Arial"/>
              </a:rPr>
              <a:t>Counter Conditioning</a:t>
            </a:r>
            <a:r>
              <a:rPr b="1" lang="en-GB" sz="3200" spc="-1" strike="noStrike">
                <a:solidFill>
                  <a:srgbClr val="000000"/>
                </a:solidFill>
                <a:latin typeface="Arial"/>
              </a:rPr>
              <a:t>) </a:t>
            </a:r>
            <a:r>
              <a:rPr b="1" lang="ar-AE" sz="3200" spc="-1" strike="noStrike">
                <a:solidFill>
                  <a:srgbClr val="000000"/>
                </a:solidFill>
                <a:latin typeface="Arial"/>
              </a:rPr>
              <a:t>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إششراط البديل : هو إمكانية استخدام قوانين التعلم بهدف استبدال استجابة بأخرى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1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8885-AD7F-4C4A-83B9-13FC672CAB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كف المتبادل : </a:t>
            </a:r>
            <a:r>
              <a:rPr b="1" lang="fr-FR" sz="3200" spc="-1" strike="noStrike">
                <a:solidFill>
                  <a:srgbClr val="000000"/>
                </a:solidFill>
                <a:latin typeface="Arial"/>
              </a:rPr>
              <a:t>Reciprocal inhibition</a:t>
            </a:r>
            <a:r>
              <a:rPr b="1" lang="ar-AE" sz="3200" spc="-1" strike="noStrike">
                <a:solidFill>
                  <a:srgbClr val="000000"/>
                </a:solidFill>
                <a:latin typeface="Arial"/>
              </a:rPr>
              <a:t>هو أن الاستجابات المتناقضة لا يمكن أن تحدث في آن واحد ،لذلك يمكن استخدام إحداهما لمنع حدوث الأخرى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قلق والخوف يمكن إزالتها باتسجابات مناقضة كالاسترخاء والتدعيم الذاتي .</a:t>
            </a:r>
            <a:endParaRPr b="1"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1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94B5-F511-45FA-BF84-22E13A153FE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شتمل تقليل الحساسية التدريجي على ثلاثة مراحل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إعداد هرم القلق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استرخاء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إقران المثيرات التي تبعث على القلق لدى المتعالج بالاستجابات البديلة للقلق (الاسترخاء)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8D60-3487-488D-9508-7442C58310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u="sng">
                <a:solidFill>
                  <a:srgbClr val="000000"/>
                </a:solidFill>
                <a:uFillTx/>
                <a:latin typeface="Arial"/>
              </a:rPr>
              <a:t>إعداد هرم القلق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وضع قائمة بالمثيرات التي تثير القلق </a:t>
            </a:r>
            <a:r>
              <a:rPr b="1" lang="fr-FR" sz="3200" spc="-1" strike="noStrike">
                <a:solidFill>
                  <a:srgbClr val="000000"/>
                </a:solidFill>
                <a:latin typeface="Arial"/>
              </a:rPr>
              <a:t>Anxiety Provoking Stimuli</a:t>
            </a:r>
            <a:r>
              <a:rPr b="1" lang="ar-AE" sz="3200" spc="-1" strike="noStrike">
                <a:solidFill>
                  <a:srgbClr val="000000"/>
                </a:solidFill>
                <a:latin typeface="Arial"/>
              </a:rPr>
              <a:t>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رتيب المثيرات من الأضعف إلى الأكثر شدة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متعالج هو المسؤول الأول عن وضع القائمة ،ويشاركه فيها المعالج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BC2F-7024-42C8-A7B7-26E5CF24B0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تعلم </a:t>
            </a:r>
            <a:endParaRPr b="1"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تعريف التعلم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غير ثابت نسبيا في السلوك ينشأ عن نشاط يقوم به الفرد أو عن التدريب أو الملاحظة،ولا يكون نتيجة النضج الطبيعي أو الظروف العارض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2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2885-CDE4-405D-9BBD-16A2BD023B2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استرخاء :</a:t>
            </a:r>
            <a:endParaRPr b="1"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أهم أشكال الاسترخاء هو الاسترخاء العضلي التام .</a:t>
            </a:r>
            <a:endParaRPr b="1"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14FA-B20F-4962-82FA-7B463BFEE69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قتران المثيرات التي تبعث على القلق بالاستجابات البديلة لدى المتعالج </a:t>
            </a:r>
            <a:endParaRPr b="1"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بدأ المتعالج بتخيل المثيرات التي تقلقه أثناء الاسترخاء – من الأدنى إلى الأعلى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بعد ذلك تحصل المواجهة العلاجية المباشرة : مواجهة الأحداث في الواقع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CBA7-D044-4D55-AB73-BAA36171D3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قتران المثيرات التي تبعث على القلق بالاستجابات البديلة لدى المتعالج </a:t>
            </a:r>
            <a:endParaRPr b="1" lang="en-US" sz="4400" spc="-1" strike="noStrike">
              <a:solidFill>
                <a:srgbClr val="000000"/>
              </a:solidFill>
              <a:latin typeface="Arial"/>
            </a:endParaRPr>
          </a:p>
        </p:txBody>
      </p:sp>
      <p:pic>
        <p:nvPicPr>
          <p:cNvPr id="137" name="Diagram 1" descr=""/>
          <p:cNvPicPr/>
          <p:nvPr/>
        </p:nvPicPr>
        <p:blipFill>
          <a:blip r:embed="rId1"/>
          <a:stretch/>
        </p:blipFill>
        <p:spPr>
          <a:xfrm>
            <a:off x="1523880" y="1390680"/>
            <a:ext cx="6577200" cy="40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698F-5DD6-4F62-BAAC-884B7EA725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ليل الحساسية التدريجي </a:t>
            </a:r>
            <a:endParaRPr b="1"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جدي في علاج المخاوف والقلق ،واضطرابات الكلام والاضطرابات الجنسية .</a:t>
            </a:r>
            <a:endParaRPr b="1"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عطي نتائج سريعة في أوقات قصيرة .</a:t>
            </a:r>
            <a:endParaRPr b="1"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لا يجدي إذا كان القلق عرضا لمشكلة أخرى .</a:t>
            </a:r>
            <a:endParaRPr b="1"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قليل الحساسية التدريجي يقوم على مبادئ الإشراط الكلاسيكي والإجرائي معا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4621-3528-4626-A35A-8C3B70A874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معالجة بالتنفير </a:t>
            </a:r>
            <a:br>
              <a:rPr sz="4400"/>
            </a:br>
            <a:r>
              <a:rPr b="1" lang="fr-FR" sz="4400" spc="-1" strike="noStrike">
                <a:solidFill>
                  <a:srgbClr val="000000"/>
                </a:solidFill>
                <a:latin typeface="Arial"/>
              </a:rPr>
              <a:t>Aversion Therapy</a:t>
            </a:r>
            <a:r>
              <a:rPr b="1" lang="fr-FR" sz="4400" spc="-1" strike="noStrike">
                <a:solidFill>
                  <a:srgbClr val="000000"/>
                </a:solidFill>
                <a:latin typeface="Arial"/>
              </a:rPr>
              <a:t> </a:t>
            </a:r>
            <a:endParaRPr b="1"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ستخدم الصدمات الكهربائي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ستخدم عقاقير الغثيان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ستخدم لعلاج الإدمان على الكحول والاضطرابات الجنسي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معالجة بالتنفير </a:t>
            </a:r>
            <a:br>
              <a:rPr sz="4400"/>
            </a:br>
            <a:r>
              <a:rPr b="1" lang="fr-FR" sz="4400" spc="-1" strike="noStrike">
                <a:solidFill>
                  <a:srgbClr val="000000"/>
                </a:solidFill>
                <a:latin typeface="Arial"/>
              </a:rPr>
              <a:t>Aversion Therapy</a:t>
            </a:r>
            <a:r>
              <a:rPr b="1" lang="fr-FR" sz="4400" spc="-1" strike="noStrike">
                <a:solidFill>
                  <a:srgbClr val="000000"/>
                </a:solidFill>
                <a:latin typeface="Arial"/>
              </a:rPr>
              <a:t> </a:t>
            </a:r>
            <a:endParaRPr b="1"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مشكلاته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مشكلات أخلاقية حول استخدام العقاب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قد يسبب اضطرابات أخرى للمتعالج مثل الإصابة بالقلق والشعور بالعدواني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قد لا يعطي نتائجه إذا كانت المعززات أقوى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زول أثره على المدى الطويل .</a:t>
            </a:r>
            <a:endParaRPr b="1" lang="en-US" sz="3200" spc="-1" strike="noStrike">
              <a:solidFill>
                <a:srgbClr val="000000"/>
              </a:solidFill>
              <a:latin typeface="Arial"/>
            </a:endParaRPr>
          </a:p>
        </p:txBody>
      </p:sp>
      <p:sp>
        <p:nvSpPr>
          <p:cNvPr id="14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9"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B69B-6DB5-47E0-B748-782C513B344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284F-DCA8-4C66-9437-33B34BFBBBF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تنفير الخفي </a:t>
            </a:r>
            <a:br>
              <a:rPr sz="4400"/>
            </a:br>
            <a:r>
              <a:rPr b="1" lang="en-GB" sz="4400" spc="-1" strike="noStrike">
                <a:solidFill>
                  <a:srgbClr val="000000"/>
                </a:solidFill>
                <a:latin typeface="Arial"/>
              </a:rPr>
              <a:t>Covert Sensitization</a:t>
            </a:r>
            <a:r>
              <a:rPr b="1" lang="en-GB" sz="4400" spc="-1" strike="noStrike">
                <a:solidFill>
                  <a:srgbClr val="000000"/>
                </a:solidFill>
                <a:latin typeface="Arial"/>
              </a:rPr>
              <a:t> </a:t>
            </a:r>
            <a:endParaRPr b="1"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تم بتخيل كل من المثير والمعزز السلبي بدلا من مواجهتها حقيق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جدي مع معالجة الإدمان على الكحول و التدخين وقضم الأظافر ...</a:t>
            </a:r>
            <a:endParaRPr b="1"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6C9D-23FC-45F2-98F5-E510316EDDC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تنفير الخفي </a:t>
            </a:r>
            <a:br>
              <a:rPr sz="4400"/>
            </a:br>
            <a:r>
              <a:rPr b="1" lang="en-GB" sz="4400" spc="-1" strike="noStrike">
                <a:solidFill>
                  <a:srgbClr val="000000"/>
                </a:solidFill>
                <a:latin typeface="Arial"/>
              </a:rPr>
              <a:t>Covert Sensitization</a:t>
            </a:r>
            <a:r>
              <a:rPr b="1" lang="en-GB" sz="4400" spc="-1" strike="noStrike">
                <a:solidFill>
                  <a:srgbClr val="000000"/>
                </a:solidFill>
                <a:latin typeface="Arial"/>
              </a:rPr>
              <a:t> </a:t>
            </a:r>
            <a:endParaRPr b="1"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u="sng">
                <a:solidFill>
                  <a:srgbClr val="000000"/>
                </a:solidFill>
                <a:uFillTx/>
                <a:latin typeface="Arial"/>
              </a:rPr>
              <a:t>خطوات التنفير :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تم تخيل كل من المثير والمعزز السلبي في نفس الوقت لفترة قصيرة بحيث يختفيان معا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بعد غياب المعزز السلبي يظهر معزز بديل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جب أن يحصل المتعالج على التعزيز إذا اختار المعزز البديل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CD37-6511-4596-8915-DD27E6C52C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a:t>
            </a:r>
            <a:endParaRPr b="1"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هناك نوعان من المعالجة بالإفاضة :</a:t>
            </a:r>
            <a:endParaRPr b="1"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الإفاضة بالتخيل </a:t>
            </a:r>
            <a:r>
              <a:rPr b="0" lang="fr-FR" sz="2800" spc="-1" strike="noStrike">
                <a:solidFill>
                  <a:srgbClr val="000000"/>
                </a:solidFill>
                <a:latin typeface="Arial"/>
              </a:rPr>
              <a:t>Implosive therapy</a:t>
            </a:r>
            <a:r>
              <a:rPr b="0" lang="fr-FR" sz="2800" spc="-1" strike="noStrike">
                <a:solidFill>
                  <a:srgbClr val="000000"/>
                </a:solidFill>
                <a:latin typeface="Arial"/>
              </a:rPr>
              <a:t>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الإفاضة بالواقع </a:t>
            </a:r>
            <a:r>
              <a:rPr b="0" lang="fr-FR" sz="2800" spc="-1" strike="noStrike">
                <a:solidFill>
                  <a:srgbClr val="000000"/>
                </a:solidFill>
                <a:latin typeface="Arial"/>
              </a:rPr>
              <a:t>Flooding</a:t>
            </a:r>
            <a:endParaRPr b="0" lang="en-US" sz="28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نتائج الأبحاث حول هذه الطريقة متضارب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61E4-F75C-4B6F-8500-07652203DEB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a:t>
            </a:r>
            <a:endParaRPr b="1"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Arial"/>
              </a:rPr>
              <a:t>الأساس النظري للعلاج بالإفاضة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هناك استجابات يتم تعلمها عن طريق التعلم التجنبي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هذه الاستجابات يصعب اطفاؤها لأن المتعالج يرفض مواجهة المثير الشرطي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لذلك فالحل هو الغمر والإفاضة إما بشكل واقعي أو عن طريق التخيل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788D-2146-4E75-BD03-55CD62FB49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شروط التعلم </a:t>
            </a:r>
            <a:endParaRPr b="1"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1</a:t>
            </a:r>
            <a:r>
              <a:rPr b="1" lang="ar-AE" sz="3200" spc="-1" strike="noStrike">
                <a:solidFill>
                  <a:srgbClr val="000000"/>
                </a:solidFill>
                <a:latin typeface="Arial"/>
              </a:rPr>
              <a:t>-</a:t>
            </a:r>
            <a:r>
              <a:rPr b="1" lang="ar-SA" sz="3200" spc="-1" strike="noStrike">
                <a:solidFill>
                  <a:srgbClr val="000000"/>
                </a:solidFill>
                <a:latin typeface="Arial"/>
              </a:rPr>
              <a:t>وجود مشكلة أمام الفرد يتعين عليه حلها . </a:t>
            </a:r>
            <a:endParaRPr b="1"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مشكلة : هي كل موقف جديد يعوق وصول الفرد لحاجاته أو رغباته لا يكفي حله الخبرة السابقة أو السلوك المعتاد .</a:t>
            </a:r>
            <a:endParaRPr b="1"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AE" sz="3200" spc="-1" strike="noStrike">
                <a:solidFill>
                  <a:srgbClr val="000000"/>
                </a:solidFill>
                <a:latin typeface="Arial"/>
              </a:rPr>
              <a:t>2</a:t>
            </a:r>
            <a:r>
              <a:rPr b="1" lang="ar-AE" sz="3200" spc="-1" strike="noStrike">
                <a:solidFill>
                  <a:srgbClr val="000000"/>
                </a:solidFill>
                <a:latin typeface="Arial"/>
              </a:rPr>
              <a:t>-</a:t>
            </a:r>
            <a:r>
              <a:rPr b="1" lang="ar-SA" sz="3200" spc="-1" strike="noStrike">
                <a:solidFill>
                  <a:srgbClr val="000000"/>
                </a:solidFill>
                <a:latin typeface="Arial"/>
              </a:rPr>
              <a:t>وجود دافع يدفع الفرد للتعلم .</a:t>
            </a:r>
            <a:endParaRPr b="1"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AE" sz="3200" spc="-1" strike="noStrike">
                <a:solidFill>
                  <a:srgbClr val="000000"/>
                </a:solidFill>
                <a:latin typeface="Arial"/>
              </a:rPr>
              <a:t>3</a:t>
            </a:r>
            <a:r>
              <a:rPr b="1" lang="ar-AE" sz="3200" spc="-1" strike="noStrike">
                <a:solidFill>
                  <a:srgbClr val="000000"/>
                </a:solidFill>
                <a:latin typeface="Arial"/>
              </a:rPr>
              <a:t>-</a:t>
            </a:r>
            <a:r>
              <a:rPr b="1" lang="ar-SA" sz="3200" spc="-1" strike="noStrike">
                <a:solidFill>
                  <a:srgbClr val="000000"/>
                </a:solidFill>
                <a:latin typeface="Arial"/>
              </a:rPr>
              <a:t>بلوغ الفرد مستوى من النضج الطبيعي يسمح له بالتعلم .</a:t>
            </a:r>
            <a:endParaRPr b="1" lang="en-US" sz="3200" spc="-1" strike="noStrike">
              <a:solidFill>
                <a:srgbClr val="000000"/>
              </a:solidFill>
              <a:latin typeface="Arial"/>
            </a:endParaRPr>
          </a:p>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نضج الطبيعي :هو النمو الذي يتوقف على التكوين الوراثي للفرد في ظروف البيئة العادية المناسبة دون حاجة إلى تمرين أو ملاحظة خاص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CF85-D476-48F8-8599-E86F39D0D52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بالتخيل </a:t>
            </a:r>
            <a:endParaRPr b="1"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قترح هذه الطريقة توماس ستامفول .</a:t>
            </a:r>
            <a:endParaRPr b="1"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هذه الطريقة مبنية على نظرية العاملين :</a:t>
            </a:r>
            <a:endParaRPr b="1"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Arial"/>
              </a:rPr>
              <a:t>نظرية العاملين لمورر مبنية على فرضين :</a:t>
            </a:r>
            <a:endParaRPr b="1"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كتسب القلق عن طريق الإشراط الكلاسيكي </a:t>
            </a:r>
            <a:endParaRPr b="1"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سلوك التجنبي يتم تعزيزه عن طريق تقليل مستوى القلق.</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B37A-D8B5-49CC-AB10-1C860D5AC7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بالتخيل </a:t>
            </a:r>
            <a:endParaRPr b="1"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رتيب مثيرات القلق من الأشد إلى الأقل شدة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جعل المتعالج يتخيلها بحيث يتعرض للشعور بالقلق لفترة زمنية طويلة نوعا ما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16AB-36DE-4567-B0A7-20D658888A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بالواقع </a:t>
            </a:r>
            <a:endParaRPr b="1"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يفيد في علاج القلق والمخاوف .</a:t>
            </a:r>
            <a:endParaRPr b="1"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أهم فوائده هو علاج الأفعال القهرية ،مثل : تجنب التلوث والتحقق المتكرر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805B-B6A3-499C-8A72-187C5718C6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لإفاضة بالواقع </a:t>
            </a:r>
            <a:endParaRPr b="1"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تجربة ماير في علاج قلق الموت والأفعال القهرية .</a:t>
            </a:r>
            <a:endParaRPr b="1"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أسس النظرية لكل من الحساسية التدريجية والتنفير والإفاضة تقوم على الإشراط الكلاسيكي ،لكن نجاحها مبني على الإشراط الإجرائي (العلاقة بين الاستجابة والنتيجة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8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A03E-3950-4BAF-9B65-B94A7AC1215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تقييم ذاتي </a:t>
            </a:r>
            <a:br>
              <a:rPr sz="4400"/>
            </a:br>
            <a:r>
              <a:rPr b="1" lang="ar-AE" sz="4400" spc="-1" strike="noStrike">
                <a:solidFill>
                  <a:srgbClr val="000000"/>
                </a:solidFill>
                <a:latin typeface="Arial"/>
              </a:rPr>
              <a:t>ضعي المصطلح المناسب </a:t>
            </a:r>
            <a:endParaRPr b="1"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73000"/>
          </a:bodyPr>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ن يتجنب الفرد التعرض للمثير الشرطي باستمرار .</a:t>
            </a:r>
            <a:endParaRPr b="1"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مكانية استخدام قوانين التعلم بهدف استبدال استجابة بأخرى .</a:t>
            </a:r>
            <a:endParaRPr b="1"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استجابات المتناقضة لا يمكن أن تحدث في آن واحد ،لذلك يمكن إحداث استجابة لمنع حدوث الأخرى .</a:t>
            </a:r>
            <a:endParaRPr b="1"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غير ثابت نسبيا في السلوك يحدث نتيجة التدريب أو الممارسة ولا يكون نتيجة النضج الطبيعي .</a:t>
            </a:r>
            <a:endParaRPr b="1" lang="en-US" sz="3200" spc="-1" strike="noStrike">
              <a:solidFill>
                <a:srgbClr val="000000"/>
              </a:solidFill>
              <a:latin typeface="Arial"/>
            </a:endParaRPr>
          </a:p>
          <a:p>
            <a:pPr marL="250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50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50200" indent="-250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068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انتهت المحاضرة </a:t>
            </a:r>
            <a:endParaRPr b="1" lang="en-US" sz="4400" spc="-1" strike="noStrike">
              <a:solidFill>
                <a:srgbClr val="000000"/>
              </a:solidFill>
              <a:latin typeface="Arial"/>
            </a:endParaRPr>
          </a:p>
        </p:txBody>
      </p:sp>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88"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3637-847F-4907-B60A-CF1709AC22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6592-3162-4236-9151-B83080D306D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مقارنة بين النضج والتعلم </a:t>
            </a:r>
            <a:endParaRPr b="1" lang="en-US" sz="4400" spc="-1" strike="noStrike">
              <a:solidFill>
                <a:srgbClr val="000000"/>
              </a:solidFill>
              <a:latin typeface="Arial"/>
            </a:endParaRPr>
          </a:p>
        </p:txBody>
      </p:sp>
      <p:graphicFrame>
        <p:nvGraphicFramePr>
          <p:cNvPr id="65" name=""/>
          <p:cNvGraphicFramePr/>
          <p:nvPr/>
        </p:nvGraphicFramePr>
        <p:xfrm>
          <a:off x="457200" y="1600200"/>
          <a:ext cx="8229600" cy="4525920"/>
        </p:xfrm>
        <a:graphic>
          <a:graphicData uri="http://schemas.openxmlformats.org/drawingml/2006/table">
            <a:tbl>
              <a:tblPr/>
              <a:tblGrid>
                <a:gridCol w="4114800"/>
                <a:gridCol w="4114800"/>
              </a:tblGrid>
              <a:tr h="1051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لم</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نضج الطبيعي</a:t>
                      </a:r>
                      <a:r>
                        <a:rPr b="1"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لعب البيئة دورا كبيرا فيه حيث يحتاج إلى التدريب أو الملاحظة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وقف على التكوين الوراثي ولا يحتاج إلى تمرين أو ملاحظ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0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تبر النضج شرطا أساسيا لحدوثه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يس التعلم شرطا لحدوثه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ظهر الفروق بين أفراد النوع الواحد</a:t>
                      </a:r>
                      <a:r>
                        <a:rPr b="1"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رب بين أفراد النوع الواحد</a:t>
                      </a:r>
                      <a:r>
                        <a:rPr b="1"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2E47-665F-4EEC-B2CD-29FAECFD639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نظريات التعلم </a:t>
            </a:r>
            <a:endParaRPr b="1"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ختلف العلماء في تفسير التعلم وظهرت عدة نظريات تحاول تفسيره . ويمكن تصنيفها إلى صنفين :</a:t>
            </a:r>
            <a:endParaRPr b="1"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 النظريات الارتباطية : وترى أن عملية التعلم تتلخص في عقد ارتباطات بين مثيرات واستجابات . ومنها : نظرية التعلم الشرطي ،ونظرية </a:t>
            </a:r>
            <a:r>
              <a:rPr b="1" lang="ar-AE" sz="3200" spc="-1" strike="noStrike">
                <a:solidFill>
                  <a:srgbClr val="000000"/>
                </a:solidFill>
                <a:latin typeface="Arial"/>
              </a:rPr>
              <a:t>التعلم الإجرائي .</a:t>
            </a:r>
            <a:r>
              <a:rPr b="1" lang="ar-SA" sz="3200" spc="-1" strike="noStrike">
                <a:solidFill>
                  <a:srgbClr val="000000"/>
                </a:solidFill>
                <a:latin typeface="Arial"/>
              </a:rPr>
              <a:t>.</a:t>
            </a:r>
            <a:endParaRPr b="1"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 النظريات الإدراكية : وهي ترى أن التعلم عملية فهم وتنظيم واستبصار . وأظهرها نظرية الجشطلت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2807-E6FD-4827-A965-53AA6B5A96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1</a:t>
            </a:r>
            <a:r>
              <a:rPr b="1" lang="ar-SA" sz="3200" spc="-1" strike="noStrike" u="sng">
                <a:solidFill>
                  <a:srgbClr val="000000"/>
                </a:solidFill>
                <a:uFillTx/>
                <a:latin typeface="Arial"/>
              </a:rPr>
              <a:t> – مبدأ الاقتران التتابعي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مثير الشرطي لا يستطيع إثارة الاستجابة الشرطية إلا إذا زامن المثير أو سبقه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ترة المثلى بين المثيرين هي نصف ثانية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22D4-5C73-49F9-A324-B771A1AFF2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2</a:t>
            </a:r>
            <a:r>
              <a:rPr b="1" lang="ar-SA" sz="3200" spc="-1" strike="noStrike" u="sng">
                <a:solidFill>
                  <a:srgbClr val="000000"/>
                </a:solidFill>
                <a:uFillTx/>
                <a:latin typeface="Arial"/>
              </a:rPr>
              <a:t> – مبدأ المرة الواحدة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ى الرغم من أن بافلوف كان يكرر ارتباط المثير الطبيعي بالمثير الشرطي في تجاربه إلا أنه ثبت أن اقتران المثيرين مرة واحدة قد يكون كافيا لتكوين الاستجابة الشرطية وخصوصا في الحالات التي يصاحبها انفعال شديد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ذا المبدأ يقلل من أهمية التكرار في التعلم الشرطي .</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AA7A-D18E-48B2-A1DC-6598E970DE4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3</a:t>
            </a:r>
            <a:r>
              <a:rPr b="1" lang="ar-SA" sz="3200" spc="-1" strike="noStrike" u="sng">
                <a:solidFill>
                  <a:srgbClr val="000000"/>
                </a:solidFill>
                <a:uFillTx/>
                <a:latin typeface="Arial"/>
              </a:rPr>
              <a:t>– مبدأ التدعيم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تى تكون الارتباط بين المثير الشرطي والاستجابة الشرطية فإن هذه الرابطة تحتاج إلى تدعيم حتى تستمر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قصد بالتدعيم هو اقتران المثير الشرطي بالمثير الطبيعي من آن لآخر .</a:t>
            </a:r>
            <a:endParaRPr b="1"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4"/>
          <p:cNvSpPr/>
          <p:nvPr/>
        </p:nvSpPr>
        <p:spPr>
          <a:xfrm>
            <a:off x="3124080" y="6234120"/>
            <a:ext cx="2895840" cy="476280"/>
          </a:xfrm>
          <a:prstGeom prst="rect">
            <a:avLst/>
          </a:prstGeom>
          <a:no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نظريات التعلم وتطبيقاته</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17BE-835E-4697-9346-D691F598E3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a:solidFill>
                  <a:srgbClr val="000000"/>
                </a:solidFill>
                <a:latin typeface="Arial"/>
              </a:rPr>
              <a:t>مبادئ نظرية الإشراط الكلاسيكي</a:t>
            </a:r>
            <a:endParaRPr b="1"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4</a:t>
            </a:r>
            <a:r>
              <a:rPr b="1" lang="ar-SA" sz="3200" spc="-1" strike="noStrike" u="sng">
                <a:solidFill>
                  <a:srgbClr val="000000"/>
                </a:solidFill>
                <a:uFillTx/>
                <a:latin typeface="Arial"/>
              </a:rPr>
              <a:t> – مبدأ الانطفاء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و مبدأ معاكس لمبدأ التدعيم .</a:t>
            </a:r>
            <a:endParaRPr b="1"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هو إثارة دون تدعيم ،مما يؤدي في النهاية إلى زوال الاستجابة الشرطية تدريجيا حتى تختفي نهائيا (راجح:</a:t>
            </a:r>
            <a:r>
              <a:rPr b="1" lang="ar-SA" sz="3200" spc="-1" strike="noStrike">
                <a:solidFill>
                  <a:srgbClr val="000000"/>
                </a:solidFill>
                <a:latin typeface="Arial"/>
              </a:rPr>
              <a:t>1421</a:t>
            </a:r>
            <a:r>
              <a:rPr b="1" lang="ar-SA" sz="3200" spc="-1" strike="noStrike">
                <a:solidFill>
                  <a:srgbClr val="000000"/>
                </a:solidFill>
                <a:latin typeface="Arial"/>
              </a:rPr>
              <a:t>).</a:t>
            </a:r>
            <a:endParaRPr b="1"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1:36:01Z</dcterms:created>
  <dc:creator>سمية</dc:creator>
  <dc:description/>
  <dc:language>en-US</dc:language>
  <cp:lastModifiedBy>Sumyah</cp:lastModifiedBy>
  <dcterms:modified xsi:type="dcterms:W3CDTF">2014-03-12T07:22:06Z</dcterms:modified>
  <cp:revision>74</cp:revision>
  <dc:subject/>
  <dc:title> شروط التكيف السليم ومظاهره </dc:title>
</cp:coreProperties>
</file>