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EDF-D3AF-44F8-AC79-7DBDCCB7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0392-1329-4694-9AC2-4CB4688F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5B0-CE2C-446B-8893-DAB96C73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ays of trying to understand drug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ways to define abuse concentrate on behavi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lsive natur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s of chronic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persists despite harmful consequences to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DSM-IV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ug depend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or more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r longer period than int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 or effort to cut dow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time used to use drug, get drug, or recover from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events reduced or given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ntinues despite knowledge of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FC1C-6F47-492D-A841-73F19D5E5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ug ab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use leading to impairment of role obligations, places where use is dangerous, legal problems, or soci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263-D355-49C9-A2E6-E63BA90B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2: pos reinforcement (all operant thi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akes drug, feels euphoric, person wants to feel like that again, so keeps taking drug (positive reinforcement – adding something to increase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s why a person gets started using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ed mechanism in brain is reward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 this pathway and cocaine/amphetamine use does disappear, but heroine, alcohol do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another mech in brain for reward? Maybe pos reinforcement model not whole st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roble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ing first few times, a little craving, but after using more often, cravings get much stro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et, the high in each case is exactly the same; in fact, high might even be less after numerous d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re this increase in craving? If simply a matter of reinforcement, there should be no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cases where a reinforcer ceases to have same level of value, behavior usually decreases, not so for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y does addiction happen to some people but not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879-3747-464B-9617-2419EB53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iking and wanting a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77D6-0737-43FA-9981-F9FE9388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5C0-7E2F-47F1-A2EE-5CC27DAE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ever person is in same environment, body gets ready for drug by having opposite reaction to offset drug effects, which requires more of the drug to have the desired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09B-4F40-479B-B646-A1AF30F8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explain early experimenta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58B-2670-4A92-87AB-793C69E0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 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blamed for having a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38F8-1F94-4C6A-9CAB-1D756660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-way theory of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starts with legal drugs (alcohol, tobacco), move to marijuana, then to harder drugs like cocaine or 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able of survey of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the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done with school surveys, where users are generally casual u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s this characteristic of hard-core users, who usually cause most of the proble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person is heavy user that usually are not in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ory implies that pot use CAUSES other drug use, but most users do NOT progress to other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E97-AC94-4359-9AA8-CDA7689B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al – most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 –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573-9346-4CEE-9B41-A4865E534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population in US age 12 and older for illicit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% of pop currently uses illicit drugs of different kinds (note alcohol, tobacco not included here), early 20s most frequent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ho use illicit drugs use mariju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drug use in our curren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is not really new, psychoactive drugs have always been part of most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. alcohol, nicotine, caffeine, 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3A6-C253-4047-B6EF-4AAF394F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-related: mood, relief from negs, enhance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– stress, mood disorders, social structures and examples,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48A-DC2D-4642-B087-F5DDB467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rugs are more addi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ictive potential called hard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y of classify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– presence and severity of physical problems when a person ceases to use a frequently used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forcing – the ability of a substance or act to increase likelihood of using substance or performing act again in the future (one example, producing pleasurable feelin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– decreased response of a drug due to repeated use of the drug (more drug needed to produce same effect as first time it was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e – degree of difficulty that person has stopping drug use, measured in terms of feelings of yearning, relapse rates, number of people who have trouble quittin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xication – degree of to which a drug can alter one’s physical and mental facul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ddictive, all categories consider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(1.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(2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(2.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(3.3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976C-FFE5-4524-BED3-A1FC6BC8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in cough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mportant aspects which changed drug use in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ments in chemistry enabled us to extract active ingredients, increase concentration and thus increase likelihood of ad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vention of hypodermic needle (better method of deliv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to tell if any of this use is problematic? What is drug ab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come up with a satisfactory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78B-ED2F-4271-AC95-9C77F870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more confusing, this graph shows that there a lots of different patterns of drug use that people can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th periods of abstinence, others with alternations of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use alternating with occasional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9D0-F63D-482F-8A35-493773B2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um of drug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– no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experimentation – first tim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never use dru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continue to use drug occasio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m eventually stop use altogether (abstin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ople develop substance abuse problems (less severe, basically tolerance, withdrawal formed, use more than you mean 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t which drug use becomes problematic is difficult to pin-point (arrow in between non-problem use and substance ab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rugs will also cause substance dependence (more severe, all of substance abuse plus major problem with job/family, physical safety, legal probl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hat drug use c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amount of use or pattern of use (red line means that they are moveing away from problem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ype of drug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some people get addicted to a drug but not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C9D-9D27-4367-A75B-D929E6E9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views defined it as use whose stop leads to physically unpleasant effects (ex. alcohol – delirium tremens - state of confusion and hallucinations, convulsions, nausea, insomnia; opiates - nausea and vomiting, diarrhea, hot and cold chills, insomnia, pan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nce person gets physically dependent on a drug, they may try to stop use, but withdrawal symptoms are too severe and cause a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968-5852-4E97-B40F-98F0DAF7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rugs are more addi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ictive potential called hard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y of classify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– presence and severity of physical problems when a person ceases to use a frequently used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ost addictive; 6 – least addi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ddictive according to this criterion alcohol, heroin,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EC6-9306-46D3-86E3-9343798C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major drugs of abuse have no withdrawal like cocaine (which is why it was at one time considered non-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n’t explain how dependence came about to begin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explain why person goes back to drug after withdrawa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88BE-B0A3-4152-A07A-6B07533F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person continue to use drug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f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is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idea involves learning and negativ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omeone has developed a physical dependence on a drug, they will experience withdrawal when they stop taking the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experience of withdrawal: levels of drug in body fall (US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drawal symptoms (U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erson goes thru several withdrawals, they start associating certain environmental cues (CS) and feelings of withdrawal (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ose cues themselves can cause feelings of withdrawal (esp. cravin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part operant conditioning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rid of feelings of withdrawal, person will take drugs again (negative reinforcement – removing something to increase a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9D4-F96E-4747-8731-B79BA1F0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414-660B-47AB-970D-1ED0541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2D1-46C0-425D-B5F0-FF6D5A54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8D5-0FC3-4E53-B6F9-A4B5491F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9F6-E704-4618-94F6-17B7A75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864-68AA-4D56-838E-E100DFE2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4BF-C34D-4040-805F-E1F89315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B49-425F-43FE-A2F9-72472FD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11160" y="-36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D25-B5BF-4D2A-9AB2-38CA9A5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038-0E7C-4559-8B49-1771CB5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F26-21F3-4F66-B851-6D7E4AD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503-646C-4B20-AE62-89CFD3B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328680"/>
          </a:xfrm>
          <a:prstGeom prst="rect">
            <a:avLst/>
          </a:prstGeom>
          <a:solidFill>
            <a:srgbClr val="ab4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4CC5-6DF2-41BB-965A-CA773C58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q-chopener-08"/>
          <p:cNvPicPr/>
          <p:nvPr/>
        </p:nvPicPr>
        <p:blipFill>
          <a:blip r:embed="rId1"/>
          <a:stretch/>
        </p:blipFill>
        <p:spPr>
          <a:xfrm>
            <a:off x="53352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3120" y="2023920"/>
            <a:ext cx="25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7332840" y="3276720"/>
            <a:ext cx="1811160" cy="18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7599240" y="4724280"/>
            <a:ext cx="154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q-table-08-02-1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q-table-08-02-2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q-fig-08-10-0"/>
          <p:cNvPicPr/>
          <p:nvPr/>
        </p:nvPicPr>
        <p:blipFill>
          <a:blip r:embed="rId1"/>
          <a:stretch/>
        </p:blipFill>
        <p:spPr>
          <a:xfrm>
            <a:off x="1143000" y="1447920"/>
            <a:ext cx="6905520" cy="5180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reinforcement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q-fig-08-11-0"/>
          <p:cNvPicPr/>
          <p:nvPr/>
        </p:nvPicPr>
        <p:blipFill>
          <a:blip r:embed="rId1"/>
          <a:stretch/>
        </p:blipFill>
        <p:spPr>
          <a:xfrm>
            <a:off x="990720" y="1563840"/>
            <a:ext cx="7057800" cy="5294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entive–sensitization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mq-fig-08-12-0"/>
          <p:cNvPicPr/>
          <p:nvPr/>
        </p:nvPicPr>
        <p:blipFill>
          <a:blip r:embed="rId1"/>
          <a:stretch/>
        </p:blipFill>
        <p:spPr>
          <a:xfrm>
            <a:off x="1066680" y="1562040"/>
            <a:ext cx="7058160" cy="529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opponent–process model of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mq-fig-01-17-0"/>
          <p:cNvPicPr/>
          <p:nvPr/>
        </p:nvPicPr>
        <p:blipFill>
          <a:blip r:embed="rId1"/>
          <a:stretch/>
        </p:blipFill>
        <p:spPr>
          <a:xfrm>
            <a:off x="762120" y="1276200"/>
            <a:ext cx="7439040" cy="5580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lassical conditioning of drug-related c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q-fig-08-14-0"/>
          <p:cNvPicPr/>
          <p:nvPr/>
        </p:nvPicPr>
        <p:blipFill>
          <a:blip r:embed="rId1"/>
          <a:stretch/>
        </p:blipFill>
        <p:spPr>
          <a:xfrm>
            <a:off x="1143000" y="1562040"/>
            <a:ext cx="7058160" cy="5294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pdated opponent–process model of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mq-fig-08-15-0"/>
          <p:cNvPicPr/>
          <p:nvPr/>
        </p:nvPicPr>
        <p:blipFill>
          <a:blip r:embed="rId1"/>
          <a:stretch/>
        </p:blipFill>
        <p:spPr>
          <a:xfrm>
            <a:off x="1219320" y="1162080"/>
            <a:ext cx="7591320" cy="5694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q-box-08-01-0"/>
          <p:cNvPicPr/>
          <p:nvPr/>
        </p:nvPicPr>
        <p:blipFill>
          <a:blip r:embed="rId1"/>
          <a:stretch/>
        </p:blipFill>
        <p:spPr>
          <a:xfrm>
            <a:off x="1066680" y="1600200"/>
            <a:ext cx="6818400" cy="5121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380880" y="55404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Gateway” theory of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q-table-08-05-0"/>
          <p:cNvPicPr/>
          <p:nvPr/>
        </p:nvPicPr>
        <p:blipFill>
          <a:blip r:embed="rId1"/>
          <a:stretch/>
        </p:blipFill>
        <p:spPr>
          <a:xfrm>
            <a:off x="609480" y="1049400"/>
            <a:ext cx="7732800" cy="5807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80880" y="55404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09480" y="60948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sychosocial model (still in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asons for early experimental with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q-fig-08-01-0"/>
          <p:cNvPicPr/>
          <p:nvPr/>
        </p:nvPicPr>
        <p:blipFill>
          <a:blip r:embed="rId1"/>
          <a:stretch/>
        </p:blipFill>
        <p:spPr>
          <a:xfrm>
            <a:off x="27936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54040"/>
            <a:ext cx="39621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ata on illicit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q-fig-08-17-0"/>
          <p:cNvPicPr/>
          <p:nvPr/>
        </p:nvPicPr>
        <p:blipFill>
          <a:blip r:embed="rId1"/>
          <a:stretch/>
        </p:blipFill>
        <p:spPr>
          <a:xfrm>
            <a:off x="1600200" y="1828800"/>
            <a:ext cx="6600960" cy="495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685800" y="4572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sychosocial model (still in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asons for later  development and maintenance of compulsive drug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q-table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q-fig-08-03-0"/>
          <p:cNvPicPr/>
          <p:nvPr/>
        </p:nvPicPr>
        <p:blipFill>
          <a:blip r:embed="rId1"/>
          <a:stretch/>
        </p:blipFill>
        <p:spPr>
          <a:xfrm>
            <a:off x="-914400" y="1295280"/>
            <a:ext cx="6016680" cy="451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q-fig-08-02-0"/>
          <p:cNvPicPr/>
          <p:nvPr/>
        </p:nvPicPr>
        <p:blipFill>
          <a:blip r:embed="rId2"/>
          <a:stretch/>
        </p:blipFill>
        <p:spPr>
          <a:xfrm>
            <a:off x="3838680" y="990720"/>
            <a:ext cx="5305320" cy="3979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554040"/>
            <a:ext cx="8381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o developments important for explaining today’s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q-fig-08-05-0"/>
          <p:cNvPicPr/>
          <p:nvPr/>
        </p:nvPicPr>
        <p:blipFill>
          <a:blip r:embed="rId1"/>
          <a:stretch/>
        </p:blipFill>
        <p:spPr>
          <a:xfrm>
            <a:off x="1019160" y="1733400"/>
            <a:ext cx="6829560" cy="5123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atterns of opioid drug use over a 20-year period in ten heroin add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q-fig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tinuum of drug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mq-fig-08-06-0"/>
          <p:cNvPicPr/>
          <p:nvPr/>
        </p:nvPicPr>
        <p:blipFill>
          <a:blip r:embed="rId1"/>
          <a:stretch/>
        </p:blipFill>
        <p:spPr>
          <a:xfrm>
            <a:off x="1295280" y="1447920"/>
            <a:ext cx="7210440" cy="540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6964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dependence model of addi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q-table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24360" y="1771560"/>
            <a:ext cx="4457520" cy="3657600"/>
          </a:xfrm>
          <a:prstGeom prst="rect">
            <a:avLst/>
          </a:prstGeom>
          <a:solidFill>
            <a:srgbClr val="e2a1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q-fig-08-07-0"/>
          <p:cNvPicPr/>
          <p:nvPr/>
        </p:nvPicPr>
        <p:blipFill>
          <a:blip r:embed="rId1"/>
          <a:stretch/>
        </p:blipFill>
        <p:spPr>
          <a:xfrm>
            <a:off x="1447920" y="1828800"/>
            <a:ext cx="6219720" cy="4665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8483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ithdrawal and explaining continued drug use 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Negative reinfor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21:22:45Z</dcterms:created>
  <dc:creator/>
  <dc:description/>
  <dc:language>en-US</dc:language>
  <cp:lastModifiedBy>DR Ashrafabdou</cp:lastModifiedBy>
  <dcterms:modified xsi:type="dcterms:W3CDTF">2012-02-22T17:56:29Z</dcterms:modified>
  <cp:revision>60</cp:revision>
  <dc:subject/>
  <dc:title>Psychopharmacology</dc:title>
</cp:coreProperties>
</file>