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243463" cy="21243925"/>
  <p:notesSz cx="9294813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5F6-5586-4926-9C68-5AE7639C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2360" y="850680"/>
            <a:ext cx="27217800" cy="35398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2360" y="4955760"/>
            <a:ext cx="2721780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2360" y="12575160"/>
            <a:ext cx="2721780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360-CA21-4CE7-BA04-C64AB944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2360" y="850680"/>
            <a:ext cx="27217800" cy="35398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2360" y="4955760"/>
            <a:ext cx="1328220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459120" y="4955760"/>
            <a:ext cx="1328220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2360" y="12575160"/>
            <a:ext cx="1328220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459120" y="12575160"/>
            <a:ext cx="1328220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01A5-D96D-4850-BB8B-1D06337A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2360" y="850680"/>
            <a:ext cx="27217800" cy="35398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2360" y="4955760"/>
            <a:ext cx="876384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714680" y="4955760"/>
            <a:ext cx="876384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917360" y="4955760"/>
            <a:ext cx="876384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2360" y="12575160"/>
            <a:ext cx="876384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714680" y="12575160"/>
            <a:ext cx="876384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917360" y="12575160"/>
            <a:ext cx="876384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8A7A-C11C-4EE6-A862-A6760E07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2360" y="850680"/>
            <a:ext cx="27217800" cy="35398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2360" y="4955760"/>
            <a:ext cx="27217800" cy="145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1360" indent="0" algn="ctr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CF58-96AA-4E54-8AD3-DC0D4E85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2360" y="850680"/>
            <a:ext cx="27217800" cy="35398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2360" y="4955760"/>
            <a:ext cx="27217800" cy="1458756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065-5077-4214-9A1D-4E635DFD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2360" y="850680"/>
            <a:ext cx="27217800" cy="35398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2360" y="4955760"/>
            <a:ext cx="13282200" cy="1458756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459120" y="4955760"/>
            <a:ext cx="13282200" cy="1458756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B399-E5CF-47D4-B563-ADD5878D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2360" y="850680"/>
            <a:ext cx="27217800" cy="35398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6883-021C-46CA-91D9-48BEE088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2360" y="850680"/>
            <a:ext cx="27217800" cy="164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1360" algn="ctr"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736-7186-4855-9345-3DDAF578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2360" y="850680"/>
            <a:ext cx="27217800" cy="35398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2360" y="4955760"/>
            <a:ext cx="1328220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59120" y="4955760"/>
            <a:ext cx="13282200" cy="1458756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2360" y="12575160"/>
            <a:ext cx="1328220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E0F-7508-4B0E-96BB-DC61159C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2360" y="850680"/>
            <a:ext cx="27217800" cy="35398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2360" y="4955760"/>
            <a:ext cx="13282200" cy="1458756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459120" y="4955760"/>
            <a:ext cx="1328220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459120" y="12575160"/>
            <a:ext cx="1328220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A23-18E6-458A-8AD0-F543BEE7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2360" y="850680"/>
            <a:ext cx="27217800" cy="35398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2360" y="4955760"/>
            <a:ext cx="1328220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459120" y="4955760"/>
            <a:ext cx="1328220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2360" y="12575160"/>
            <a:ext cx="2721780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CB6F-29C5-4703-BA52-EB95AAE4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2360" y="850680"/>
            <a:ext cx="27217800" cy="35398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2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1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2360" y="4955760"/>
            <a:ext cx="27217800" cy="1458756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1763640" indent="-1322280">
              <a:spcBef>
                <a:spcPts val="2276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  <a:p>
            <a:pPr lvl="1" marL="2793960" indent="-911160">
              <a:spcBef>
                <a:spcPts val="2276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  <a:p>
            <a:pPr lvl="2" marL="3648240" indent="-735120">
              <a:spcBef>
                <a:spcPts val="2276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  <a:p>
            <a:pPr lvl="3" marL="4352760" indent="-587160">
              <a:spcBef>
                <a:spcPts val="2276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  <a:p>
            <a:pPr lvl="4" marL="4970520" indent="-587520">
              <a:spcBef>
                <a:spcPts val="2276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  <a:p>
            <a:pPr lvl="5" marL="4970520" indent="-587520">
              <a:spcBef>
                <a:spcPts val="2276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  <a:p>
            <a:pPr lvl="6" marL="4970520" indent="-587520">
              <a:spcBef>
                <a:spcPts val="2276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2720" y="19875240"/>
            <a:ext cx="7056720" cy="11300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33080" y="19875240"/>
            <a:ext cx="9577440" cy="11300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11240" y="19875240"/>
            <a:ext cx="251928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147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B4F9-4CCF-4B40-AB0D-57E5E85486C2}" type="slidenum">
              <a:rPr b="0" lang="en-US" sz="3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osters@aesplancopy.co.uk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9"/>
          <p:cNvSpPr/>
          <p:nvPr/>
        </p:nvSpPr>
        <p:spPr>
          <a:xfrm>
            <a:off x="0" y="0"/>
            <a:ext cx="30243600" cy="2865600"/>
          </a:xfrm>
          <a:prstGeom prst="rect">
            <a:avLst/>
          </a:prstGeom>
          <a:solidFill>
            <a:srgbClr val="54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Poster Title He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0" i="1" lang="en-US" sz="3300" spc="-1" strike="noStrike">
                <a:solidFill>
                  <a:srgbClr val="ffffff"/>
                </a:solidFill>
                <a:latin typeface="Arial"/>
              </a:rPr>
              <a:t>Your name her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0"/>
          <p:cNvSpPr/>
          <p:nvPr/>
        </p:nvSpPr>
        <p:spPr>
          <a:xfrm>
            <a:off x="0" y="3203640"/>
            <a:ext cx="5880240" cy="757080"/>
          </a:xfrm>
          <a:prstGeom prst="rect">
            <a:avLst/>
          </a:prstGeom>
          <a:solidFill>
            <a:srgbClr val="5434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1"/>
          <p:cNvSpPr/>
          <p:nvPr/>
        </p:nvSpPr>
        <p:spPr>
          <a:xfrm>
            <a:off x="24364800" y="17861040"/>
            <a:ext cx="5878800" cy="758880"/>
          </a:xfrm>
          <a:prstGeom prst="rect">
            <a:avLst/>
          </a:prstGeom>
          <a:solidFill>
            <a:srgbClr val="5434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2"/>
          <p:cNvSpPr/>
          <p:nvPr/>
        </p:nvSpPr>
        <p:spPr>
          <a:xfrm>
            <a:off x="6091200" y="3203640"/>
            <a:ext cx="5878440" cy="757080"/>
          </a:xfrm>
          <a:prstGeom prst="rect">
            <a:avLst/>
          </a:prstGeom>
          <a:solidFill>
            <a:srgbClr val="5434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3"/>
          <p:cNvSpPr/>
          <p:nvPr/>
        </p:nvSpPr>
        <p:spPr>
          <a:xfrm>
            <a:off x="12180960" y="3203640"/>
            <a:ext cx="5879880" cy="757080"/>
          </a:xfrm>
          <a:prstGeom prst="rect">
            <a:avLst/>
          </a:prstGeom>
          <a:solidFill>
            <a:srgbClr val="5434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4"/>
          <p:cNvSpPr/>
          <p:nvPr/>
        </p:nvSpPr>
        <p:spPr>
          <a:xfrm>
            <a:off x="18272160" y="3203640"/>
            <a:ext cx="5880240" cy="757080"/>
          </a:xfrm>
          <a:prstGeom prst="rect">
            <a:avLst/>
          </a:prstGeom>
          <a:solidFill>
            <a:srgbClr val="5434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24364800" y="3203640"/>
            <a:ext cx="5878800" cy="757080"/>
          </a:xfrm>
          <a:prstGeom prst="rect">
            <a:avLst/>
          </a:prstGeom>
          <a:solidFill>
            <a:srgbClr val="5434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6"/>
          <p:cNvSpPr/>
          <p:nvPr/>
        </p:nvSpPr>
        <p:spPr>
          <a:xfrm>
            <a:off x="6161040" y="4299120"/>
            <a:ext cx="56008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your 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7"/>
          <p:cNvSpPr/>
          <p:nvPr/>
        </p:nvSpPr>
        <p:spPr>
          <a:xfrm>
            <a:off x="12322080" y="4214880"/>
            <a:ext cx="574056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your text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1"/>
          <p:cNvSpPr/>
          <p:nvPr/>
        </p:nvSpPr>
        <p:spPr>
          <a:xfrm>
            <a:off x="18551520" y="4384800"/>
            <a:ext cx="5321160" cy="11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your text 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6"/>
          <p:cNvSpPr/>
          <p:nvPr/>
        </p:nvSpPr>
        <p:spPr>
          <a:xfrm>
            <a:off x="24852240" y="18775440"/>
            <a:ext cx="5391360" cy="31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referenc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7561440" y="9420120"/>
            <a:ext cx="15119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415800" y="4449600"/>
            <a:ext cx="5181840" cy="76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sert your 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change the border style of this text box: Double-click on the dashed border, select ‘Colors and Lines’, and change the border to solid or whatever style/color you like. Or ‘No Line’ to remove the border al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change the font style of this text box: Click on the border once to highlight the entire text box, then select a different font or font size that suits you. This text is in Arial 24pt and is easily readable up to4feet aw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24680880" y="4373640"/>
            <a:ext cx="5562720" cy="41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sert your 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OW COST POSTER PRINTING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ES, 48 VICTORIA STREET, CWMB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EL 01633 867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MAIL </a:t>
            </a:r>
            <a:r>
              <a:rPr b="0" lang="en-GB" sz="2400" spc="-1" strike="noStrike" u="sng">
                <a:solidFill>
                  <a:srgbClr val="410082"/>
                </a:solidFill>
                <a:uFillTx/>
                <a:latin typeface="Arial"/>
                <a:ea typeface="Arial"/>
                <a:hlinkClick r:id="rId1"/>
              </a:rPr>
              <a:t>posters@aesplancopy.co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EB www.aesplancopy.co.u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21:05:42Z</dcterms:created>
  <dc:creator>aesplancopy.co.uk</dc:creator>
  <dc:description/>
  <dc:language>en-US</dc:language>
  <cp:lastModifiedBy>ChRiS</cp:lastModifiedBy>
  <dcterms:modified xsi:type="dcterms:W3CDTF">2009-07-23T13:40:55Z</dcterms:modified>
  <cp:revision>27</cp:revision>
  <dc:subject/>
  <dc:title>Slide 1</dc:title>
</cp:coreProperties>
</file>