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243463" cy="21243925"/>
  <p:notesSz cx="9294813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4C8-33A2-4B9A-805B-6530B9F8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272178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2360" y="12575160"/>
            <a:ext cx="272178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DED-C7AC-4668-806F-3EE3A41E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2360" y="125751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59120" y="125751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E4C-5BCE-4B1E-9623-27DE438B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14680" y="49557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17360" y="49557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2360" y="125751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14680" y="125751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17360" y="12575160"/>
            <a:ext cx="876384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973-AAB7-4670-8A47-C6D4D39D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2360" y="4955760"/>
            <a:ext cx="27217800" cy="14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1360" indent="0" algn="ctr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996-B599-48A1-848D-FE13D9B5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272178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5B7D-BCFD-413B-8887-FEB26F56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65E-0F03-4783-9624-548D6FFB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7FF-6543-43AE-8A30-F0BD890B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2360" y="850680"/>
            <a:ext cx="27217800" cy="164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1360" algn="ctr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6B7-7AF9-4AFB-8712-709E9969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2360" y="125751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5AB-D3EE-456B-B5C2-0F5E613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59120" y="125751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431-3861-4A06-98E0-F80617E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236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59120" y="4955760"/>
            <a:ext cx="132822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2360" y="12575160"/>
            <a:ext cx="27217800" cy="69580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2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FE67-0ABD-4280-A46E-E7BAB645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2360" y="850680"/>
            <a:ext cx="27217800" cy="35398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2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1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2360" y="4955760"/>
            <a:ext cx="27217800" cy="1458756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1763640" indent="-1322280">
              <a:spcBef>
                <a:spcPts val="2276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1" marL="2793960" indent="-911160">
              <a:spcBef>
                <a:spcPts val="2276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2" marL="3648240" indent="-735120">
              <a:spcBef>
                <a:spcPts val="2276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3" marL="4352760" indent="-587160">
              <a:spcBef>
                <a:spcPts val="2276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4" marL="4970520" indent="-587520">
              <a:spcBef>
                <a:spcPts val="2276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5" marL="4970520" indent="-587520">
              <a:spcBef>
                <a:spcPts val="2276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  <a:p>
            <a:pPr lvl="6" marL="4970520" indent="-587520">
              <a:spcBef>
                <a:spcPts val="2276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1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9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2720" y="19875240"/>
            <a:ext cx="7056720" cy="11300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33080" y="19875240"/>
            <a:ext cx="9577440" cy="11300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1240" y="19875240"/>
            <a:ext cx="251928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147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6733-C831-4251-8B1B-50F582FCED27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osters@aesplancopy.co.uk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9"/>
          <p:cNvSpPr/>
          <p:nvPr/>
        </p:nvSpPr>
        <p:spPr>
          <a:xfrm>
            <a:off x="0" y="0"/>
            <a:ext cx="30243600" cy="2865600"/>
          </a:xfrm>
          <a:prstGeom prst="rect">
            <a:avLst/>
          </a:prstGeom>
          <a:solidFill>
            <a:srgbClr val="543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Poster Title He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i="1" lang="en-US" sz="3300" spc="-1" strike="noStrike">
                <a:solidFill>
                  <a:srgbClr val="ffffff"/>
                </a:solidFill>
                <a:latin typeface="Arial"/>
              </a:rPr>
              <a:t>Your name her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0"/>
          <p:cNvSpPr/>
          <p:nvPr/>
        </p:nvSpPr>
        <p:spPr>
          <a:xfrm>
            <a:off x="0" y="3203640"/>
            <a:ext cx="588024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1"/>
          <p:cNvSpPr/>
          <p:nvPr/>
        </p:nvSpPr>
        <p:spPr>
          <a:xfrm>
            <a:off x="24364800" y="17861040"/>
            <a:ext cx="5878800" cy="7588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2"/>
          <p:cNvSpPr/>
          <p:nvPr/>
        </p:nvSpPr>
        <p:spPr>
          <a:xfrm>
            <a:off x="6091200" y="3203640"/>
            <a:ext cx="587844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12180960" y="3203640"/>
            <a:ext cx="587988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18272160" y="3203640"/>
            <a:ext cx="588024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24364800" y="3203640"/>
            <a:ext cx="5878800" cy="757080"/>
          </a:xfrm>
          <a:prstGeom prst="rect">
            <a:avLst/>
          </a:prstGeom>
          <a:solidFill>
            <a:srgbClr val="5434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ctr"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6"/>
          <p:cNvSpPr/>
          <p:nvPr/>
        </p:nvSpPr>
        <p:spPr>
          <a:xfrm>
            <a:off x="6161040" y="4299120"/>
            <a:ext cx="56008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7"/>
          <p:cNvSpPr/>
          <p:nvPr/>
        </p:nvSpPr>
        <p:spPr>
          <a:xfrm>
            <a:off x="12322080" y="4214880"/>
            <a:ext cx="57405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your text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1"/>
          <p:cNvSpPr/>
          <p:nvPr/>
        </p:nvSpPr>
        <p:spPr>
          <a:xfrm>
            <a:off x="18551520" y="4384800"/>
            <a:ext cx="5321160" cy="11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your text 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6"/>
          <p:cNvSpPr/>
          <p:nvPr/>
        </p:nvSpPr>
        <p:spPr>
          <a:xfrm>
            <a:off x="24852240" y="18775440"/>
            <a:ext cx="539136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r referenc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7561440" y="9420120"/>
            <a:ext cx="151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415800" y="4449600"/>
            <a:ext cx="5181840" cy="76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ert 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hange the border style of this text box: Double-click on the dashed border, select ‘Colors and Lines’, and change the border to solid or whatever style/color you like. Or ‘No Line’ to remove the border al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hange the font style of this text box: Click on the border once to highlight the entire text box, then select a different font or font size that suits you. This text is in Arial 24pt and is easily readable up to4feet a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24680880" y="4373640"/>
            <a:ext cx="556272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sert your 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OW COST POSTER PRINTING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ES, 48 VICTORIA STREET, CWMB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 01633 867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MAIL </a:t>
            </a:r>
            <a:r>
              <a:rPr b="0" lang="en-GB" sz="2400" spc="-1" strike="noStrike" u="sng">
                <a:solidFill>
                  <a:srgbClr val="410082"/>
                </a:solidFill>
                <a:uFillTx/>
                <a:latin typeface="Arial"/>
                <a:ea typeface="Arial"/>
                <a:hlinkClick r:id="rId1"/>
              </a:rPr>
              <a:t>posters@aesplancopy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EB www.aesplancopy.co.u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1:05:42Z</dcterms:created>
  <dc:creator>aesplancopy.co.uk</dc:creator>
  <dc:description/>
  <dc:language>en-US</dc:language>
  <cp:lastModifiedBy>ChRiS</cp:lastModifiedBy>
  <dcterms:modified xsi:type="dcterms:W3CDTF">2009-07-23T13:40:55Z</dcterms:modified>
  <cp:revision>27</cp:revision>
  <dc:subject/>
  <dc:title>Slide 1</dc:title>
</cp:coreProperties>
</file>