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EAA-B6D6-4705-BD73-6E075FE8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CF3-DCEB-4768-9812-19D86C2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A6A7E-A5B8-46F2-8E08-B3D9D71D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7B35F-17B3-4091-8530-3C083B92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DEA24-E49B-4134-9AFA-7A1E141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EE90-D8E5-4DC6-B155-BA098219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7A4EF-F331-4E62-9254-805ABC4F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61B39-6D4B-4D8C-B229-B03B616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07398-CDBF-425D-BA36-9429A4C4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C484-C3FF-4301-BF97-9EE56EC0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6139D-5F5E-4D4F-B25E-CE07E422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D6F9D-3775-4BA9-9BE2-3BB3E2BE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6C7-5537-4B20-BBF8-ABF1271F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0CA4C-F54D-4D72-B409-62F3769F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66585-704A-479E-B73C-52C3D61D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6264F-A2B8-4214-8868-7F05253E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C34E-72D6-41CE-8F8D-3AA45A5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3D7F9-B6E6-4F1C-AD3A-96E37B78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F0FF5-86F0-49D4-927E-B521D19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FE194-283C-41EB-9AB9-3C2488CE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E0B04-C90D-465F-B234-E9AB205D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1FA51-F51C-4D44-98DC-C4E9F439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D95B4-B416-4FCE-9DC3-7AF8318D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668-78E3-457C-BB62-5C89C21E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43F45-7656-4B7C-BDA4-ADB6F738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FF8C5-D462-4888-904D-475E6A72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521AF-0A16-46DD-AF6F-AE66E9B3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C36AF-ADFF-448C-A491-EE84719F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415F6-758E-4232-9FB5-DD648AB8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42141-F558-4BE7-A5D9-02B6C6E4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7C66C-FFEC-411E-B76B-5A064821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86151-43D0-4CC8-A359-F704FDE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2B9BD-C566-4ED7-836B-1B04DC3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1C201-7074-4C22-AC28-CD87102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A7030-CCB2-4E6B-9380-53AC2C2D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E701D-479B-47B9-84CA-16787899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823EC-3DFE-4E66-BA4B-AD4619B8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CCD9B-5C76-4345-A86C-698708F1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32C7E-B00A-4D4E-9BD3-F9D47A15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FF8CF-6DBF-4696-A420-A6CFBC09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FF83A-635F-471E-BB6F-1EACBED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FB80F-8A79-4406-8969-074B6A29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6B96-849B-40FF-9B63-197CE8B0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D2846-D837-413D-AF2E-39AA56A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D20B3-528C-4D2E-996B-6F2B21D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7E7FF-BD30-4D42-94DB-FC2D0DE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23215-F6D6-495D-89BF-6F78015A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6642A-534B-4B2D-88CC-6B7A78F5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06BA7-AE4F-47D8-88C9-ABDC64FE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DEA9B-4A10-45C0-A76F-DFE27709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F0772-0ED7-4D3D-AC8D-14EAB38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61506-B75D-4E0A-9D6E-B09F6E39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D8FEE-0951-489C-ADBA-503DCCBA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9BB88-1535-42DD-82CE-33E4AADB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B63BE-1584-4F48-9038-0638715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F020D-AE99-495A-AE5A-183EAD8A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56DA1-49CE-4A05-838C-B13DBAA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326DC-BCBD-4C0C-A548-5E21B90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E9F4C-D6C9-403B-A1AF-26F85143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70147-14AA-4FA1-8339-A5B3F663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6367E-0074-4E4B-BAA3-C73C6C30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86AC76-A4CC-463F-97E4-5D508C5F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0A636-96B5-4791-91C6-3DF1D1E8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D374A-DC3C-4E80-B44F-024B5D94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33DFE-7F9D-424E-928F-3DD6A5A2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CFA60-DB12-44CA-A37F-658B9315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28A8A-2D15-4726-AFD8-C7AFD062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8EF734-93D0-4124-AB8E-9A28CAB0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0BE5B-4D05-469A-866C-625D1CF9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40075-7E6B-44D2-AD71-54F7722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018C9-19B1-42B9-B08C-91A7A780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CB4AA-5A21-460A-8343-9313755A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8D542-99B1-4B46-B8BF-3C391FDF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A70-D867-474C-B96B-65F6A586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945FC-10F5-40D0-9638-72E2677C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2CBF8-C649-4FFE-A343-D739DF56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BD9B3-F3CC-497E-9D21-1F7E935C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AB1E7-085E-410B-B270-F451DF4B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1B84B-9E4D-422A-A34A-EDEC8A22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BBA-DE5C-4F2C-BE76-004BDF51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1D91E-05C8-447D-9528-B8BEABD5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D7094-5417-4FC5-ADCD-23069EA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0266D-770B-4CC6-B066-C3E6EB5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EE524-866B-463C-BC46-DC6342D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9356F8-7087-4B57-A56E-CC3575A1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04904-7630-463A-86C3-CAC48FA3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A5E0F-76F9-4D87-B96E-526D8A44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0D9-3C52-4F6D-8528-AEFB8130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B5BB-0309-4573-BFAD-7113A96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583-A6BC-4AA9-A682-62EA1D62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F54B2-8023-4293-B79C-3743296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101AC-DC08-4CDE-B7A9-C7C6C200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23812-1841-46C7-A397-E951160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FEAB2-2111-45FF-9193-4C5D1A64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972F-44D0-4161-B5D5-0D08201B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A227-689F-458D-9D09-5F7B0FE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36483-4381-471B-A3A4-5D6F3BB5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4EA52-1F35-4400-9383-47E7600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D16D-5CC1-424D-A695-57E578F8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074-9648-4510-8A32-2CEBA1E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7117F-5B60-4280-8694-7C02BAE9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0CD70-A01B-4E95-8A6B-68C3161C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7BA9-D697-4FB2-B1EF-02BC500D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68BDD-3BB2-4579-BDF6-82A2804E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1A4F-4324-4375-BF0A-403F2749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AB18-1B80-4A11-81CA-3DAC2421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E5F80-A8FF-49FF-B268-F89D6B22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5E715-3EB7-42E0-A6B4-3546ACE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DA2A-221D-47BD-855E-95D8F683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E7BE7-9716-4131-83FC-834F55DE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452-D7BA-4999-A231-E20BC1D3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575E3-17D2-491A-9BC6-7A7242F3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6CEE8-E431-4C98-AA8C-2A552E32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AF076-C68B-43EE-8527-0A3DFA31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8EC2-E907-4B64-ADFA-D1178F2C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0ADF6-E760-4598-AAF4-821EEB10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E1110-DC8E-432A-B30C-87AB9D46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ADC7-7C12-4CCB-AE13-D28F789F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4574C-C25A-4640-ADDA-FD1DF532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692FB-2915-42B9-8494-4C11E7DF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C35F1-C12E-4BC1-A842-26BF5E95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159-B663-49A3-95D0-61DE593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79040" y="294840"/>
            <a:ext cx="758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9C7E6-BBA5-4A4D-9813-5815F091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719D5-2531-4EDE-822F-9A7D93E6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59C33-4017-486C-9CED-107D951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9C59-9F79-4BF3-85E8-07096881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779040" y="4042080"/>
            <a:ext cx="758340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57822-B576-44CA-BF6E-A31447D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94940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64880" y="4042080"/>
            <a:ext cx="370044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4D08-8B4A-44A8-9380-96B45514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34296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5906880" y="194940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7904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34296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5906880" y="4042080"/>
            <a:ext cx="2441520" cy="191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1EE1-CE98-41AC-8E47-D042F7E3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FBB5-8617-4FC1-8E9C-199D8BE2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64463-832D-4769-B6B0-68A98F49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C4AD7-BCF5-47C1-84B4-6EF3A001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E6DA3-5057-4E8E-B08F-4889AF29A71A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11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391" name="Snip Diagonal Corner Rectangle 7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>
                <a:gd name="textAreaLeft" fmla="*/ 80640 w 4251240"/>
                <a:gd name="textAreaRight" fmla="*/ 4170600 w 4251240"/>
                <a:gd name="textAreaTop" fmla="*/ 80640 h 6388200"/>
                <a:gd name="textAreaBottom" fmla="*/ 6307560 h 6388200"/>
              </a:gdLst>
              <a:ahLst/>
              <a:rect l="textAreaLeft" t="textAreaTop" r="textAreaRight" b="textAreaBottom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  <p:sp>
          <p:nvSpPr>
            <p:cNvPr id="392" name="Teardrop 8"/>
            <p:cNvSpPr/>
            <p:nvPr/>
          </p:nvSpPr>
          <p:spPr>
            <a:xfrm>
              <a:off x="3886200" y="431640"/>
              <a:ext cx="353880" cy="355320"/>
            </a:xfrm>
            <a:custGeom>
              <a:avLst/>
              <a:gdLst/>
              <a:ahLst/>
              <a:rect l="l" t="t" r="r" b="b"/>
              <a:pathLst>
                <a:path w="354066" h="355558">
                  <a:moveTo>
                    <a:pt x="0" y="177779"/>
                  </a:moveTo>
                  <a:cubicBezTo>
                    <a:pt x="0" y="79594"/>
                    <a:pt x="79260" y="0"/>
                    <a:pt x="177033" y="0"/>
                  </a:cubicBezTo>
                  <a:lnTo>
                    <a:pt x="354066" y="0"/>
                  </a:lnTo>
                  <a:lnTo>
                    <a:pt x="354066" y="177779"/>
                  </a:lnTo>
                  <a:cubicBezTo>
                    <a:pt x="354066" y="275964"/>
                    <a:pt x="274806" y="355558"/>
                    <a:pt x="177033" y="355558"/>
                  </a:cubicBezTo>
                  <a:cubicBezTo>
                    <a:pt x="79260" y="355558"/>
                    <a:pt x="0" y="275964"/>
                    <a:pt x="0" y="177779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393" name="Snip Diagonal Corner Rectangle 9"/>
          <p:cNvSpPr/>
          <p:nvPr/>
        </p:nvSpPr>
        <p:spPr>
          <a:xfrm flipV="1">
            <a:off x="4648320" y="227520"/>
            <a:ext cx="4251240" cy="6388200"/>
          </a:xfrm>
          <a:custGeom>
            <a:avLst/>
            <a:gdLst>
              <a:gd name="textAreaLeft" fmla="*/ 80640 w 4251240"/>
              <a:gd name="textAreaRight" fmla="*/ 4170600 w 4251240"/>
              <a:gd name="textAreaTop" fmla="*/ 80640 h 6388200"/>
              <a:gd name="textAreaBottom" fmla="*/ 6307560 h 6388200"/>
            </a:gdLst>
            <a:ahLst/>
            <a:rect l="textAreaLeft" t="textAreaTop" r="textAreaRight" b="textAreaBottom"/>
            <a:pathLst>
              <a:path w="4251325" h="6388100">
                <a:moveTo>
                  <a:pt x="0" y="0"/>
                </a:moveTo>
                <a:lnTo>
                  <a:pt x="4090030" y="0"/>
                </a:lnTo>
                <a:lnTo>
                  <a:pt x="4251325" y="161295"/>
                </a:lnTo>
                <a:lnTo>
                  <a:pt x="4251325" y="6388100"/>
                </a:lnTo>
                <a:lnTo>
                  <a:pt x="161295" y="6388100"/>
                </a:lnTo>
                <a:lnTo>
                  <a:pt x="0" y="622680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762120" y="6297120"/>
            <a:ext cx="129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057400" y="6297120"/>
            <a:ext cx="234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304920" y="6297120"/>
            <a:ext cx="444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34A7F-02EC-4A1D-91C3-AD9C13E3A587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0"/>
          <p:cNvGrpSpPr/>
          <p:nvPr/>
        </p:nvGrpSpPr>
        <p:grpSpPr>
          <a:xfrm>
            <a:off x="228600" y="228240"/>
            <a:ext cx="4251240" cy="6388200"/>
            <a:chOff x="228600" y="228240"/>
            <a:chExt cx="4251240" cy="6388200"/>
          </a:xfrm>
        </p:grpSpPr>
        <p:sp>
          <p:nvSpPr>
            <p:cNvPr id="436" name="Snip Diagonal Corner Rectangle 7"/>
            <p:cNvSpPr/>
            <p:nvPr/>
          </p:nvSpPr>
          <p:spPr>
            <a:xfrm flipV="1">
              <a:off x="228600" y="227520"/>
              <a:ext cx="4251240" cy="6388200"/>
            </a:xfrm>
            <a:custGeom>
              <a:avLst/>
              <a:gdLst>
                <a:gd name="textAreaLeft" fmla="*/ 80640 w 4251240"/>
                <a:gd name="textAreaRight" fmla="*/ 4170600 w 4251240"/>
                <a:gd name="textAreaTop" fmla="*/ 80640 h 6388200"/>
                <a:gd name="textAreaBottom" fmla="*/ 6307560 h 6388200"/>
              </a:gdLst>
              <a:ahLst/>
              <a:rect l="textAreaLeft" t="textAreaTop" r="textAreaRight" b="textAreaBottom"/>
              <a:pathLst>
                <a:path w="4251960" h="6387352">
                  <a:moveTo>
                    <a:pt x="0" y="0"/>
                  </a:moveTo>
                  <a:lnTo>
                    <a:pt x="4090641" y="0"/>
                  </a:lnTo>
                  <a:lnTo>
                    <a:pt x="4251960" y="161319"/>
                  </a:lnTo>
                  <a:lnTo>
                    <a:pt x="4251960" y="6387352"/>
                  </a:lnTo>
                  <a:lnTo>
                    <a:pt x="161319" y="6387352"/>
                  </a:lnTo>
                  <a:lnTo>
                    <a:pt x="0" y="62260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6363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  <p:sp>
          <p:nvSpPr>
            <p:cNvPr id="437" name="Teardrop 8"/>
            <p:cNvSpPr/>
            <p:nvPr/>
          </p:nvSpPr>
          <p:spPr>
            <a:xfrm>
              <a:off x="3886200" y="431640"/>
              <a:ext cx="353880" cy="355320"/>
            </a:xfrm>
            <a:custGeom>
              <a:avLst/>
              <a:gdLst/>
              <a:ahLst/>
              <a:rect l="l" t="t" r="r" b="b"/>
              <a:pathLst>
                <a:path w="354066" h="355558">
                  <a:moveTo>
                    <a:pt x="0" y="177779"/>
                  </a:moveTo>
                  <a:cubicBezTo>
                    <a:pt x="0" y="79594"/>
                    <a:pt x="79260" y="0"/>
                    <a:pt x="177033" y="0"/>
                  </a:cubicBezTo>
                  <a:lnTo>
                    <a:pt x="354066" y="0"/>
                  </a:lnTo>
                  <a:lnTo>
                    <a:pt x="354066" y="177779"/>
                  </a:lnTo>
                  <a:cubicBezTo>
                    <a:pt x="354066" y="275964"/>
                    <a:pt x="274806" y="355558"/>
                    <a:pt x="177033" y="355558"/>
                  </a:cubicBezTo>
                  <a:cubicBezTo>
                    <a:pt x="79260" y="355558"/>
                    <a:pt x="0" y="275964"/>
                    <a:pt x="0" y="177779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758520" y="6300720"/>
            <a:ext cx="1298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2057400" y="6300720"/>
            <a:ext cx="234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01320" y="6300720"/>
            <a:ext cx="44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99EF3-003F-403E-A64E-3AA85C170B3E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nip Diagonal Corner Rectangle 6"/>
          <p:cNvSpPr/>
          <p:nvPr/>
        </p:nvSpPr>
        <p:spPr>
          <a:xfrm flipV="1">
            <a:off x="228600" y="4647960"/>
            <a:ext cx="8686800" cy="1963440"/>
          </a:xfrm>
          <a:custGeom>
            <a:avLst/>
            <a:gdLst>
              <a:gd name="textAreaLeft" fmla="*/ 91800 w 8686800"/>
              <a:gd name="textAreaRight" fmla="*/ 8595000 w 8686800"/>
              <a:gd name="textAreaTop" fmla="*/ 91800 h 1963440"/>
              <a:gd name="textAreaBottom" fmla="*/ 1871640 h 1963440"/>
            </a:gdLst>
            <a:ahLst/>
            <a:rect l="textAreaLeft" t="textAreaTop" r="textAreaRight" b="textAreaBottom"/>
            <a:pathLst>
              <a:path w="8686800" h="1963738">
                <a:moveTo>
                  <a:pt x="0" y="0"/>
                </a:moveTo>
                <a:lnTo>
                  <a:pt x="8502739" y="0"/>
                </a:lnTo>
                <a:lnTo>
                  <a:pt x="8686800" y="184061"/>
                </a:lnTo>
                <a:lnTo>
                  <a:pt x="8686800" y="1963738"/>
                </a:lnTo>
                <a:lnTo>
                  <a:pt x="184061" y="1963738"/>
                </a:lnTo>
                <a:lnTo>
                  <a:pt x="0" y="177967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F5AC5-B7CC-409F-8F07-E118C9061ADD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2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E4E7B-BFD3-41E2-84A8-0F82CBA52CD2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nip Diagonal Corner Rectangle 6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>
              <a:gd name="textAreaLeft" fmla="*/ 80640 w 8686800"/>
              <a:gd name="textAreaRight" fmla="*/ 8606160 w 8686800"/>
              <a:gd name="textAreaTop" fmla="*/ 80640 h 6388200"/>
              <a:gd name="textAreaBottom" fmla="*/ 6307560 h 6388200"/>
            </a:gdLst>
            <a:ahLst/>
            <a:rect l="textAreaLeft" t="textAreaTop" r="textAreaRight" b="textAreaBottom"/>
            <a:pathLst>
              <a:path w="8686800" h="6388100">
                <a:moveTo>
                  <a:pt x="0" y="0"/>
                </a:moveTo>
                <a:lnTo>
                  <a:pt x="8525245" y="0"/>
                </a:lnTo>
                <a:lnTo>
                  <a:pt x="8686800" y="161555"/>
                </a:lnTo>
                <a:lnTo>
                  <a:pt x="8686800" y="6388100"/>
                </a:lnTo>
                <a:lnTo>
                  <a:pt x="161555" y="6388100"/>
                </a:lnTo>
                <a:lnTo>
                  <a:pt x="0" y="62265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21AFC-C45D-464F-BBEB-C3F7A50F4564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42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43" name="Snip Single Corner Rectangle 9"/>
              <p:cNvSpPr/>
              <p:nvPr/>
            </p:nvSpPr>
            <p:spPr>
              <a:xfrm flipV="1">
                <a:off x="0" y="3391200"/>
                <a:ext cx="7543800" cy="2590920"/>
              </a:xfrm>
              <a:custGeom>
                <a:avLst/>
                <a:gdLst>
                  <a:gd name="textAreaLeft" fmla="*/ 0 w 7543800"/>
                  <a:gd name="textAreaRight" fmla="*/ 7448400 w 7543800"/>
                  <a:gd name="textAreaTop" fmla="*/ 9540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44" name="Straight Connector 10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45" name="Teardrop 8"/>
            <p:cNvSpPr/>
            <p:nvPr/>
          </p:nvSpPr>
          <p:spPr>
            <a:xfrm>
              <a:off x="6818400" y="3620880"/>
              <a:ext cx="393480" cy="395280"/>
            </a:xfrm>
            <a:custGeom>
              <a:avLst/>
              <a:gdLst/>
              <a:ahLst/>
              <a:rect l="l" t="t" r="r" b="b"/>
              <a:pathLst>
                <a:path w="393700" h="395400">
                  <a:moveTo>
                    <a:pt x="0" y="197700"/>
                  </a:moveTo>
                  <a:cubicBezTo>
                    <a:pt x="0" y="88513"/>
                    <a:pt x="88133" y="0"/>
                    <a:pt x="196850" y="0"/>
                  </a:cubicBezTo>
                  <a:lnTo>
                    <a:pt x="393700" y="0"/>
                  </a:lnTo>
                  <a:lnTo>
                    <a:pt x="393700" y="197700"/>
                  </a:lnTo>
                  <a:cubicBezTo>
                    <a:pt x="393700" y="306887"/>
                    <a:pt x="305567" y="395400"/>
                    <a:pt x="196850" y="395400"/>
                  </a:cubicBezTo>
                  <a:cubicBezTo>
                    <a:pt x="88133" y="395400"/>
                    <a:pt x="0" y="306887"/>
                    <a:pt x="0" y="197700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87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B5AAE-2C11-4545-95C4-EE1ECC1F1A3F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0" y="3379680"/>
            <a:ext cx="7543800" cy="2603160"/>
            <a:chOff x="0" y="3379680"/>
            <a:chExt cx="7543800" cy="2603160"/>
          </a:xfrm>
        </p:grpSpPr>
        <p:grpSp>
          <p:nvGrpSpPr>
            <p:cNvPr id="130" name="Group 11"/>
            <p:cNvGrpSpPr/>
            <p:nvPr/>
          </p:nvGrpSpPr>
          <p:grpSpPr>
            <a:xfrm>
              <a:off x="0" y="3379680"/>
              <a:ext cx="7543800" cy="2603160"/>
              <a:chOff x="0" y="3379680"/>
              <a:chExt cx="7543800" cy="2603160"/>
            </a:xfrm>
          </p:grpSpPr>
          <p:sp>
            <p:nvSpPr>
              <p:cNvPr id="131" name="Snip Single Corner Rectangle 9"/>
              <p:cNvSpPr/>
              <p:nvPr/>
            </p:nvSpPr>
            <p:spPr>
              <a:xfrm flipV="1">
                <a:off x="0" y="3391200"/>
                <a:ext cx="7543800" cy="2590920"/>
              </a:xfrm>
              <a:custGeom>
                <a:avLst/>
                <a:gdLst>
                  <a:gd name="textAreaLeft" fmla="*/ 0 w 7543800"/>
                  <a:gd name="textAreaRight" fmla="*/ 7448400 w 7543800"/>
                  <a:gd name="textAreaTop" fmla="*/ 9540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132" name="Straight Connector 10"/>
              <p:cNvSpPr/>
              <p:nvPr/>
            </p:nvSpPr>
            <p:spPr>
              <a:xfrm>
                <a:off x="0" y="337968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133" name="Teardrop 8"/>
            <p:cNvSpPr/>
            <p:nvPr/>
          </p:nvSpPr>
          <p:spPr>
            <a:xfrm>
              <a:off x="6818400" y="3620880"/>
              <a:ext cx="393480" cy="395280"/>
            </a:xfrm>
            <a:custGeom>
              <a:avLst/>
              <a:gdLst/>
              <a:ahLst/>
              <a:rect l="l" t="t" r="r" b="b"/>
              <a:pathLst>
                <a:path w="393700" h="395400">
                  <a:moveTo>
                    <a:pt x="0" y="197700"/>
                  </a:moveTo>
                  <a:cubicBezTo>
                    <a:pt x="0" y="88513"/>
                    <a:pt x="88133" y="0"/>
                    <a:pt x="196850" y="0"/>
                  </a:cubicBezTo>
                  <a:lnTo>
                    <a:pt x="393700" y="0"/>
                  </a:lnTo>
                  <a:lnTo>
                    <a:pt x="393700" y="197700"/>
                  </a:lnTo>
                  <a:cubicBezTo>
                    <a:pt x="393700" y="306887"/>
                    <a:pt x="305567" y="395400"/>
                    <a:pt x="196850" y="395400"/>
                  </a:cubicBezTo>
                  <a:cubicBezTo>
                    <a:pt x="88133" y="395400"/>
                    <a:pt x="0" y="306887"/>
                    <a:pt x="0" y="197700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 rot="16200000">
            <a:off x="-7333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 rot="16200000">
            <a:off x="-357120" y="450360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6"/>
          <p:cNvGrpSpPr/>
          <p:nvPr/>
        </p:nvGrpSpPr>
        <p:grpSpPr>
          <a:xfrm>
            <a:off x="1599840" y="2127240"/>
            <a:ext cx="7543800" cy="2603160"/>
            <a:chOff x="1599840" y="2127240"/>
            <a:chExt cx="7543800" cy="2603160"/>
          </a:xfrm>
        </p:grpSpPr>
        <p:grpSp>
          <p:nvGrpSpPr>
            <p:cNvPr id="175" name="Group 11"/>
            <p:cNvGrpSpPr/>
            <p:nvPr/>
          </p:nvGrpSpPr>
          <p:grpSpPr>
            <a:xfrm>
              <a:off x="1599840" y="2127240"/>
              <a:ext cx="7543800" cy="2603160"/>
              <a:chOff x="1599840" y="2127240"/>
              <a:chExt cx="7543800" cy="2603160"/>
            </a:xfrm>
          </p:grpSpPr>
          <p:sp>
            <p:nvSpPr>
              <p:cNvPr id="176" name="Snip Single Corner Rectangle 9"/>
              <p:cNvSpPr/>
              <p:nvPr/>
            </p:nvSpPr>
            <p:spPr>
              <a:xfrm flipH="1" flipV="1">
                <a:off x="1599480" y="2139120"/>
                <a:ext cx="7543800" cy="2590920"/>
              </a:xfrm>
              <a:custGeom>
                <a:avLst/>
                <a:gdLst>
                  <a:gd name="textAreaLeft" fmla="*/ -360 w 7543800"/>
                  <a:gd name="textAreaRight" fmla="*/ 7448040 w 7543800"/>
                  <a:gd name="textAreaTop" fmla="*/ 95400 h 2590920"/>
                  <a:gd name="textAreaBottom" fmla="*/ 2591280 h 2590920"/>
                </a:gdLst>
                <a:ahLst/>
                <a:rect l="textAreaLeft" t="textAreaTop" r="textAreaRight" b="textAreaBottom"/>
                <a:pathLst>
                  <a:path w="7543801" h="2591543">
                    <a:moveTo>
                      <a:pt x="0" y="0"/>
                    </a:moveTo>
                    <a:lnTo>
                      <a:pt x="7352571" y="0"/>
                    </a:lnTo>
                    <a:lnTo>
                      <a:pt x="7543801" y="191230"/>
                    </a:lnTo>
                    <a:lnTo>
                      <a:pt x="7543801" y="2591543"/>
                    </a:lnTo>
                    <a:lnTo>
                      <a:pt x="0" y="25915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6363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  <p:sp>
            <p:nvSpPr>
              <p:cNvPr id="177" name="Straight Connector 10"/>
              <p:cNvSpPr/>
              <p:nvPr/>
            </p:nvSpPr>
            <p:spPr>
              <a:xfrm flipH="1">
                <a:off x="1599840" y="2127240"/>
                <a:ext cx="7543800" cy="1440"/>
              </a:xfrm>
              <a:prstGeom prst="line">
                <a:avLst/>
              </a:prstGeom>
              <a:ln w="28440">
                <a:solidFill>
                  <a:srgbClr val="ff7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103154"/>
                  </a:solidFill>
                  <a:latin typeface="Arial"/>
                </a:endParaRPr>
              </a:p>
            </p:txBody>
          </p:sp>
        </p:grpSp>
        <p:sp>
          <p:nvSpPr>
            <p:cNvPr id="178" name="Teardrop 8"/>
            <p:cNvSpPr/>
            <p:nvPr/>
          </p:nvSpPr>
          <p:spPr>
            <a:xfrm>
              <a:off x="8521920" y="2368440"/>
              <a:ext cx="393480" cy="395280"/>
            </a:xfrm>
            <a:custGeom>
              <a:avLst/>
              <a:gdLst/>
              <a:ahLst/>
              <a:rect l="l" t="t" r="r" b="b"/>
              <a:pathLst>
                <a:path w="393700" h="395401">
                  <a:moveTo>
                    <a:pt x="0" y="197701"/>
                  </a:moveTo>
                  <a:cubicBezTo>
                    <a:pt x="0" y="88514"/>
                    <a:pt x="88133" y="0"/>
                    <a:pt x="196850" y="0"/>
                  </a:cubicBezTo>
                  <a:lnTo>
                    <a:pt x="393700" y="0"/>
                  </a:lnTo>
                  <a:lnTo>
                    <a:pt x="393700" y="197701"/>
                  </a:lnTo>
                  <a:cubicBezTo>
                    <a:pt x="393700" y="306888"/>
                    <a:pt x="305567" y="395402"/>
                    <a:pt x="196850" y="395402"/>
                  </a:cubicBezTo>
                  <a:cubicBezTo>
                    <a:pt x="88133" y="395402"/>
                    <a:pt x="0" y="306888"/>
                    <a:pt x="0" y="197701"/>
                  </a:cubicBezTo>
                  <a:close/>
                </a:path>
              </a:pathLst>
            </a:custGeom>
            <a:solidFill>
              <a:srgbClr val="ff7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103154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1"/>
          </p:nvPr>
        </p:nvSpPr>
        <p:spPr>
          <a:xfrm rot="16200000">
            <a:off x="80337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2"/>
          </p:nvPr>
        </p:nvSpPr>
        <p:spPr>
          <a:xfrm rot="16200000">
            <a:off x="7657560" y="34747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f7f7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Corbe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0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3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4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5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DD31F-8553-4B1C-906B-2C555E316975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3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2E321-9EC6-4D6F-B057-489073895005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nip Diagonal Corner Rectangle 6"/>
          <p:cNvSpPr/>
          <p:nvPr/>
        </p:nvSpPr>
        <p:spPr>
          <a:xfrm flipV="1">
            <a:off x="228600" y="1707120"/>
            <a:ext cx="8686800" cy="4908600"/>
          </a:xfrm>
          <a:custGeom>
            <a:avLst/>
            <a:gdLst>
              <a:gd name="textAreaLeft" fmla="*/ 97920 w 8686800"/>
              <a:gd name="textAreaRight" fmla="*/ 8588880 w 8686800"/>
              <a:gd name="textAreaTop" fmla="*/ 97920 h 4908600"/>
              <a:gd name="textAreaBottom" fmla="*/ 4810680 h 4908600"/>
            </a:gdLst>
            <a:ahLst/>
            <a:rect l="textAreaLeft" t="textAreaTop" r="textAreaRight" b="textAreaBottom"/>
            <a:pathLst>
              <a:path w="8686800" h="4908550">
                <a:moveTo>
                  <a:pt x="0" y="0"/>
                </a:moveTo>
                <a:lnTo>
                  <a:pt x="8490311" y="0"/>
                </a:lnTo>
                <a:lnTo>
                  <a:pt x="8686800" y="196489"/>
                </a:lnTo>
                <a:lnTo>
                  <a:pt x="8686800" y="4908550"/>
                </a:lnTo>
                <a:lnTo>
                  <a:pt x="196489" y="4908550"/>
                </a:lnTo>
                <a:lnTo>
                  <a:pt x="0" y="47120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06" name="Snip Diagonal Corner Rectangle 7"/>
          <p:cNvSpPr/>
          <p:nvPr/>
        </p:nvSpPr>
        <p:spPr>
          <a:xfrm flipV="1">
            <a:off x="228600" y="228240"/>
            <a:ext cx="8686800" cy="1278000"/>
          </a:xfrm>
          <a:custGeom>
            <a:avLst/>
            <a:gdLst>
              <a:gd name="textAreaLeft" fmla="*/ 74520 w 8686800"/>
              <a:gd name="textAreaRight" fmla="*/ 8612280 w 8686800"/>
              <a:gd name="textAreaTop" fmla="*/ 74520 h 1278000"/>
              <a:gd name="textAreaBottom" fmla="*/ 1203480 h 1278000"/>
            </a:gdLst>
            <a:ahLst/>
            <a:rect l="textAreaLeft" t="textAreaTop" r="textAreaRight" b="textAreaBottom"/>
            <a:pathLst>
              <a:path w="8686800" h="1277938">
                <a:moveTo>
                  <a:pt x="0" y="0"/>
                </a:moveTo>
                <a:lnTo>
                  <a:pt x="8537614" y="0"/>
                </a:lnTo>
                <a:lnTo>
                  <a:pt x="8686800" y="149186"/>
                </a:lnTo>
                <a:lnTo>
                  <a:pt x="8686800" y="1277938"/>
                </a:lnTo>
                <a:lnTo>
                  <a:pt x="149186" y="1277938"/>
                </a:lnTo>
                <a:lnTo>
                  <a:pt x="0" y="112875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D3CD5-B01E-46AD-B062-1C8DE4020DEC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nip Diagonal Corner Rectangle 6"/>
          <p:cNvSpPr/>
          <p:nvPr/>
        </p:nvSpPr>
        <p:spPr>
          <a:xfrm flipV="1">
            <a:off x="228600" y="227520"/>
            <a:ext cx="8686800" cy="6388200"/>
          </a:xfrm>
          <a:custGeom>
            <a:avLst/>
            <a:gdLst>
              <a:gd name="textAreaLeft" fmla="*/ 80640 w 8686800"/>
              <a:gd name="textAreaRight" fmla="*/ 8606160 w 8686800"/>
              <a:gd name="textAreaTop" fmla="*/ 80640 h 6388200"/>
              <a:gd name="textAreaBottom" fmla="*/ 6307560 h 6388200"/>
            </a:gdLst>
            <a:ahLst/>
            <a:rect l="textAreaLeft" t="textAreaTop" r="textAreaRight" b="textAreaBottom"/>
            <a:pathLst>
              <a:path w="8686800" h="6388100">
                <a:moveTo>
                  <a:pt x="0" y="0"/>
                </a:moveTo>
                <a:lnTo>
                  <a:pt x="8525245" y="0"/>
                </a:lnTo>
                <a:lnTo>
                  <a:pt x="8686800" y="161555"/>
                </a:lnTo>
                <a:lnTo>
                  <a:pt x="8686800" y="6388100"/>
                </a:lnTo>
                <a:lnTo>
                  <a:pt x="161555" y="6388100"/>
                </a:lnTo>
                <a:lnTo>
                  <a:pt x="0" y="622654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lick to edit the title text format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1" marL="6858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2" marL="10350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3" marL="1371600" indent="-3366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4" marL="1720800" indent="-34920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5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lvl="6" marL="1720800" indent="-349200">
              <a:spcBef>
                <a:spcPts val="2001"/>
              </a:spcBef>
              <a:buClr>
                <a:srgbClr val="103154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228240" y="6243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a6a6a6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867280" y="6248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4305240" y="6248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9C3E1-ECF5-4B6A-B6D8-6AC6BF2A3DB7}" type="slidenum">
              <a:rPr b="1" lang="en-US" sz="1100" spc="-1" strike="noStrike">
                <a:solidFill>
                  <a:srgbClr val="a6a6a6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95360" y="3625560"/>
            <a:ext cx="58672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74576"/>
                </a:solidFill>
                <a:latin typeface="Corbel"/>
              </a:rPr>
              <a:t>Pyruvate Metabolism</a:t>
            </a:r>
            <a:endParaRPr b="0" lang="en-US" sz="46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2000" y="5095800"/>
            <a:ext cx="58672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0"/>
                </a:solidFill>
                <a:latin typeface="Cambria"/>
                <a:ea typeface="Cambria"/>
              </a:rPr>
              <a:t>Dr. Sooad Al-Daihan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indent="0" algn="ctr">
              <a:lnSpc>
                <a:spcPct val="9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0"/>
                </a:solidFill>
                <a:latin typeface="Cambria"/>
                <a:ea typeface="Cambria"/>
              </a:rPr>
              <a:t>Biochemistry department </a:t>
            </a: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08" name="Picture 4" descr="BioLogo2small"/>
          <p:cNvPicPr/>
          <p:nvPr/>
        </p:nvPicPr>
        <p:blipFill>
          <a:blip r:embed="rId1"/>
          <a:stretch/>
        </p:blipFill>
        <p:spPr>
          <a:xfrm>
            <a:off x="128520" y="3438360"/>
            <a:ext cx="154152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" descr="Screen Shot 2012-02-28 at 9.49.55 PM.png"/>
          <p:cNvPicPr/>
          <p:nvPr/>
        </p:nvPicPr>
        <p:blipFill>
          <a:blip r:embed="rId2"/>
          <a:stretch/>
        </p:blipFill>
        <p:spPr>
          <a:xfrm>
            <a:off x="6138720" y="95400"/>
            <a:ext cx="2559240" cy="303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Continue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30" name="Picture 3" descr="table17-01.jpg"/>
          <p:cNvPicPr/>
          <p:nvPr/>
        </p:nvPicPr>
        <p:blipFill>
          <a:blip r:embed="rId1"/>
          <a:stretch/>
        </p:blipFill>
        <p:spPr>
          <a:xfrm>
            <a:off x="485640" y="1854360"/>
            <a:ext cx="74376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79040" y="140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Regulation of PDH complex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DH complex is regulated in 3 ways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1- Allosteric inhibition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By products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: Acetyl CoA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nd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NADH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By high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ATP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2- Allosteric activation by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AMP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33" name="Content Placeholder 5" descr=""/>
          <p:cNvPicPr/>
          <p:nvPr/>
        </p:nvPicPr>
        <p:blipFill>
          <a:blip r:embed="rId1"/>
          <a:srcRect l="-20829" t="0" r="-20829" b="0"/>
          <a:stretch/>
        </p:blipFill>
        <p:spPr>
          <a:xfrm>
            <a:off x="4780080" y="1949400"/>
            <a:ext cx="4459320" cy="36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79040" y="295200"/>
            <a:ext cx="75834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74576"/>
                </a:solidFill>
                <a:latin typeface="Corbel"/>
              </a:rPr>
              <a:t>Regulation of PDH complex (C0nt.)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3- Covalent  modification through phosphorylation and dephosphorylation  of E</a:t>
            </a:r>
            <a:r>
              <a:rPr b="0" lang="en-US" sz="2200" spc="-1" strike="noStrike" baseline="-25000">
                <a:solidFill>
                  <a:srgbClr val="174576"/>
                </a:solidFill>
                <a:latin typeface="Corbel"/>
              </a:rPr>
              <a:t>1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subunit 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Phoshorylated (inactive)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rotein kinase converts active to inactive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Dephoshorylated (active)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hosphatase converts inactive to active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36" name="Content Placeholder 3" descr="figure17-17.jpg"/>
          <p:cNvPicPr/>
          <p:nvPr/>
        </p:nvPicPr>
        <p:blipFill>
          <a:blip r:embed="rId1"/>
          <a:srcRect l="-6298" t="0" r="-6298" b="0"/>
          <a:stretch/>
        </p:blipFill>
        <p:spPr>
          <a:xfrm>
            <a:off x="5710320" y="2994120"/>
            <a:ext cx="3182760" cy="233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12492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4576"/>
                </a:solidFill>
                <a:latin typeface="Corbel"/>
              </a:rPr>
              <a:t>Introduction:</a:t>
            </a:r>
            <a:endParaRPr b="0" lang="en-US" sz="44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28240" y="1676160"/>
            <a:ext cx="4724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animals, pyruvate has a few main fates. Pyruvate can be converted to alanine, oxaloacetate, either as part of gluconeogenesis or for other biosynthetic purposes, or it can be converted to acetyl-CoA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In animals, the conversion of pyruvate to acetyl-CoA is irreversible,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nd produces a compound that has fewer physiological uses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12" name="Picture 5" descr="http://chemistry.gravitywaves.com/CHE452/images/FatesPyruv.gif"/>
          <p:cNvPicPr/>
          <p:nvPr/>
        </p:nvPicPr>
        <p:blipFill>
          <a:blip r:embed="rId1"/>
          <a:stretch/>
        </p:blipFill>
        <p:spPr>
          <a:xfrm>
            <a:off x="5178600" y="2514600"/>
            <a:ext cx="3595680" cy="2847960"/>
          </a:xfrm>
          <a:prstGeom prst="rect">
            <a:avLst/>
          </a:prstGeom>
          <a:ln w="9360">
            <a:solidFill>
              <a:srgbClr val="b9860b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itle 1"/>
          <p:cNvSpPr/>
          <p:nvPr/>
        </p:nvSpPr>
        <p:spPr>
          <a:xfrm>
            <a:off x="590400" y="17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74576"/>
                </a:solidFill>
                <a:latin typeface="Corbel"/>
              </a:rPr>
              <a:t>Continue</a:t>
            </a:r>
            <a:r>
              <a:rPr b="1" i="1" lang="en-US" sz="4000" spc="-1" strike="noStrike">
                <a:solidFill>
                  <a:srgbClr val="174576"/>
                </a:solidFill>
                <a:latin typeface="Corbel"/>
              </a:rPr>
              <a:t>….</a:t>
            </a:r>
            <a:endParaRPr b="0" lang="en-US" sz="4000" spc="-1" strike="noStrike">
              <a:solidFill>
                <a:srgbClr val="103154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Acetyl-CoA is used for lipid synthesis or for a few other, relatively minor, pathways,or as the substrate for the TCA cycle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In animals, acetyl-CoA cannot be used to synthesize amino acids or carbohydrates. This means that the conversion of pyruvate to acetyl-CoA is an important step, and must be tightly controlled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On the other hand, the conversion of pyruvate to acetyl-CoA is a necessary step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79040" y="2016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4576"/>
                </a:solidFill>
                <a:latin typeface="Corbel"/>
              </a:rPr>
              <a:t>Pyruvate import into mitochondrion</a:t>
            </a:r>
            <a:endParaRPr b="0" lang="en-US" sz="36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Under aerobic conditions, pyruvate passes by a special transporter into mitochondria</a:t>
            </a:r>
            <a:r>
              <a:rPr b="0" lang="en-GB" sz="2200" spc="-1" strike="noStrike">
                <a:solidFill>
                  <a:srgbClr val="174576"/>
                </a:solidFill>
                <a:latin typeface="Corbel"/>
              </a:rPr>
              <a:t>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Pyruvate is actually pumped into the mitochondria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So it is possible for the pyruvate concentration inside the mitochondria to be higher than outside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energy for the pump comes from a proton gradient, in which the proton concentration outside the mitochondria is higher than it is inside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4576"/>
                </a:solidFill>
                <a:latin typeface="Corbel"/>
              </a:rPr>
              <a:t>Reactions of the pyruvate dehydrogenase complex</a:t>
            </a:r>
            <a:endParaRPr b="0" lang="en-US" sz="3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314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first step in the oxidation of pyruvate is an oxidative decarboxylation reaction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is reaction is carried out by a very large enzyme complex, the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pyruvate dehydrogenase complex,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which is located in the mitochondrial matrix.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 algn="just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reaction catalyzed by the pyruvate dehydrogenase complex is irreversible, and is </a:t>
            </a:r>
            <a:r>
              <a:rPr b="0" lang="en-GB" sz="2200" spc="-1" strike="noStrike">
                <a:solidFill>
                  <a:srgbClr val="174576"/>
                </a:solidFill>
                <a:latin typeface="Corbel"/>
              </a:rPr>
              <a:t>tightly regulated.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19" name="Picture 3" descr="Screen Shot 2012-02-28 at 9.59.54 PM.png"/>
          <p:cNvPicPr/>
          <p:nvPr/>
        </p:nvPicPr>
        <p:blipFill>
          <a:blip r:embed="rId1"/>
          <a:stretch/>
        </p:blipFill>
        <p:spPr>
          <a:xfrm>
            <a:off x="2021040" y="4925880"/>
            <a:ext cx="4940280" cy="16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79040" y="338040"/>
            <a:ext cx="758340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174576"/>
                </a:solidFill>
                <a:latin typeface="Corbel"/>
              </a:rPr>
              <a:t>Continue…</a:t>
            </a:r>
            <a:endParaRPr b="0" lang="en-US" sz="38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76000" y="1949400"/>
            <a:ext cx="79801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However, in humans, the complex contains well over one hundred subunits.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 complex is comprised of </a:t>
            </a:r>
            <a:r>
              <a:rPr b="1" lang="en-US" sz="1900" spc="-1" strike="noStrike">
                <a:solidFill>
                  <a:srgbClr val="174576"/>
                </a:solidFill>
                <a:latin typeface="Corbel"/>
              </a:rPr>
              <a:t>three separate enzymes 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involved in the actual catalytic process, and uses a total of </a:t>
            </a:r>
            <a:r>
              <a:rPr b="1" lang="en-US" sz="1900" spc="-1" strike="noStrike">
                <a:solidFill>
                  <a:srgbClr val="174576"/>
                </a:solidFill>
                <a:latin typeface="Corbel"/>
              </a:rPr>
              <a:t>five different cofactors.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 large size of the complex allows the complicated reaction to proceed without dissociation of the reaction intermediates, and also allows regulation of the complex.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The pyruvate dehydrogenase complex is closely related to the: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     </a:t>
            </a:r>
            <a:r>
              <a:rPr b="0" lang="en-US" sz="1900" spc="-1" strike="noStrike">
                <a:solidFill>
                  <a:srgbClr val="c05f00"/>
                </a:solidFill>
                <a:latin typeface="Corbel"/>
              </a:rPr>
              <a:t>1- </a:t>
            </a:r>
            <a:r>
              <a:rPr b="0" lang="en-US" sz="1900" spc="-1" strike="noStrike">
                <a:solidFill>
                  <a:srgbClr val="174576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-ketoglutarate dehydrogenase complex (an TCA cycle enzyme). 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  <a:p>
            <a:pPr marL="325800" indent="-325800"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    </a:t>
            </a:r>
            <a:r>
              <a:rPr b="0" lang="en-US" sz="1900" spc="-1" strike="noStrike">
                <a:solidFill>
                  <a:srgbClr val="c05f00"/>
                </a:solidFill>
                <a:latin typeface="Corbel"/>
              </a:rPr>
              <a:t>2-</a:t>
            </a:r>
            <a:r>
              <a:rPr b="0" lang="en-US" sz="1900" spc="-1" strike="noStrike">
                <a:solidFill>
                  <a:srgbClr val="174576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174576"/>
                </a:solidFill>
                <a:latin typeface="Corbel"/>
              </a:rPr>
              <a:t> -ketoacid dehydrogenase complex (in the metabolism of leucine, valine, and isoleucine).</a:t>
            </a:r>
            <a:endParaRPr b="0" lang="en-US" sz="19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79040" y="41868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4576"/>
                </a:solidFill>
                <a:latin typeface="Corbel"/>
              </a:rPr>
              <a:t>Pyruvate Dehydrogenase Complex </a:t>
            </a:r>
            <a:br>
              <a:rPr sz="3400"/>
            </a:br>
            <a:endParaRPr b="0" lang="en-US" sz="3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PDH complex contains 3 enzymes which catalyzes the reaction in 3 steps 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E1 =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Pyruvate dehydrogenase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,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E2 =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Dihydrolipoyl transacetylase </a:t>
            </a: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E3 = </a:t>
            </a: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Dihydrolipoyl dehydrogenase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24" name="Picture 4" descr=""/>
          <p:cNvPicPr/>
          <p:nvPr/>
        </p:nvPicPr>
        <p:blipFill>
          <a:blip r:embed="rId1"/>
          <a:stretch/>
        </p:blipFill>
        <p:spPr>
          <a:xfrm>
            <a:off x="1801800" y="4587840"/>
            <a:ext cx="5672160" cy="1778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91920" y="2340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4576"/>
                </a:solidFill>
                <a:latin typeface="Corbel"/>
              </a:rPr>
              <a:t>Pyruvate Dehydrogenase Complex (Cont.) </a:t>
            </a:r>
            <a:endParaRPr b="0" lang="en-US" sz="3200" spc="-1" strike="noStrike">
              <a:solidFill>
                <a:srgbClr val="174576"/>
              </a:solidFill>
              <a:latin typeface="Corbe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79040" y="1949400"/>
            <a:ext cx="758340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4576"/>
                </a:solidFill>
                <a:latin typeface="Corbel"/>
              </a:rPr>
              <a:t>The complex requires 5 different coenzymes or prosthetic groups: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1-Thiamine pyrophosphate (TPP),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2-Flavin adenine dinucleotide (FAD),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3- Coenzyme A (CoA)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4- Nicotinamide adenine dinucleotide (NAD), 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74576"/>
                </a:solidFill>
                <a:latin typeface="Corbel"/>
              </a:rPr>
              <a:t>5-Lipoic acid</a:t>
            </a: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  <a:p>
            <a:pPr marL="343080" indent="-343080">
              <a:spcBef>
                <a:spcPts val="2001"/>
              </a:spcBef>
              <a:buClr>
                <a:srgbClr val="ff7f01"/>
              </a:buClr>
              <a:buSzPct val="9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74576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79040" y="294840"/>
            <a:ext cx="75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174576"/>
              </a:solidFill>
              <a:latin typeface="Corbel"/>
            </a:endParaRPr>
          </a:p>
        </p:txBody>
      </p:sp>
      <p:pic>
        <p:nvPicPr>
          <p:cNvPr id="628" name="Picture 3" descr="Screen Shot 2012-02-28 at 10.20.51 PM.png"/>
          <p:cNvPicPr/>
          <p:nvPr/>
        </p:nvPicPr>
        <p:blipFill>
          <a:blip r:embed="rId1"/>
          <a:stretch/>
        </p:blipFill>
        <p:spPr>
          <a:xfrm>
            <a:off x="243000" y="217440"/>
            <a:ext cx="866772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8:36:54Z</dcterms:created>
  <dc:creator>i Mac</dc:creator>
  <dc:description/>
  <dc:language>en-US</dc:language>
  <cp:lastModifiedBy>i Mac </cp:lastModifiedBy>
  <dcterms:modified xsi:type="dcterms:W3CDTF">2012-03-03T05:42:03Z</dcterms:modified>
  <cp:revision>13</cp:revision>
  <dc:subject/>
  <dc:title>Pyruvate Metabolism</dc:title>
</cp:coreProperties>
</file>