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EEDD-726B-4C0C-A59D-B0548D37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6C2-F243-4FE4-9E95-50E72B39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2A765-0CED-4112-9FE3-A7048BA3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CADF8-F3DF-46F4-9D9A-186CAE0F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0E685-67D0-4797-84E1-C96A7F6E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C833A-9D34-43E1-B17F-EE913046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BDA03-9EF3-4EA0-AF28-685ACAFC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DFE40-623C-420E-BB21-383E56E9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B96CD-C13D-4EDA-944D-F92CC290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74E0E-05FF-438E-912E-06DFDB8A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23C7D-C3BE-4E35-B02C-DEBC236B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A7FEA-B94B-47D7-A3CE-9F8185D6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690-BD6B-40B5-AD0A-2A350E3D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F101C-7771-4D7A-8D83-CBF9DCA4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17D2E-E063-4E61-B07F-6EAF1401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432BA-A846-49F1-BE61-708133FE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2988B-FCFB-4209-AE42-3FF787E2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366BD-BAFA-4CC2-B37E-277DA9FC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168EC-6D87-44AE-AF0D-A6C2EA4F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A06F0-D16A-41B3-A718-F8607F72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F9142-80AB-4C60-9567-FD062350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97840-6E62-4CD7-AD6F-D3826CAC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AF236-1FE5-4FE7-95FA-CDB94C42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426A-1C14-4C71-B08D-8C7A9B4A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B6D92-9F55-47B0-AD76-E9CA1E41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F2489-466B-4E57-B51F-F723F348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582EC-732A-4DAA-9765-46E19050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91BA9-8661-44D5-BE09-DE7CF260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03F79-CE1B-412F-9C26-E577021A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84D8E-B575-48F0-9AAB-BDF59D65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5F742-C179-48CD-9722-C741DDD0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EB62C-C284-4255-BF43-6E405E8B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A39AB-2A82-45F0-8F6E-086C346D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40C2A-BCEB-48A0-95A4-3BC4190F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D607C-988D-4ECC-9847-2B4D9AD8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D4110-E415-40ED-AFC8-5F20B8E2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A3140-665C-4A5C-A760-5B0941C6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909BD-B658-4AE0-9841-DA255034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7DD50-B866-4234-9C65-C5D66680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AA829-C902-4340-9272-B5DADF81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69D1D-7C8C-4072-B978-CF4DC1CC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F939D-A47C-4B16-BB86-517FE91B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C732E-3C2D-4C96-9574-4A20398A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1B7EA-87E0-46B7-B78F-812EB9C2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5B4E6-3B8A-4132-B215-90482679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58417-C22F-4DDE-9A21-F2DDF564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BB5CA-EDBF-4993-89ED-F83A29DB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558FB-EE97-4013-828A-C652834D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6AC21-AAB5-4E8F-8FC8-82397E41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B6F03-D1E8-48B0-B390-0956DDA6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74F5C-1448-4219-98A2-6FEDF0A5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93CBA-ED0D-4593-B678-8A2C7CF0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8881D-D6C4-4DEE-B4DE-2E9E30A1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94287-EA64-4AEC-B5AA-3566B247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11613-7D12-4ED6-968A-D8717960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72ACF-063E-4A38-B791-757E3E1E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66564-E1BA-4C5E-B585-12434EBE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1AACB-0821-4321-929C-5401138E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25AE1-6328-46C7-8418-AF30AA71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BBDC2-7EC8-405A-B898-60A79B20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D91BB-35D0-4E3F-B8E4-96A5279C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A0FD20-0B70-4EE4-BE2B-BE6F85F7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6F313-97B9-4F8E-B596-CC860C66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1B6A4D-76F8-423D-9AAE-CD3C8485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C8FCE-A8B4-4506-94A2-81325F7F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2C48F-D3F8-419A-81C3-B55D66C8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172A3-56F6-4F96-B214-8E83EFB4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F74A63-46A4-463C-B5D8-09F1A9FD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7879A5-E3C4-45D9-B229-668B1430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195AF8-0381-4485-A085-43CF71E1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912ACD-D342-4485-89DF-919A85A6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00F55-EA2B-4B74-AD01-4B4057A6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A71437-5CA8-4EAC-AB20-2C8BA822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51B7-E87D-45B0-9359-E9AA05AB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90CDE-9D8F-4A5C-83B0-F6F3B3D1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775AD-ED7B-4D83-99EF-A0792A90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3186A-D0FC-4515-8709-92E7E8DF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F6152-A71C-4D9A-B6E7-82AF9E3B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F95B0-0C12-4A03-8C7B-40B4FF81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2D0-50F2-4EDB-966E-03C2A465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33E91-C23B-4CC1-8BAA-102AFE06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3C642-7090-4683-AB3F-50784334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86114-00D1-4EE8-9D30-845B3EB6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1093E-7F3D-4509-8284-C853530B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C44FE-838A-49EF-9EA1-A1DCC0D1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F8DA8-14A2-4A43-9DBF-5CE213FB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678EF-D50D-428C-BE53-E471CE95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875-6F61-413B-ABF9-43FAB276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97EA-CFDD-49B1-9C34-8D5B71EB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8A2B-03A5-43EA-80F3-28586190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8C212-C81E-4DC9-AED1-165D684A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40D36-E7AF-4958-BAB8-F593E146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B04DA-51CB-443D-9166-561BA868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37651-223A-4A96-988F-CC30E4F5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E2910-C192-4B27-A6DC-2C471B87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5A30D-4B3E-4B05-8AA1-3D1EEF11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00E34-CCF7-42A0-AE8F-21934BF4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DA827-F388-4C23-BDD6-AF15FFC7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20960-69D3-47B2-9664-FCDAFAA1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F1D-9AAB-4592-BC33-14EF3AE1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9B9A2-6CC4-4EA3-B71D-7ABAA89E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C9B6C-B60E-4803-974D-86116E45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FDC46-49D5-4C41-B31B-DE6108F3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EA811-0061-4FF5-89AF-CE0122C6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99ACB-4FD7-40AF-9A50-86228845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39627-5B3F-4317-A891-D53F7146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E8823-5450-4708-B868-3DAA42F4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59E1C-5D1B-4626-A703-13BE1923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0B4EA-F521-4C87-91C1-852132E2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73A42-367A-4A41-8CFE-A94963C5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082E-D10A-4799-A392-A6A9F431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F7F1B-80FD-49D7-AC84-F11FE6CB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5DB65-337F-48C1-8E12-F868887A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3757C-9BC1-4A10-9F84-6D244F2D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65769-FF45-4BF7-A6C7-77099A3A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DDE2E-DD66-46A4-AB64-D5727924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F6336-01CF-4B90-BDC5-F5D34859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A84F7-383F-48BB-B1B7-F8F80152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3D2CA-8972-4653-8B6C-EEBF416F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6DD05-4BC4-4323-98EB-98C53C73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5317C-5EA5-497A-9220-61497B37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E4A3-8E95-4BD4-A1A2-73473BC6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8096C-5FD2-4A1A-97F7-AB254162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637A4-2FD3-4111-848E-C689D3DE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E74E0-7016-4C66-990E-7B9B8D06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76ABC-DC91-4CB7-B987-F8939549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F8BB3-0E2F-4335-8306-0F45CC6F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033C5-4CC4-45AF-B9B6-64612F41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BFB68-E46F-4376-B72F-E5C6D6CD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F3FF1-4037-4747-B8D9-4974E294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F3806-EDA2-438E-973D-912880B6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C2A5A-AC75-4E48-9872-BCB68CAF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4269D2-1FFB-463C-8C7C-153DED6895C9}" type="slidenum">
              <a:rPr b="1" lang="en-US" sz="1100" spc="-1" strike="noStrike">
                <a:solidFill>
                  <a:srgbClr val="a6a6a6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11"/>
          <p:cNvGrpSpPr/>
          <p:nvPr/>
        </p:nvGrpSpPr>
        <p:grpSpPr>
          <a:xfrm>
            <a:off x="228600" y="228240"/>
            <a:ext cx="4251240" cy="6388200"/>
            <a:chOff x="228600" y="228240"/>
            <a:chExt cx="4251240" cy="6388200"/>
          </a:xfrm>
        </p:grpSpPr>
        <p:sp>
          <p:nvSpPr>
            <p:cNvPr id="391" name="Snip Diagonal Corner Rectangle 7"/>
            <p:cNvSpPr/>
            <p:nvPr/>
          </p:nvSpPr>
          <p:spPr>
            <a:xfrm flipV="1">
              <a:off x="228600" y="227520"/>
              <a:ext cx="4251240" cy="6388200"/>
            </a:xfrm>
            <a:custGeom>
              <a:avLst/>
              <a:gdLst>
                <a:gd name="textAreaLeft" fmla="*/ 80640 w 4251240"/>
                <a:gd name="textAreaRight" fmla="*/ 4170600 w 4251240"/>
                <a:gd name="textAreaTop" fmla="*/ 80640 h 6388200"/>
                <a:gd name="textAreaBottom" fmla="*/ 6307560 h 6388200"/>
              </a:gdLst>
              <a:ahLst/>
              <a:rect l="textAreaLeft" t="textAreaTop" r="textAreaRight" b="textAreaBottom"/>
              <a:pathLst>
                <a:path w="4251960" h="6387352">
                  <a:moveTo>
                    <a:pt x="0" y="0"/>
                  </a:moveTo>
                  <a:lnTo>
                    <a:pt x="4090641" y="0"/>
                  </a:lnTo>
                  <a:lnTo>
                    <a:pt x="4251960" y="161319"/>
                  </a:lnTo>
                  <a:lnTo>
                    <a:pt x="4251960" y="6387352"/>
                  </a:lnTo>
                  <a:lnTo>
                    <a:pt x="161319" y="6387352"/>
                  </a:lnTo>
                  <a:lnTo>
                    <a:pt x="0" y="62260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6363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03154"/>
                </a:solidFill>
                <a:latin typeface="Arial"/>
              </a:endParaRPr>
            </a:p>
          </p:txBody>
        </p:sp>
        <p:sp>
          <p:nvSpPr>
            <p:cNvPr id="392" name="Teardrop 8"/>
            <p:cNvSpPr/>
            <p:nvPr/>
          </p:nvSpPr>
          <p:spPr>
            <a:xfrm>
              <a:off x="3886200" y="431640"/>
              <a:ext cx="353880" cy="355320"/>
            </a:xfrm>
            <a:custGeom>
              <a:avLst/>
              <a:gdLst/>
              <a:ahLst/>
              <a:rect l="l" t="t" r="r" b="b"/>
              <a:pathLst>
                <a:path w="354066" h="355558">
                  <a:moveTo>
                    <a:pt x="0" y="177779"/>
                  </a:moveTo>
                  <a:cubicBezTo>
                    <a:pt x="0" y="79594"/>
                    <a:pt x="79260" y="0"/>
                    <a:pt x="177033" y="0"/>
                  </a:cubicBezTo>
                  <a:lnTo>
                    <a:pt x="354066" y="0"/>
                  </a:lnTo>
                  <a:lnTo>
                    <a:pt x="354066" y="177779"/>
                  </a:lnTo>
                  <a:cubicBezTo>
                    <a:pt x="354066" y="275964"/>
                    <a:pt x="274806" y="355558"/>
                    <a:pt x="177033" y="355558"/>
                  </a:cubicBezTo>
                  <a:cubicBezTo>
                    <a:pt x="79260" y="355558"/>
                    <a:pt x="0" y="275964"/>
                    <a:pt x="0" y="177779"/>
                  </a:cubicBezTo>
                  <a:close/>
                </a:path>
              </a:pathLst>
            </a:cu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03154"/>
                </a:solidFill>
                <a:latin typeface="Arial"/>
              </a:endParaRPr>
            </a:p>
          </p:txBody>
        </p:sp>
      </p:grpSp>
      <p:sp>
        <p:nvSpPr>
          <p:cNvPr id="393" name="Snip Diagonal Corner Rectangle 9"/>
          <p:cNvSpPr/>
          <p:nvPr/>
        </p:nvSpPr>
        <p:spPr>
          <a:xfrm flipV="1">
            <a:off x="4648320" y="227520"/>
            <a:ext cx="4251240" cy="6388200"/>
          </a:xfrm>
          <a:custGeom>
            <a:avLst/>
            <a:gdLst>
              <a:gd name="textAreaLeft" fmla="*/ 80640 w 4251240"/>
              <a:gd name="textAreaRight" fmla="*/ 4170600 w 4251240"/>
              <a:gd name="textAreaTop" fmla="*/ 80640 h 6388200"/>
              <a:gd name="textAreaBottom" fmla="*/ 6307560 h 6388200"/>
            </a:gdLst>
            <a:ahLst/>
            <a:rect l="textAreaLeft" t="textAreaTop" r="textAreaRight" b="textAreaBottom"/>
            <a:pathLst>
              <a:path w="4251325" h="6388100">
                <a:moveTo>
                  <a:pt x="0" y="0"/>
                </a:moveTo>
                <a:lnTo>
                  <a:pt x="4090030" y="0"/>
                </a:lnTo>
                <a:lnTo>
                  <a:pt x="4251325" y="161295"/>
                </a:lnTo>
                <a:lnTo>
                  <a:pt x="4251325" y="6388100"/>
                </a:lnTo>
                <a:lnTo>
                  <a:pt x="161295" y="6388100"/>
                </a:lnTo>
                <a:lnTo>
                  <a:pt x="0" y="622680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762120" y="6297120"/>
            <a:ext cx="1295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2057400" y="6297120"/>
            <a:ext cx="234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304920" y="6297120"/>
            <a:ext cx="444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14699-3167-4B5A-93F4-DD3BBA6C70F8}" type="slidenum">
              <a:rPr b="1" lang="en-US" sz="1100" spc="-1" strike="noStrike">
                <a:solidFill>
                  <a:srgbClr val="a6a6a6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10"/>
          <p:cNvGrpSpPr/>
          <p:nvPr/>
        </p:nvGrpSpPr>
        <p:grpSpPr>
          <a:xfrm>
            <a:off x="228600" y="228240"/>
            <a:ext cx="4251240" cy="6388200"/>
            <a:chOff x="228600" y="228240"/>
            <a:chExt cx="4251240" cy="6388200"/>
          </a:xfrm>
        </p:grpSpPr>
        <p:sp>
          <p:nvSpPr>
            <p:cNvPr id="436" name="Snip Diagonal Corner Rectangle 7"/>
            <p:cNvSpPr/>
            <p:nvPr/>
          </p:nvSpPr>
          <p:spPr>
            <a:xfrm flipV="1">
              <a:off x="228600" y="227520"/>
              <a:ext cx="4251240" cy="6388200"/>
            </a:xfrm>
            <a:custGeom>
              <a:avLst/>
              <a:gdLst>
                <a:gd name="textAreaLeft" fmla="*/ 80640 w 4251240"/>
                <a:gd name="textAreaRight" fmla="*/ 4170600 w 4251240"/>
                <a:gd name="textAreaTop" fmla="*/ 80640 h 6388200"/>
                <a:gd name="textAreaBottom" fmla="*/ 6307560 h 6388200"/>
              </a:gdLst>
              <a:ahLst/>
              <a:rect l="textAreaLeft" t="textAreaTop" r="textAreaRight" b="textAreaBottom"/>
              <a:pathLst>
                <a:path w="4251960" h="6387352">
                  <a:moveTo>
                    <a:pt x="0" y="0"/>
                  </a:moveTo>
                  <a:lnTo>
                    <a:pt x="4090641" y="0"/>
                  </a:lnTo>
                  <a:lnTo>
                    <a:pt x="4251960" y="161319"/>
                  </a:lnTo>
                  <a:lnTo>
                    <a:pt x="4251960" y="6387352"/>
                  </a:lnTo>
                  <a:lnTo>
                    <a:pt x="161319" y="6387352"/>
                  </a:lnTo>
                  <a:lnTo>
                    <a:pt x="0" y="62260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6363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03154"/>
                </a:solidFill>
                <a:latin typeface="Arial"/>
              </a:endParaRPr>
            </a:p>
          </p:txBody>
        </p:sp>
        <p:sp>
          <p:nvSpPr>
            <p:cNvPr id="437" name="Teardrop 8"/>
            <p:cNvSpPr/>
            <p:nvPr/>
          </p:nvSpPr>
          <p:spPr>
            <a:xfrm>
              <a:off x="3886200" y="431640"/>
              <a:ext cx="353880" cy="355320"/>
            </a:xfrm>
            <a:custGeom>
              <a:avLst/>
              <a:gdLst/>
              <a:ahLst/>
              <a:rect l="l" t="t" r="r" b="b"/>
              <a:pathLst>
                <a:path w="354066" h="355558">
                  <a:moveTo>
                    <a:pt x="0" y="177779"/>
                  </a:moveTo>
                  <a:cubicBezTo>
                    <a:pt x="0" y="79594"/>
                    <a:pt x="79260" y="0"/>
                    <a:pt x="177033" y="0"/>
                  </a:cubicBezTo>
                  <a:lnTo>
                    <a:pt x="354066" y="0"/>
                  </a:lnTo>
                  <a:lnTo>
                    <a:pt x="354066" y="177779"/>
                  </a:lnTo>
                  <a:cubicBezTo>
                    <a:pt x="354066" y="275964"/>
                    <a:pt x="274806" y="355558"/>
                    <a:pt x="177033" y="355558"/>
                  </a:cubicBezTo>
                  <a:cubicBezTo>
                    <a:pt x="79260" y="355558"/>
                    <a:pt x="0" y="275964"/>
                    <a:pt x="0" y="177779"/>
                  </a:cubicBezTo>
                  <a:close/>
                </a:path>
              </a:pathLst>
            </a:cu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03154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758520" y="6300720"/>
            <a:ext cx="1298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2057400" y="6300720"/>
            <a:ext cx="234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01320" y="6300720"/>
            <a:ext cx="44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B0F68-95C9-4E04-890C-EF3E1E753315}" type="slidenum">
              <a:rPr b="1" lang="en-US" sz="1100" spc="-1" strike="noStrike">
                <a:solidFill>
                  <a:srgbClr val="a6a6a6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nip Diagonal Corner Rectangle 6"/>
          <p:cNvSpPr/>
          <p:nvPr/>
        </p:nvSpPr>
        <p:spPr>
          <a:xfrm flipV="1">
            <a:off x="228600" y="4647960"/>
            <a:ext cx="8686800" cy="1963440"/>
          </a:xfrm>
          <a:custGeom>
            <a:avLst/>
            <a:gdLst>
              <a:gd name="textAreaLeft" fmla="*/ 91800 w 8686800"/>
              <a:gd name="textAreaRight" fmla="*/ 8595000 w 8686800"/>
              <a:gd name="textAreaTop" fmla="*/ 91800 h 1963440"/>
              <a:gd name="textAreaBottom" fmla="*/ 1871640 h 1963440"/>
            </a:gdLst>
            <a:ahLst/>
            <a:rect l="textAreaLeft" t="textAreaTop" r="textAreaRight" b="textAreaBottom"/>
            <a:pathLst>
              <a:path w="8686800" h="1963738">
                <a:moveTo>
                  <a:pt x="0" y="0"/>
                </a:moveTo>
                <a:lnTo>
                  <a:pt x="8502739" y="0"/>
                </a:lnTo>
                <a:lnTo>
                  <a:pt x="8686800" y="184061"/>
                </a:lnTo>
                <a:lnTo>
                  <a:pt x="8686800" y="1963738"/>
                </a:lnTo>
                <a:lnTo>
                  <a:pt x="184061" y="1963738"/>
                </a:lnTo>
                <a:lnTo>
                  <a:pt x="0" y="177967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2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3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1C17C-10E0-46E9-9141-CA93174D48F8}" type="slidenum">
              <a:rPr b="1" lang="en-US" sz="1100" spc="-1" strike="noStrike">
                <a:solidFill>
                  <a:srgbClr val="a6a6a6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nip Diagonal Corner Rectangle 6"/>
          <p:cNvSpPr/>
          <p:nvPr/>
        </p:nvSpPr>
        <p:spPr>
          <a:xfrm flipV="1">
            <a:off x="228600" y="1707120"/>
            <a:ext cx="8686800" cy="4908600"/>
          </a:xfrm>
          <a:custGeom>
            <a:avLst/>
            <a:gdLst>
              <a:gd name="textAreaLeft" fmla="*/ 97920 w 8686800"/>
              <a:gd name="textAreaRight" fmla="*/ 8588880 w 8686800"/>
              <a:gd name="textAreaTop" fmla="*/ 97920 h 4908600"/>
              <a:gd name="textAreaBottom" fmla="*/ 4810680 h 4908600"/>
            </a:gdLst>
            <a:ahLst/>
            <a:rect l="textAreaLeft" t="textAreaTop" r="textAreaRight" b="textAreaBottom"/>
            <a:pathLst>
              <a:path w="8686800" h="4908550">
                <a:moveTo>
                  <a:pt x="0" y="0"/>
                </a:moveTo>
                <a:lnTo>
                  <a:pt x="8490311" y="0"/>
                </a:lnTo>
                <a:lnTo>
                  <a:pt x="8686800" y="196489"/>
                </a:lnTo>
                <a:lnTo>
                  <a:pt x="8686800" y="4908550"/>
                </a:lnTo>
                <a:lnTo>
                  <a:pt x="196489" y="4908550"/>
                </a:lnTo>
                <a:lnTo>
                  <a:pt x="0" y="47120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522" name="Snip Diagonal Corner Rectangle 7"/>
          <p:cNvSpPr/>
          <p:nvPr/>
        </p:nvSpPr>
        <p:spPr>
          <a:xfrm flipV="1">
            <a:off x="228600" y="228240"/>
            <a:ext cx="8686800" cy="1278000"/>
          </a:xfrm>
          <a:custGeom>
            <a:avLst/>
            <a:gdLst>
              <a:gd name="textAreaLeft" fmla="*/ 74520 w 8686800"/>
              <a:gd name="textAreaRight" fmla="*/ 8612280 w 8686800"/>
              <a:gd name="textAreaTop" fmla="*/ 74520 h 1278000"/>
              <a:gd name="textAreaBottom" fmla="*/ 1203480 h 1278000"/>
            </a:gdLst>
            <a:ahLst/>
            <a:rect l="textAreaLeft" t="textAreaTop" r="textAreaRight" b="textAreaBottom"/>
            <a:pathLst>
              <a:path w="8686800" h="1277938">
                <a:moveTo>
                  <a:pt x="0" y="0"/>
                </a:moveTo>
                <a:lnTo>
                  <a:pt x="8537614" y="0"/>
                </a:lnTo>
                <a:lnTo>
                  <a:pt x="8686800" y="149186"/>
                </a:lnTo>
                <a:lnTo>
                  <a:pt x="8686800" y="1277938"/>
                </a:lnTo>
                <a:lnTo>
                  <a:pt x="149186" y="1277938"/>
                </a:lnTo>
                <a:lnTo>
                  <a:pt x="0" y="112875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4C667-F2E6-4D45-9A78-3A561352B853}" type="slidenum">
              <a:rPr b="1" lang="en-US" sz="1100" spc="-1" strike="noStrike">
                <a:solidFill>
                  <a:srgbClr val="a6a6a6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nip Diagonal Corner Rectangle 6"/>
          <p:cNvSpPr/>
          <p:nvPr/>
        </p:nvSpPr>
        <p:spPr>
          <a:xfrm flipV="1">
            <a:off x="228600" y="227520"/>
            <a:ext cx="8686800" cy="6388200"/>
          </a:xfrm>
          <a:custGeom>
            <a:avLst/>
            <a:gdLst>
              <a:gd name="textAreaLeft" fmla="*/ 80640 w 8686800"/>
              <a:gd name="textAreaRight" fmla="*/ 8606160 w 8686800"/>
              <a:gd name="textAreaTop" fmla="*/ 80640 h 6388200"/>
              <a:gd name="textAreaBottom" fmla="*/ 6307560 h 6388200"/>
            </a:gdLst>
            <a:ahLst/>
            <a:rect l="textAreaLeft" t="textAreaTop" r="textAreaRight" b="textAreaBottom"/>
            <a:pathLst>
              <a:path w="8686800" h="6388100">
                <a:moveTo>
                  <a:pt x="0" y="0"/>
                </a:moveTo>
                <a:lnTo>
                  <a:pt x="8525245" y="0"/>
                </a:lnTo>
                <a:lnTo>
                  <a:pt x="8686800" y="161555"/>
                </a:lnTo>
                <a:lnTo>
                  <a:pt x="8686800" y="6388100"/>
                </a:lnTo>
                <a:lnTo>
                  <a:pt x="161555" y="6388100"/>
                </a:lnTo>
                <a:lnTo>
                  <a:pt x="0" y="622654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5E504-EEE3-4A01-8640-73A3966A23F1}" type="slidenum">
              <a:rPr b="1" lang="en-US" sz="1100" spc="-1" strike="noStrike">
                <a:solidFill>
                  <a:srgbClr val="a6a6a6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"/>
          <p:cNvGrpSpPr/>
          <p:nvPr/>
        </p:nvGrpSpPr>
        <p:grpSpPr>
          <a:xfrm>
            <a:off x="0" y="3379680"/>
            <a:ext cx="7543800" cy="2603160"/>
            <a:chOff x="0" y="3379680"/>
            <a:chExt cx="7543800" cy="2603160"/>
          </a:xfrm>
        </p:grpSpPr>
        <p:grpSp>
          <p:nvGrpSpPr>
            <p:cNvPr id="42" name="Group 11"/>
            <p:cNvGrpSpPr/>
            <p:nvPr/>
          </p:nvGrpSpPr>
          <p:grpSpPr>
            <a:xfrm>
              <a:off x="0" y="3379680"/>
              <a:ext cx="7543800" cy="2603160"/>
              <a:chOff x="0" y="3379680"/>
              <a:chExt cx="7543800" cy="2603160"/>
            </a:xfrm>
          </p:grpSpPr>
          <p:sp>
            <p:nvSpPr>
              <p:cNvPr id="43" name="Snip Single Corner Rectangle 9"/>
              <p:cNvSpPr/>
              <p:nvPr/>
            </p:nvSpPr>
            <p:spPr>
              <a:xfrm flipV="1">
                <a:off x="0" y="3391200"/>
                <a:ext cx="7543800" cy="2590920"/>
              </a:xfrm>
              <a:custGeom>
                <a:avLst/>
                <a:gdLst>
                  <a:gd name="textAreaLeft" fmla="*/ 0 w 7543800"/>
                  <a:gd name="textAreaRight" fmla="*/ 7448400 w 7543800"/>
                  <a:gd name="textAreaTop" fmla="*/ 95400 h 2590920"/>
                  <a:gd name="textAreaBottom" fmla="*/ 2591280 h 2590920"/>
                </a:gdLst>
                <a:ahLst/>
                <a:rect l="textAreaLeft" t="textAreaTop" r="textAreaRight" b="textAreaBottom"/>
                <a:pathLst>
                  <a:path w="7543801" h="2591543">
                    <a:moveTo>
                      <a:pt x="0" y="0"/>
                    </a:moveTo>
                    <a:lnTo>
                      <a:pt x="7352571" y="0"/>
                    </a:lnTo>
                    <a:lnTo>
                      <a:pt x="7543801" y="191230"/>
                    </a:lnTo>
                    <a:lnTo>
                      <a:pt x="7543801" y="2591543"/>
                    </a:lnTo>
                    <a:lnTo>
                      <a:pt x="0" y="25915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6363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103154"/>
                  </a:solidFill>
                  <a:latin typeface="Arial"/>
                </a:endParaRPr>
              </a:p>
            </p:txBody>
          </p:sp>
          <p:sp>
            <p:nvSpPr>
              <p:cNvPr id="44" name="Straight Connector 10"/>
              <p:cNvSpPr/>
              <p:nvPr/>
            </p:nvSpPr>
            <p:spPr>
              <a:xfrm>
                <a:off x="0" y="3379680"/>
                <a:ext cx="7543800" cy="1440"/>
              </a:xfrm>
              <a:prstGeom prst="line">
                <a:avLst/>
              </a:prstGeom>
              <a:ln w="28440">
                <a:solidFill>
                  <a:srgbClr val="ff7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103154"/>
                  </a:solidFill>
                  <a:latin typeface="Arial"/>
                </a:endParaRPr>
              </a:p>
            </p:txBody>
          </p:sp>
        </p:grpSp>
        <p:sp>
          <p:nvSpPr>
            <p:cNvPr id="45" name="Teardrop 8"/>
            <p:cNvSpPr/>
            <p:nvPr/>
          </p:nvSpPr>
          <p:spPr>
            <a:xfrm>
              <a:off x="6818400" y="3620880"/>
              <a:ext cx="393480" cy="395280"/>
            </a:xfrm>
            <a:custGeom>
              <a:avLst/>
              <a:gdLst/>
              <a:ahLst/>
              <a:rect l="l" t="t" r="r" b="b"/>
              <a:pathLst>
                <a:path w="393700" h="395400">
                  <a:moveTo>
                    <a:pt x="0" y="197700"/>
                  </a:moveTo>
                  <a:cubicBezTo>
                    <a:pt x="0" y="88513"/>
                    <a:pt x="88133" y="0"/>
                    <a:pt x="196850" y="0"/>
                  </a:cubicBezTo>
                  <a:lnTo>
                    <a:pt x="393700" y="0"/>
                  </a:lnTo>
                  <a:lnTo>
                    <a:pt x="393700" y="197700"/>
                  </a:lnTo>
                  <a:cubicBezTo>
                    <a:pt x="393700" y="306887"/>
                    <a:pt x="305567" y="395400"/>
                    <a:pt x="196850" y="395400"/>
                  </a:cubicBezTo>
                  <a:cubicBezTo>
                    <a:pt x="88133" y="395400"/>
                    <a:pt x="0" y="306887"/>
                    <a:pt x="0" y="197700"/>
                  </a:cubicBezTo>
                  <a:close/>
                </a:path>
              </a:pathLst>
            </a:cu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03154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6200000">
            <a:off x="-7333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orbe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 rot="16200000">
            <a:off x="-3571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nip Diagonal Corner Rectangle 6"/>
          <p:cNvSpPr/>
          <p:nvPr/>
        </p:nvSpPr>
        <p:spPr>
          <a:xfrm flipV="1">
            <a:off x="228600" y="1707120"/>
            <a:ext cx="8686800" cy="4908600"/>
          </a:xfrm>
          <a:custGeom>
            <a:avLst/>
            <a:gdLst>
              <a:gd name="textAreaLeft" fmla="*/ 97920 w 8686800"/>
              <a:gd name="textAreaRight" fmla="*/ 8588880 w 8686800"/>
              <a:gd name="textAreaTop" fmla="*/ 97920 h 4908600"/>
              <a:gd name="textAreaBottom" fmla="*/ 4810680 h 4908600"/>
            </a:gdLst>
            <a:ahLst/>
            <a:rect l="textAreaLeft" t="textAreaTop" r="textAreaRight" b="textAreaBottom"/>
            <a:pathLst>
              <a:path w="8686800" h="4908550">
                <a:moveTo>
                  <a:pt x="0" y="0"/>
                </a:moveTo>
                <a:lnTo>
                  <a:pt x="8490311" y="0"/>
                </a:lnTo>
                <a:lnTo>
                  <a:pt x="8686800" y="196489"/>
                </a:lnTo>
                <a:lnTo>
                  <a:pt x="8686800" y="4908550"/>
                </a:lnTo>
                <a:lnTo>
                  <a:pt x="196489" y="4908550"/>
                </a:lnTo>
                <a:lnTo>
                  <a:pt x="0" y="47120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87" name="Snip Diagonal Corner Rectangle 7"/>
          <p:cNvSpPr/>
          <p:nvPr/>
        </p:nvSpPr>
        <p:spPr>
          <a:xfrm flipV="1">
            <a:off x="228600" y="228240"/>
            <a:ext cx="8686800" cy="1278000"/>
          </a:xfrm>
          <a:custGeom>
            <a:avLst/>
            <a:gdLst>
              <a:gd name="textAreaLeft" fmla="*/ 74520 w 8686800"/>
              <a:gd name="textAreaRight" fmla="*/ 8612280 w 8686800"/>
              <a:gd name="textAreaTop" fmla="*/ 74520 h 1278000"/>
              <a:gd name="textAreaBottom" fmla="*/ 1203480 h 1278000"/>
            </a:gdLst>
            <a:ahLst/>
            <a:rect l="textAreaLeft" t="textAreaTop" r="textAreaRight" b="textAreaBottom"/>
            <a:pathLst>
              <a:path w="8686800" h="1277938">
                <a:moveTo>
                  <a:pt x="0" y="0"/>
                </a:moveTo>
                <a:lnTo>
                  <a:pt x="8537614" y="0"/>
                </a:lnTo>
                <a:lnTo>
                  <a:pt x="8686800" y="149186"/>
                </a:lnTo>
                <a:lnTo>
                  <a:pt x="8686800" y="1277938"/>
                </a:lnTo>
                <a:lnTo>
                  <a:pt x="149186" y="1277938"/>
                </a:lnTo>
                <a:lnTo>
                  <a:pt x="0" y="112875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6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7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8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6EB43-FAF5-447E-B224-848FFA1AB46F}" type="slidenum">
              <a:rPr b="1" lang="en-US" sz="1100" spc="-1" strike="noStrike">
                <a:solidFill>
                  <a:srgbClr val="a6a6a6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4"/>
          <p:cNvGrpSpPr/>
          <p:nvPr/>
        </p:nvGrpSpPr>
        <p:grpSpPr>
          <a:xfrm>
            <a:off x="0" y="3379680"/>
            <a:ext cx="7543800" cy="2603160"/>
            <a:chOff x="0" y="3379680"/>
            <a:chExt cx="7543800" cy="2603160"/>
          </a:xfrm>
        </p:grpSpPr>
        <p:grpSp>
          <p:nvGrpSpPr>
            <p:cNvPr id="130" name="Group 11"/>
            <p:cNvGrpSpPr/>
            <p:nvPr/>
          </p:nvGrpSpPr>
          <p:grpSpPr>
            <a:xfrm>
              <a:off x="0" y="3379680"/>
              <a:ext cx="7543800" cy="2603160"/>
              <a:chOff x="0" y="3379680"/>
              <a:chExt cx="7543800" cy="2603160"/>
            </a:xfrm>
          </p:grpSpPr>
          <p:sp>
            <p:nvSpPr>
              <p:cNvPr id="131" name="Snip Single Corner Rectangle 9"/>
              <p:cNvSpPr/>
              <p:nvPr/>
            </p:nvSpPr>
            <p:spPr>
              <a:xfrm flipV="1">
                <a:off x="0" y="3391200"/>
                <a:ext cx="7543800" cy="2590920"/>
              </a:xfrm>
              <a:custGeom>
                <a:avLst/>
                <a:gdLst>
                  <a:gd name="textAreaLeft" fmla="*/ 0 w 7543800"/>
                  <a:gd name="textAreaRight" fmla="*/ 7448400 w 7543800"/>
                  <a:gd name="textAreaTop" fmla="*/ 95400 h 2590920"/>
                  <a:gd name="textAreaBottom" fmla="*/ 2591280 h 2590920"/>
                </a:gdLst>
                <a:ahLst/>
                <a:rect l="textAreaLeft" t="textAreaTop" r="textAreaRight" b="textAreaBottom"/>
                <a:pathLst>
                  <a:path w="7543801" h="2591543">
                    <a:moveTo>
                      <a:pt x="0" y="0"/>
                    </a:moveTo>
                    <a:lnTo>
                      <a:pt x="7352571" y="0"/>
                    </a:lnTo>
                    <a:lnTo>
                      <a:pt x="7543801" y="191230"/>
                    </a:lnTo>
                    <a:lnTo>
                      <a:pt x="7543801" y="2591543"/>
                    </a:lnTo>
                    <a:lnTo>
                      <a:pt x="0" y="25915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6363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103154"/>
                  </a:solidFill>
                  <a:latin typeface="Arial"/>
                </a:endParaRPr>
              </a:p>
            </p:txBody>
          </p:sp>
          <p:sp>
            <p:nvSpPr>
              <p:cNvPr id="132" name="Straight Connector 10"/>
              <p:cNvSpPr/>
              <p:nvPr/>
            </p:nvSpPr>
            <p:spPr>
              <a:xfrm>
                <a:off x="0" y="3379680"/>
                <a:ext cx="7543800" cy="1440"/>
              </a:xfrm>
              <a:prstGeom prst="line">
                <a:avLst/>
              </a:prstGeom>
              <a:ln w="28440">
                <a:solidFill>
                  <a:srgbClr val="ff7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103154"/>
                  </a:solidFill>
                  <a:latin typeface="Arial"/>
                </a:endParaRPr>
              </a:p>
            </p:txBody>
          </p:sp>
        </p:grpSp>
        <p:sp>
          <p:nvSpPr>
            <p:cNvPr id="133" name="Teardrop 8"/>
            <p:cNvSpPr/>
            <p:nvPr/>
          </p:nvSpPr>
          <p:spPr>
            <a:xfrm>
              <a:off x="6818400" y="3620880"/>
              <a:ext cx="393480" cy="395280"/>
            </a:xfrm>
            <a:custGeom>
              <a:avLst/>
              <a:gdLst/>
              <a:ahLst/>
              <a:rect l="l" t="t" r="r" b="b"/>
              <a:pathLst>
                <a:path w="393700" h="395400">
                  <a:moveTo>
                    <a:pt x="0" y="197700"/>
                  </a:moveTo>
                  <a:cubicBezTo>
                    <a:pt x="0" y="88513"/>
                    <a:pt x="88133" y="0"/>
                    <a:pt x="196850" y="0"/>
                  </a:cubicBezTo>
                  <a:lnTo>
                    <a:pt x="393700" y="0"/>
                  </a:lnTo>
                  <a:lnTo>
                    <a:pt x="393700" y="197700"/>
                  </a:lnTo>
                  <a:cubicBezTo>
                    <a:pt x="393700" y="306887"/>
                    <a:pt x="305567" y="395400"/>
                    <a:pt x="196850" y="395400"/>
                  </a:cubicBezTo>
                  <a:cubicBezTo>
                    <a:pt x="88133" y="395400"/>
                    <a:pt x="0" y="306887"/>
                    <a:pt x="0" y="197700"/>
                  </a:cubicBezTo>
                  <a:close/>
                </a:path>
              </a:pathLst>
            </a:cu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03154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 rot="16200000">
            <a:off x="-7333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orbe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 rot="16200000">
            <a:off x="-3571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6"/>
          <p:cNvGrpSpPr/>
          <p:nvPr/>
        </p:nvGrpSpPr>
        <p:grpSpPr>
          <a:xfrm>
            <a:off x="1599840" y="2127240"/>
            <a:ext cx="7543800" cy="2603160"/>
            <a:chOff x="1599840" y="2127240"/>
            <a:chExt cx="7543800" cy="2603160"/>
          </a:xfrm>
        </p:grpSpPr>
        <p:grpSp>
          <p:nvGrpSpPr>
            <p:cNvPr id="175" name="Group 11"/>
            <p:cNvGrpSpPr/>
            <p:nvPr/>
          </p:nvGrpSpPr>
          <p:grpSpPr>
            <a:xfrm>
              <a:off x="1599840" y="2127240"/>
              <a:ext cx="7543800" cy="2603160"/>
              <a:chOff x="1599840" y="2127240"/>
              <a:chExt cx="7543800" cy="2603160"/>
            </a:xfrm>
          </p:grpSpPr>
          <p:sp>
            <p:nvSpPr>
              <p:cNvPr id="176" name="Snip Single Corner Rectangle 9"/>
              <p:cNvSpPr/>
              <p:nvPr/>
            </p:nvSpPr>
            <p:spPr>
              <a:xfrm flipH="1" flipV="1">
                <a:off x="1599480" y="2139120"/>
                <a:ext cx="7543800" cy="2590920"/>
              </a:xfrm>
              <a:custGeom>
                <a:avLst/>
                <a:gdLst>
                  <a:gd name="textAreaLeft" fmla="*/ -360 w 7543800"/>
                  <a:gd name="textAreaRight" fmla="*/ 7448040 w 7543800"/>
                  <a:gd name="textAreaTop" fmla="*/ 95400 h 2590920"/>
                  <a:gd name="textAreaBottom" fmla="*/ 2591280 h 2590920"/>
                </a:gdLst>
                <a:ahLst/>
                <a:rect l="textAreaLeft" t="textAreaTop" r="textAreaRight" b="textAreaBottom"/>
                <a:pathLst>
                  <a:path w="7543801" h="2591543">
                    <a:moveTo>
                      <a:pt x="0" y="0"/>
                    </a:moveTo>
                    <a:lnTo>
                      <a:pt x="7352571" y="0"/>
                    </a:lnTo>
                    <a:lnTo>
                      <a:pt x="7543801" y="191230"/>
                    </a:lnTo>
                    <a:lnTo>
                      <a:pt x="7543801" y="2591543"/>
                    </a:lnTo>
                    <a:lnTo>
                      <a:pt x="0" y="25915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6363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103154"/>
                  </a:solidFill>
                  <a:latin typeface="Arial"/>
                </a:endParaRPr>
              </a:p>
            </p:txBody>
          </p:sp>
          <p:sp>
            <p:nvSpPr>
              <p:cNvPr id="177" name="Straight Connector 10"/>
              <p:cNvSpPr/>
              <p:nvPr/>
            </p:nvSpPr>
            <p:spPr>
              <a:xfrm flipH="1">
                <a:off x="1599840" y="2127240"/>
                <a:ext cx="7543800" cy="1440"/>
              </a:xfrm>
              <a:prstGeom prst="line">
                <a:avLst/>
              </a:prstGeom>
              <a:ln w="28440">
                <a:solidFill>
                  <a:srgbClr val="ff7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103154"/>
                  </a:solidFill>
                  <a:latin typeface="Arial"/>
                </a:endParaRPr>
              </a:p>
            </p:txBody>
          </p:sp>
        </p:grpSp>
        <p:sp>
          <p:nvSpPr>
            <p:cNvPr id="178" name="Teardrop 8"/>
            <p:cNvSpPr/>
            <p:nvPr/>
          </p:nvSpPr>
          <p:spPr>
            <a:xfrm>
              <a:off x="8521920" y="2368440"/>
              <a:ext cx="393480" cy="395280"/>
            </a:xfrm>
            <a:custGeom>
              <a:avLst/>
              <a:gdLst/>
              <a:ahLst/>
              <a:rect l="l" t="t" r="r" b="b"/>
              <a:pathLst>
                <a:path w="393700" h="395401">
                  <a:moveTo>
                    <a:pt x="0" y="197701"/>
                  </a:moveTo>
                  <a:cubicBezTo>
                    <a:pt x="0" y="88514"/>
                    <a:pt x="88133" y="0"/>
                    <a:pt x="196850" y="0"/>
                  </a:cubicBezTo>
                  <a:lnTo>
                    <a:pt x="393700" y="0"/>
                  </a:lnTo>
                  <a:lnTo>
                    <a:pt x="393700" y="197701"/>
                  </a:lnTo>
                  <a:cubicBezTo>
                    <a:pt x="393700" y="306888"/>
                    <a:pt x="305567" y="395402"/>
                    <a:pt x="196850" y="395402"/>
                  </a:cubicBezTo>
                  <a:cubicBezTo>
                    <a:pt x="88133" y="395402"/>
                    <a:pt x="0" y="306888"/>
                    <a:pt x="0" y="197701"/>
                  </a:cubicBezTo>
                  <a:close/>
                </a:path>
              </a:pathLst>
            </a:cu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03154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1"/>
          </p:nvPr>
        </p:nvSpPr>
        <p:spPr>
          <a:xfrm rot="16200000">
            <a:off x="8033760" y="34747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2"/>
          </p:nvPr>
        </p:nvSpPr>
        <p:spPr>
          <a:xfrm rot="16200000">
            <a:off x="7657560" y="34747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orbe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nip Diagonal Corner Rectangle 6"/>
          <p:cNvSpPr/>
          <p:nvPr/>
        </p:nvSpPr>
        <p:spPr>
          <a:xfrm flipV="1">
            <a:off x="228600" y="1707120"/>
            <a:ext cx="8686800" cy="4908600"/>
          </a:xfrm>
          <a:custGeom>
            <a:avLst/>
            <a:gdLst>
              <a:gd name="textAreaLeft" fmla="*/ 97920 w 8686800"/>
              <a:gd name="textAreaRight" fmla="*/ 8588880 w 8686800"/>
              <a:gd name="textAreaTop" fmla="*/ 97920 h 4908600"/>
              <a:gd name="textAreaBottom" fmla="*/ 4810680 h 4908600"/>
            </a:gdLst>
            <a:ahLst/>
            <a:rect l="textAreaLeft" t="textAreaTop" r="textAreaRight" b="textAreaBottom"/>
            <a:pathLst>
              <a:path w="8686800" h="4908550">
                <a:moveTo>
                  <a:pt x="0" y="0"/>
                </a:moveTo>
                <a:lnTo>
                  <a:pt x="8490311" y="0"/>
                </a:lnTo>
                <a:lnTo>
                  <a:pt x="8686800" y="196489"/>
                </a:lnTo>
                <a:lnTo>
                  <a:pt x="8686800" y="4908550"/>
                </a:lnTo>
                <a:lnTo>
                  <a:pt x="196489" y="4908550"/>
                </a:lnTo>
                <a:lnTo>
                  <a:pt x="0" y="47120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220" name="Snip Diagonal Corner Rectangle 7"/>
          <p:cNvSpPr/>
          <p:nvPr/>
        </p:nvSpPr>
        <p:spPr>
          <a:xfrm flipV="1">
            <a:off x="228600" y="228240"/>
            <a:ext cx="8686800" cy="1278000"/>
          </a:xfrm>
          <a:custGeom>
            <a:avLst/>
            <a:gdLst>
              <a:gd name="textAreaLeft" fmla="*/ 74520 w 8686800"/>
              <a:gd name="textAreaRight" fmla="*/ 8612280 w 8686800"/>
              <a:gd name="textAreaTop" fmla="*/ 74520 h 1278000"/>
              <a:gd name="textAreaBottom" fmla="*/ 1203480 h 1278000"/>
            </a:gdLst>
            <a:ahLst/>
            <a:rect l="textAreaLeft" t="textAreaTop" r="textAreaRight" b="textAreaBottom"/>
            <a:pathLst>
              <a:path w="8686800" h="1277938">
                <a:moveTo>
                  <a:pt x="0" y="0"/>
                </a:moveTo>
                <a:lnTo>
                  <a:pt x="8537614" y="0"/>
                </a:lnTo>
                <a:lnTo>
                  <a:pt x="8686800" y="149186"/>
                </a:lnTo>
                <a:lnTo>
                  <a:pt x="8686800" y="1277938"/>
                </a:lnTo>
                <a:lnTo>
                  <a:pt x="149186" y="1277938"/>
                </a:lnTo>
                <a:lnTo>
                  <a:pt x="0" y="112875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55699-A929-4972-84AA-B0C49CD83D41}" type="slidenum">
              <a:rPr b="1" lang="en-US" sz="1100" spc="-1" strike="noStrike">
                <a:solidFill>
                  <a:srgbClr val="a6a6a6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nip Diagonal Corner Rectangle 6"/>
          <p:cNvSpPr/>
          <p:nvPr/>
        </p:nvSpPr>
        <p:spPr>
          <a:xfrm flipV="1">
            <a:off x="228600" y="1707120"/>
            <a:ext cx="8686800" cy="4908600"/>
          </a:xfrm>
          <a:custGeom>
            <a:avLst/>
            <a:gdLst>
              <a:gd name="textAreaLeft" fmla="*/ 97920 w 8686800"/>
              <a:gd name="textAreaRight" fmla="*/ 8588880 w 8686800"/>
              <a:gd name="textAreaTop" fmla="*/ 97920 h 4908600"/>
              <a:gd name="textAreaBottom" fmla="*/ 4810680 h 4908600"/>
            </a:gdLst>
            <a:ahLst/>
            <a:rect l="textAreaLeft" t="textAreaTop" r="textAreaRight" b="textAreaBottom"/>
            <a:pathLst>
              <a:path w="8686800" h="4908550">
                <a:moveTo>
                  <a:pt x="0" y="0"/>
                </a:moveTo>
                <a:lnTo>
                  <a:pt x="8490311" y="0"/>
                </a:lnTo>
                <a:lnTo>
                  <a:pt x="8686800" y="196489"/>
                </a:lnTo>
                <a:lnTo>
                  <a:pt x="8686800" y="4908550"/>
                </a:lnTo>
                <a:lnTo>
                  <a:pt x="196489" y="4908550"/>
                </a:lnTo>
                <a:lnTo>
                  <a:pt x="0" y="47120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263" name="Snip Diagonal Corner Rectangle 7"/>
          <p:cNvSpPr/>
          <p:nvPr/>
        </p:nvSpPr>
        <p:spPr>
          <a:xfrm flipV="1">
            <a:off x="228600" y="228240"/>
            <a:ext cx="8686800" cy="1278000"/>
          </a:xfrm>
          <a:custGeom>
            <a:avLst/>
            <a:gdLst>
              <a:gd name="textAreaLeft" fmla="*/ 74520 w 8686800"/>
              <a:gd name="textAreaRight" fmla="*/ 8612280 w 8686800"/>
              <a:gd name="textAreaTop" fmla="*/ 74520 h 1278000"/>
              <a:gd name="textAreaBottom" fmla="*/ 1203480 h 1278000"/>
            </a:gdLst>
            <a:ahLst/>
            <a:rect l="textAreaLeft" t="textAreaTop" r="textAreaRight" b="textAreaBottom"/>
            <a:pathLst>
              <a:path w="8686800" h="1277938">
                <a:moveTo>
                  <a:pt x="0" y="0"/>
                </a:moveTo>
                <a:lnTo>
                  <a:pt x="8537614" y="0"/>
                </a:lnTo>
                <a:lnTo>
                  <a:pt x="8686800" y="149186"/>
                </a:lnTo>
                <a:lnTo>
                  <a:pt x="8686800" y="1277938"/>
                </a:lnTo>
                <a:lnTo>
                  <a:pt x="149186" y="1277938"/>
                </a:lnTo>
                <a:lnTo>
                  <a:pt x="0" y="112875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39668-A94C-4AA2-A4EF-34986A3A5102}" type="slidenum">
              <a:rPr b="1" lang="en-US" sz="1100" spc="-1" strike="noStrike">
                <a:solidFill>
                  <a:srgbClr val="a6a6a6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nip Diagonal Corner Rectangle 6"/>
          <p:cNvSpPr/>
          <p:nvPr/>
        </p:nvSpPr>
        <p:spPr>
          <a:xfrm flipV="1">
            <a:off x="228600" y="1707120"/>
            <a:ext cx="8686800" cy="4908600"/>
          </a:xfrm>
          <a:custGeom>
            <a:avLst/>
            <a:gdLst>
              <a:gd name="textAreaLeft" fmla="*/ 97920 w 8686800"/>
              <a:gd name="textAreaRight" fmla="*/ 8588880 w 8686800"/>
              <a:gd name="textAreaTop" fmla="*/ 97920 h 4908600"/>
              <a:gd name="textAreaBottom" fmla="*/ 4810680 h 4908600"/>
            </a:gdLst>
            <a:ahLst/>
            <a:rect l="textAreaLeft" t="textAreaTop" r="textAreaRight" b="textAreaBottom"/>
            <a:pathLst>
              <a:path w="8686800" h="4908550">
                <a:moveTo>
                  <a:pt x="0" y="0"/>
                </a:moveTo>
                <a:lnTo>
                  <a:pt x="8490311" y="0"/>
                </a:lnTo>
                <a:lnTo>
                  <a:pt x="8686800" y="196489"/>
                </a:lnTo>
                <a:lnTo>
                  <a:pt x="8686800" y="4908550"/>
                </a:lnTo>
                <a:lnTo>
                  <a:pt x="196489" y="4908550"/>
                </a:lnTo>
                <a:lnTo>
                  <a:pt x="0" y="47120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306" name="Snip Diagonal Corner Rectangle 7"/>
          <p:cNvSpPr/>
          <p:nvPr/>
        </p:nvSpPr>
        <p:spPr>
          <a:xfrm flipV="1">
            <a:off x="228600" y="228240"/>
            <a:ext cx="8686800" cy="1278000"/>
          </a:xfrm>
          <a:custGeom>
            <a:avLst/>
            <a:gdLst>
              <a:gd name="textAreaLeft" fmla="*/ 74520 w 8686800"/>
              <a:gd name="textAreaRight" fmla="*/ 8612280 w 8686800"/>
              <a:gd name="textAreaTop" fmla="*/ 74520 h 1278000"/>
              <a:gd name="textAreaBottom" fmla="*/ 1203480 h 1278000"/>
            </a:gdLst>
            <a:ahLst/>
            <a:rect l="textAreaLeft" t="textAreaTop" r="textAreaRight" b="textAreaBottom"/>
            <a:pathLst>
              <a:path w="8686800" h="1277938">
                <a:moveTo>
                  <a:pt x="0" y="0"/>
                </a:moveTo>
                <a:lnTo>
                  <a:pt x="8537614" y="0"/>
                </a:lnTo>
                <a:lnTo>
                  <a:pt x="8686800" y="149186"/>
                </a:lnTo>
                <a:lnTo>
                  <a:pt x="8686800" y="1277938"/>
                </a:lnTo>
                <a:lnTo>
                  <a:pt x="149186" y="1277938"/>
                </a:lnTo>
                <a:lnTo>
                  <a:pt x="0" y="112875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BD118-B6B1-4A52-A50C-D02EE18B3430}" type="slidenum">
              <a:rPr b="1" lang="en-US" sz="1100" spc="-1" strike="noStrike">
                <a:solidFill>
                  <a:srgbClr val="a6a6a6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nip Diagonal Corner Rectangle 6"/>
          <p:cNvSpPr/>
          <p:nvPr/>
        </p:nvSpPr>
        <p:spPr>
          <a:xfrm flipV="1">
            <a:off x="228600" y="227520"/>
            <a:ext cx="8686800" cy="6388200"/>
          </a:xfrm>
          <a:custGeom>
            <a:avLst/>
            <a:gdLst>
              <a:gd name="textAreaLeft" fmla="*/ 80640 w 8686800"/>
              <a:gd name="textAreaRight" fmla="*/ 8606160 w 8686800"/>
              <a:gd name="textAreaTop" fmla="*/ 80640 h 6388200"/>
              <a:gd name="textAreaBottom" fmla="*/ 6307560 h 6388200"/>
            </a:gdLst>
            <a:ahLst/>
            <a:rect l="textAreaLeft" t="textAreaTop" r="textAreaRight" b="textAreaBottom"/>
            <a:pathLst>
              <a:path w="8686800" h="6388100">
                <a:moveTo>
                  <a:pt x="0" y="0"/>
                </a:moveTo>
                <a:lnTo>
                  <a:pt x="8525245" y="0"/>
                </a:lnTo>
                <a:lnTo>
                  <a:pt x="8686800" y="161555"/>
                </a:lnTo>
                <a:lnTo>
                  <a:pt x="8686800" y="6388100"/>
                </a:lnTo>
                <a:lnTo>
                  <a:pt x="161555" y="6388100"/>
                </a:lnTo>
                <a:lnTo>
                  <a:pt x="0" y="622654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6BB2E-2B2E-4433-A5A5-F9CA5A2A3559}" type="slidenum">
              <a:rPr b="1" lang="en-US" sz="1100" spc="-1" strike="noStrike">
                <a:solidFill>
                  <a:srgbClr val="a6a6a6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95360" y="3625560"/>
            <a:ext cx="58672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74576"/>
                </a:solidFill>
                <a:latin typeface="Corbel"/>
              </a:rPr>
              <a:t>Pyruvate Metabolism</a:t>
            </a:r>
            <a:endParaRPr b="0" lang="en-US" sz="46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062000" y="5095800"/>
            <a:ext cx="58672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0"/>
                </a:solidFill>
                <a:latin typeface="Cambria"/>
                <a:ea typeface="Cambria"/>
              </a:rPr>
              <a:t>Dr. Sooad Al-Daihan</a:t>
            </a:r>
            <a:endParaRPr b="0" lang="en-US" sz="1400" spc="-1" strike="noStrike">
              <a:solidFill>
                <a:srgbClr val="174576"/>
              </a:solidFill>
              <a:latin typeface="Corbel"/>
            </a:endParaRPr>
          </a:p>
          <a:p>
            <a:pPr indent="0" algn="ctr">
              <a:lnSpc>
                <a:spcPct val="9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0"/>
                </a:solidFill>
                <a:latin typeface="Cambria"/>
                <a:ea typeface="Cambria"/>
              </a:rPr>
              <a:t>Biochemistry department </a:t>
            </a:r>
            <a:endParaRPr b="0" lang="en-US" sz="1400" spc="-1" strike="noStrike">
              <a:solidFill>
                <a:srgbClr val="174576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4576"/>
              </a:solidFill>
              <a:latin typeface="Corbel"/>
            </a:endParaRPr>
          </a:p>
        </p:txBody>
      </p:sp>
      <p:pic>
        <p:nvPicPr>
          <p:cNvPr id="608" name="Picture 4" descr="BioLogo2small"/>
          <p:cNvPicPr/>
          <p:nvPr/>
        </p:nvPicPr>
        <p:blipFill>
          <a:blip r:embed="rId1"/>
          <a:stretch/>
        </p:blipFill>
        <p:spPr>
          <a:xfrm>
            <a:off x="128520" y="3438360"/>
            <a:ext cx="1541520" cy="1076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" descr="Screen Shot 2012-02-28 at 9.49.55 PM.png"/>
          <p:cNvPicPr/>
          <p:nvPr/>
        </p:nvPicPr>
        <p:blipFill>
          <a:blip r:embed="rId2"/>
          <a:stretch/>
        </p:blipFill>
        <p:spPr>
          <a:xfrm>
            <a:off x="6138720" y="95400"/>
            <a:ext cx="2559240" cy="303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ontinue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pic>
        <p:nvPicPr>
          <p:cNvPr id="630" name="Picture 3" descr="table17-01.jpg"/>
          <p:cNvPicPr/>
          <p:nvPr/>
        </p:nvPicPr>
        <p:blipFill>
          <a:blip r:embed="rId1"/>
          <a:stretch/>
        </p:blipFill>
        <p:spPr>
          <a:xfrm>
            <a:off x="485640" y="1854360"/>
            <a:ext cx="74376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79040" y="140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Regulation of PDH complex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PDH complex is regulated in 3 ways: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1- Allosteric inhibition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By products </a:t>
            </a: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: Acetyl CoA 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and </a:t>
            </a: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NADH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By high </a:t>
            </a: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ATP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2- Allosteric activation by </a:t>
            </a: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AMP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pic>
        <p:nvPicPr>
          <p:cNvPr id="633" name="Content Placeholder 5" descr=""/>
          <p:cNvPicPr/>
          <p:nvPr/>
        </p:nvPicPr>
        <p:blipFill>
          <a:blip r:embed="rId1"/>
          <a:srcRect l="-20829" t="0" r="-20829" b="0"/>
          <a:stretch/>
        </p:blipFill>
        <p:spPr>
          <a:xfrm>
            <a:off x="4780080" y="1949400"/>
            <a:ext cx="4459320" cy="36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79040" y="295200"/>
            <a:ext cx="758340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Regulation of PDH complex (C0nt.)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3- Covalent  modification through phosphorylation and dephosphorylation  of E</a:t>
            </a:r>
            <a:r>
              <a:rPr b="0" lang="en-US" sz="2200" spc="-1" strike="noStrike" baseline="-25000">
                <a:solidFill>
                  <a:srgbClr val="174576"/>
                </a:solidFill>
                <a:latin typeface="Corbel"/>
              </a:rPr>
              <a:t>1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 subunit :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Phoshorylated (inactive)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Protein kinase converts active to inactive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Dephoshorylated (active)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Phosphatase converts inactive to active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pic>
        <p:nvPicPr>
          <p:cNvPr id="636" name="Content Placeholder 3" descr="figure17-17.jpg"/>
          <p:cNvPicPr/>
          <p:nvPr/>
        </p:nvPicPr>
        <p:blipFill>
          <a:blip r:embed="rId1"/>
          <a:srcRect l="-6298" t="0" r="-6298" b="0"/>
          <a:stretch/>
        </p:blipFill>
        <p:spPr>
          <a:xfrm>
            <a:off x="5710320" y="2994120"/>
            <a:ext cx="3182760" cy="2338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79040" y="12492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4576"/>
                </a:solidFill>
                <a:latin typeface="Corbel"/>
              </a:rPr>
              <a:t>Introduction:</a:t>
            </a:r>
            <a:endParaRPr b="0" lang="en-US" sz="44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28240" y="1676160"/>
            <a:ext cx="4724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In animals, pyruvate has a few main fates. Pyruvate can be converted to alanine, oxaloacetate, either as part of gluconeogenesis or for other biosynthetic purposes, or it can be converted to acetyl-CoA.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 algn="just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In animals, the conversion of pyruvate to acetyl-CoA is irreversible, 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and produces a compound that has fewer physiological uses.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pic>
        <p:nvPicPr>
          <p:cNvPr id="612" name="Picture 5" descr="http://chemistry.gravitywaves.com/CHE452/images/FatesPyruv.gif"/>
          <p:cNvPicPr/>
          <p:nvPr/>
        </p:nvPicPr>
        <p:blipFill>
          <a:blip r:embed="rId1"/>
          <a:stretch/>
        </p:blipFill>
        <p:spPr>
          <a:xfrm>
            <a:off x="5178600" y="2514600"/>
            <a:ext cx="3595680" cy="2847960"/>
          </a:xfrm>
          <a:prstGeom prst="rect">
            <a:avLst/>
          </a:prstGeom>
          <a:ln w="9360">
            <a:solidFill>
              <a:srgbClr val="b9860b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itle 1"/>
          <p:cNvSpPr/>
          <p:nvPr/>
        </p:nvSpPr>
        <p:spPr>
          <a:xfrm>
            <a:off x="590400" y="179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74576"/>
                </a:solidFill>
                <a:latin typeface="Corbel"/>
              </a:rPr>
              <a:t>Continue</a:t>
            </a:r>
            <a:r>
              <a:rPr b="1" i="1" lang="en-US" sz="4000" spc="-1" strike="noStrike">
                <a:solidFill>
                  <a:srgbClr val="174576"/>
                </a:solidFill>
                <a:latin typeface="Corbel"/>
              </a:rPr>
              <a:t>….</a:t>
            </a:r>
            <a:endParaRPr b="0" lang="en-US" sz="40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Acetyl-CoA is used for lipid synthesis or for a few other, relatively minor, pathways,or as the substrate for the TCA cycle.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In animals, acetyl-CoA cannot be used to synthesize amino acids or carbohydrates. This means that the conversion of pyruvate to acetyl-CoA is an important step, and must be tightly controlled.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On the other hand, the conversion of pyruvate to acetyl-CoA is a necessary step.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79040" y="201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4576"/>
                </a:solidFill>
                <a:latin typeface="Corbel"/>
              </a:rPr>
              <a:t>Pyruvate import into mitochondrion</a:t>
            </a:r>
            <a:endParaRPr b="0" lang="en-US" sz="36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Under aerobic conditions, pyruvate passes by a special transporter into mitochondria</a:t>
            </a:r>
            <a:r>
              <a:rPr b="0" lang="en-GB" sz="2200" spc="-1" strike="noStrike">
                <a:solidFill>
                  <a:srgbClr val="174576"/>
                </a:solidFill>
                <a:latin typeface="Corbel"/>
              </a:rPr>
              <a:t>.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 algn="just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Pyruvate is actually pumped into the mitochondria.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 algn="just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o it is possible for the pyruvate concentration inside the mitochondria to be higher than outside.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 algn="just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e energy for the pump comes from a proton gradient, in which the proton concentration outside the mitochondria is higher than it is inside.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4576"/>
                </a:solidFill>
                <a:latin typeface="Corbel"/>
              </a:rPr>
              <a:t>Reactions of the pyruvate dehydrogenase complex</a:t>
            </a:r>
            <a:endParaRPr b="0" lang="en-US" sz="3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314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e first step in the oxidation of pyruvate is an oxidative decarboxylation reaction.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 algn="just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s reaction is carried out by a very large enzyme complex, the </a:t>
            </a: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pyruvate dehydrogenase complex, 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which is located in the mitochondrial matrix.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 algn="just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e reaction catalyzed by the pyruvate dehydrogenase complex is irreversible, and is </a:t>
            </a:r>
            <a:r>
              <a:rPr b="0" lang="en-GB" sz="2200" spc="-1" strike="noStrike">
                <a:solidFill>
                  <a:srgbClr val="174576"/>
                </a:solidFill>
                <a:latin typeface="Corbel"/>
              </a:rPr>
              <a:t>tightly regulated.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pic>
        <p:nvPicPr>
          <p:cNvPr id="619" name="Picture 3" descr="Screen Shot 2012-02-28 at 9.59.54 PM.png"/>
          <p:cNvPicPr/>
          <p:nvPr/>
        </p:nvPicPr>
        <p:blipFill>
          <a:blip r:embed="rId1"/>
          <a:stretch/>
        </p:blipFill>
        <p:spPr>
          <a:xfrm>
            <a:off x="2021040" y="4925880"/>
            <a:ext cx="4940280" cy="16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79040" y="338040"/>
            <a:ext cx="7583400" cy="8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174576"/>
                </a:solidFill>
                <a:latin typeface="Corbel"/>
              </a:rPr>
              <a:t>Continue…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76000" y="1949400"/>
            <a:ext cx="798012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However, in humans, the complex contains well over one hundred subunits. 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marL="325800" indent="-325800" algn="just">
              <a:lnSpc>
                <a:spcPct val="8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The complex is comprised of </a:t>
            </a:r>
            <a:r>
              <a:rPr b="1" lang="en-US" sz="1900" spc="-1" strike="noStrike">
                <a:solidFill>
                  <a:srgbClr val="174576"/>
                </a:solidFill>
                <a:latin typeface="Corbel"/>
              </a:rPr>
              <a:t>three separate enzymes </a:t>
            </a: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involved in the actual catalytic process, and uses a total of </a:t>
            </a:r>
            <a:r>
              <a:rPr b="1" lang="en-US" sz="1900" spc="-1" strike="noStrike">
                <a:solidFill>
                  <a:srgbClr val="174576"/>
                </a:solidFill>
                <a:latin typeface="Corbel"/>
              </a:rPr>
              <a:t>five different cofactors.</a:t>
            </a: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marL="325800" indent="-325800" algn="just">
              <a:lnSpc>
                <a:spcPct val="8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The large size of the complex allows the complicated reaction to proceed without dissociation of the reaction intermediates, and also allows regulation of the complex.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marL="325800" indent="-325800" algn="just">
              <a:lnSpc>
                <a:spcPct val="8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 </a:t>
            </a: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The pyruvate dehydrogenase complex is closely related to the: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marL="325800" indent="-325800"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      </a:t>
            </a:r>
            <a:r>
              <a:rPr b="0" lang="en-US" sz="1900" spc="-1" strike="noStrike">
                <a:solidFill>
                  <a:srgbClr val="c05f00"/>
                </a:solidFill>
                <a:latin typeface="Corbel"/>
              </a:rPr>
              <a:t>1- </a:t>
            </a:r>
            <a:r>
              <a:rPr b="0" lang="en-US" sz="1900" spc="-1" strike="noStrike">
                <a:solidFill>
                  <a:srgbClr val="174576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-ketoglutarate dehydrogenase complex (an TCA cycle enzyme). 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marL="325800" indent="-325800"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     </a:t>
            </a:r>
            <a:r>
              <a:rPr b="0" lang="en-US" sz="1900" spc="-1" strike="noStrike">
                <a:solidFill>
                  <a:srgbClr val="c05f00"/>
                </a:solidFill>
                <a:latin typeface="Corbel"/>
              </a:rPr>
              <a:t>2-</a:t>
            </a:r>
            <a:r>
              <a:rPr b="0" lang="en-US" sz="1900" spc="-1" strike="noStrike">
                <a:solidFill>
                  <a:srgbClr val="174576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 -ketoacid dehydrogenase complex (in the metabolism of leucine, valine, and isoleucine).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79040" y="41868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4576"/>
                </a:solidFill>
                <a:latin typeface="Corbel"/>
              </a:rPr>
              <a:t>Pyruvate Dehydrogenase Complex </a:t>
            </a:r>
            <a:br>
              <a:rPr sz="3400"/>
            </a:br>
            <a:endParaRPr b="0" lang="en-US" sz="3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e PDH complex contains 3 enzymes which catalyzes the reaction in 3 steps :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E1 = </a:t>
            </a: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Pyruvate dehydrogenase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,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E2 = </a:t>
            </a: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Dihydrolipoyl transacetylase 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E3 = </a:t>
            </a: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Dihydrolipoyl dehydrogenase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pic>
        <p:nvPicPr>
          <p:cNvPr id="624" name="Picture 4" descr=""/>
          <p:cNvPicPr/>
          <p:nvPr/>
        </p:nvPicPr>
        <p:blipFill>
          <a:blip r:embed="rId1"/>
          <a:stretch/>
        </p:blipFill>
        <p:spPr>
          <a:xfrm>
            <a:off x="1801800" y="4587840"/>
            <a:ext cx="5672160" cy="1778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91920" y="2340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4576"/>
                </a:solidFill>
                <a:latin typeface="Corbel"/>
              </a:rPr>
              <a:t>Pyruvate Dehydrogenase Complex (Cont.) </a:t>
            </a:r>
            <a:endParaRPr b="0" lang="en-US" sz="3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e complex requires 5 different coenzymes or prosthetic groups: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1-Thiamine pyrophosphate (TPP),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2-Flavin adenine dinucleotide (FAD),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3- Coenzyme A (CoA)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4- Nicotinamide adenine dinucleotide (NAD),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5-Lipoic acid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174576"/>
              </a:solidFill>
              <a:latin typeface="Corbel"/>
            </a:endParaRPr>
          </a:p>
        </p:txBody>
      </p:sp>
      <p:pic>
        <p:nvPicPr>
          <p:cNvPr id="628" name="Picture 3" descr="Screen Shot 2012-02-28 at 10.20.51 PM.png"/>
          <p:cNvPicPr/>
          <p:nvPr/>
        </p:nvPicPr>
        <p:blipFill>
          <a:blip r:embed="rId1"/>
          <a:stretch/>
        </p:blipFill>
        <p:spPr>
          <a:xfrm>
            <a:off x="243000" y="217440"/>
            <a:ext cx="866772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8:36:54Z</dcterms:created>
  <dc:creator>i Mac</dc:creator>
  <dc:description/>
  <dc:language>en-US</dc:language>
  <cp:lastModifiedBy>i Mac </cp:lastModifiedBy>
  <dcterms:modified xsi:type="dcterms:W3CDTF">2012-03-03T05:42:03Z</dcterms:modified>
  <cp:revision>13</cp:revision>
  <dc:subject/>
  <dc:title>Pyruvate Metabolism</dc:title>
</cp:coreProperties>
</file>