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7FED-DD61-4A44-BA88-A43CBA8F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DC24-6B7F-41A3-A2AA-F4C8639D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8FF8-645A-4215-BE76-BD6461C90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1831-3BF9-49D3-849B-35685A521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FC4B-C159-454F-889B-6C5012EC9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F804-1BF2-4229-8E05-F8C3798F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6374-1155-49DD-9422-94E3B244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A72C-5104-4302-A445-4FA183BD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E04C-04A2-46FA-ADA7-62BE7537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549E-F164-4CE9-AB9C-A9719CAB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D3CE-5CEF-476A-A11D-58015757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E576-D341-4554-8770-CFF92E46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CBD0-1CE4-46CD-9EDA-9EA7628E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401D-005C-4061-8F53-BFA8831A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38BB-E2D5-4A88-8E6A-F5E19AA6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DBB3-36E2-45D5-B776-EB9DBDB0E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EB30-6D3B-41C4-AB4A-0E8345039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EBD4-289B-4186-AB64-05069D74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C607-939F-42D0-8342-FAAB3D99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4175-6660-412F-9908-F2B21FF4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2BB7-FDEB-447C-8E32-6B49C1D0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9CCA-1EEC-4960-955B-566C6376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5AF2-F0C3-4CBB-B33A-015BFCD6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38FE-B80C-4143-A083-2CA7B965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 algn="r" rtl="1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 algn="r" rtl="1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 algn="r" rtl="1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 algn="r" rtl="1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 algn="r" rtl="1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 algn="r" rtl="1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 algn="r" rtl="1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2CF3-D283-47FF-A5D4-CD688157DCAD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972F-5912-4AD2-BC6F-9720DE3E999B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 rtl="1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 rtl="1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 rtl="1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599840"/>
            <a:ext cx="75438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dionuclides production co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3400" y="3352680"/>
            <a:ext cx="385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Generators</a:t>
            </a:r>
            <a:endParaRPr b="0" lang="en-US" sz="6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48120" y="4419720"/>
            <a:ext cx="2381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Lecture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Constr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51000" y="1981080"/>
            <a:ext cx="879300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9480" y="212760"/>
            <a:ext cx="7162920" cy="66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7120080" cy="1413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8534520" cy="4411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33520" y="6172200"/>
            <a:ext cx="6172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isotope parent-daughter generator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33520" y="1981080"/>
          <a:ext cx="8305560" cy="2895840"/>
        </p:xfrm>
        <a:graphic>
          <a:graphicData uri="http://schemas.openxmlformats.org/drawingml/2006/table">
            <a:tbl>
              <a:tblPr/>
              <a:tblGrid>
                <a:gridCol w="1600200"/>
                <a:gridCol w="1295280"/>
                <a:gridCol w="1600200"/>
                <a:gridCol w="1447920"/>
                <a:gridCol w="236196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b2b2"/>
                          </a:solidFill>
                          <a:latin typeface="Times New Roman"/>
                          <a:ea typeface="Times New Roman"/>
                        </a:rPr>
                        <a:t>Parent isotope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b2b2"/>
                          </a:solidFill>
                          <a:latin typeface="Times New Roman"/>
                          <a:ea typeface="Times New Roman"/>
                        </a:rPr>
                        <a:t>Half-life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b2b2"/>
                          </a:solidFill>
                          <a:latin typeface="Times New Roman"/>
                          <a:ea typeface="Times New Roman"/>
                        </a:rPr>
                        <a:t>Daughter isotope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b2b2"/>
                          </a:solidFill>
                          <a:latin typeface="Times New Roman"/>
                          <a:ea typeface="Times New Roman"/>
                        </a:rPr>
                        <a:t>Half-life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b2b2"/>
                          </a:solidFill>
                          <a:latin typeface="Times New Roman"/>
                          <a:ea typeface="Times New Roman"/>
                        </a:rPr>
                        <a:t>Application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Mo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Te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hr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days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99m</a:t>
                      </a: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Tc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hr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hr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Imaging of organs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Thyroid scanning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o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●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here clinical tests require that a radioisotope be administered internally, it is advantageous to use an isotope with a short half-life to minimize the radiation dose received by the patient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●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Larger dose of short-lived radionuclides can be administered to the patient with only minimal radiation dose and excellent image quality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● 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The short-lived radionuclides cannot be shipped to the distant places because of their rapid decay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Generators are developed to serve as convenient sources of the production of short-lived radionuclides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23623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● 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A generator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is constructed on the principle of the decay-growth relationship between a long-lived parent radionuclide and its short-lived daughter radionuclide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● 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In a generator, basically a long-lived parent nuclide is allowed to decay to its short-lived daughter nuclide and the latter is then chemically separated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The importance of radionuclide generators lies in the fact that they are easily transportable and serve as sources of short-lived radionuclides in institutions far from the site of any cyclotron or reactor facility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2742840"/>
            <a:ext cx="8534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●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Generators are either ion exchange resins or alumina columns which contain a parent radionuclide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●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With time the parent radionuclide decays to a daughter radionuclide that is not adsorbed on the column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Radionuclide gener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●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It consists of a glass or plastic column fitted at the bottom with a fritted disk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● 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The column is filled with adsorbent material such as cation- or anion-exchange resin, alumina and zirconia, on which the parent nuclide is adsorbed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●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The daughter radionuclide grows as a result of the decay of the parent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●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ecause there are differences in chemical properties, the daughter activity is eluted in a carrier-free state with an appropriate solvent, leaving the parent on the column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7661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●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After elution, the daughter activity starts to grow again in the column until a equilibrium is reached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52466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●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A radionuclide generator must be sterile and pyrogen free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● 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The generator system may be sterilized either by autoclaving the entire column or by preparing it from sterile materials under aseptic conditions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● 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Often bacteriostatic agents are added to the generator column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Elution or milking of the generator must be carried out under aseptic conditions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80773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n ideal radionuclide generator should be simple, convenient and rapid to use, and give a high yield of the daughter nuclide repeatedly and reproducibly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2743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●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It should be properly shielded to minimize radiation exposure, and sturdy and compact for shipping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● 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The generator eluate must be free from the parent radionuclide and adsorbed material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ortant generators in nuclear medicine 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962520" y="1219320"/>
            <a:ext cx="4508280" cy="865080"/>
          </a:xfrm>
          <a:prstGeom prst="rect">
            <a:avLst/>
          </a:prstGeom>
          <a:ln w="9360">
            <a:solidFill>
              <a:srgbClr val="292929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3962520" y="2133720"/>
            <a:ext cx="4495680" cy="1169280"/>
          </a:xfrm>
          <a:prstGeom prst="rect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292929"/>
                </a:solidFill>
                <a:latin typeface="Times New Roman"/>
                <a:ea typeface="Times New Roman"/>
              </a:rPr>
              <a:t>99</a:t>
            </a:r>
            <a:r>
              <a:rPr b="0" lang="en-US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Mo-</a:t>
            </a:r>
            <a:r>
              <a:rPr b="0" lang="en-US" sz="2800" spc="-1" strike="noStrike" baseline="30000">
                <a:solidFill>
                  <a:srgbClr val="292929"/>
                </a:solidFill>
                <a:latin typeface="Times New Roman"/>
                <a:ea typeface="Times New Roman"/>
              </a:rPr>
              <a:t>99m</a:t>
            </a:r>
            <a:r>
              <a:rPr b="0" lang="en-US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Tc Generato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292929"/>
                </a:solidFill>
                <a:latin typeface="Times New Roman"/>
                <a:ea typeface="Times New Roman"/>
              </a:rPr>
              <a:t>87</a:t>
            </a:r>
            <a:r>
              <a:rPr b="0" lang="en-US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Y-</a:t>
            </a:r>
            <a:r>
              <a:rPr b="0" lang="en-US" sz="2800" spc="-1" strike="noStrike" baseline="30000">
                <a:solidFill>
                  <a:srgbClr val="292929"/>
                </a:solidFill>
                <a:latin typeface="Times New Roman"/>
                <a:ea typeface="Times New Roman"/>
              </a:rPr>
              <a:t>87m</a:t>
            </a:r>
            <a:r>
              <a:rPr b="0" lang="en-US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Sr Generato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3733920"/>
            <a:ext cx="883944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Important Radionuclide Generators</a:t>
            </a:r>
            <a:r>
              <a:rPr b="0" lang="en-US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00"/>
                </a:solidFill>
                <a:latin typeface="Arial"/>
              </a:rPr>
              <a:t>99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o-</a:t>
            </a:r>
            <a:r>
              <a:rPr b="0" lang="en-US" sz="2400" spc="-1" strike="noStrike" baseline="30000">
                <a:solidFill>
                  <a:srgbClr val="990000"/>
                </a:solidFill>
                <a:latin typeface="Arial"/>
              </a:rPr>
              <a:t>99m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Tc Generato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 radionuclide has a half-life of 67 hr and decays by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,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99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. The radionuclide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99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 has a half-life of 6 hr and decays to ground state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 (2.1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by isomeric trans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5:44:19Z</dcterms:created>
  <dc:creator>Mohamad</dc:creator>
  <dc:description/>
  <dc:language>en-US</dc:language>
  <cp:lastModifiedBy>Mohamad</cp:lastModifiedBy>
  <dcterms:modified xsi:type="dcterms:W3CDTF">2011-03-28T16:36:47Z</dcterms:modified>
  <cp:revision>31</cp:revision>
  <dc:subject/>
  <dc:title>Radionuclides production cont.</dc:title>
</cp:coreProperties>
</file>