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F538-8F5D-42EE-8AB9-FB38D1DC3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BBDF-DEE4-4732-B63B-C540A83D8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97D3-FB83-4911-A288-9B00F8C41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7363-960D-4406-BAFD-55049A838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B9FFA-879B-41A9-B4D1-BBD50479E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E0333-3507-4250-B795-5D3E53CE2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388B0-9AD0-4AAA-A5E9-11380FBAF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D8A89-8C1E-41D1-9B6B-89D3BFC08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DD811-3315-4521-A601-6AFEC7D69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1679A-BA78-44F7-BFF3-613492E02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2CBDC-A276-44AC-9C84-44FB4BA0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9187-5670-4BE8-9438-677D964EE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06FFF-274B-4552-876E-D5515F74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47F79-3B03-410D-93B2-29531DD1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8BC2E-7F04-437C-946D-FDC2C496A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908F1-71CC-4741-BA73-45BF36CDC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D50F0-50A4-46B1-8550-2116DC52D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EF27-22D5-4BFF-8C1E-364D765A5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5B36-683C-4D7A-BDC0-44D592B54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2ACF-06E9-4F6C-A8FC-19BEAB00F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67D5-4F8A-454E-B117-921228A78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53ED-AA62-4F1E-AB1F-4B303612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243E-F2D4-462E-A87C-52D8594B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8B0F-81A0-4930-8A91-A6018BAC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 algn="r" rtl="1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 algn="r" rtl="1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 algn="r" rtl="1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 algn="r" rtl="1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 algn="r" rtl="1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 algn="r" rtl="1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 algn="r" rtl="1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1E20F-2BA9-43E6-8DBD-49C7222095D6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C6620-7BEB-417B-83B1-7432B9C1CDA8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 rtl="1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 rtl="1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 rtl="1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599840"/>
            <a:ext cx="7543800" cy="13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adionuclides production co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63400" y="3352680"/>
            <a:ext cx="3856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Generators</a:t>
            </a:r>
            <a:endParaRPr b="0" lang="en-US" sz="6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048120" y="4419720"/>
            <a:ext cx="2381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Lecture 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Constr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51000" y="1981080"/>
            <a:ext cx="879300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09480" y="212760"/>
            <a:ext cx="7162920" cy="66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7120080" cy="1413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52280" y="1676520"/>
            <a:ext cx="8534520" cy="4411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533520" y="6172200"/>
            <a:ext cx="61722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isotope parent-daughter generator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533520" y="1981080"/>
          <a:ext cx="8305560" cy="2895840"/>
        </p:xfrm>
        <a:graphic>
          <a:graphicData uri="http://schemas.openxmlformats.org/drawingml/2006/table">
            <a:tbl>
              <a:tblPr/>
              <a:tblGrid>
                <a:gridCol w="1600200"/>
                <a:gridCol w="1295280"/>
                <a:gridCol w="1600200"/>
                <a:gridCol w="1447920"/>
                <a:gridCol w="2361960"/>
              </a:tblGrid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2b2b2"/>
                          </a:solidFill>
                          <a:latin typeface="Times New Roman"/>
                          <a:ea typeface="Times New Roman"/>
                        </a:rPr>
                        <a:t>Parent isotope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2b2b2"/>
                          </a:solidFill>
                          <a:latin typeface="Times New Roman"/>
                          <a:ea typeface="Times New Roman"/>
                        </a:rPr>
                        <a:t>Half-life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2b2b2"/>
                          </a:solidFill>
                          <a:latin typeface="Times New Roman"/>
                          <a:ea typeface="Times New Roman"/>
                        </a:rPr>
                        <a:t>Daughter isotope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2b2b2"/>
                          </a:solidFill>
                          <a:latin typeface="Times New Roman"/>
                          <a:ea typeface="Times New Roman"/>
                        </a:rPr>
                        <a:t>Half-life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2b2b2"/>
                          </a:solidFill>
                          <a:latin typeface="Times New Roman"/>
                          <a:ea typeface="Times New Roman"/>
                        </a:rPr>
                        <a:t>Application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baseline="30000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r>
                        <a:rPr b="0" lang="en-US" sz="2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Mo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baseline="30000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132</a:t>
                      </a:r>
                      <a:r>
                        <a:rPr b="0" lang="en-US" sz="2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Te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r>
                        <a:rPr b="0" lang="en-US" sz="2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hr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r>
                        <a:rPr b="0" lang="en-US" sz="2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days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baseline="30000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99m</a:t>
                      </a:r>
                      <a:r>
                        <a:rPr b="0" lang="en-US" sz="2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Tc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baseline="30000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132</a:t>
                      </a:r>
                      <a:r>
                        <a:rPr b="0" lang="en-US" sz="2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en-US" sz="2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hr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r>
                        <a:rPr b="0" lang="en-US" sz="2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hr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Imaging of organs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Thyroid scanning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534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o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22096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●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Where clinical tests require that a radioisotope be administered internally, it is advantageous to use an isotope with a short half-life to minimize the radiation dose received by the patient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●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Larger dose of short-lived radionuclides can be administered to the patient with only minimal radiation dose and excellent image quality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● 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The short-lived radionuclides cannot be shipped to the distant places because of their rapid decay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Generators are developed to serve as convenient sources of the production of short-lived radionuclides</a:t>
            </a:r>
            <a:r>
              <a:rPr b="0" lang="en-US" sz="24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560" y="236232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● 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A generator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is constructed on the principle of the decay-growth relationship between a long-lived parent radionuclide and its short-lived daughter radionuclide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● </a:t>
            </a:r>
            <a:r>
              <a:rPr b="0" lang="en-US" sz="24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In a generator, basically a long-lived parent nuclide is allowed to decay to its short-lived daughter nuclide and the latter is then chemically separated</a:t>
            </a:r>
            <a:r>
              <a:rPr b="0" lang="en-US" sz="24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The importance of radionuclide generators lies in the fact that they are easily transportable and serve as sources of short-lived radionuclides in institutions far from the site of any cyclotron or reactor facility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2742840"/>
            <a:ext cx="8534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● 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Generators are either ion exchange resins or alumina columns which contain a parent radionuclide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● 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With time the parent radionuclide decays to a daughter radionuclide that is not adsorbed on the column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Radionuclide genera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4160"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● 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It consists of a glass or plastic column fitted at the bottom with a fritted disk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● 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The column is filled with adsorbent material such as cation- or anion-exchange resin, alumina and zirconia, on which the parent nuclide is adsorbed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● 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The daughter radionuclide grows as a result of the decay of the parent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●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Because there are differences in chemical properties, the daughter activity is eluted in a carrier-free state with an appropriate solvent, leaving the parent on the column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7661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● 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After elution, the daughter activity starts to grow again in the column until a equilibrium is reached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600200" y="2743200"/>
            <a:ext cx="524664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● 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A radionuclide generator must be sterile and pyrogen free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● 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The generator system may be sterilized either by autoclaving the entire column or by preparing it from sterile materials under aseptic conditions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● </a:t>
            </a:r>
            <a:r>
              <a:rPr b="0" lang="en-US" sz="24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Often bacteriostatic agents are added to the generator column</a:t>
            </a:r>
            <a:r>
              <a:rPr b="0" lang="en-US" sz="24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Elution or milking of the generator must be carried out under aseptic conditions</a:t>
            </a:r>
            <a:r>
              <a:rPr b="0" lang="en-US" sz="24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807732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An ideal radionuclide generator should be simple, convenient and rapid to use, and give a high yield of the daughter nuclide repeatedly and reproducibly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27432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● 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It should be properly shielded to minimize radiation exposure, and sturdy and compact for shipping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● 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The generator eluate must be free from the parent radionuclide and adsorbed material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mportant generators in nuclear medicine a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962520" y="1219320"/>
            <a:ext cx="4508280" cy="865080"/>
          </a:xfrm>
          <a:prstGeom prst="rect">
            <a:avLst/>
          </a:prstGeom>
          <a:ln w="9360">
            <a:solidFill>
              <a:srgbClr val="292929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3962520" y="2133720"/>
            <a:ext cx="4495680" cy="1169280"/>
          </a:xfrm>
          <a:prstGeom prst="rect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292929"/>
                </a:solidFill>
                <a:latin typeface="Times New Roman"/>
                <a:ea typeface="Times New Roman"/>
              </a:rPr>
              <a:t>99</a:t>
            </a:r>
            <a:r>
              <a:rPr b="0" lang="en-US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Mo-</a:t>
            </a:r>
            <a:r>
              <a:rPr b="0" lang="en-US" sz="2800" spc="-1" strike="noStrike" baseline="30000">
                <a:solidFill>
                  <a:srgbClr val="292929"/>
                </a:solidFill>
                <a:latin typeface="Times New Roman"/>
                <a:ea typeface="Times New Roman"/>
              </a:rPr>
              <a:t>99m</a:t>
            </a:r>
            <a:r>
              <a:rPr b="0" lang="en-US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Tc Generator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292929"/>
                </a:solidFill>
                <a:latin typeface="Times New Roman"/>
                <a:ea typeface="Times New Roman"/>
              </a:rPr>
              <a:t>87</a:t>
            </a:r>
            <a:r>
              <a:rPr b="0" lang="en-US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Y-</a:t>
            </a:r>
            <a:r>
              <a:rPr b="0" lang="en-US" sz="2800" spc="-1" strike="noStrike" baseline="30000">
                <a:solidFill>
                  <a:srgbClr val="292929"/>
                </a:solidFill>
                <a:latin typeface="Times New Roman"/>
                <a:ea typeface="Times New Roman"/>
              </a:rPr>
              <a:t>87m</a:t>
            </a:r>
            <a:r>
              <a:rPr b="0" lang="en-US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Sr Generator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2280" y="3733920"/>
            <a:ext cx="8839440" cy="23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Important Radionuclide Generators</a:t>
            </a:r>
            <a:r>
              <a:rPr b="0" lang="en-US" sz="28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00"/>
                </a:solidFill>
                <a:latin typeface="Arial"/>
              </a:rPr>
              <a:t>99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o-</a:t>
            </a:r>
            <a:r>
              <a:rPr b="0" lang="en-US" sz="2400" spc="-1" strike="noStrike" baseline="30000">
                <a:solidFill>
                  <a:srgbClr val="990000"/>
                </a:solidFill>
                <a:latin typeface="Arial"/>
              </a:rPr>
              <a:t>99m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Tc Generato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 radionuclide has a half-life of 67 hr and decays by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,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99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. The radionuclide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99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 has a half-life of 6 hr and decays to ground state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 (2.1 ×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by isomeric trans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05:44:19Z</dcterms:created>
  <dc:creator>Mohamad</dc:creator>
  <dc:description/>
  <dc:language>en-US</dc:language>
  <cp:lastModifiedBy>Mohamad</cp:lastModifiedBy>
  <dcterms:modified xsi:type="dcterms:W3CDTF">2011-03-28T16:36:47Z</dcterms:modified>
  <cp:revision>31</cp:revision>
  <dc:subject/>
  <dc:title>Radionuclides production cont.</dc:title>
</cp:coreProperties>
</file>