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3.jpeg" ContentType="image/jpeg"/>
  <Override PartName="/ppt/media/image8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EE8D-93BF-4DDE-9C1D-85E8D658B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AEBC-3FE5-4D27-945B-2434DE24A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F54B-E2B7-4CDB-A416-CDB6A5467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2AFC-6961-4AA0-BC37-D7F6E99EF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2E77-90D7-483D-8E41-C338CA900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5A99-C6A8-41B1-B6D6-2D9540B35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6812-0281-4077-8F42-202CA6D63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BF5A-E47E-4382-8839-50783944A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0E11-C0B2-495C-A2DA-64B25A731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0808-5146-49F7-8270-B7916E0DC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609A-6B12-4819-958E-2958F44EE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6E10-74CB-46D2-8FE6-ED6A6D3AA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493E-0E70-416B-8393-35C9660CF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5078-D7EB-4AF6-9B5E-0D2476691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595D-A362-45E1-BE98-3E12D0904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9161-EFF6-4376-8E44-4484D5405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2943-A4E2-4A69-A8DB-15BDCDC9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C117-51BE-4ABF-8B68-A42512991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F876-64E9-4C3F-BF40-604BBCF28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6C95-9425-486B-8337-DF20F25B5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E39F-F2C6-44FC-AE71-F372644C8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DB71-2160-47CC-8C5B-86EF34543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5FE7-359F-41E7-BCE3-3534EFA6D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B1F9-77E6-4E75-AAC2-E9EB9C9D5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42AD-4E17-4C45-8815-72A3F0029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1582-DDAE-48C5-9794-620F02A6F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574F-3FE8-4A60-B5EC-3EC9A8A5F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8915-2F69-4B42-90B2-BCCF031E1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FF2-AB6B-4D5B-AD45-7654CBE0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A94-AEED-4B3F-A0D1-56FEEABC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C4B-7C81-46E7-8DEF-EA06EDFB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ED0-8784-4F61-87B9-2B521787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24BB-BFA7-4AB7-8E1D-3DDDFE21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4654-BC39-4EF8-B0CA-F39B3C15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8F1A-7C8F-4F2C-86B0-06116232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E213-7769-4E80-940C-A1652312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38C9-3052-43D8-AC26-58B8B2A9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72EA-6777-455F-AD8C-282EFB4C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92C2-99A0-4918-9004-4AECECF7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71E-9A50-409A-BDAA-0385E07B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FADD-1A70-42A5-8D95-A6790F67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9CDF-397C-47F0-88CD-E8307B7A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64B9-6A53-4D5A-8971-222DF449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7D99-049D-4574-93F6-4BDA6806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6BB8-BE69-41DA-9B14-9DC8BEFD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E1D8-0B9D-428A-A9AE-C9124FC7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DD573-8075-4432-94F3-1ADCB151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8893-1C92-4D22-A630-CEE7DC77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7E2FA-9C54-43AB-8535-7A35A521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5D34-AB0D-4424-9A19-443E4A36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C82-6061-4261-A3D7-0EE65584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EA368-6560-47FA-8FAE-848CB90B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93A8A-67E7-4931-A301-E2A4F949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76A73-E1DC-4F8C-8A40-6B69C2C4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F34D6-5DE7-4E8B-A95F-4CD689D7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2292-A5EA-4DCF-B825-3665D659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0F769-7E6B-4D5E-8E34-D165189F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D6D15-9494-4F09-9548-DCB5C617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EEB-9ED0-43B7-B819-68A093D5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D66-77F4-42F2-8A27-0E9EBE4C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1F9-241E-47B5-8BF5-8C7844A5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234-571B-4F6C-889A-945D854E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3D6-5070-4CD0-90B2-202356DE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CAC-E86B-4E2F-B2BA-06DAA31D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514E-B8F0-42FF-B124-5E9808ABC4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E376-5FDD-48DF-880D-55618EAA2F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8FEC-210D-4BFD-AD07-3EE182BEE5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Alfa_beta_gamma_radiation.sv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Alfa_beta_gamma_radiation.sv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en.wikipedia.org/wiki/File:Alfa_beta_gamma_radiation.svg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5"/>
          <p:cNvSpPr txBox="1"/>
          <p:nvPr/>
        </p:nvSpPr>
        <p:spPr>
          <a:xfrm>
            <a:off x="457200" y="1752480"/>
            <a:ext cx="8505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Nuclear Pharmacy 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WordArt 6"/>
          <p:cNvSpPr txBox="1"/>
          <p:nvPr/>
        </p:nvSpPr>
        <p:spPr>
          <a:xfrm>
            <a:off x="3352680" y="3124080"/>
            <a:ext cx="2381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Lecture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7" descr="http://info.babylon.com/cgi-bin/bis.fcgi?rt=GetFile&amp;uri=!!5AMGUJXGFE&amp;type=0&amp;index=58"/>
          <p:cNvPicPr/>
          <p:nvPr/>
        </p:nvPicPr>
        <p:blipFill>
          <a:blip r:embed="rId1"/>
          <a:stretch/>
        </p:blipFill>
        <p:spPr>
          <a:xfrm>
            <a:off x="1066680" y="4343400"/>
            <a:ext cx="2613240" cy="228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52" name="Picture 5" descr="Radioactive Decay of an Atom"/>
          <p:cNvPicPr/>
          <p:nvPr/>
        </p:nvPicPr>
        <p:blipFill>
          <a:blip r:embed="rId2"/>
          <a:stretch/>
        </p:blipFill>
        <p:spPr>
          <a:xfrm>
            <a:off x="4191120" y="4429080"/>
            <a:ext cx="3609720" cy="2232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53" name="Text Box 5"/>
          <p:cNvSpPr/>
          <p:nvPr/>
        </p:nvSpPr>
        <p:spPr>
          <a:xfrm>
            <a:off x="152280" y="68580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ity of nuclides are unstable and the unstable nuclei decay by spontaneous fission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article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article, or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ay emission or electron capture in order to achieve s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dio-nuclides decay to achieve the N/Z ratio of the nearest possible stable nucl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active decay by particle emission or electron capture changes the atomic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nuclides may decay by any one or a combination of five proces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cay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ay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ay, electron capture or isomeric tran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http://www.cartage.org.lb/en/themes/sciences/physics/quantumphysics/ParticlePhysics/radioactivity.gif"/>
          <p:cNvPicPr/>
          <p:nvPr/>
        </p:nvPicPr>
        <p:blipFill>
          <a:blip r:embed="rId1"/>
          <a:stretch/>
        </p:blipFill>
        <p:spPr>
          <a:xfrm>
            <a:off x="762120" y="1752480"/>
            <a:ext cx="7797600" cy="471816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55" name="Text Box 4"/>
          <p:cNvSpPr/>
          <p:nvPr/>
        </p:nvSpPr>
        <p:spPr>
          <a:xfrm>
            <a:off x="3032280" y="569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108240" y="646200"/>
            <a:ext cx="2149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677600" y="457200"/>
            <a:ext cx="52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Radioactive dec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Mode of radioactive dec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1523880"/>
            <a:ext cx="91440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Radioactive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rocess in which an unstable atomic nucleus spontaneously loses energy by emitting ionizing particles and rad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ecay, or loss of energy, results in an atom of one type, called the parent nuclide transforming to an atom of a different type, named the daughter nucl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 unstable nucleus decays, It may give 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Object 13"/>
          <p:cNvGraphicFramePr/>
          <p:nvPr/>
        </p:nvGraphicFramePr>
        <p:xfrm>
          <a:off x="533520" y="380880"/>
          <a:ext cx="8291520" cy="6218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291520" cy="62182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. Alpha particle decay (</a:t>
            </a:r>
            <a:r>
              <a:rPr b="0" lang="el-GR" sz="29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decay):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decay occurs in very heavy elements, for example, 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Uranium (U) and Radium (Ra).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●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Alpha particles are made 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2 protons and 2 neutrons 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bound together in the nucleus.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We can write them as </a:t>
            </a:r>
            <a:r>
              <a:rPr b="0" lang="en-US" sz="2200" spc="-1" strike="noStrike" baseline="30000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n-US" sz="22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l-GR" sz="2200" spc="-1" strike="noStrike">
                <a:solidFill>
                  <a:srgbClr val="800080"/>
                </a:solidFill>
                <a:latin typeface="Times New Roman"/>
              </a:rPr>
              <a:t>α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 , or </a:t>
            </a:r>
            <a:r>
              <a:rPr b="0" lang="en-US" sz="2200" spc="-1" strike="noStrike" baseline="30000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n-US" sz="22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He, because they're the same as a helium nucleus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●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means that when a nucleus emits an alpha particle, its atomic number decreases by 2 and its atomic mass decreases by 4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35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        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31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 +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● Alpha particles are relatively 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s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heavy.</a:t>
            </a:r>
            <a:br>
              <a:rPr sz="2200"/>
            </a:b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●</a:t>
            </a:r>
            <a:r>
              <a:rPr b="0" lang="en-US" sz="2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Alpha particles emitted from a particular nuclide have the same energ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7" descr="alphadefn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543800" y="0"/>
            <a:ext cx="1279440" cy="1665360"/>
          </a:xfrm>
          <a:prstGeom prst="rect">
            <a:avLst/>
          </a:prstGeom>
          <a:ln w="0">
            <a:noFill/>
          </a:ln>
        </p:spPr>
      </p:pic>
      <p:sp>
        <p:nvSpPr>
          <p:cNvPr id="164" name="Line 9"/>
          <p:cNvSpPr/>
          <p:nvPr/>
        </p:nvSpPr>
        <p:spPr>
          <a:xfrm>
            <a:off x="4419720" y="52275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- Decay (</a:t>
            </a:r>
            <a:r>
              <a:rPr b="0" lang="el-GR" sz="5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- emission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particle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5097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y have a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low penetrating po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you can stop them with just a sheet of paper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cause they have a large charge, alpha particles ionize other atoms strong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9" descr="300px-Alfa_beta_gamma_radiation">
            <a:hlinkClick r:id="rId1"/>
          </p:cNvPr>
          <p:cNvPicPr/>
          <p:nvPr/>
        </p:nvPicPr>
        <p:blipFill>
          <a:blip r:embed="rId2">
            <a:lum bright="-30000"/>
          </a:blip>
          <a:srcRect l="0" t="0" r="23998" b="65700"/>
          <a:stretch/>
        </p:blipFill>
        <p:spPr>
          <a:xfrm>
            <a:off x="7315200" y="1295280"/>
            <a:ext cx="1700280" cy="224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69" name="Picture 2" descr="distances"/>
          <p:cNvPicPr/>
          <p:nvPr/>
        </p:nvPicPr>
        <p:blipFill>
          <a:blip r:embed="rId3"/>
          <a:stretch/>
        </p:blipFill>
        <p:spPr>
          <a:xfrm>
            <a:off x="380880" y="1371600"/>
            <a:ext cx="6248520" cy="294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0" name="Text Box 8"/>
          <p:cNvSpPr/>
          <p:nvPr/>
        </p:nvSpPr>
        <p:spPr>
          <a:xfrm>
            <a:off x="152280" y="4648320"/>
            <a:ext cx="8991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alpha particles cannot penetrate the dead layer of the skin, they do not present a hazard from  exposure external to the bo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due to the 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very large number of ionizations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produce in a very short distance, alpha emitters can present a serious hazard when they are in close proximity to cells and tissues such as the lung. Special precautions are taken to ensure that 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alpha emitters are not inhaled, ingested or injected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.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- Beta particle decay (</a:t>
            </a:r>
            <a:r>
              <a:rPr b="0" lang="el-GR" sz="29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decay):</a:t>
            </a:r>
            <a:br>
              <a:rPr sz="29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Beta particles have a charge of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SimSun-ExtB"/>
              </a:rPr>
              <a:t>minus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. This means that beta particles are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SimSun-ExtB"/>
              </a:rPr>
              <a:t>the same as an electron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We can write them as 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β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SimSun-ExtB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or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SimSun-Ext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, because they're the same as an electron.</a:t>
            </a:r>
            <a:br>
              <a:rPr sz="2200"/>
            </a:br>
            <a:br>
              <a:rPr sz="2200"/>
            </a:b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  <a:ea typeface="SimSun-ExtB"/>
              </a:rPr>
              <a:t>A. Negatron (</a:t>
            </a:r>
            <a:r>
              <a:rPr b="0" lang="el-GR" sz="2200" spc="-1" strike="noStrike" u="sng">
                <a:solidFill>
                  <a:srgbClr val="ff0000"/>
                </a:solidFill>
                <a:uFillTx/>
                <a:latin typeface="Times New Roman"/>
                <a:ea typeface="SimSun-ExtB"/>
              </a:rPr>
              <a:t>β</a:t>
            </a:r>
            <a:r>
              <a:rPr b="0" lang="en-US" sz="2200" spc="-1" strike="noStrike" u="sng" baseline="30000">
                <a:solidFill>
                  <a:srgbClr val="ff0000"/>
                </a:solidFill>
                <a:uFillTx/>
                <a:latin typeface="Times New Roman"/>
                <a:ea typeface="SimSun-ExtB"/>
              </a:rPr>
              <a:t>-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  <a:ea typeface="SimSun-ExtB"/>
              </a:rPr>
              <a:t> ) emission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Nuclei with excess neutrons gain stability by conversion of a neutron into a (proton +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β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SimSun-ExtB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)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 is an antineutrino which is needed to conserve energy in the deca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There is no change in the mass number, but the atomic number increases by one unit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Example of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β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SimSun-ExtB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decay:</a:t>
            </a:r>
            <a:br>
              <a:rPr sz="2200"/>
            </a:b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SimSun-ExtB"/>
              </a:rPr>
              <a:t>131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I          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SimSun-ExtB"/>
              </a:rPr>
              <a:t>131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Xe +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β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SimSun-ExtB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v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SimSun-ExtB"/>
              </a:rPr>
              <a:t> </a:t>
            </a:r>
            <a:br>
              <a:rPr sz="2200"/>
            </a:br>
            <a:br>
              <a:rPr sz="33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7" descr="betadefn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7696080" y="0"/>
            <a:ext cx="1298520" cy="1692360"/>
          </a:xfrm>
          <a:prstGeom prst="rect">
            <a:avLst/>
          </a:prstGeom>
          <a:ln w="0">
            <a:noFill/>
          </a:ln>
        </p:spPr>
      </p:pic>
      <p:sp>
        <p:nvSpPr>
          <p:cNvPr id="173" name="Line 8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31240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3429000" y="6019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365760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5334120" y="510552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generally: n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→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p +</a:t>
            </a:r>
            <a:r>
              <a:rPr b="0" i="1" lang="el-GR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400" spc="-1" strike="noStrike" baseline="30000">
                <a:solidFill>
                  <a:srgbClr val="80008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+  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7391520" y="5867280"/>
            <a:ext cx="15228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SimSun-ExtB"/>
              </a:rPr>
              <a:t>Negatron (</a:t>
            </a:r>
            <a:r>
              <a:rPr b="0" lang="el-GR" sz="3200" spc="-1" strike="noStrike">
                <a:solidFill>
                  <a:srgbClr val="800080"/>
                </a:solidFill>
                <a:latin typeface="Times New Roman"/>
                <a:ea typeface="SimSun-ExtB"/>
              </a:rPr>
              <a:t>β</a:t>
            </a:r>
            <a:r>
              <a:rPr b="0" lang="en-US" sz="3200" spc="-1" strike="noStrike" baseline="30000">
                <a:solidFill>
                  <a:srgbClr val="800080"/>
                </a:solidFill>
                <a:latin typeface="Times New Roman"/>
                <a:ea typeface="SimSun-ExtB"/>
              </a:rPr>
              <a:t>-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SimSun-ExtB"/>
              </a:rPr>
              <a:t> ) emiss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beta"/>
          <p:cNvPicPr/>
          <p:nvPr/>
        </p:nvPicPr>
        <p:blipFill>
          <a:blip r:embed="rId1"/>
          <a:stretch/>
        </p:blipFill>
        <p:spPr>
          <a:xfrm>
            <a:off x="228600" y="1905120"/>
            <a:ext cx="8763120" cy="4786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1" name="Text Box 7"/>
          <p:cNvSpPr/>
          <p:nvPr/>
        </p:nvSpPr>
        <p:spPr>
          <a:xfrm>
            <a:off x="304920" y="5867280"/>
            <a:ext cx="5333760" cy="579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40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19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 </a:t>
            </a:r>
            <a:r>
              <a:rPr b="0" lang="en-US" sz="2800" spc="-1" strike="noStrike">
                <a:solidFill>
                  <a:srgbClr val="003399"/>
                </a:solidFill>
                <a:latin typeface="Wingdings 3"/>
                <a:ea typeface="Wingdings 3"/>
              </a:rPr>
              <a:t>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40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a + </a:t>
            </a:r>
            <a:r>
              <a:rPr b="0" i="1" lang="el-GR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0" i="1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antineut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alibri"/>
                <a:ea typeface="宋体"/>
              </a:rPr>
              <a:t>Negatron (</a:t>
            </a:r>
            <a:r>
              <a:rPr b="1" lang="el-GR" sz="4400" spc="-1" strike="noStrike">
                <a:solidFill>
                  <a:srgbClr val="cc0000"/>
                </a:solidFill>
                <a:latin typeface="Calibri"/>
                <a:ea typeface="宋体"/>
              </a:rPr>
              <a:t>β</a:t>
            </a:r>
            <a:r>
              <a:rPr b="1" lang="en-US" sz="4400" spc="-1" strike="noStrike" baseline="30000">
                <a:solidFill>
                  <a:srgbClr val="cc0000"/>
                </a:solidFill>
                <a:latin typeface="Calibri"/>
                <a:ea typeface="宋体"/>
              </a:rPr>
              <a:t>- ,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l-GR" sz="4400" spc="-1" strike="noStrike">
                <a:solidFill>
                  <a:srgbClr val="ff0000"/>
                </a:solidFill>
                <a:latin typeface="Calibri"/>
                <a:ea typeface="宋体"/>
              </a:rPr>
              <a:t>γ</a:t>
            </a:r>
            <a:r>
              <a:rPr b="1" lang="en-US" sz="4400" spc="-1" strike="noStrike">
                <a:solidFill>
                  <a:srgbClr val="cc0000"/>
                </a:solidFill>
                <a:latin typeface="Calibri"/>
                <a:ea typeface="宋体"/>
              </a:rPr>
              <a:t>) Dec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685800" y="24382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2209680" y="35812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4"/>
              <p:cNvSpPr txBox="1"/>
              <p:nvPr/>
            </p:nvSpPr>
            <p:spPr>
              <a:xfrm>
                <a:off x="2133720" y="5715000"/>
                <a:ext cx="47242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Y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y</m:t>
                        </m:r>
                      </m:e>
                      <m:e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P</m:t>
                        </m:r>
                        <m:r>
                          <m:t xml:space="preserve">→</m:t>
                        </m:r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S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Line 8"/>
          <p:cNvSpPr/>
          <p:nvPr/>
        </p:nvSpPr>
        <p:spPr>
          <a:xfrm>
            <a:off x="2241720" y="46483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1371600" y="2438280"/>
            <a:ext cx="1447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990720" y="2438280"/>
            <a:ext cx="152388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49"/>
          <p:cNvGrpSpPr/>
          <p:nvPr/>
        </p:nvGrpSpPr>
        <p:grpSpPr>
          <a:xfrm>
            <a:off x="3768840" y="4419720"/>
            <a:ext cx="1206360" cy="368280"/>
            <a:chOff x="3768840" y="4419720"/>
            <a:chExt cx="1206360" cy="368280"/>
          </a:xfrm>
        </p:grpSpPr>
        <mc:AlternateContent>
          <mc:Choice xmlns:a14="http://schemas.microsoft.com/office/drawing/2010/main" Requires="a14">
            <p:sp>
              <p:nvSpPr>
                <p:cNvPr id="190" name="Object 20"/>
                <p:cNvSpPr txBox="1"/>
                <p:nvPr/>
              </p:nvSpPr>
              <p:spPr>
                <a:xfrm>
                  <a:off x="3936240" y="4649760"/>
                  <a:ext cx="32040" cy="7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Z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A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1" name="Text Box 12"/>
            <p:cNvSpPr/>
            <p:nvPr/>
          </p:nvSpPr>
          <p:spPr>
            <a:xfrm>
              <a:off x="3768840" y="4419720"/>
              <a:ext cx="12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Daugh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Line 13"/>
          <p:cNvSpPr/>
          <p:nvPr/>
        </p:nvSpPr>
        <p:spPr>
          <a:xfrm>
            <a:off x="304812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2028600" y="268920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1455480" y="359568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3200400" y="388620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  <a:ea typeface="宋体"/>
              </a:rPr>
              <a:t>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48"/>
          <p:cNvGrpSpPr/>
          <p:nvPr/>
        </p:nvGrpSpPr>
        <p:grpSpPr>
          <a:xfrm>
            <a:off x="2190960" y="2209680"/>
            <a:ext cx="895320" cy="401400"/>
            <a:chOff x="2190960" y="2209680"/>
            <a:chExt cx="895320" cy="401400"/>
          </a:xfrm>
        </p:grpSpPr>
        <mc:AlternateContent>
          <mc:Choice xmlns:a14="http://schemas.microsoft.com/office/drawing/2010/main" Requires="a14">
            <p:sp>
              <p:nvSpPr>
                <p:cNvPr id="197" name="Object 18"/>
                <p:cNvSpPr txBox="1"/>
                <p:nvPr/>
              </p:nvSpPr>
              <p:spPr>
                <a:xfrm>
                  <a:off x="2334960" y="2462040"/>
                  <a:ext cx="39600" cy="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Z</m:t>
                          </m:r>
                        </m:sub>
                        <m:sup>
                          <m:r>
                            <m:t xml:space="preserve">A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Text Box 11"/>
            <p:cNvSpPr/>
            <p:nvPr/>
          </p:nvSpPr>
          <p:spPr>
            <a:xfrm>
              <a:off x="2190960" y="2242800"/>
              <a:ext cx="8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Pa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7"/>
            <p:cNvSpPr/>
            <p:nvPr/>
          </p:nvSpPr>
          <p:spPr>
            <a:xfrm>
              <a:off x="2258640" y="2209680"/>
              <a:ext cx="1839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" name="Object 51"/>
              <p:cNvSpPr txBox="1"/>
              <p:nvPr/>
            </p:nvSpPr>
            <p:spPr>
              <a:xfrm>
                <a:off x="2819520" y="895320"/>
                <a:ext cx="3809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sPre>
                      <m:sub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+</m:t>
                    </m:r>
                    <m:limUpp>
                      <m:e>
                        <m:r>
                          <m:t xml:space="preserve">ν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914400" y="1752480"/>
                <a:ext cx="8539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2"/>
              <p:cNvSpPr txBox="1"/>
              <p:nvPr/>
            </p:nvSpPr>
            <p:spPr>
              <a:xfrm>
                <a:off x="2514600" y="4724280"/>
                <a:ext cx="1090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TextBox 32"/>
          <p:cNvSpPr/>
          <p:nvPr/>
        </p:nvSpPr>
        <p:spPr>
          <a:xfrm>
            <a:off x="5568840" y="2514600"/>
            <a:ext cx="2377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Neutron rich nuclei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Large N/Z ratio</a:t>
            </a: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Verdana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0" y="304920"/>
            <a:ext cx="9144000" cy="59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Several nomenclatures are important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uclide: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is any particular atomic nucleus with a specific atomic number 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and mass number 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A,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it is equivalently an atomic nucleus with a specific number of protons and neutrons.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Nuclides may be stable or unstable and unstable nuclides ar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radioactive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●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Isotopes: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is one series of nuclides have the same atomic number, but a different number of neutrons. They exhibit the same chemical properties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xamples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 carbon atom: It has 6 protons and 6 neutrons we call it ʺcarbon-12“ </a:t>
            </a:r>
            <a:r>
              <a:rPr b="0" lang="en-US" sz="24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 because it has an atomic mass of 12. One useful isotope of carbon is ʺcarbon-14“, </a:t>
            </a:r>
            <a:r>
              <a:rPr b="0" lang="en-US" sz="24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14</a:t>
            </a:r>
            <a:r>
              <a:rPr b="0" lang="en-US" sz="24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 which has 6 protons and 8 neutrons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other example is the oxygen isotopes </a:t>
            </a:r>
            <a:r>
              <a:rPr b="0" lang="en-US" sz="24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15</a:t>
            </a:r>
            <a:r>
              <a:rPr b="0" lang="en-US" sz="24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, </a:t>
            </a:r>
            <a:r>
              <a:rPr b="0" lang="en-US" sz="24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16</a:t>
            </a:r>
            <a:r>
              <a:rPr b="0" lang="en-US" sz="24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, </a:t>
            </a:r>
            <a:r>
              <a:rPr b="0" lang="en-US" sz="24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17</a:t>
            </a:r>
            <a:r>
              <a:rPr b="0" lang="en-US" sz="24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, </a:t>
            </a:r>
            <a:r>
              <a:rPr b="0" lang="en-US" sz="24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18</a:t>
            </a:r>
            <a:r>
              <a:rPr b="0" lang="en-US" sz="24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vostro\My Documents\Downloads\I131.png"/>
          <p:cNvPicPr/>
          <p:nvPr/>
        </p:nvPicPr>
        <p:blipFill>
          <a:blip r:embed="rId1"/>
          <a:stretch/>
        </p:blipFill>
        <p:spPr>
          <a:xfrm>
            <a:off x="412920" y="1214280"/>
            <a:ext cx="77025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23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0000"/>
                </a:solidFill>
                <a:uFillTx/>
                <a:latin typeface="Times New Roman"/>
              </a:rPr>
              <a:t>B. Positron or </a:t>
            </a:r>
            <a:r>
              <a:rPr b="0" i="1" lang="el-GR" sz="2500" spc="-1" strike="noStrike" u="sng">
                <a:solidFill>
                  <a:srgbClr val="ff0000"/>
                </a:solidFill>
                <a:uFillTx/>
                <a:latin typeface="Times New Roman"/>
              </a:rPr>
              <a:t>β</a:t>
            </a:r>
            <a:r>
              <a:rPr b="0" i="1" lang="en-US" sz="25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+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imes New Roman"/>
              </a:rPr>
              <a:t> Decay:</a:t>
            </a:r>
            <a:br>
              <a:rPr sz="1800"/>
            </a:br>
            <a:br>
              <a:rPr sz="1800"/>
            </a:b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is process occur with 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neutron defici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proton ri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uclei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version of a proton into neutron + positron (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neutrino)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sitrons are emitted with a continuous energy spectrum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fter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article emission, the daughter nuclide has an atomic number that is one less than that of the parent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ere is no change in the mass number but the atomic number is reduced by one unit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br>
              <a:rPr sz="2200"/>
            </a:b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 →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i +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br>
              <a:rPr sz="2200"/>
            </a:b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→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 +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181480" y="51055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generally: p → n + </a:t>
            </a:r>
            <a:r>
              <a:rPr b="0" i="1" lang="el-GR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400" spc="-1" strike="noStrike" baseline="30000">
                <a:solidFill>
                  <a:srgbClr val="80008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2060"/>
                </a:solidFill>
                <a:uFillTx/>
                <a:latin typeface="Calibri"/>
              </a:rPr>
              <a:t>Positron ( </a:t>
            </a:r>
            <a:r>
              <a:rPr b="1" lang="en-US" sz="4400" spc="-1" strike="noStrike" u="sng" baseline="30000">
                <a:solidFill>
                  <a:srgbClr val="002060"/>
                </a:solidFill>
                <a:uFillTx/>
                <a:latin typeface="Calibri"/>
              </a:rPr>
              <a:t>0</a:t>
            </a:r>
            <a:r>
              <a:rPr b="1" lang="en-US" sz="4400" spc="-1" strike="noStrike" u="sng">
                <a:solidFill>
                  <a:srgbClr val="002060"/>
                </a:solidFill>
                <a:uFillTx/>
                <a:latin typeface="Calibri"/>
              </a:rPr>
              <a:t>β</a:t>
            </a:r>
            <a:r>
              <a:rPr b="1" lang="en-US" sz="4400" spc="-1" strike="noStrike" u="sng" baseline="-25000">
                <a:solidFill>
                  <a:srgbClr val="002060"/>
                </a:solidFill>
                <a:uFillTx/>
                <a:latin typeface="Calibri"/>
              </a:rPr>
              <a:t>+1</a:t>
            </a:r>
            <a:r>
              <a:rPr b="1" lang="en-US" sz="4400" spc="-1" strike="noStrike" u="sng">
                <a:solidFill>
                  <a:srgbClr val="002060"/>
                </a:solidFill>
                <a:uFillTx/>
                <a:latin typeface="Calibri"/>
              </a:rPr>
              <a:t>) Dec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C:\Documents and Settings\vostro\My Documents\Downloads\F 18.jpg"/>
          <p:cNvPicPr/>
          <p:nvPr/>
        </p:nvPicPr>
        <p:blipFill>
          <a:blip r:embed="rId1"/>
          <a:stretch/>
        </p:blipFill>
        <p:spPr>
          <a:xfrm>
            <a:off x="1500120" y="1857240"/>
            <a:ext cx="56437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fast, and light. </a:t>
            </a:r>
            <a:br>
              <a:rPr sz="2200"/>
            </a:b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●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ta particles have a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medium penetrating pow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they are stopped by a sheet of aluminium.</a:t>
            </a:r>
            <a:br>
              <a:rPr sz="2200"/>
            </a:b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●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ta particles ionize atoms that they pass, but not as strongly as alpha particles do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9" descr="300px-Alfa_beta_gamma_radiation">
            <a:hlinkClick r:id="rId1"/>
          </p:cNvPr>
          <p:cNvPicPr/>
          <p:nvPr/>
        </p:nvPicPr>
        <p:blipFill>
          <a:blip r:embed="rId2">
            <a:lum bright="-18000"/>
          </a:blip>
          <a:srcRect l="0" t="32487" r="26883" b="33212"/>
          <a:stretch/>
        </p:blipFill>
        <p:spPr>
          <a:xfrm>
            <a:off x="7162920" y="2057400"/>
            <a:ext cx="1773000" cy="2340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11" name="Picture 2" descr="distances"/>
          <p:cNvPicPr/>
          <p:nvPr/>
        </p:nvPicPr>
        <p:blipFill>
          <a:blip r:embed="rId3"/>
          <a:stretch/>
        </p:blipFill>
        <p:spPr>
          <a:xfrm>
            <a:off x="304920" y="2057400"/>
            <a:ext cx="6629400" cy="2946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12" name="Text Box 8"/>
          <p:cNvSpPr/>
          <p:nvPr/>
        </p:nvSpPr>
        <p:spPr>
          <a:xfrm>
            <a:off x="0" y="530532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a particles are 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much less massive and less charged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alpha particles and </a:t>
            </a:r>
            <a:r>
              <a:rPr b="0" i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interact less intensely</a:t>
            </a:r>
            <a:r>
              <a:rPr b="0" i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toms in the materials they pass through, which gives them a longer range than alpha partic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3048120"/>
            <a:ext cx="701028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3. Gamma-emission (</a:t>
            </a:r>
            <a:r>
              <a:rPr b="0" lang="el-GR" sz="25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rays):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amma rays are waves, not particles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● This means that they have </a:t>
            </a:r>
            <a:r>
              <a:rPr b="0" lang="en-US" sz="2200" spc="-1" strike="noStrike">
                <a:solidFill>
                  <a:srgbClr val="a50021"/>
                </a:solidFill>
                <a:latin typeface="Times New Roman"/>
              </a:rPr>
              <a:t>no mass and no charge. </a:t>
            </a:r>
            <a:br>
              <a:rPr sz="2200"/>
            </a:b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In Gamma decay: atomic number unchanged, atomic mass unchanged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 ●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amma rays have </a:t>
            </a:r>
            <a:r>
              <a:rPr b="0" lang="en-US" sz="2200" spc="-1" strike="noStrike">
                <a:solidFill>
                  <a:srgbClr val="a50021"/>
                </a:solidFill>
                <a:latin typeface="Times New Roman"/>
              </a:rPr>
              <a:t>a high penetrating pow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it takes a thick sheet of metal such as lead to reduce them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● Gamma rays do not directly ionize other atoms, although they may cause atoms to emit other particles which will then cause ionization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● We don't find pure gamma sources - gamma rays are emitted alongside alpha or beta particles.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300"/>
            </a:br>
            <a:br>
              <a:rPr sz="2200"/>
            </a:br>
            <a:br>
              <a:rPr sz="2200"/>
            </a:b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10" descr="gammadefn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162920" y="152280"/>
            <a:ext cx="1803240" cy="2349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15" name="Picture 8" descr="300px-Alfa_beta_gamma_radiation">
            <a:hlinkClick r:id="rId2"/>
          </p:cNvPr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6858000" y="2743200"/>
            <a:ext cx="2104920" cy="2779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Gamma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radiation"/>
          <p:cNvPicPr/>
          <p:nvPr/>
        </p:nvPicPr>
        <p:blipFill>
          <a:blip r:embed="rId1"/>
          <a:stretch/>
        </p:blipFill>
        <p:spPr>
          <a:xfrm>
            <a:off x="609480" y="2209680"/>
            <a:ext cx="8077320" cy="4354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distances"/>
          <p:cNvPicPr/>
          <p:nvPr/>
        </p:nvPicPr>
        <p:blipFill>
          <a:blip r:embed="rId1"/>
          <a:stretch/>
        </p:blipFill>
        <p:spPr>
          <a:xfrm>
            <a:off x="152280" y="1600200"/>
            <a:ext cx="8686800" cy="51084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0" y="1224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lpha particles are easy to stop, gamma rays are hard to stop</a:t>
            </a:r>
            <a:r>
              <a:rPr b="0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 of radioactive dec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905120"/>
          <a:ext cx="8305920" cy="4647960"/>
        </p:xfrm>
        <a:graphic>
          <a:graphicData uri="http://schemas.openxmlformats.org/drawingml/2006/table">
            <a:tbl>
              <a:tblPr/>
              <a:tblGrid>
                <a:gridCol w="2540160"/>
                <a:gridCol w="1965240"/>
                <a:gridCol w="1890720"/>
                <a:gridCol w="190980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Type of Radiation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Alpha particle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Beta particle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Gamma ray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bo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g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s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f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Very f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nising abilit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etrating pow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ped by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paper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aluminium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l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Picture 100" descr="alpha4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00400" y="2819520"/>
            <a:ext cx="365040" cy="45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2" descr="He42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191120" y="2819520"/>
            <a:ext cx="393480" cy="457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4" descr="betaminus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562720" y="2819520"/>
            <a:ext cx="438120" cy="406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6" descr="gammasymbol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7467480" y="2819520"/>
            <a:ext cx="4413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radioactivity.gif"/>
          <p:cNvPicPr/>
          <p:nvPr/>
        </p:nvPicPr>
        <p:blipFill>
          <a:blip r:embed="rId1"/>
          <a:srcRect l="0" t="0" r="35162" b="0"/>
          <a:stretch/>
        </p:blipFill>
        <p:spPr>
          <a:xfrm>
            <a:off x="457200" y="304920"/>
            <a:ext cx="8001000" cy="63230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2209680" y="1981080"/>
            <a:ext cx="990720" cy="4406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498000" y="2106720"/>
            <a:ext cx="837360" cy="4406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 whether alpha or beta decay occurs in the reaction in    which lead-210 decays to bismuth-210.</a:t>
            </a:r>
            <a:br>
              <a:rPr sz="2200"/>
            </a:br>
            <a:br>
              <a:rPr sz="2200"/>
            </a:b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210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8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b </a:t>
            </a:r>
            <a:r>
              <a:rPr b="0" lang="en-US" sz="25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210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8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i + 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889880" y="2438280"/>
            <a:ext cx="2753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ron decay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396252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64920" y="2389320"/>
            <a:ext cx="3027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210</a:t>
            </a:r>
            <a:r>
              <a:rPr b="0" lang="en-US" sz="28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82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Pb </a:t>
            </a:r>
            <a:r>
              <a:rPr b="0" lang="en-US" sz="2800" spc="-1" strike="noStrike">
                <a:solidFill>
                  <a:srgbClr val="1f497d"/>
                </a:solidFill>
                <a:latin typeface="Wingdings 3"/>
                <a:ea typeface="Wingdings 3"/>
              </a:rPr>
              <a:t>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210</a:t>
            </a:r>
            <a:r>
              <a:rPr b="0" lang="en-US" sz="28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83</a:t>
            </a: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i +</a:t>
            </a:r>
            <a:r>
              <a:rPr b="0" lang="en-US" sz="2800" spc="-1" strike="noStrike" baseline="30000">
                <a:solidFill>
                  <a:srgbClr val="1f497d"/>
                </a:solidFill>
                <a:latin typeface="Times New Roman"/>
                <a:ea typeface="Times New Roman"/>
              </a:rPr>
              <a:t> 0</a:t>
            </a:r>
            <a:r>
              <a:rPr b="0" lang="en-US" sz="2800" spc="-1" strike="noStrike" baseline="-25000">
                <a:solidFill>
                  <a:srgbClr val="1f497d"/>
                </a:solidFill>
                <a:latin typeface="Times New Roman"/>
                <a:ea typeface="Times New Roman"/>
              </a:rPr>
              <a:t>-1</a:t>
            </a:r>
            <a:r>
              <a:rPr b="0" i="1" lang="el-GR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80880" y="3962520"/>
            <a:ext cx="853452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decay particle emitted and the decay process that occurs when protactinium-231 decays to actinium-2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27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+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57200" y="594360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27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+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4191120" y="6248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5112000" y="5943600"/>
            <a:ext cx="2507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Comparison of Two Isotop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895320" y="1600200"/>
          <a:ext cx="75056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1600200"/>
                    <a:ext cx="7505640" cy="48006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4"/>
          <p:cNvSpPr txBox="1"/>
          <p:nvPr/>
        </p:nvSpPr>
        <p:spPr>
          <a:xfrm>
            <a:off x="1219320" y="838080"/>
            <a:ext cx="6781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ank you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3236760" y="1741320"/>
          <a:ext cx="282924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6760" y="1741320"/>
                    <a:ext cx="282924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imes New Roman"/>
              </a:rPr>
              <a:t>● </a:t>
            </a:r>
            <a:r>
              <a:rPr b="0" lang="en-US" sz="2200" spc="-1" strike="noStrike">
                <a:solidFill>
                  <a:srgbClr val="ff00ff"/>
                </a:solidFill>
                <a:latin typeface="Times New Roman"/>
              </a:rPr>
              <a:t>Isotones: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 nuclides having the same number of neutrons but different atomic number. Example, </a:t>
            </a:r>
            <a:r>
              <a:rPr b="0" lang="en-US" sz="2200" spc="-1" strike="noStrike" baseline="30000">
                <a:solidFill>
                  <a:srgbClr val="800080"/>
                </a:solidFill>
                <a:latin typeface="Times New Roman"/>
              </a:rPr>
              <a:t>59</a:t>
            </a:r>
            <a:r>
              <a:rPr b="0" lang="en-US" sz="2200" spc="-1" strike="noStrike" baseline="-25000">
                <a:solidFill>
                  <a:srgbClr val="800080"/>
                </a:solidFill>
                <a:latin typeface="Times New Roman"/>
              </a:rPr>
              <a:t>26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Fe, </a:t>
            </a:r>
            <a:r>
              <a:rPr b="0" lang="en-US" sz="2200" spc="-1" strike="noStrike" baseline="30000">
                <a:solidFill>
                  <a:srgbClr val="800080"/>
                </a:solidFill>
                <a:latin typeface="Times New Roman"/>
              </a:rPr>
              <a:t>60</a:t>
            </a:r>
            <a:r>
              <a:rPr b="0" lang="en-US" sz="2200" spc="-1" strike="noStrike" baseline="-25000">
                <a:solidFill>
                  <a:srgbClr val="800080"/>
                </a:solidFill>
                <a:latin typeface="Times New Roman"/>
              </a:rPr>
              <a:t>27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Co, </a:t>
            </a:r>
            <a:r>
              <a:rPr b="0" lang="en-US" sz="2200" spc="-1" strike="noStrike" baseline="30000">
                <a:solidFill>
                  <a:srgbClr val="800080"/>
                </a:solidFill>
                <a:latin typeface="Times New Roman"/>
              </a:rPr>
              <a:t>62</a:t>
            </a:r>
            <a:r>
              <a:rPr b="0" lang="en-US" sz="2200" spc="-1" strike="noStrike" baseline="-25000">
                <a:solidFill>
                  <a:srgbClr val="800080"/>
                </a:solidFill>
                <a:latin typeface="Times New Roman"/>
              </a:rPr>
              <a:t>29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Cu each having 33 neutrons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00ff"/>
                </a:solidFill>
                <a:latin typeface="Times New Roman"/>
              </a:rPr>
              <a:t>● Isobar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uclides with the same mass number, but different number of protons and neutrons, example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67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,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67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Zu are isobars having the same mass number 67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00ff"/>
                </a:solidFill>
                <a:latin typeface="Times New Roman"/>
              </a:rPr>
              <a:t>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ff"/>
                </a:solidFill>
                <a:latin typeface="Times New Roman"/>
              </a:rPr>
              <a:t>Isomers: 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nuclides having the same number of protons and neutrons but differing in energy states. Example </a:t>
            </a:r>
            <a:r>
              <a:rPr b="0" lang="en-US" sz="2200" spc="-1" strike="noStrike" baseline="30000">
                <a:solidFill>
                  <a:srgbClr val="800080"/>
                </a:solidFill>
                <a:latin typeface="Times New Roman"/>
              </a:rPr>
              <a:t>99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Tc and </a:t>
            </a:r>
            <a:r>
              <a:rPr b="0" lang="en-US" sz="2200" spc="-1" strike="noStrike" baseline="30000">
                <a:solidFill>
                  <a:srgbClr val="800080"/>
                </a:solidFill>
                <a:latin typeface="Times New Roman"/>
              </a:rPr>
              <a:t>99m</a:t>
            </a: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Tc.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The nuclides, both stable and radioactive are arranged in the form of a chart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Comparison of Two Isoba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803160" y="1905120"/>
          <a:ext cx="76885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905120"/>
                    <a:ext cx="7688520" cy="45720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Comparison of Two Isomers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1033560" y="1905120"/>
          <a:ext cx="73818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560" y="1905120"/>
                    <a:ext cx="7381800" cy="46479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"Chart of Nuclides"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1179360" y="1447920"/>
          <a:ext cx="678348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9360" y="1447920"/>
                    <a:ext cx="6783480" cy="52419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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oisotopes, Radionuclide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table isotopes which are distinguishable by radioactive trans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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oactivity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in which an unstable isotope undergoes changes until a stable state is reached and in the transformation emits energy in the form of radiation (alpha particles, beta particles and gamma ray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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s to particles or waves coming from the nucleus of the atom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radioisotope or radionuclide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rough which the atom attempts to attain a more stable configu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on vol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1 eV is the energy acquired by an electron when accelerated through a potential difference of 1 V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This amount of energy is very small, so the energies of particles are usually given in terms of: MeV (megaelectron vo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KeV (kiloelectron volt)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1 MeV = 10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KeV = 10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  <a:ea typeface="Times New Roman"/>
              </a:rPr>
              <a:t>6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clear s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52280" y="1676520"/>
            <a:ext cx="883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bility of the atoms depends (N/Z) ratio in the nucle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ve the atomic number 82, all elements are radioa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cleons (P or N) are in a state of continual motion (natural isoto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dditional N or a deficiency of  N occurs, the atom attempts to regain its stability by giving off either a photon, such as gamma ray, or particle from the nucleus to attain a more stable (N/Z) ratio and the nucleus is transformed into an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henomenon is known as radioactivity or radioactive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3:10:04Z</dcterms:created>
  <dc:creator>Mohamad</dc:creator>
  <dc:description/>
  <dc:language>en-US</dc:language>
  <cp:lastModifiedBy>User</cp:lastModifiedBy>
  <dcterms:modified xsi:type="dcterms:W3CDTF">2016-02-03T08:00:59Z</dcterms:modified>
  <cp:revision>78</cp:revision>
  <dc:subject/>
  <dc:title>Isotopes of an atom have the same number of protons, but a different number of neutrons. Example:   Consider a carbon atom: It has 6 protons and 6 neutrons we call it ʺcarbon-12“ because it has an atomic mass of 12. One useful isotope of carbon is ʺcarbon-14“, which has 6 protons and 8 neutrons. </dc:title>
</cp:coreProperties>
</file>