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7BCC-B2FC-409B-9CA9-9C18C86FC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ensors are mainly equipped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ensing uni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environmental para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icrocontroll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rfor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loc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ireless communication un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ha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llow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node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ommunic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with other nodes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Power Un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or a battery: tha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empow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ll componen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of the sensor no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ictures show some of the possible applications of WS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arliest applicatio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WSNs were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ilitary fiel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(surveillance and control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, they’re used fo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veral civilia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fire detection and air pol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ground, seismological, and Volcano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ensor networks and Several medical appl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also be integrated into many smart systems such as “smart cities”: For structural health monitoring, traffic detection, and many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challenges related to this class of networks,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ed resources of sensor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working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perform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u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ultihop communic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mited bandwid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pology chang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o. of se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environmental challenges and application requir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well as other networking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EBCF-5616-411A-AA0D-FD2A4C406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2E5-931D-43E6-8FC4-56E5609F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C55-788B-4721-A399-05F35C3A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247-374E-4BE6-A6A9-042855EA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461D-5BEB-4724-8B63-F4CD321D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36EF-521F-4C7C-A04F-320BCC91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B09A-E01E-4C7E-9BC7-A2B6DEBF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2D65-E4AD-4E6E-934B-313755D1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A266-F319-4DA5-A505-81CEE9E0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74E7-83AE-4134-B69C-D0BBCF00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7045-5D8E-4A35-80C7-D457AC76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25B0-BAFE-45FD-975C-4BE151A1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8BC-BB22-400C-A67A-BDCA1E87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9FCD-1601-4D78-B83B-8B4FF409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54D4-BC68-45B6-9D4E-15D92608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BED3-9CD2-4414-89A1-A6023F9A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DF04-09A7-4D8C-9619-71105A79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47C5-DB47-4871-989A-B8213FD5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66C1-130B-4660-B319-7F247E77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D4D0-C726-4419-ACA0-F19E2097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1706-31F1-4745-92B9-A65CB0C0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3A8D7-9B7E-4770-91BB-89C8EFD6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698E1-9E4E-472D-92E2-E25F0F21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BF3-0353-49EB-BB81-AD79EC5A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9B99E-DA6C-4450-9FCA-202BC328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4594-F8C7-4959-9B9E-0A0402E9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A0DE-F537-42F4-BF07-918F116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8476-D746-4288-8492-45CBD728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02783-DA89-4385-A755-FD7D7293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E788-2558-462C-A628-76ABBDD4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BD28-7C65-4806-918B-37988D75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BD61C-8462-48ED-AD4F-8ECA64A1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62D8E-DEC0-42D6-A6A4-F8283F0E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73416-D622-4FCC-AE27-14D321DF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099-B90D-4D19-8F36-80C8AF2E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8FFE7-8A01-46C0-84ED-ECF73A06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2ADC3-91BF-4661-9E16-FBCA0B18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65DA0-5181-4AE3-81BE-7AF99F11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7F6CD-19A5-4B0D-8B4D-57BD15C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125FE-4C5C-4B62-8471-E94C44AD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2EA5-FF28-4A56-8903-73F6ACB6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EAF59-3DD0-4468-ABEA-5C0BAD62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2C617-0009-4E73-A804-5350B90D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C7A4-B324-4C16-82E9-C26F7EF0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601BF-D4D8-4C42-B8A1-E5293FE2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90A-EEC8-490E-AE9D-D38E3AB9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56C56-E6AB-4040-8DF0-F638EE63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7F8E3-F1C8-4B5D-BB0B-5914E1FC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D7790-CA08-4093-97DF-AD7507B0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BAE5A-890A-4008-9D00-47DB957A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D7649-AA51-40BF-9634-2C4EFED1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8E3CD-9BE0-4C2C-AD01-6110EA9A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38028-C631-4B38-B9E8-1EBD71FF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2F2D7-533F-4E78-AD3C-2856C9F1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AF629-A564-4EFB-B9BA-72163FB2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61354-390F-4C3C-B753-75609574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1CD-4DA7-44AE-94C4-66C7ACA3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DB08B-235B-4B0E-B532-36D591CF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B7320-6505-4859-95EA-0387267D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F3C5D-8187-4C69-8C9C-1A54C257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A14C1-005C-450B-8819-EE33A23C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6F379-F455-4B7B-BD17-3ED3509C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3A2FD-0B1A-4BCF-BB71-4E1137C2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B82C8-9E52-4FA7-B9D0-4A2D1206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B8891-01B9-4760-972B-9F68003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EE102-FE11-4B7A-8309-78E0C365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D0299-E502-4B64-99ED-556DA5BB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6B4-ECD5-43DB-8517-3A1B622A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BC57E-B4D3-4DCB-B2F0-EB3002C5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A1D94-E806-4022-A709-5E1556F8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12D99-A090-4801-99DD-5F9B238B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21632-B180-4722-A5C5-B9303240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79B0D-B34B-4565-96F9-2170DE3D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B5183-D4FA-49F1-B25A-DF3B40A1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40AF7-BF22-4882-B0EC-1358978D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FF5E0-A580-470E-8449-A3182921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416E7-9593-46B7-985A-B726B555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DBCFA-E4E4-4023-908E-03033BFF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7D7-9741-47BF-91FC-992D06A0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CC14D-E5F1-412F-979F-9E1F45FE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3D6DF-9542-4F5C-A6D8-7A6F5E72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75A97-35C8-40CB-AF3B-A6DB3731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A26CE-BF50-414C-997A-2C81970F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8812D-B746-43F0-AB04-90414202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85BDF-9FAC-4E5A-A200-F3281664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D9CBB-6B1B-42C2-AE0C-C7DA915F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225FF-F78C-4A64-8BD5-F4E29882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A41A4-22CD-49A4-B1F3-38162E4E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FB640-DC6B-403C-AE63-4AB158BE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5C1-17D3-47AC-A9F4-27E8D264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3D2C0-1D3C-47F8-BD94-CFD78304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FC7BE-EA47-4B19-B305-27953BC2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A2574-3356-4FB0-A83C-2450C06F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8109A-43E5-4905-BCD1-96865A48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EABAA-4BE0-4CF9-A4B1-CC62F492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713F7-55B7-4F23-A2FD-57BE5377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957FD-8F4F-4887-A13C-08CCBCB3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09D9-24FF-4BF7-9EAC-0A4568C917F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A308-0D73-4D2B-9CDE-57C54C246D0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1C27-3C97-45B4-999F-905A91D6746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15C3-5CE3-4889-A9D2-5C25C3E1D6E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FB6D-BBB7-4024-9E16-B40DAADA384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A03A-E387-4495-8BBA-7CF29D24530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3654-44A9-4237-B120-669160B52CF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078C-0778-4674-B1AE-9DF5A14BA4C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 1: Facts of network technologies development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Times New Roman"/>
              </a:rPr>
              <a:t>Networking Trend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Internet of Things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219320"/>
            <a:ext cx="4419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Internet of Things (IoT) refers to the interconnection of uniquely identifiable embedded computing-like devices within the existing Internet infrastructu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1" name="Picture 2" descr="http://upload.wikimedia.org/wikipedia/commons/thumb/a/ab/Internet_of_Things.jpg/350px-Internet_of_Things.jpg"/>
          <p:cNvPicPr/>
          <p:nvPr/>
        </p:nvPicPr>
        <p:blipFill>
          <a:blip r:embed="rId1"/>
          <a:stretch/>
        </p:blipFill>
        <p:spPr>
          <a:xfrm>
            <a:off x="4495680" y="2212920"/>
            <a:ext cx="417204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Internet of thing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We have passed the threshold where more things are connected to the Internet than people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The transition to IPv6 also supports seemingly limitless connectivity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Cisco IBSG predicts the number of Internet-connected things will reach 50 billion by 2020, which equates to more than six devices for every person on Earth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Many of us in the developed world already have three or more full-time devices connected to the Internet when factoring in PCs, smartphones, tablets, television devices and the lik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Internet of Things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51055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ngs, in the IoT, can refer to a wide variety of devices such as heart monitoring implants, biochip transponders on farm animals, automobiles with built-in sensors, or field operation devices that assist fire-fighters in search and rescu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xt up are sensor networks, using low-power sensors that "collect, transmit, analyze and distribute data on a massive scale," says Eva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6" name="Picture 2" descr="http://upload.wikimedia.org/wikipedia/commons/thumb/a/ab/Internet_of_Things.jpg/350px-Internet_of_Things.jpg"/>
          <p:cNvPicPr/>
          <p:nvPr/>
        </p:nvPicPr>
        <p:blipFill>
          <a:blip r:embed="rId1"/>
          <a:stretch/>
        </p:blipFill>
        <p:spPr>
          <a:xfrm>
            <a:off x="5486400" y="1371600"/>
            <a:ext cx="340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Internet of Things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ly, IoT is expected to offer advanced connectivity of devices, systems, and services that goes beyond machine-to-machine communications (M2M) and covers a variety of protocols, domains, and applic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T Applications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Environmental Monitoring, Infrastructure Management, Industrial Applications, Energy Management, Medical and Healthcare Systems, Building and Home Automation, Transport Systems, Large Scale Deploymen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T Trend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Intelligence, Architecture, Complex syste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oud Comput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219320"/>
            <a:ext cx="39625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oud computing is the delivery of computing as a service rather than a product, whereby shared resources, software, and information are provided to computers and other devices as a utility (like the electricity grid) over a network (typically the Internet). Clouds can be classified as public, private or hybri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2" descr="http://upload.wikimedia.org/wikipedia/commons/thumb/b/b5/Cloud_computing.svg/400px-Cloud_computing.svg.png"/>
          <p:cNvPicPr/>
          <p:nvPr/>
        </p:nvPicPr>
        <p:blipFill>
          <a:blip r:embed="rId1"/>
          <a:stretch/>
        </p:blipFill>
        <p:spPr>
          <a:xfrm>
            <a:off x="4419720" y="1828800"/>
            <a:ext cx="4294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oud Comput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oud computing relies on sharing of resources to achieve coherence and economies of scale, similar to a utility (like the electricity grid) over a networ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the foundation of cloud computing is the broader concept of converged infrastructure and shared servic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oud computing, or in simpler shorthand just "the cloud", also focuses o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aximizing the effectiveness of the shared resourc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oud resources are usually not only shared by multiple users but are als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ynamically reallocat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 demand. This can work for allocating resources to us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Picture 2" descr="Cloud computing icon.svg"/>
          <p:cNvPicPr/>
          <p:nvPr/>
        </p:nvPicPr>
        <p:blipFill>
          <a:blip r:embed="rId1"/>
          <a:stretch/>
        </p:blipFill>
        <p:spPr>
          <a:xfrm>
            <a:off x="7108920" y="5486400"/>
            <a:ext cx="1577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ireless Sensor Networks (cont.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SN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nso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re equipped with sensing, limited computation, and wireless communication capabilit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4670-5671-4EC0-AA22-CC16BCCB4E7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nodeHW1.png"/>
          <p:cNvPicPr/>
          <p:nvPr/>
        </p:nvPicPr>
        <p:blipFill>
          <a:blip r:embed="rId1"/>
          <a:stretch/>
        </p:blipFill>
        <p:spPr>
          <a:xfrm>
            <a:off x="2286000" y="2819520"/>
            <a:ext cx="4303800" cy="24192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2"/>
          <p:cNvSpPr/>
          <p:nvPr/>
        </p:nvSpPr>
        <p:spPr>
          <a:xfrm>
            <a:off x="685800" y="5410080"/>
            <a:ext cx="78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3366ff"/>
                </a:solidFill>
                <a:latin typeface="Arial"/>
              </a:rPr>
              <a:t>Typical hardware components of a sensor node in wireless sensor networks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SNs Application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26D1-B960-4181-B116-29C05C0F4A5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6" descr=""/>
          <p:cNvPicPr/>
          <p:nvPr/>
        </p:nvPicPr>
        <p:blipFill>
          <a:blip r:embed="rId1"/>
          <a:stretch/>
        </p:blipFill>
        <p:spPr>
          <a:xfrm>
            <a:off x="272880" y="2181240"/>
            <a:ext cx="2775240" cy="20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3" name="Picture 16" descr=""/>
          <p:cNvPicPr/>
          <p:nvPr/>
        </p:nvPicPr>
        <p:blipFill>
          <a:blip r:embed="rId2"/>
          <a:stretch/>
        </p:blipFill>
        <p:spPr>
          <a:xfrm>
            <a:off x="6086520" y="2181240"/>
            <a:ext cx="2773440" cy="20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272880" y="4352760"/>
            <a:ext cx="277524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5" name="Picture 18" descr=""/>
          <p:cNvPicPr/>
          <p:nvPr/>
        </p:nvPicPr>
        <p:blipFill>
          <a:blip r:embed="rId4"/>
          <a:stretch/>
        </p:blipFill>
        <p:spPr>
          <a:xfrm>
            <a:off x="3214800" y="4359240"/>
            <a:ext cx="2749320" cy="20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6" name="Picture 8" descr=""/>
          <p:cNvPicPr/>
          <p:nvPr/>
        </p:nvPicPr>
        <p:blipFill>
          <a:blip r:embed="rId5"/>
          <a:srcRect l="0" t="0" r="0" b="8954"/>
          <a:stretch/>
        </p:blipFill>
        <p:spPr>
          <a:xfrm>
            <a:off x="6097680" y="4352760"/>
            <a:ext cx="274932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Picture 20" descr=""/>
          <p:cNvPicPr/>
          <p:nvPr/>
        </p:nvPicPr>
        <p:blipFill>
          <a:blip r:embed="rId6"/>
          <a:stretch/>
        </p:blipFill>
        <p:spPr>
          <a:xfrm>
            <a:off x="3214800" y="2208240"/>
            <a:ext cx="2749320" cy="20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8" name="Rectangle 21"/>
          <p:cNvSpPr/>
          <p:nvPr/>
        </p:nvSpPr>
        <p:spPr>
          <a:xfrm>
            <a:off x="803160" y="6467400"/>
            <a:ext cx="78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WSNs Appl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SNs Challeng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72964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imited Sensor Resour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attery power, computation capability, memory, etc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etworking Challen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Limited bandwidth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routing, multi-hop communication, mobility,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topology control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large no. of sensors, frequent node on/off, etc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nvironment/Application-Driven Challen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quirements, extreme conditions, interference, etc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ther Challen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urity, synchronization, localization, deployment.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11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6A1C-282F-4F7C-80AB-CF6EB6496F5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"/>
          <p:cNvPicPr/>
          <p:nvPr/>
        </p:nvPicPr>
        <p:blipFill>
          <a:blip r:embed="rId1"/>
          <a:stretch/>
        </p:blipFill>
        <p:spPr>
          <a:xfrm>
            <a:off x="7437600" y="2038320"/>
            <a:ext cx="17064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64653"/>
                </a:solidFill>
                <a:latin typeface="Bookman Old Style"/>
              </a:rPr>
              <a:t>Next Lecture!</a:t>
            </a:r>
            <a:endParaRPr b="0" lang="en-US" sz="3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iz: Lectures 1 &amp; 2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457200" y="121932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network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uter network is a system of interconnected computers and peripheral devices. For example, it may connect computers, printers, scanners and cam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s about the transfer of information from a sender, across a distance, to a receiver whilst Computers communicate with digital sign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lder forms of communications technology, such as telephones and radios, use analog sign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Top Networking Research Topic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457200" y="1219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-based computing (cloud and grid compu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-scale wireless networks (Sensors, RF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speed wir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bile Compu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bile computing is a generic term describing one's ability to use technology while moving, such as opposed to portable computers, which are only practical for use while deployed in a stationary configuration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bile computing involves mobile communication, mobile hardware, and mobile softwar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sues include ad hoc and infrastructure networks as well as communication properties, protocols, data formats and concrete technologies.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ludes mobile devices or device components. Mobil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als with the characteristics and requirements of mobile applica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bile Computing: Item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ere are at least three different classes of mobile computing item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table compu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acted lightweight units including a full character set keyboard and primarily intended as hosts for software that may be parametrized, as laptops, notebooks, notepads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phon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ing a restricted key set primarily intended but not restricted to for vocal communications, as cell phones, smart phones, phonepads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arable compu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ostly limited to functional keys and primarily intended as incorporation of software agents, as watches, wristbands, necklaces, keyless implants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istence of these classes is expected to be long lasting, and complementary in personal usage, none replacing one the other in all features of convenience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bile Computing: Devices and Limitation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vic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types of mobile computers have been introduced since the 1990s including the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</a:rPr>
              <a:t>Personal digital assistant/enterprise digital assistant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</a:rPr>
              <a:t>Smartphone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</a:rPr>
              <a:t>Tablet computer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</a:rPr>
              <a:t>Ultra-Mobile PC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</a:rPr>
              <a:t>Wearable computer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mitation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</a:rPr>
              <a:t>Range &amp; Bandwidth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</a:rPr>
              <a:t>Security standard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</a:rPr>
              <a:t>Power consumption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</a:rPr>
              <a:t>Transmission interference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</a:rPr>
              <a:t>Potential health hazard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Times New Roman"/>
              </a:rPr>
              <a:t>Human interface with device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ernet technology and services: VoI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oI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Voice over Internet Protocol (VoIP) is a general term for a family of transmission technologies for delivery of voice communications over IP networks such as the Internet or  other  packet-switched network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Other terms frequently encountered and synonymous with VoIP are IP telephony, Internet telephony, voice over broadband (VoBB), broadband telephony, and broadband phon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VoI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Internet telephony refers to communications services-voice, facsimile, and voice-messaging applications-that are transported via the Internet, rather than the public switched telephone network (PSTN)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The basic steps involved in originating an Internet telephone call are conversion of the analog voice signal to digital format and compression/translation of the signal into Internet protocol(IP) packets for transmission over the Internet; the process is reversed at the receiving end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VoI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VoIP systems employ session control protocols to control the set-up and tear-down of calls as well as audio codes which encode speech allowing transmission over an IP network as digital audio via an audio stream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Codec use is varied between different implementations of VoIP (and often a range of codes are used); some implementations rely on narrowband and compressed speech, while others support high fidelity stereocod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Najla</cp:lastModifiedBy>
  <dcterms:modified xsi:type="dcterms:W3CDTF">2014-09-14T04:32:33Z</dcterms:modified>
  <cp:revision>62</cp:revision>
  <dc:subject/>
  <dc:title>Computer Networks</dc:title>
</cp:coreProperties>
</file>