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B672-C9CA-49D7-9FC4-C13E1D48E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6487-8D9E-4759-9940-9573426F2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917640" y="743040"/>
            <a:ext cx="4965480" cy="3724200"/>
          </a:xfrm>
          <a:prstGeom prst="rect">
            <a:avLst/>
          </a:prstGeom>
          <a:ln w="0">
            <a:noFill/>
          </a:ln>
        </p:spPr>
      </p:sp>
      <p:sp>
        <p:nvSpPr>
          <p:cNvPr id="404" name="PlaceHolder 2"/>
          <p:cNvSpPr>
            <a:spLocks noGrp="1"/>
          </p:cNvSpPr>
          <p:nvPr>
            <p:ph type="body"/>
          </p:nvPr>
        </p:nvSpPr>
        <p:spPr>
          <a:xfrm>
            <a:off x="67932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447E1-E572-4F6D-B4FA-5807BB4AC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D69CF-19DB-4B92-A253-CAB96A5F1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52891-A25B-42B1-8D38-E6A9A3445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0AADF-41AD-41BB-844B-E9767527E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C10B1-3915-4EBF-8AF9-FD1C64E92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A5DC2-173E-4D53-9535-EEB7DCF14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F0A3A-69EC-44BE-9D84-2BA435A10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F2473-BA77-4E87-95B6-99600A957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6DEE0-BD5E-4551-8D22-821ECE411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B6F22-7A84-4820-96DA-2B1C390A0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FE50F-752C-4F6A-837A-2801B4D65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849E8-E1EE-4B8A-88DF-C5684E775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A5635-649F-49A0-BC25-F8EC32FCF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C99E6-193E-4D1E-A12F-A0E906E2E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225BC-A61D-4FA2-9DA2-330149300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E0D78-DEE2-46EF-BC7A-7A229B2C93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BF3B3-8AEC-4DF7-991A-485C42AA1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FC48F2-876B-4C4D-BA04-8ED67A37FB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ACD511-4CEE-4100-A72E-8078F72C33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C0B0B9-B598-4B81-B7F7-0FC2580AD7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0CE790-5644-4D30-8ACC-4278442973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018C65-D03C-4927-B55C-9752ACF6A9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443D2-82B8-4A1E-909C-3E2AF82AA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4401F8-93F4-4557-B74C-C6F9159647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E96E3-695C-4BBD-A95D-21F2E9DD35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B0996-F960-486D-8C17-53BCC89899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27EA30-5CE1-4FDF-988A-B090B7C95C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042045-A3DD-46A2-A11A-BE57CA16C5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BC97C2-E940-48D9-92C3-8038A0D4E2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D4CC2E-D7B7-41AD-BBC0-63603B6B4C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DCFE2B-CEE2-4406-9AD5-12547379E9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7CAFB5-8811-4BED-A049-139D52A251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8187F5-9029-4F3C-971A-79B289F905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7D34D-C85E-4CF6-BBD9-50B865467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83A2E7-C44D-44DF-8944-2B09831837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8D8898-35CF-4606-9CE4-4FDB8E0C6E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B2EF81-F62D-4C40-B163-CCE135088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9E762E-6D40-4D1F-A1EF-E026D48CE7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685117-49D5-4205-9CEB-015CA4E31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6C5743-D87B-46E6-9D5C-5343736B3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7A5CE2-66BD-46FC-BE45-3FB16450E6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804BC1-C095-45FC-9277-2F6A1734FD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F60408-14F8-4503-BA28-8EC5934E16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75EBDF-C7B2-45C5-8B93-50FC06168B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BFA77-E819-493E-A35B-217A0BB6C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DAC876-FD60-4752-8650-B13FE86EC4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7BAC91-E436-46EC-8643-408005F46D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F58A93-C919-4117-8E5F-73DAFC1255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2897A3-1725-4A07-8608-97FF8C639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E13ABB-EF79-49BE-B7B0-3A63261B27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ECFB4D-3E0A-45DB-8595-A492DA4DC2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5CD1D6-6959-4B8A-B7BB-7B3987D37E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5962CE-67D5-43D2-B5A5-EB8F02A27F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252F99-625D-4B2E-9629-949A3C18BB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8383CB-9CEE-4A3E-8DA3-14933967DC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E3A62-52EF-4594-91E1-721BA5B83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F12641-7882-4CA1-93E0-1B5660E6B3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54A5FB-0135-4CF2-B364-C97347F29B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31EB77-A64B-424E-924F-1FD4F86A43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ED8037-68A8-4C96-85C4-D4DE303D6C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72EF56-89B8-4972-8084-0BBBFF820F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01AAE9-5FE9-420A-92DB-6F51FDF446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3F5A74-A1CD-4FE7-B720-951D68384E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E0C99F-D28E-4924-8455-A1219E2536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9B4B2D-244B-448A-BCA0-1AD2B0B71D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079650-2DB9-4F7C-8D92-1392DBD76D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8D9F4-5E73-4805-9744-E3BEE49FF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30491E-38F2-46D3-9F27-755DE4D349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C25FA1-3B32-4F7F-85F6-DE5482B51B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6253B3-5CA4-4143-8A54-7F79F5745B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476BF3-AF30-4ECF-9E02-36F3FD6E26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C68A60-88DD-45BB-9162-24C16FA62F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51CE3E-85A8-4882-A1B6-03D2DFBA06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450668-2660-4775-9538-0DDB149CA8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E1E9D2-E49B-43F9-BBA6-A5A229D292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0067AC-323A-40AC-8154-21387CD784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641822-5AA2-4D67-861C-C7FA9F61E8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E78FE-5978-4AF3-9E10-679375912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913892-2A09-4F5C-9ADA-A35C81CCCA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0D388B-59B6-443B-A868-BA187CCCC5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A81A8A-A279-4A7D-852E-9ABAE6869E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3252F7-8A1A-45F2-9775-39729B37B6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74AD25-453A-4F1D-9D8F-DA243CD321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972E5C-4BAE-4C85-90F6-3A6FABFB66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E1FAD9-C5BB-4556-B7E0-51C75BD422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774B66-3CDD-471E-AE72-0313DD1C22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D0DD57-2852-41B7-99F5-A1FF84E72D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A2A958-1FBE-4D88-B949-13F53A215F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36F5C-7B2E-4C04-B718-2B05C1993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8F700F-E4F7-4966-862E-C7B78D44C0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30B798-565A-46A9-A688-728DAAC167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D9CBB3-1A01-425A-B8E8-FD51DBB882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B4D5E8-93A2-4288-B187-F778358445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1D472B-9EE6-443C-BBE0-C891BB441F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530A63-2A42-43DD-B0E1-D79E3E3945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D202C9-B12F-4AAD-A245-CDF397B60DC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C741-195D-48F8-8DF4-3A471CED2DD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33A1-0FA1-4037-B77B-73055A783C8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8020-36DD-49A2-9058-97A7D097562A}"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D60F-DBB1-444C-86B2-36CAF2B136E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00F5-9B20-435E-83D2-ED487A1A030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05D4-BD31-430A-A4F3-46B6DDE4710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E28B-903A-4D98-A9E3-69BA53CEE80B}"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76FE-53BF-4A8F-BCF8-1FD535B9E66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cture 3: Networking Standards </a:t>
            </a:r>
            <a:endParaRPr b="0" lang="en-US" sz="28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Times New Roman"/>
              </a:rPr>
              <a:t>By D. Najla Al-Nabhan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International Networking Standards Organizations</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fontScale="98000"/>
          </a:bodyPr>
          <a:p>
            <a:pPr lvl="1" marL="536400" indent="-2671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Open standards are </a:t>
            </a:r>
            <a:r>
              <a:rPr b="1" lang="en-US" sz="2400" spc="-1" strike="noStrike">
                <a:solidFill>
                  <a:srgbClr val="464653"/>
                </a:solidFill>
                <a:latin typeface="Times New Roman"/>
                <a:ea typeface="Times New Roman"/>
              </a:rPr>
              <a:t>more popular </a:t>
            </a:r>
            <a:r>
              <a:rPr b="0" lang="en-US" sz="2400" spc="-1" strike="noStrike">
                <a:solidFill>
                  <a:srgbClr val="464653"/>
                </a:solidFill>
                <a:latin typeface="Times New Roman"/>
                <a:ea typeface="Times New Roman"/>
              </a:rPr>
              <a:t>than proprietary standards in the computer industry</a:t>
            </a:r>
            <a:endParaRPr b="0" lang="en-US" sz="2400" spc="-1" strike="noStrike">
              <a:solidFill>
                <a:srgbClr val="464653"/>
              </a:solidFill>
              <a:latin typeface="Gill Sans MT"/>
            </a:endParaRPr>
          </a:p>
          <a:p>
            <a:pPr lvl="1" marL="536400" indent="-2671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The rise of open standards not owned by any one company has been a great boon to customers of computer and networking products, as well as the manufacturers that sell to them. </a:t>
            </a:r>
            <a:endParaRPr b="0" lang="en-US" sz="2400" spc="-1" strike="noStrike">
              <a:solidFill>
                <a:srgbClr val="464653"/>
              </a:solidFill>
              <a:latin typeface="Gill Sans MT"/>
            </a:endParaRPr>
          </a:p>
          <a:p>
            <a:pPr lvl="1" marL="536400" indent="-2671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lvl="1" marL="536400" indent="-2671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 order to facilitate the development of open standards, however, organizations are needed that will coordinate the creation and publishing of these documents. </a:t>
            </a:r>
            <a:endParaRPr b="0" lang="en-US" sz="2400" spc="-1" strike="noStrike">
              <a:solidFill>
                <a:srgbClr val="464653"/>
              </a:solidFill>
              <a:latin typeface="Gill Sans MT"/>
            </a:endParaRPr>
          </a:p>
          <a:p>
            <a:pPr lvl="1" marL="536400" indent="-2671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lvl="1" marL="536400" indent="-2671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Generally, these are non-profit organizations that specifically take a neutral stance regarding technologies and work for the betterment of the industry as a whole.</a:t>
            </a:r>
            <a:endParaRPr b="0" lang="en-US" sz="2400" spc="-1" strike="noStrike">
              <a:solidFill>
                <a:srgbClr val="464653"/>
              </a:solidFill>
              <a:latin typeface="Gill Sans MT"/>
            </a:endParaRPr>
          </a:p>
          <a:p>
            <a:pPr lvl="1" marL="536400" indent="-2671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1" name=""/>
          <p:cNvSpPr txBox="1"/>
          <p:nvPr/>
        </p:nvSpPr>
        <p:spPr>
          <a:xfrm>
            <a:off x="457200" y="1219320"/>
            <a:ext cx="8229600" cy="4937040"/>
          </a:xfrm>
          <a:prstGeom prst="rect">
            <a:avLst/>
          </a:prstGeom>
          <a:noFill/>
          <a:ln w="0">
            <a:noFill/>
          </a:ln>
        </p:spPr>
        <p:txBody>
          <a:bodyPr anchor="t">
            <a:normAutofit/>
          </a:bodyPr>
          <a:p>
            <a:pPr marL="457200" indent="-457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andards organizations in the area of networking and the Internet</a:t>
            </a:r>
            <a:endParaRPr b="0" lang="en-US" sz="2800" spc="-1" strike="noStrike">
              <a:solidFill>
                <a:srgbClr val="000000"/>
              </a:solidFill>
              <a:latin typeface="Gill Sans MT"/>
            </a:endParaRPr>
          </a:p>
          <a:p>
            <a:pPr marL="457200" indent="-457200">
              <a:lnSpc>
                <a:spcPct val="90000"/>
              </a:lnSpc>
              <a:spcBef>
                <a:spcPts val="601"/>
              </a:spcBef>
              <a:buClr>
                <a:srgbClr val="727ca3"/>
              </a:buClr>
              <a:buSzPct val="76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International Organization for Standardization (ISO): </a:t>
            </a:r>
            <a:endParaRPr b="0" lang="en-US" sz="2700" spc="-1" strike="noStrike">
              <a:solidFill>
                <a:srgbClr val="000000"/>
              </a:solidFill>
              <a:latin typeface="Gill Sans MT"/>
            </a:endParaRPr>
          </a:p>
          <a:p>
            <a:pPr lvl="1" marL="731880" indent="-457200">
              <a:lnSpc>
                <a:spcPct val="9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Probably the biggest standards organization in the world, the ISO is really a federation of standards organizations from dozens of nations. In the networking world, the ISO is best known for its OSI Reference Model.</a:t>
            </a:r>
            <a:endParaRPr b="0" lang="en-US" sz="2400" spc="-1" strike="noStrike">
              <a:solidFill>
                <a:srgbClr val="464653"/>
              </a:solidFill>
              <a:latin typeface="Gill Sans MT"/>
            </a:endParaRPr>
          </a:p>
          <a:p>
            <a:pPr marL="457200" indent="-457200">
              <a:lnSpc>
                <a:spcPct val="9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3" name=""/>
          <p:cNvSpPr txBox="1"/>
          <p:nvPr/>
        </p:nvSpPr>
        <p:spPr>
          <a:xfrm>
            <a:off x="457200" y="1219320"/>
            <a:ext cx="8229600" cy="4937040"/>
          </a:xfrm>
          <a:prstGeom prst="rect">
            <a:avLst/>
          </a:prstGeom>
          <a:noFill/>
          <a:ln w="0">
            <a:noFill/>
          </a:ln>
        </p:spPr>
        <p:txBody>
          <a:bodyPr anchor="t">
            <a:normAutofit/>
          </a:bodyPr>
          <a:p>
            <a:pPr marL="457200" indent="-457200">
              <a:lnSpc>
                <a:spcPct val="90000"/>
              </a:lnSpc>
              <a:spcBef>
                <a:spcPts val="601"/>
              </a:spcBef>
              <a:buClr>
                <a:srgbClr val="727ca3"/>
              </a:buClr>
              <a:buSzPct val="76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merican National Standards Institute (ANSI): </a:t>
            </a:r>
            <a:endParaRPr b="0" lang="en-US" sz="2700" spc="-1" strike="noStrike">
              <a:solidFill>
                <a:srgbClr val="000000"/>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ANSI is the main organization responsible for coordinating and publishing computer and information technology standards in the United States. </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While they are commonly thought of as developing and maintaining standards, they do neither. </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stead, they oversee and accredit the organizations that actually create the standards, qualifying them as Standards Developing Organizations or SDOs. </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ANSI also publishes the standards documents created by the SDOs, and serves as the United States' representative to the ISO. </a:t>
            </a:r>
            <a:br>
              <a:rPr sz="2400"/>
            </a:br>
            <a:r>
              <a:rPr b="0" lang="en-US" sz="2400" spc="-1" strike="noStrike">
                <a:solidFill>
                  <a:srgbClr val="464653"/>
                </a:solidFill>
                <a:latin typeface="Times New Roman"/>
              </a:rPr>
              <a:t> </a:t>
            </a:r>
            <a:endParaRPr b="0" lang="en-US" sz="2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formation Technology Industry Council (ITIC):</a:t>
            </a:r>
            <a:r>
              <a:rPr b="0" lang="en-US" sz="2800" spc="-1" strike="noStrike">
                <a:solidFill>
                  <a:srgbClr val="000000"/>
                </a:solidFill>
                <a:latin typeface="Gill Sans MT"/>
              </a:rPr>
              <a:t> ITIC is a group of several dozen companies in the information technology (computer) industry. </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IC is the </a:t>
            </a:r>
            <a:r>
              <a:rPr b="0" i="1" lang="en-US" sz="2800" spc="-1" strike="noStrike">
                <a:solidFill>
                  <a:srgbClr val="000000"/>
                </a:solidFill>
                <a:latin typeface="Gill Sans MT"/>
              </a:rPr>
              <a:t>Standards</a:t>
            </a:r>
            <a:r>
              <a:rPr b="0" lang="en-US" sz="2800" spc="-1" strike="noStrike">
                <a:solidFill>
                  <a:srgbClr val="000000"/>
                </a:solidFill>
                <a:latin typeface="Gill Sans MT"/>
              </a:rPr>
              <a:t> Developing Organizations (SDO) approved by ANSI to develop and process standards related to many </a:t>
            </a:r>
            <a:r>
              <a:rPr b="1" lang="en-US" sz="2800" spc="-1" strike="noStrike">
                <a:solidFill>
                  <a:srgbClr val="000000"/>
                </a:solidFill>
                <a:latin typeface="Gill Sans MT"/>
              </a:rPr>
              <a:t>computer-relate</a:t>
            </a:r>
            <a:r>
              <a:rPr b="0" lang="en-US" sz="2800" spc="-1" strike="noStrike">
                <a:solidFill>
                  <a:srgbClr val="000000"/>
                </a:solidFill>
                <a:latin typeface="Gill Sans MT"/>
              </a:rPr>
              <a:t>d topics. </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was formerly known as the </a:t>
            </a:r>
            <a:r>
              <a:rPr b="0" i="1" lang="en-US" sz="2800" spc="-1" strike="noStrike">
                <a:solidFill>
                  <a:srgbClr val="000000"/>
                </a:solidFill>
                <a:latin typeface="Gill Sans MT"/>
              </a:rPr>
              <a:t>Computer and Business Equipment Manufacturers Association (CBEMA)</a:t>
            </a:r>
            <a:r>
              <a:rPr b="0" lang="en-US" sz="2800" spc="-1" strike="noStrike">
                <a:solidFill>
                  <a:srgbClr val="000000"/>
                </a:solidFill>
                <a:latin typeface="Gill Sans MT"/>
              </a:rPr>
              <a:t>.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ational Committee for Information Technology (NCITS):</a:t>
            </a:r>
            <a:r>
              <a:rPr b="0" lang="en-US" sz="2800" spc="-1" strike="noStrike">
                <a:solidFill>
                  <a:srgbClr val="000000"/>
                </a:solidFill>
                <a:latin typeface="Gill Sans MT"/>
              </a:rPr>
              <a:t> A committee established by the ITIC to develop and maintain standards related to the information technology world.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CITS was formerly known by the name </a:t>
            </a:r>
            <a:r>
              <a:rPr b="0" i="1" lang="en-US" sz="2800" spc="-1" strike="noStrike">
                <a:solidFill>
                  <a:srgbClr val="000000"/>
                </a:solidFill>
                <a:latin typeface="Gill Sans MT"/>
              </a:rPr>
              <a:t>Accredited Standards Committee X3, Information Technology</a:t>
            </a:r>
            <a:r>
              <a:rPr b="0" lang="en-US" sz="2800" spc="-1" strike="noStrike">
                <a:solidFill>
                  <a:srgbClr val="000000"/>
                </a:solidFill>
                <a:latin typeface="Gill Sans MT"/>
              </a:rPr>
              <a:t>, or more commonly, just </a:t>
            </a:r>
            <a:r>
              <a:rPr b="0" i="1" lang="en-US" sz="2800" spc="-1" strike="noStrike">
                <a:solidFill>
                  <a:srgbClr val="000000"/>
                </a:solidFill>
                <a:latin typeface="Gill Sans MT"/>
              </a:rPr>
              <a:t>X3</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maintains several sub-committees that develop and maintain standards for various technical subject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9"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stitute of Electrical and Electronics Engineers (IEEE):</a:t>
            </a:r>
            <a:r>
              <a:rPr b="0" lang="en-US" sz="2800" spc="-1" strike="noStrike">
                <a:solidFill>
                  <a:srgbClr val="000000"/>
                </a:solidFill>
                <a:latin typeface="Gill Sans MT"/>
              </a:rPr>
              <a:t> The IEEE (pronounced “eye-triple-ee”) is a well-known professional organization for those in the electrical or electronics fields, including computers and networking. </a:t>
            </a:r>
            <a:endParaRPr b="0" lang="en-US" sz="28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EEE's main claim to fame in the networking industry is the IEEE 802 Project, which encompasses many popular networking technologies including Ethernet.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fontScale="83000"/>
          </a:bodyPr>
          <a:p>
            <a:pPr marL="226440" indent="-226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lectronic Industries Alliance (EIA):</a:t>
            </a:r>
            <a:r>
              <a:rPr b="0" lang="en-US" sz="2800" spc="-1" strike="noStrike">
                <a:solidFill>
                  <a:srgbClr val="000000"/>
                </a:solidFill>
                <a:latin typeface="Gill Sans MT"/>
              </a:rPr>
              <a:t> The EIA is an international industry association that is best known for publishing electrical wiring and transmission standards. </a:t>
            </a:r>
            <a:endParaRPr b="0" lang="en-US" sz="2800" spc="-1" strike="noStrike">
              <a:solidFill>
                <a:srgbClr val="000000"/>
              </a:solidFill>
              <a:latin typeface="Gill Sans MT"/>
            </a:endParaRPr>
          </a:p>
          <a:p>
            <a:pPr marL="226440" indent="-226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lecommunications Industry Association (TIA):</a:t>
            </a:r>
            <a:r>
              <a:rPr b="0" lang="en-US" sz="2800" spc="-1" strike="noStrike">
                <a:solidFill>
                  <a:srgbClr val="000000"/>
                </a:solidFill>
                <a:latin typeface="Gill Sans MT"/>
              </a:rPr>
              <a:t> The TIA is the communications sector of the EIA, and is responsible for developing communications standards. Since communications, wiring and transmission are all related, and since the TIA and EIA organizations are also related, standards produced by the EIA or TIA are often labeled with the combined prefixes “EIA/TIA” or “TIA/EIA”.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93"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ternational Telecommunication Union - Telecommunication Standardization Sector (ITU-T):</a:t>
            </a:r>
            <a:r>
              <a:rPr b="0" lang="en-US" sz="2800" spc="-1" strike="noStrike">
                <a:solidFill>
                  <a:srgbClr val="000000"/>
                </a:solidFill>
                <a:latin typeface="Gill Sans MT"/>
              </a:rPr>
              <a:t> ITU-T is another large international body that develops standards for the telecommunications industry. </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ITU-T was formerly named the </a:t>
            </a:r>
            <a:r>
              <a:rPr b="0" i="1" lang="en-US" sz="2800" spc="-1" strike="noStrike">
                <a:solidFill>
                  <a:srgbClr val="000000"/>
                </a:solidFill>
                <a:latin typeface="Gill Sans MT"/>
              </a:rPr>
              <a:t>International Telephone and Telegraph Consultative Committee</a:t>
            </a:r>
            <a:r>
              <a:rPr b="0" lang="en-US" sz="2800" spc="-1" strike="noStrike">
                <a:solidFill>
                  <a:srgbClr val="000000"/>
                </a:solidFill>
                <a:latin typeface="Gill Sans MT"/>
              </a:rPr>
              <a:t> or </a:t>
            </a:r>
            <a:r>
              <a:rPr b="0" i="1" lang="en-US" sz="2800" spc="-1" strike="noStrike">
                <a:solidFill>
                  <a:srgbClr val="000000"/>
                </a:solidFill>
                <a:latin typeface="Gill Sans MT"/>
              </a:rPr>
              <a:t>CCITT</a:t>
            </a:r>
            <a:r>
              <a:rPr b="0" lang="en-US" sz="2800" spc="-1" strike="noStrike">
                <a:solidFill>
                  <a:srgbClr val="000000"/>
                </a:solidFill>
                <a:latin typeface="Gill Sans MT"/>
              </a:rPr>
              <a:t> (the abbreviation was of the French version of the organization's name, </a:t>
            </a:r>
            <a:r>
              <a:rPr b="0" i="1" lang="en-US" sz="2800" spc="-1" strike="noStrike">
                <a:solidFill>
                  <a:srgbClr val="000000"/>
                </a:solidFill>
                <a:latin typeface="Gill Sans MT"/>
              </a:rPr>
              <a:t>Comité consultatif international téléphonique et télégraphique</a:t>
            </a:r>
            <a:r>
              <a:rPr b="0" lang="en-US" sz="2800" spc="-1" strike="noStrike">
                <a:solidFill>
                  <a:srgbClr val="000000"/>
                </a:solidFill>
                <a:latin typeface="Gill Sans MT"/>
              </a:rPr>
              <a:t>.)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9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uropean Telecommunications Standards Institute (ETSI):</a:t>
            </a:r>
            <a:r>
              <a:rPr b="0" lang="en-US" sz="2800" spc="-1" strike="noStrike">
                <a:solidFill>
                  <a:srgbClr val="000000"/>
                </a:solidFill>
                <a:latin typeface="Gill Sans MT"/>
              </a:rPr>
              <a:t> An organization with members from dozens of countries both within and outside Europe that is dedicated to developing telecommunications standards for the European market (and elsewhere).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TSI is known for, among other things, regulating the use of radio bandwidth in Europe and developing standards such as HiperLAN.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clusion </a:t>
            </a:r>
            <a:endParaRPr b="0" lang="en-US" sz="3200" spc="-1" strike="noStrike">
              <a:solidFill>
                <a:srgbClr val="464653"/>
              </a:solidFill>
              <a:latin typeface="Bookman Old Style"/>
            </a:endParaRPr>
          </a:p>
        </p:txBody>
      </p:sp>
      <p:sp>
        <p:nvSpPr>
          <p:cNvPr id="397"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list represents some of the more important organizations that are responsible for establishing and publishing standards in the networking world. </a:t>
            </a:r>
            <a:endParaRPr b="0" lang="en-US" sz="24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 should also point out that the set of related organizations responsible for creating Internet standards is not shown in this list.</a:t>
            </a:r>
            <a:endParaRPr b="0" lang="en-US" sz="24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 want to emphasize that many of the organizations above do not actually develop the various standards. Generally, these are oversight organizations—“high level management” if you will—that work with many other smaller groups who actually develop the standards. Also, in many cases a particular standard may be published by more than one standards organization, so it may be labeled with more than one nam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Introduction to Networking Standards</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can't study networking and its related technologies without very quickly encountering a whole host of standards that are related to the subject—and organizations that create these standar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twork standards facilitate the interoperability of network technologies and are extremely importan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Networks are literally everywhere, and every hardware device or protocol is governed by at least one standard, and usually many.</a:t>
            </a:r>
            <a:endParaRPr b="0" lang="en-US" sz="2600" spc="-1" strike="noStrike">
              <a:solidFill>
                <a:srgbClr val="000000"/>
              </a:solidFill>
              <a:latin typeface="Gill Sans MT"/>
            </a:endParaRPr>
          </a:p>
        </p:txBody>
      </p:sp>
      <p:sp>
        <p:nvSpPr>
          <p:cNvPr id="363" name="TextBox 4"/>
          <p:cNvSpPr/>
          <p:nvPr/>
        </p:nvSpPr>
        <p:spPr>
          <a:xfrm>
            <a:off x="457200" y="1219320"/>
            <a:ext cx="822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Key Concept</a:t>
            </a:r>
            <a:endParaRPr b="0" lang="en-US" sz="3200" spc="-1" strike="noStrike">
              <a:solidFill>
                <a:srgbClr val="464653"/>
              </a:solidFill>
              <a:latin typeface="Bookman Old Style"/>
            </a:endParaRPr>
          </a:p>
        </p:txBody>
      </p:sp>
      <p:sp>
        <p:nvSpPr>
          <p:cNvPr id="39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re are a number of well-known international organizations that play an important role in the development of open networking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ome of the most important of these are ISO, ANSI, ITIC, IEEE, EIA/TIA, ITU-T and ETSI.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se are oversight organizations, responsible for overall management of the standards development process, rather than for the particulars of creating individual standard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Next Lecture!</a:t>
            </a:r>
            <a:endParaRPr b="0" lang="en-US" sz="3800" spc="-1" strike="noStrike">
              <a:solidFill>
                <a:srgbClr val="464653"/>
              </a:solidFill>
              <a:latin typeface="Bookman Old Style"/>
            </a:endParaRPr>
          </a:p>
        </p:txBody>
      </p:sp>
      <p:sp>
        <p:nvSpPr>
          <p:cNvPr id="40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Quiz: Lectures 3</a:t>
            </a:r>
            <a:endParaRPr b="0" lang="en-US" sz="2600" spc="-1" strike="noStrike">
              <a:solidFill>
                <a:srgbClr val="000000"/>
              </a:solidFill>
              <a:latin typeface="Gill Sans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Outline of Networking Standards</a:t>
            </a:r>
            <a:endParaRPr b="0" lang="en-US" sz="3200" spc="-1" strike="noStrike">
              <a:solidFill>
                <a:srgbClr val="464653"/>
              </a:solidFill>
              <a:latin typeface="Bookman Old Style"/>
            </a:endParaRPr>
          </a:p>
        </p:txBody>
      </p:sp>
      <p:sp>
        <p:nvSpPr>
          <p:cNvPr id="365" name=""/>
          <p:cNvSpPr txBox="1"/>
          <p:nvPr/>
        </p:nvSpPr>
        <p:spPr>
          <a:xfrm>
            <a:off x="457200" y="1219320"/>
            <a:ext cx="8229600" cy="4937040"/>
          </a:xfrm>
          <a:prstGeom prst="rect">
            <a:avLst/>
          </a:prstGeom>
          <a:noFill/>
          <a:ln w="0">
            <a:noFill/>
          </a:ln>
        </p:spPr>
        <p:txBody>
          <a:bodyPr anchor="t">
            <a:normAutofit fontScale="94000"/>
          </a:bodyPr>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s lecture provides a brief examination of the often-overlooked subject of network standards and standards organizations. </a:t>
            </a:r>
            <a:endParaRPr b="0" lang="en-US" sz="26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f0"/>
                </a:solidFill>
                <a:uFillTx/>
                <a:latin typeface="Gill Sans MT"/>
              </a:rPr>
              <a:t>A background discussion of why standards are </a:t>
            </a:r>
            <a:r>
              <a:rPr b="1" lang="en-US" sz="1800" spc="-1" strike="noStrike" u="sng">
                <a:solidFill>
                  <a:srgbClr val="00b0f0"/>
                </a:solidFill>
                <a:uFillTx/>
                <a:latin typeface="Gill Sans MT"/>
              </a:rPr>
              <a:t>important</a:t>
            </a:r>
            <a:r>
              <a:rPr b="0" lang="en-US" sz="1800" spc="-1" strike="noStrike" u="sng">
                <a:solidFill>
                  <a:srgbClr val="00b0f0"/>
                </a:solidFill>
                <a:uFillTx/>
                <a:latin typeface="Gill Sans MT"/>
              </a:rPr>
              <a:t>?</a:t>
            </a:r>
            <a:endParaRPr b="0" lang="en-US" sz="18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f0"/>
                </a:solidFill>
                <a:uFillTx/>
                <a:latin typeface="Gill Sans MT"/>
              </a:rPr>
              <a:t>Highlight the differences between proprietary, de facto and open standards. </a:t>
            </a:r>
            <a:endParaRPr b="0" lang="en-US" sz="18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f0"/>
                </a:solidFill>
                <a:uFillTx/>
                <a:latin typeface="Gill Sans MT"/>
              </a:rPr>
              <a:t>Networking standards in general terms, </a:t>
            </a:r>
            <a:endParaRPr b="0" lang="en-US" sz="18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f0"/>
                </a:solidFill>
                <a:uFillTx/>
                <a:latin typeface="Gill Sans MT"/>
              </a:rPr>
              <a:t>Describe the most important international standards organizations and industry groups related to networking. </a:t>
            </a:r>
            <a:endParaRPr b="0" lang="en-US" sz="18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ill Sans MT"/>
              </a:rPr>
              <a:t>Next lecture</a:t>
            </a:r>
            <a:r>
              <a:rPr b="0" lang="en-US" sz="2100" spc="-1" strike="noStrike">
                <a:solidFill>
                  <a:srgbClr val="000000"/>
                </a:solidFill>
                <a:latin typeface="Gill Sans MT"/>
              </a:rPr>
              <a:t>: the structure of the organizations responsible for Internet standards, including the registration authorities and registries that manage resources such as addresses, domain names and protocol values.  A discussion of the Request For Comment (RFC) process used for creating Internet standards.</a:t>
            </a: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Why are standards important?</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the beauty of standards is that there are so many to choose from”.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tandards also often differ in terms of the type of standards they are, and how they came abou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ypes of standard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roprietary Standard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Open Standard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De facto Standard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roprietary Standards </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the early days of computing, many people didn't quite understand just how important universal standards were. </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st companies were run by skilled inventors, who came up with great ideas for new technologies and weren't particularly interested in sharing them.</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It wasn't considered a “smart business move” to share information about new inventions with other companies—the competition! </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ry company believed that standards were important, but they thought it was even more important that </a:t>
            </a:r>
            <a:r>
              <a:rPr b="1" i="1" lang="en-US" sz="2400" spc="-1" strike="noStrike">
                <a:solidFill>
                  <a:srgbClr val="000000"/>
                </a:solidFill>
                <a:latin typeface="Gill Sans MT"/>
              </a:rPr>
              <a:t>they</a:t>
            </a:r>
            <a:r>
              <a:rPr b="0" lang="en-US" sz="2400" spc="-1" strike="noStrike">
                <a:solidFill>
                  <a:srgbClr val="000000"/>
                </a:solidFill>
                <a:latin typeface="Gill Sans MT"/>
              </a:rPr>
              <a:t> be the ones to control those standard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Standards </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ntually, companies learned that they would be better off to have standards that everyone agreed with, instead of constantly fighting with each other.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is particularly true in networking, where devices need to talk to each other.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f many companies get together and agree to cooperate, they can create an open standard instead of a bunch of proprietary one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pen standards are available to any who are interested in using the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Standards </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e key to the success of an open standard is a steering organization to promote it. </a:t>
            </a:r>
            <a:endParaRPr b="0" lang="en-US" sz="24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ually, a neutral, non-profit trade association or working group is established to develop and promote the standard, and the various for-profit hardware and software companies join this group and support it financially. </a:t>
            </a:r>
            <a:endParaRPr b="0" lang="en-US" sz="24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se groups also work with </a:t>
            </a:r>
            <a:r>
              <a:rPr b="1" lang="en-US" sz="2400" spc="-1" strike="noStrike">
                <a:solidFill>
                  <a:srgbClr val="000000"/>
                </a:solidFill>
                <a:latin typeface="Gill Sans MT"/>
              </a:rPr>
              <a:t>standards approval bodies </a:t>
            </a:r>
            <a:r>
              <a:rPr b="0" lang="en-US" sz="2400" spc="-1" strike="noStrike">
                <a:solidFill>
                  <a:srgbClr val="000000"/>
                </a:solidFill>
                <a:latin typeface="Gill Sans MT"/>
              </a:rPr>
              <a:t>like the ITU and ISO to gain acceptance for their standards.</a:t>
            </a:r>
            <a:endParaRPr b="0" lang="en-US" sz="24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f course, the companies aren't doing this just to be nice to their customers. In creating open standards, they split the “market share pie” between them, but they make the pie grow much larger by attracting more customer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e Facto Standard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brings me to the third type of standard that is often seen in the computer world: the </a:t>
            </a:r>
            <a:r>
              <a:rPr b="0" i="1" lang="en-US" sz="2400" spc="-1" strike="noStrike">
                <a:solidFill>
                  <a:srgbClr val="000000"/>
                </a:solidFill>
                <a:latin typeface="Gill Sans MT"/>
              </a:rPr>
              <a:t>de facto</a:t>
            </a:r>
            <a:r>
              <a:rPr b="0" lang="en-US" sz="2400" spc="-1" strike="noStrike">
                <a:solidFill>
                  <a:srgbClr val="000000"/>
                </a:solidFill>
                <a:latin typeface="Gill Sans MT"/>
              </a:rPr>
              <a:t> standard. </a:t>
            </a:r>
            <a:endParaRPr b="0" lang="en-US" sz="24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en-US" sz="2400" spc="-1" strike="noStrike">
                <a:solidFill>
                  <a:srgbClr val="000000"/>
                </a:solidFill>
                <a:latin typeface="Gill Sans MT"/>
              </a:rPr>
              <a:t>De facto” is Latin for “in fact”, so a de facto standard is one that is used as a universal standard just because over time it became widely used, and not because the standard was developed and approved by a standards committee. </a:t>
            </a:r>
            <a:endParaRPr b="0" lang="en-US" sz="2400" spc="-1" strike="noStrike">
              <a:solidFill>
                <a:srgbClr val="000000"/>
              </a:solidFill>
              <a:latin typeface="Gill Sans MT"/>
            </a:endParaRPr>
          </a:p>
          <a:p>
            <a:pPr lvl="2" marL="756360" indent="-210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good example of a de facto standard is the “AT” command set used by modems; virtually all modems use it, but this resulted not from an industry group agreeing to adopt and deploy it. Rather, it was developed unilaterally by Hayes, the pioneering modem company, and then adopted by virtually every other modem maker until it became a standard.</a:t>
            </a:r>
            <a:endParaRPr b="0" lang="en-US" sz="1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ometimes de facto standards succeed but often they don't, resulting a fragmented market of incompatible product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Networking Standards</a:t>
            </a:r>
            <a:endParaRPr b="0" lang="en-US" sz="3200" spc="-1" strike="noStrike">
              <a:solidFill>
                <a:srgbClr val="464653"/>
              </a:solidFill>
              <a:latin typeface="Bookman Old Style"/>
            </a:endParaRPr>
          </a:p>
        </p:txBody>
      </p:sp>
      <p:sp>
        <p:nvSpPr>
          <p:cNvPr id="377" name=""/>
          <p:cNvSpPr txBox="1"/>
          <p:nvPr/>
        </p:nvSpPr>
        <p:spPr>
          <a:xfrm>
            <a:off x="457200" y="1219320"/>
            <a:ext cx="8229600" cy="4937040"/>
          </a:xfrm>
          <a:prstGeom prst="rect">
            <a:avLst/>
          </a:prstGeom>
          <a:noFill/>
          <a:ln w="0">
            <a:noFill/>
          </a:ln>
        </p:spPr>
        <p:txBody>
          <a:bodyPr anchor="t">
            <a:normAutofit fontScale="91000"/>
          </a:bodyPr>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l networking technologies have standards associated with them.</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tworking technology may have more than one standard for any or all of the following reasons:</a:t>
            </a:r>
            <a:endParaRPr b="0" lang="en-US" sz="2400" spc="-1" strike="noStrike">
              <a:solidFill>
                <a:srgbClr val="000000"/>
              </a:solidFill>
              <a:latin typeface="Gill Sans MT"/>
            </a:endParaRPr>
          </a:p>
          <a:p>
            <a:pPr lvl="1" marL="498240" indent="-2480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original standard has been revised or updated; </a:t>
            </a:r>
            <a:endParaRPr b="0" lang="en-US" sz="2100" spc="-1" strike="noStrike">
              <a:solidFill>
                <a:srgbClr val="464653"/>
              </a:solidFill>
              <a:latin typeface="Gill Sans MT"/>
            </a:endParaRPr>
          </a:p>
          <a:p>
            <a:pPr lvl="1" marL="498240" indent="-2480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technology is sufficiently complex that it needs to be described in more than one document;</a:t>
            </a:r>
            <a:endParaRPr b="0" lang="en-US" sz="2100" spc="-1" strike="noStrike">
              <a:solidFill>
                <a:srgbClr val="464653"/>
              </a:solidFill>
              <a:latin typeface="Gill Sans MT"/>
            </a:endParaRPr>
          </a:p>
          <a:p>
            <a:pPr lvl="1" marL="498240" indent="-2480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technology borrows from or builds on documents used in related technologies; </a:t>
            </a:r>
            <a:endParaRPr b="0" lang="en-US" sz="2100" spc="-1" strike="noStrike">
              <a:solidFill>
                <a:srgbClr val="464653"/>
              </a:solidFill>
              <a:latin typeface="Gill Sans MT"/>
            </a:endParaRPr>
          </a:p>
          <a:p>
            <a:pPr lvl="1" marL="498240" indent="-2480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More than one organization has been involved in developing the technology. </a:t>
            </a:r>
            <a:endParaRPr b="0" lang="en-US" sz="2100" spc="-1" strike="noStrike">
              <a:solidFill>
                <a:srgbClr val="464653"/>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day, virtually all networking standards are “open” standards, administered by a standards organization or industry group.</a:t>
            </a:r>
            <a:endParaRPr b="0" lang="en-US" sz="2400" spc="-1" strike="noStrike">
              <a:solidFill>
                <a:srgbClr val="000000"/>
              </a:solidFill>
              <a:latin typeface="Gill Sans MT"/>
            </a:endParaRPr>
          </a:p>
          <a:p>
            <a:pPr lvl="1" marL="498240" indent="-2480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ea typeface="Times New Roman"/>
              </a:rPr>
              <a:t>Open standards are </a:t>
            </a:r>
            <a:r>
              <a:rPr b="1" lang="en-US" sz="2100" spc="-1" strike="noStrike">
                <a:solidFill>
                  <a:srgbClr val="464653"/>
                </a:solidFill>
                <a:latin typeface="Times New Roman"/>
                <a:ea typeface="Times New Roman"/>
              </a:rPr>
              <a:t>more popular </a:t>
            </a:r>
            <a:r>
              <a:rPr b="0" lang="en-US" sz="2100" spc="-1" strike="noStrike">
                <a:solidFill>
                  <a:srgbClr val="464653"/>
                </a:solidFill>
                <a:latin typeface="Times New Roman"/>
                <a:ea typeface="Times New Roman"/>
              </a:rPr>
              <a:t>than proprietary standards in the computer industry</a:t>
            </a:r>
            <a:endParaRPr b="0" lang="en-US" sz="21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Najla</cp:lastModifiedBy>
  <dcterms:modified xsi:type="dcterms:W3CDTF">2014-09-20T22:33:46Z</dcterms:modified>
  <cp:revision>67</cp:revision>
  <dc:subject/>
  <dc:title>Computer Networks</dc:title>
</cp:coreProperties>
</file>