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1458F-D812-4325-91BC-A75AA9B65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8A546-8E15-4A0F-A13D-E99280FD5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CA6C0-0D6F-4DB3-B931-78334EA8E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504D3-67AB-4EA4-9B93-733C3063C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50DE6-E726-4DD4-ABA6-208642F34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55A3F-BEF8-442B-9619-AD7F2288F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87107-2F92-4891-8657-97F6435A6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6C5E1-D645-44CB-A447-1A634706E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46D2E-56B5-4E58-88EF-7ACB5D4F2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4A3AF-5205-45ED-943F-A7B1C86C6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CA0F7-A2C2-4373-96D0-2C59FC6BD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ECB27-8E66-43A0-B5B0-FAE9AFC85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2FC5E-7C85-4199-9883-DE00313B3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D2B4-BFF6-41ED-8812-456EE9A7E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BB52A-F323-4EE4-8544-24CAC3EDA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25D9B-91BF-41B7-9707-8514C813C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D0C02-A82A-416E-B6AB-5154683F9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DA8030-9F61-4D54-AC33-823F873BE6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CDB7D-6BF9-41AA-805A-B953B07BC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33029-FC90-4799-AA3F-362B1B696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56B35-FC17-4DBB-9EF2-A00F537E8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6E1890-6515-40CB-B516-1DE96847D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6B57-A839-4D97-9A5F-1623FB959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F07C68-C637-4C6D-BC8D-19058A029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6A9A2-026E-4D3A-A793-6EBCADEBB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D318F-D963-4C95-96DC-C4995AB5E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17DF8-FD9C-403C-BE4A-B9B1A6FB7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EECD5-1081-4BEA-B48E-0B4796B98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2ED4C5-F3ED-4F8D-B134-6A1EA6B9C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C45B5A-8016-4FEE-B470-8565A1A6A0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837850-429C-42C6-A698-485A746ACE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4A5062-987C-4224-B7C8-7B7D78669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BD518-459C-4888-9A0D-0390D703D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56990-23B5-4BF0-AE14-41CB7CAAD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DA1D9-73BA-4E1D-A6F3-2E7E82733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FA60A-2E3A-4801-8C68-57F2F53D4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5519E-9AB8-4439-B1CD-73E6BC432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CAAEA-80B1-471F-B133-A20537027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B448F-AA30-41EE-8970-1C44173FF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481D1-AB5F-4E6B-A883-6E1C73DC1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77CCF-4B5A-4660-84BE-994BACC77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01071B-9DE1-4A2D-836E-B88C56E472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5B6BA8-F03B-4A0D-A33D-2B08A85814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068E9-6815-4E60-8C95-D71A20BDB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FCA12-77A9-458B-9006-258922DE2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12C4D-80BD-4807-8B6C-34514CE6D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E594D-A62E-4D7C-B6BB-59B98DE2D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3A87-5A85-4992-B22D-264A176AB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E435-5896-4BE4-B374-81F460D6DF4D}"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548A-4165-4162-A3F6-E9AAEB6BE9B6}"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BC61-D1CD-4FC8-B093-30038A34D22E}"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C194-64DC-4370-847B-3BFE5D518F33}"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725400"/>
            <a:ext cx="7864560" cy="25354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تتجلي اهمية العمل التطوعي من خلال:</a:t>
            </a:r>
            <a:br>
              <a:rPr sz="4500"/>
            </a:b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fontScale="83000"/>
          </a:bodyPr>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1" lang="ar-SA" sz="2600" spc="-1" strike="noStrike">
                <a:solidFill>
                  <a:srgbClr val="000000"/>
                </a:solidFill>
                <a:latin typeface="Constantia"/>
              </a:rPr>
              <a:t>- تكميل العمل الحكومي وتدعيمه لصالح المجتمع عن طريق رفع مستوى الخدمة أو توسيعها. </a:t>
            </a:r>
            <a:endParaRPr b="0" lang="en-US" sz="2600" spc="-1" strike="noStrike">
              <a:solidFill>
                <a:srgbClr val="000000"/>
              </a:solidFill>
              <a:latin typeface="Constantia"/>
            </a:endParaRPr>
          </a:p>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توفير خدمات قد يصعب على الإدارة الحكومية تقديمها لما تتسم به الأجهزة التطوعية من مرونة وقدرة على الحركة السريعة. </a:t>
            </a:r>
            <a:endParaRPr b="0" lang="en-US" sz="2600" spc="-1" strike="noStrike">
              <a:solidFill>
                <a:srgbClr val="000000"/>
              </a:solidFill>
              <a:latin typeface="Constantia"/>
            </a:endParaRPr>
          </a:p>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3</a:t>
            </a:r>
            <a:r>
              <a:rPr b="1" lang="ar-SA" sz="2600" spc="-1" strike="noStrike">
                <a:solidFill>
                  <a:srgbClr val="000000"/>
                </a:solidFill>
                <a:latin typeface="Constantia"/>
              </a:rPr>
              <a:t>- تطبيق الأسلوب العلمي من خلال خبراء متطوعين وصنع قنوات اتصال مع منظمات شبيهة بدول أخرى من دون حساسية أو التزام رسمي والاستفادة من تجاربها الناجعة القابلة للتطبيق. </a:t>
            </a:r>
            <a:endParaRPr b="0" lang="en-US" sz="2600" spc="-1" strike="noStrike">
              <a:solidFill>
                <a:srgbClr val="000000"/>
              </a:solidFill>
              <a:latin typeface="Constantia"/>
            </a:endParaRPr>
          </a:p>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4</a:t>
            </a:r>
            <a:r>
              <a:rPr b="1" lang="ar-SA" sz="2600" spc="-1" strike="noStrike">
                <a:solidFill>
                  <a:srgbClr val="000000"/>
                </a:solidFill>
                <a:latin typeface="Constantia"/>
              </a:rPr>
              <a:t>- جلب خبرات أو أموال من خارج البلاد من منظمات مهتمة بالمجال نفسه بجانب المشاركة في ملتقيات أو مؤتمرات لتحقيق تبادل الخبرات ومن ثم مزيد من الاستفادة والنجاح. </a:t>
            </a:r>
            <a:endParaRPr b="0" lang="en-US" sz="2600" spc="-1" strike="noStrike">
              <a:solidFill>
                <a:srgbClr val="000000"/>
              </a:solidFill>
              <a:latin typeface="Constantia"/>
            </a:endParaRPr>
          </a:p>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81000"/>
          </a:bodyPr>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5</a:t>
            </a:r>
            <a:r>
              <a:rPr b="1" lang="ar-SA" sz="2600" spc="-1" strike="noStrike">
                <a:solidFill>
                  <a:srgbClr val="000000"/>
                </a:solidFill>
                <a:latin typeface="Constantia"/>
              </a:rPr>
              <a:t>- التطوع ظاهرة مهمة للدلالة على حيوية الجماهير وإيجابيتها، لذلك يؤخذ مؤشراً للحكم على مدى تقدم الشعوب. </a:t>
            </a:r>
            <a:endParaRPr b="0" lang="en-US" sz="2600" spc="-1" strike="noStrike">
              <a:solidFill>
                <a:srgbClr val="000000"/>
              </a:solidFill>
              <a:latin typeface="Constantia"/>
            </a:endParaRPr>
          </a:p>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6</a:t>
            </a:r>
            <a:r>
              <a:rPr b="1" lang="ar-SA" sz="2600" spc="-1" strike="noStrike">
                <a:solidFill>
                  <a:srgbClr val="000000"/>
                </a:solidFill>
                <a:latin typeface="Constantia"/>
              </a:rPr>
              <a:t>- إبراز الصورة الإنسانية للمجتمع وتدعيم التكامل بين الناس وتأكيد اللمسة الحانية المجردة من الصراع والمنافسة. </a:t>
            </a:r>
            <a:endParaRPr b="0" lang="en-US" sz="2600" spc="-1" strike="noStrike">
              <a:solidFill>
                <a:srgbClr val="000000"/>
              </a:solidFill>
              <a:latin typeface="Constantia"/>
            </a:endParaRPr>
          </a:p>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7</a:t>
            </a:r>
            <a:r>
              <a:rPr b="1" lang="ar-SA" sz="2600" spc="-1" strike="noStrike">
                <a:solidFill>
                  <a:srgbClr val="000000"/>
                </a:solidFill>
                <a:latin typeface="Constantia"/>
              </a:rPr>
              <a:t>- ينظر إلى قطاع التطوع على أنه قطاع رائد والسبب يرجع إلى كونه جهاز مستقل، وصغير الحجم، الأمر الذي يساعده على تجريب أمور جديدة أو تغيير وتحسين الأمور القائمة، بدون أن تكون هناك أي عقبات أو صعوبات. الأمر الذي لا يتوفر في جهاز كبير، وبيروقراطي كالجهاز الحكومي. </a:t>
            </a:r>
            <a:endParaRPr b="0" lang="en-US" sz="2600" spc="-1" strike="noStrike">
              <a:solidFill>
                <a:srgbClr val="000000"/>
              </a:solidFill>
              <a:latin typeface="Constantia"/>
            </a:endParaRPr>
          </a:p>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8</a:t>
            </a:r>
            <a:r>
              <a:rPr b="1" lang="ar-SA" sz="2600" spc="-1" strike="noStrike">
                <a:solidFill>
                  <a:srgbClr val="000000"/>
                </a:solidFill>
                <a:latin typeface="Constantia"/>
              </a:rPr>
              <a:t>- إن العمل التطوعي يزيد من لحمة التماسك الوطني. </a:t>
            </a:r>
            <a:endParaRPr b="0" lang="en-US" sz="2600" spc="-1" strike="noStrike">
              <a:solidFill>
                <a:srgbClr val="000000"/>
              </a:solidFill>
              <a:latin typeface="Constantia"/>
            </a:endParaRPr>
          </a:p>
          <a:p>
            <a:pPr marL="220680" indent="-2206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لماذا يجب علينا المشاركة في العمل التطوعي</a:t>
            </a:r>
            <a:br>
              <a:rPr sz="4500"/>
            </a:b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1</a:t>
            </a:r>
            <a:r>
              <a:rPr b="1" lang="ar-SA" sz="2600" spc="-1" strike="noStrike">
                <a:solidFill>
                  <a:srgbClr val="000000"/>
                </a:solidFill>
                <a:latin typeface="Constantia"/>
              </a:rPr>
              <a:t>/ يوفر العمل التطوعي فرصة لاستكشاف جوانب مهمة لا تتوفر للمتطوع في الظروف العاد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الاحتكاك والتبادل الثقافي والاجتماعي بين المتطوعين ومواقع تطوعهم.</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3</a:t>
            </a:r>
            <a:r>
              <a:rPr b="1" lang="ar-SA" sz="2600" spc="-1" strike="noStrike">
                <a:solidFill>
                  <a:srgbClr val="000000"/>
                </a:solidFill>
                <a:latin typeface="Constantia"/>
              </a:rPr>
              <a:t>/ يمثل العمل التطوعي فرصة لتنمية المهارات الشخصية مثل اللغة، الخبرة الميدانية، الخبرات القيادية وتجربة العمل ضمن فري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4</a:t>
            </a:r>
            <a:r>
              <a:rPr b="1" lang="ar-SA" sz="2600" spc="-1" strike="noStrike">
                <a:solidFill>
                  <a:srgbClr val="000000"/>
                </a:solidFill>
                <a:latin typeface="Constantia"/>
              </a:rPr>
              <a:t>/ العائد المادي.</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نماذج لمجالات العمل التطوعي في المجتمع السعودي</a:t>
            </a:r>
            <a:br>
              <a:rPr sz="4500"/>
            </a:br>
            <a:endParaRPr b="0" lang="en-US" sz="36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تميز المجتمع السعودي بالعديد من الأنشطة الخيرية التي تقوم بها الهيئات الرسمية والجمعيات الخيرية والتي هي بحاجة إلي متطوعين لدعمها وتنفيذها علي الوجه الأكمل ومن هذه الأنشطة علي سبيل المثال لا الحصر:</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1" lang="ar-SA" sz="2600" spc="-1" strike="noStrike">
                <a:solidFill>
                  <a:srgbClr val="000000"/>
                </a:solidFill>
                <a:latin typeface="Constantia"/>
              </a:rPr>
              <a:t>/ أرشاد الحجاج والمعتمرين.</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استقبال زكاة الفطر. / تفطير الصائمين.</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3</a:t>
            </a:r>
            <a:r>
              <a:rPr b="1" lang="ar-SA" sz="2600" spc="-1" strike="noStrike">
                <a:solidFill>
                  <a:srgbClr val="000000"/>
                </a:solidFill>
                <a:latin typeface="Constantia"/>
              </a:rPr>
              <a:t>/ استقبال فوائض الولائم والأثاث والملابس.</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4</a:t>
            </a:r>
            <a:r>
              <a:rPr b="1" lang="ar-SA" sz="2600" spc="-1" strike="noStrike">
                <a:solidFill>
                  <a:srgbClr val="000000"/>
                </a:solidFill>
                <a:latin typeface="Constantia"/>
              </a:rPr>
              <a:t>/ حملات إصحاح البيئة.</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5</a:t>
            </a:r>
            <a:r>
              <a:rPr b="1" lang="ar-SA" sz="2600" spc="-1" strike="noStrike">
                <a:solidFill>
                  <a:srgbClr val="000000"/>
                </a:solidFill>
                <a:latin typeface="Constantia"/>
              </a:rPr>
              <a:t>/ حملات التبرع بالدم.</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6</a:t>
            </a:r>
            <a:r>
              <a:rPr b="1" lang="ar-SA" sz="2600" spc="-1" strike="noStrike">
                <a:solidFill>
                  <a:srgbClr val="000000"/>
                </a:solidFill>
                <a:latin typeface="Constantia"/>
              </a:rPr>
              <a:t>/ حالات الطوارئ (أمطار، سيول، فيضانات)</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مجالات العمل التطوعي خارج المجتمع السعودي:</a:t>
            </a:r>
            <a:br>
              <a:rPr sz="4500"/>
            </a:br>
            <a:endParaRPr b="0" lang="en-US" sz="45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تقوم المملكة العربية السعودية بجهود مميزة في إغاثة ومساعدة منكوبي الكوارث الطبيعية في مختلف أنحاء العالم وتمثل هذه الجهود فرصة للمشاركة في العمل التطوعي خارج المملك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معوقات العمل التطوعي</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واجه العمل التطوعي المؤسسي - شأنه في ذلك شأن كافة الأعمال  عقبات تحد من فاعليته ونعرض لها فيما يلي بإيجاز</a:t>
            </a:r>
            <a:r>
              <a:rPr b="1"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أ) المعوقات المتعلقة بالمتطوع</a:t>
            </a:r>
            <a:br>
              <a:rPr sz="4500"/>
            </a:br>
            <a:endParaRPr b="0" lang="en-US" sz="45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fontScale="83000"/>
          </a:bodyPr>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rPr>
              <a:t> الجهل بأهمية العمل التطوعي</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rPr>
              <a:t>- عدم القيام بالمسؤوليات التي أسندت إليه في الوقت المحدد، لأن المتطوع يشعر بأنه غير ملزم بأدائه في وقت محدد خلال العمل الرسمي</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rPr>
              <a:t> السعي وراء الرزق وعدم وجود وقت كاف للتطوع</a:t>
            </a:r>
            <a:r>
              <a:rPr b="1" lang="en-US" sz="2400" spc="-1" strike="noStrike">
                <a:solidFill>
                  <a:srgbClr val="000000"/>
                </a:solidFill>
                <a:latin typeface="Constantia"/>
              </a:rPr>
              <a:t>-  </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عزوف بعض المتطوعين عن التطوع في مؤسسات ليست قريبة من سكنهم </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تعارض وقت المتطوع مع وقت العمل أو الدراسة مما يفوت عليه فرصة الاشتراك في العمل التطوعي</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بعضهم يسعى لتحقيق أقصى استفادة شخصية ممكنة من العمل الخيري وهذا يتعارض مع طبيعة التطوع المبني على الإخلاص لله</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ar-SA" sz="2400" spc="-1" strike="noStrike">
                <a:solidFill>
                  <a:srgbClr val="000000"/>
                </a:solidFill>
                <a:latin typeface="Constantia"/>
              </a:rPr>
              <a:t> استغلال مرونة التطوع إلى حد التسيب والاستهتار</a:t>
            </a:r>
            <a:endParaRPr b="0" lang="en-US" sz="2400" spc="-1" strike="noStrike">
              <a:solidFill>
                <a:srgbClr val="000000"/>
              </a:solidFill>
              <a:latin typeface="Constantia"/>
            </a:endParaRPr>
          </a:p>
          <a:p>
            <a:pPr marL="226440" indent="-226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ب) معوقات متعلقة بالمنظمة الخيرية</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fontScale="88000"/>
          </a:bodyPr>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وجود إدارة خاصة للمتطوعين تهتم بشؤونهم وتعينهم على الاختيار المناسب حسب رغبتهم</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الإعلان الكافي عن أهداف المؤسسة وأنشطتها </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تحديد دور واضح للمتطوع وإتاحة الفرصة للمتطوع لاختيار ما يناسبه بحرية </a:t>
            </a:r>
            <a:r>
              <a:rPr b="1" lang="en-US" sz="2600" spc="-1" strike="noStrike">
                <a:solidFill>
                  <a:srgbClr val="000000"/>
                </a:solidFill>
                <a:latin typeface="Constantia"/>
              </a:rPr>
              <a:t>-</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توافر برامج خاصة لتدريب المتطوعين قبل تكليفهم بالعمل</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التقدير المناسب للجهد الذي يبذله المتطوع</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إرهاق المتطوع بالكثير من الأعمال الإدارية والفنية </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SA" sz="2600" spc="-1" strike="noStrike">
                <a:solidFill>
                  <a:srgbClr val="000000"/>
                </a:solidFill>
                <a:latin typeface="Constantia"/>
              </a:rPr>
              <a:t> الشللية التي تعرقل سير العمل</a:t>
            </a:r>
            <a:r>
              <a:rPr b="1"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خوف من الجديد ومن الانفتاح والوقوع في أسر الانغلاق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ج) معوقات متعلقة بالمجتمع</a:t>
            </a:r>
            <a:br>
              <a:rPr sz="4500"/>
            </a:br>
            <a:endParaRPr b="0" lang="en-US" sz="45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الوعي الكافي بين أفراد المجتمع بأهمية التطوع والأهداف التي يسعى إلى تحقيقها. فثقافة التطوع متدنية بشكل كبير في كثير من المجتمعات العرب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عتقاد البعض التطوع مضيعة للوقت والجهد وغير مطلوب</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بث روح التطوع بين أبناء المجتمع منذ الصغر</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عدم وجود لوائح وتنظيمات واضحة تنظم العمل التطوعي وتحميه</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عوامل نجاح العمل التطوعي</a:t>
            </a:r>
            <a:br>
              <a:rPr sz="4500"/>
            </a:b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fontScale="87000"/>
          </a:bodyPr>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أن يتفهم المتطوع بوضوح رسالة المنظمة وأهدافها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أن يوكل لكل متطوع العمل الذي يتناسب إمكاناته وقدراته </a:t>
            </a:r>
            <a:r>
              <a:rPr b="1" lang="en-US" sz="2400" spc="-1" strike="noStrike">
                <a:solidFill>
                  <a:srgbClr val="000000"/>
                </a:solidFill>
                <a:latin typeface="Constantia"/>
              </a:rPr>
              <a:t> -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هم المتطوع للأعمال المكلف بها والمتوقع منه</a:t>
            </a:r>
            <a:r>
              <a:rPr b="1" lang="en-US" sz="2400" spc="-1" strike="noStrike">
                <a:solidFill>
                  <a:srgbClr val="000000"/>
                </a:solidFill>
                <a:latin typeface="Constantia"/>
              </a:rPr>
              <a:t> -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أن يلم المتطوع بأهداف ونظام وبرامج وأنشطة المنظمة وعلاقته بالعاملين فيها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أن يجد المتطوع الوقت المطلوب منه قضاؤه في عمله التطوعي بالجمعية</a:t>
            </a:r>
            <a:r>
              <a:rPr b="1" lang="en-US" sz="2400" spc="-1" strike="noStrike">
                <a:solidFill>
                  <a:srgbClr val="000000"/>
                </a:solidFill>
                <a:latin typeface="Constantia"/>
              </a:rPr>
              <a:t> -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الاهتمام بتدريب المتطوعين على الأعمال التي سيكلفون بها حتى يمكن أن يؤدوها بالطريقة التي تريدها المنظمة</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إيضاح الهيكل الإداري للمنظمة للمتطوعين</a:t>
            </a:r>
            <a:r>
              <a:rPr b="1" lang="en-US" sz="2400" spc="-1" strike="noStrike">
                <a:solidFill>
                  <a:srgbClr val="000000"/>
                </a:solidFill>
                <a:latin typeface="Constantia"/>
              </a:rPr>
              <a:t> - </a:t>
            </a:r>
            <a:endParaRPr b="0" lang="en-US" sz="2400" spc="-1" strike="noStrike">
              <a:solidFill>
                <a:srgbClr val="000000"/>
              </a:solidFill>
              <a:latin typeface="Constantia"/>
            </a:endParaRPr>
          </a:p>
          <a:p>
            <a:pPr marL="237240" indent="-2372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إجراء دراسات تقويمية لأنشطة هؤلاء المتطوعين في المنظم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محاور الدورة</a:t>
            </a:r>
            <a:br>
              <a:rPr sz="4500"/>
            </a:br>
            <a:endParaRPr b="0" lang="en-US" sz="45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1</a:t>
            </a:r>
            <a:r>
              <a:rPr b="1" lang="ar-SA" sz="2400" spc="-1" strike="noStrike">
                <a:solidFill>
                  <a:srgbClr val="000000"/>
                </a:solidFill>
                <a:latin typeface="Constantia"/>
              </a:rPr>
              <a:t>/ تعريف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2</a:t>
            </a:r>
            <a:r>
              <a:rPr b="1" lang="ar-SA" sz="2400" spc="-1" strike="noStrike">
                <a:solidFill>
                  <a:srgbClr val="000000"/>
                </a:solidFill>
                <a:latin typeface="Constantia"/>
              </a:rPr>
              <a:t>/ تعريف المتطوع</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3</a:t>
            </a:r>
            <a:r>
              <a:rPr b="1" lang="ar-SA" sz="2400" spc="-1" strike="noStrike">
                <a:solidFill>
                  <a:srgbClr val="000000"/>
                </a:solidFill>
                <a:latin typeface="Constantia"/>
              </a:rPr>
              <a:t>/ أنواع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4</a:t>
            </a:r>
            <a:r>
              <a:rPr b="1" lang="ar-SA" sz="2400" spc="-1" strike="noStrike">
                <a:solidFill>
                  <a:srgbClr val="000000"/>
                </a:solidFill>
                <a:latin typeface="Constantia"/>
              </a:rPr>
              <a:t>/ العمل التطوعي في الإسلام</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5</a:t>
            </a:r>
            <a:r>
              <a:rPr b="1" lang="ar-SA" sz="2400" spc="-1" strike="noStrike">
                <a:solidFill>
                  <a:srgbClr val="000000"/>
                </a:solidFill>
                <a:latin typeface="Constantia"/>
              </a:rPr>
              <a:t>/ أهمية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6</a:t>
            </a:r>
            <a:r>
              <a:rPr b="1" lang="ar-SA" sz="2400" spc="-1" strike="noStrike">
                <a:solidFill>
                  <a:srgbClr val="000000"/>
                </a:solidFill>
                <a:latin typeface="Constantia"/>
              </a:rPr>
              <a:t>/ لماذا يجب علينا المشاركة في العمل التطوعي؟ </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7</a:t>
            </a:r>
            <a:r>
              <a:rPr b="1" lang="ar-SA" sz="2400" spc="-1" strike="noStrike">
                <a:solidFill>
                  <a:srgbClr val="000000"/>
                </a:solidFill>
                <a:latin typeface="Constantia"/>
              </a:rPr>
              <a:t>/ نماذج لمجالات العمل التطوعي في المجتمع السعود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8</a:t>
            </a:r>
            <a:r>
              <a:rPr b="1" lang="ar-SA" sz="2400" spc="-1" strike="noStrike">
                <a:solidFill>
                  <a:srgbClr val="000000"/>
                </a:solidFill>
                <a:latin typeface="Constantia"/>
              </a:rPr>
              <a:t>/ مجالات العمل التطوعي خارج المجتمع السعود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9</a:t>
            </a:r>
            <a:r>
              <a:rPr b="1" lang="ar-SA" sz="2400" spc="-1" strike="noStrike">
                <a:solidFill>
                  <a:srgbClr val="000000"/>
                </a:solidFill>
                <a:latin typeface="Constantia"/>
              </a:rPr>
              <a:t>/ معوقات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10</a:t>
            </a:r>
            <a:r>
              <a:rPr b="1" lang="ar-SA" sz="2400" spc="-1" strike="noStrike">
                <a:solidFill>
                  <a:srgbClr val="000000"/>
                </a:solidFill>
                <a:latin typeface="Constantia"/>
              </a:rPr>
              <a:t>/ عوامل نجاح العمل التطوعي</a:t>
            </a:r>
            <a:endParaRPr b="0" lang="en-US" sz="2400" spc="-1" strike="noStrike">
              <a:solidFill>
                <a:srgbClr val="000000"/>
              </a:solidFill>
              <a:latin typeface="Constantia"/>
            </a:endParaRPr>
          </a:p>
          <a:p>
            <a:pPr marL="270000" indent="-27000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المراجع</a:t>
            </a:r>
            <a:br>
              <a:rPr sz="4500"/>
            </a:b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1" lang="ar-SA" sz="2600" spc="-1" strike="noStrike">
                <a:solidFill>
                  <a:srgbClr val="000000"/>
                </a:solidFill>
                <a:latin typeface="Constantia"/>
              </a:rPr>
              <a:t>/ مطبوعات الأمم المت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د. حميد بن خليل الشايجي، العمل التطوعي، أهميته، معوقاته وعوامل نجاحه، مركز أسبار للدراسات والبحوث.</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عريف العمل التطوعي</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82000"/>
          </a:bodyPr>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قصد بالعمل التطوعي نشاط غير مدفوع الاجر يقوم المتطوع فيه بخدمة منظمة او أفراد لا تربطه بهم علاقة. </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عتبر العمل التطوعي تعبيرا عن المواطنة والالتزام بتوفير الوقت والجهد من اجل فائدة المجتمع. ووضعت الامم المتحدة ثلاثة خصائص اساسية لتعريف العمل التطوعي:</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1" lang="ar-SA" sz="2600" spc="-1" strike="noStrike">
                <a:solidFill>
                  <a:srgbClr val="000000"/>
                </a:solidFill>
                <a:latin typeface="Constantia"/>
              </a:rPr>
              <a:t>/ يجب ان لا ينظر للعمل التطوعي كمصدر للعائد المادي وذلك علي الرغم من ان بعض انواع العمل التطوعي تتضمن عائدا ماديا.</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 المشاركة في العمل التطوعي يجب ان تكون باختيار الفرد.</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3</a:t>
            </a:r>
            <a:r>
              <a:rPr b="1" lang="ar-SA" sz="2600" spc="-1" strike="noStrike">
                <a:solidFill>
                  <a:srgbClr val="000000"/>
                </a:solidFill>
                <a:latin typeface="Constantia"/>
              </a:rPr>
              <a:t>/ يجب ان يعود العمل بفائدة لأشخاص غير المتطوع نفسه. </a:t>
            </a:r>
            <a:endParaRPr b="0" lang="en-US" sz="2600" spc="-1" strike="noStrike">
              <a:solidFill>
                <a:srgbClr val="000000"/>
              </a:solidFill>
              <a:latin typeface="Constantia"/>
            </a:endParaRPr>
          </a:p>
          <a:p>
            <a:pPr marL="223560" indent="-2235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تعريف المتطوع</a:t>
            </a:r>
            <a:br>
              <a:rPr sz="4500"/>
            </a:b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تطوع هو الشخص الذي يسخر نفسه عن طواعية ودون إكراه أو ضغوط خارجية لمساعدة ومؤازرة الآخرين بقصد القيام بعمل يتطلب الجهد وتعدد القوى في اتجاه واح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أنواع العمل التطوعي</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84000"/>
          </a:bodyPr>
          <a:p>
            <a:pPr marL="228960" indent="-22896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1</a:t>
            </a:r>
            <a:r>
              <a:rPr b="1" lang="ar-SA" sz="2400" spc="-1" strike="noStrike">
                <a:solidFill>
                  <a:srgbClr val="000000"/>
                </a:solidFill>
                <a:latin typeface="Constantia"/>
              </a:rPr>
              <a:t>/ عمل طوعي طويل المدي مدفوع الأجر يستمر العمل التطوعي طويل لمدة عام او أكثر يعمل في هذا عادة المهنيين الذين يتميزون بمؤهلات وخبرات معينة مثل الاطباء، المهندسين، المعلمين، المترجمين، الاعلاميين وخلافهم. يحصل المتطوعين في هذا النوع من العمل التطوعي علي اجر شهري اضافة الي امتيازات اخري.</a:t>
            </a:r>
            <a:endParaRPr b="0" lang="en-US" sz="2400" spc="-1" strike="noStrike">
              <a:solidFill>
                <a:srgbClr val="000000"/>
              </a:solidFill>
              <a:latin typeface="Constantia"/>
            </a:endParaRPr>
          </a:p>
          <a:p>
            <a:pPr marL="228960" indent="-22896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2</a:t>
            </a:r>
            <a:r>
              <a:rPr b="1" lang="ar-SA" sz="2400" spc="-1" strike="noStrike">
                <a:solidFill>
                  <a:srgbClr val="000000"/>
                </a:solidFill>
                <a:latin typeface="Constantia"/>
              </a:rPr>
              <a:t>/ عمل طوعي متوسط او قصير المدي غير مدفوع الأجر تكون فترة هذا من العمل التطوعي من بضعة اسابيع الي عام. يستقطب هذا النوع من العمل التطوعي افراد يرغبون في جمع خبرات ميدانية معينة. يشارك المتطوعون بدفع بعض التكاليف مثل تكلفة السفر.</a:t>
            </a:r>
            <a:endParaRPr b="0" lang="en-US" sz="2400" spc="-1" strike="noStrike">
              <a:solidFill>
                <a:srgbClr val="000000"/>
              </a:solidFill>
              <a:latin typeface="Constantia"/>
            </a:endParaRPr>
          </a:p>
          <a:p>
            <a:pPr marL="228960" indent="-22896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3</a:t>
            </a:r>
            <a:r>
              <a:rPr b="1" lang="ar-SA" sz="2400" spc="-1" strike="noStrike">
                <a:solidFill>
                  <a:srgbClr val="000000"/>
                </a:solidFill>
                <a:latin typeface="Constantia"/>
              </a:rPr>
              <a:t>/ مشاريع استكشافية قصيرة ألمدي يناسب هذا النوع من العمل التطوعي الذين ليس لديهم الكثير من الوقت بسبب انشغالهم بالدراسة او العمل. يشارك المتطوع هنا بدفع تكلفة السفر والإعاشة.</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العمل التطوعي في الإسلام</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r" rtl="1">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000000"/>
                </a:solidFill>
                <a:latin typeface="Constantia"/>
              </a:rPr>
              <a:t> فيما يلي نورد مجموعة من الآيات الكريمة وأحاديث الرسول صلي الله علي وسلم  التي تحث على العمل التطوعي: </a:t>
            </a:r>
            <a:endParaRPr b="0" lang="en-US" sz="1800" spc="-1" strike="noStrike">
              <a:solidFill>
                <a:srgbClr val="000000"/>
              </a:solidFill>
              <a:latin typeface="Constantia"/>
            </a:endParaRPr>
          </a:p>
          <a:p>
            <a:pPr marL="256320" indent="-256320" algn="r" rtl="1">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nstantia"/>
              </a:rPr>
              <a:t>القرآن كريم</a:t>
            </a:r>
            <a:r>
              <a:rPr b="1" lang="ar-SA" sz="1800" spc="-1" strike="noStrike">
                <a:solidFill>
                  <a:srgbClr val="000000"/>
                </a:solidFill>
                <a:latin typeface="Constantia"/>
              </a:rPr>
              <a:t>:</a:t>
            </a:r>
            <a:r>
              <a:rPr b="1" lang="en-US" sz="1800" spc="-1" strike="noStrike">
                <a:solidFill>
                  <a:srgbClr val="000000"/>
                </a:solidFill>
                <a:latin typeface="Constantia"/>
              </a:rPr>
              <a:t> </a:t>
            </a:r>
            <a:br>
              <a:rPr sz="1800"/>
            </a:br>
            <a:r>
              <a:rPr b="1" lang="ar-SA" sz="1800" spc="-1" strike="noStrike">
                <a:solidFill>
                  <a:srgbClr val="000000"/>
                </a:solidFill>
                <a:latin typeface="Constantia"/>
              </a:rPr>
              <a:t>سورة المائدة، آية رقم </a:t>
            </a:r>
            <a:r>
              <a:rPr b="1" lang="ar-SA" sz="1800" spc="-1" strike="noStrike">
                <a:solidFill>
                  <a:srgbClr val="000000"/>
                </a:solidFill>
                <a:latin typeface="Constantia"/>
              </a:rPr>
              <a:t>2</a:t>
            </a:r>
            <a:r>
              <a:rPr b="1" lang="en-US" sz="1800" spc="-1" strike="noStrike">
                <a:solidFill>
                  <a:srgbClr val="000000"/>
                </a:solidFill>
                <a:latin typeface="Constantia"/>
              </a:rPr>
              <a:t> " </a:t>
            </a:r>
            <a:r>
              <a:rPr b="1" lang="ar-SA" sz="1800" spc="-1" strike="noStrike">
                <a:solidFill>
                  <a:srgbClr val="000000"/>
                </a:solidFill>
                <a:latin typeface="Constantia"/>
              </a:rPr>
              <a:t>وتعاونوا على البر والتقوى</a:t>
            </a:r>
            <a:r>
              <a:rPr b="1" lang="en-US" sz="1800" spc="-1" strike="noStrike">
                <a:solidFill>
                  <a:srgbClr val="000000"/>
                </a:solidFill>
                <a:latin typeface="Constantia"/>
              </a:rPr>
              <a:t> " </a:t>
            </a:r>
            <a:br>
              <a:rPr sz="1800"/>
            </a:br>
            <a:r>
              <a:rPr b="1" lang="ar-SA" sz="1800" spc="-1" strike="noStrike">
                <a:solidFill>
                  <a:srgbClr val="000000"/>
                </a:solidFill>
                <a:latin typeface="Constantia"/>
              </a:rPr>
              <a:t>سورة البقرة، آية رقم </a:t>
            </a:r>
            <a:r>
              <a:rPr b="1" lang="ar-SA" sz="1800" spc="-1" strike="noStrike">
                <a:solidFill>
                  <a:srgbClr val="000000"/>
                </a:solidFill>
                <a:latin typeface="Constantia"/>
              </a:rPr>
              <a:t>158</a:t>
            </a:r>
            <a:r>
              <a:rPr b="1" lang="en-US" sz="1800" spc="-1" strike="noStrike">
                <a:solidFill>
                  <a:srgbClr val="000000"/>
                </a:solidFill>
                <a:latin typeface="Constantia"/>
              </a:rPr>
              <a:t> " </a:t>
            </a:r>
            <a:r>
              <a:rPr b="1" lang="ar-SA" sz="1800" spc="-1" strike="noStrike">
                <a:solidFill>
                  <a:srgbClr val="000000"/>
                </a:solidFill>
                <a:latin typeface="Constantia"/>
              </a:rPr>
              <a:t>ومن تطوع خيراً فهو خير له</a:t>
            </a:r>
            <a:r>
              <a:rPr b="1" lang="en-US" sz="1800" spc="-1" strike="noStrike">
                <a:solidFill>
                  <a:srgbClr val="000000"/>
                </a:solidFill>
                <a:latin typeface="Constantia"/>
              </a:rPr>
              <a:t>" </a:t>
            </a:r>
            <a:br>
              <a:rPr sz="1800"/>
            </a:br>
            <a:r>
              <a:rPr b="1" lang="ar-SA" sz="1800" spc="-1" strike="noStrike">
                <a:solidFill>
                  <a:srgbClr val="000000"/>
                </a:solidFill>
                <a:latin typeface="Constantia"/>
              </a:rPr>
              <a:t>  " "وآتى المال على حبه ذوي القربى واليتامى والمساكين وابن السبيل</a:t>
            </a:r>
            <a:r>
              <a:rPr b="1" lang="en-US" sz="1800" spc="-1" strike="noStrike">
                <a:solidFill>
                  <a:srgbClr val="000000"/>
                </a:solidFill>
                <a:latin typeface="Constantia"/>
              </a:rPr>
              <a:t> </a:t>
            </a:r>
            <a:br>
              <a:rPr sz="1800"/>
            </a:br>
            <a:r>
              <a:rPr b="1" lang="ar-SA" sz="1800" spc="-1" strike="noStrike">
                <a:solidFill>
                  <a:srgbClr val="000000"/>
                </a:solidFill>
                <a:latin typeface="Constantia"/>
              </a:rPr>
              <a:t>سورة البقرة آية رقم </a:t>
            </a:r>
            <a:r>
              <a:rPr b="1" lang="ar-SA" sz="1800" spc="-1" strike="noStrike">
                <a:solidFill>
                  <a:srgbClr val="000000"/>
                </a:solidFill>
                <a:latin typeface="Constantia"/>
              </a:rPr>
              <a:t>177</a:t>
            </a:r>
            <a:br>
              <a:rPr sz="1800"/>
            </a:br>
            <a:r>
              <a:rPr b="1" lang="ar-SA" sz="1800" spc="-1" strike="noStrike">
                <a:solidFill>
                  <a:srgbClr val="000000"/>
                </a:solidFill>
                <a:latin typeface="Constantia"/>
              </a:rPr>
              <a:t>"وفي أموالهم حق معلوم للسائل والمحروم" سورة الذاريات آية رقم </a:t>
            </a:r>
            <a:r>
              <a:rPr b="1" lang="ar-SA" sz="1800" spc="-1" strike="noStrike">
                <a:solidFill>
                  <a:srgbClr val="000000"/>
                </a:solidFill>
                <a:latin typeface="Constantia"/>
              </a:rPr>
              <a:t>19</a:t>
            </a:r>
            <a:endParaRPr b="0" lang="en-US" sz="1800" spc="-1" strike="noStrike">
              <a:solidFill>
                <a:srgbClr val="000000"/>
              </a:solidFill>
              <a:latin typeface="Constantia"/>
            </a:endParaRPr>
          </a:p>
          <a:p>
            <a:pPr marL="256320" indent="-256320" algn="r" rtl="1">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Constantia"/>
              </a:rPr>
              <a:t>أحاديث شريفة: </a:t>
            </a:r>
            <a:br>
              <a:rPr sz="1800"/>
            </a:br>
            <a:r>
              <a:rPr b="1" lang="ar-SA" sz="1800" spc="-1" strike="noStrike">
                <a:solidFill>
                  <a:srgbClr val="000000"/>
                </a:solidFill>
                <a:latin typeface="Constantia"/>
              </a:rPr>
              <a:t>للخير وحبب الخير إليهم، "أن لله عباداً اختصهم لقضاء حوائج الناس، حببهم</a:t>
            </a:r>
            <a:r>
              <a:rPr b="1" lang="en-US" sz="1800" spc="-1" strike="noStrike">
                <a:solidFill>
                  <a:srgbClr val="000000"/>
                </a:solidFill>
                <a:latin typeface="Constantia"/>
              </a:rPr>
              <a:t> </a:t>
            </a:r>
            <a:br>
              <a:rPr sz="1800"/>
            </a:br>
            <a:r>
              <a:rPr b="1" lang="ar-SA" sz="1800" spc="-1" strike="noStrike">
                <a:solidFill>
                  <a:srgbClr val="000000"/>
                </a:solidFill>
                <a:latin typeface="Constantia"/>
              </a:rPr>
              <a:t>أولئك الناجون من عذاب يوم القيامة"</a:t>
            </a:r>
            <a:r>
              <a:rPr b="1" lang="en-US" sz="1800" spc="-1" strike="noStrike">
                <a:solidFill>
                  <a:srgbClr val="000000"/>
                </a:solidFill>
                <a:latin typeface="Constantia"/>
              </a:rPr>
              <a:t> </a:t>
            </a:r>
            <a:br>
              <a:rPr sz="1800"/>
            </a:br>
            <a:r>
              <a:rPr b="1" lang="en-US" sz="1800" spc="-1" strike="noStrike">
                <a:solidFill>
                  <a:srgbClr val="000000"/>
                </a:solidFill>
                <a:latin typeface="Constantia"/>
              </a:rPr>
              <a:t>· " </a:t>
            </a:r>
            <a:r>
              <a:rPr b="1" lang="ar-SA" sz="1800" spc="-1" strike="noStrike">
                <a:solidFill>
                  <a:srgbClr val="000000"/>
                </a:solidFill>
                <a:latin typeface="Constantia"/>
              </a:rPr>
              <a:t>من كان له فضل ظهر فليعد به على من لا ظهر له</a:t>
            </a:r>
            <a:r>
              <a:rPr b="1" lang="en-US" sz="1800" spc="-1" strike="noStrike">
                <a:solidFill>
                  <a:srgbClr val="000000"/>
                </a:solidFill>
                <a:latin typeface="Constantia"/>
              </a:rPr>
              <a:t>" </a:t>
            </a:r>
            <a:br>
              <a:rPr sz="1800"/>
            </a:br>
            <a:r>
              <a:rPr b="1" lang="ar-SA" sz="1800" spc="-1" strike="noStrike">
                <a:solidFill>
                  <a:srgbClr val="000000"/>
                </a:solidFill>
                <a:latin typeface="Constantia"/>
              </a:rPr>
              <a:t>"خير الناس انفعهم للناس " </a:t>
            </a:r>
            <a:br>
              <a:rPr sz="1800"/>
            </a:br>
            <a:r>
              <a:rPr b="1" lang="en-US" sz="1800" spc="-1" strike="noStrike">
                <a:solidFill>
                  <a:srgbClr val="000000"/>
                </a:solidFill>
                <a:latin typeface="Constantia"/>
              </a:rPr>
              <a:t>  </a:t>
            </a:r>
            <a:r>
              <a:rPr b="1" lang="ar-SA" sz="1800" spc="-1" strike="noStrike">
                <a:solidFill>
                  <a:srgbClr val="000000"/>
                </a:solidFill>
                <a:latin typeface="Constantia"/>
              </a:rPr>
              <a:t>  </a:t>
            </a:r>
            <a:br>
              <a:rPr sz="1800"/>
            </a:br>
            <a:r>
              <a:rPr b="1" lang="en-US" sz="1800" spc="-1" strike="noStrike">
                <a:solidFill>
                  <a:srgbClr val="000000"/>
                </a:solidFill>
                <a:latin typeface="Constantia"/>
              </a:rPr>
              <a:t> </a:t>
            </a:r>
            <a:endParaRPr b="0" lang="en-US" sz="1800" spc="-1" strike="noStrike">
              <a:solidFill>
                <a:srgbClr val="000000"/>
              </a:solidFill>
              <a:latin typeface="Constantia"/>
            </a:endParaRPr>
          </a:p>
          <a:p>
            <a:pPr marL="256320" indent="-256320" algn="r" rtl="1">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أهمية العمل التطوعي </a:t>
            </a:r>
            <a:br>
              <a:rPr sz="4500"/>
            </a:b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عد العمل التطوعي وحجم الانخراط فيه رمزاً من رموز تقدم الأمم وازدهارها، فالأمة كلما ازدادت في التقدم والرقي، ازداد انخراط مواطنيها في أعمال التطوع الخيري. كما يعد الانخراط في العمل التطوعي مطلب من متطلبات الحياة المعاصرة التي أتت بالتنمية والتطور السريع في كافة المجالات. </a:t>
            </a:r>
            <a:endParaRPr b="0" lang="en-US" sz="2600" spc="-1" strike="noStrike">
              <a:solidFill>
                <a:srgbClr val="000000"/>
              </a:solidFill>
              <a:latin typeface="Constantia"/>
            </a:endParaRPr>
          </a:p>
          <a:p>
            <a:pPr marL="245520" indent="-2455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ن تعقد الحياة الاجتماعية وتطور الظروف المعاشية والتغيرات الاجتماعية والاقتصادية والأمنية والتقنية المتسارعة تملي علينا أوضاعاً وظروفاً جديدة تقف الحكومات أحياناً عاجزة عن مجاراتها. مما يستدعي تضافر كافة جهود المجتمع الرسمية والشعبية لمواجهة هذا الواقع وهذه الأوضاع. ومن هنا يأتي دور العمل التطوعي الفاعل والمؤازر للجهود الرسمية. </a:t>
            </a:r>
            <a:endParaRPr b="0" lang="en-US" sz="2600" spc="-1" strike="noStrike">
              <a:solidFill>
                <a:srgbClr val="000000"/>
              </a:solidFill>
              <a:latin typeface="Constantia"/>
            </a:endParaRPr>
          </a:p>
          <a:p>
            <a:pPr marL="245520" indent="-2455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ن تزايد الطلب على الخدمات الاجتماعية نوعاً وكماً أصبح يشكل تحدياً أمام الحكومات مما يتطلب وجود جهات مساندة للنظام الرسمي خصوصاً وأن الهيئات التطوعية مفضلة على الهيئات الرسمية نظراً: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لعدم تعقدها.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نتفاء البيروقراطية.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لمتطوع عندما يقدم وقته وخدماته طوعاً يعتبر أدائه أفضل من الموظفين مدفوعي الأجر.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أثبتت التجارب أن بعض الأجهزة الرسمية لا تستطيع وحدها تحقيق كافة غايات خطط ومشاريع التنمية دون المشاركة التطوعية الفعالة للمواطنين والجمعيات الأهلية التي يمكنها الإسهام بدور فاعل في عمليات التنمية نظراً لمرونتها وسرعة اتخاذ القرار فيها. ولهذا اعتنت الدول الحديثة بهذا الجانب لمعالجة مشاكل العصر والتغلب على كثير من الظروف الطارئة، في منظومة رائعة من التحالف والتكاتف بين القطاع الحكومي والقطاع الأهلي.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1T17:28:07Z</dcterms:created>
  <dc:creator>xyyz</dc:creator>
  <dc:description/>
  <dc:language>en-US</dc:language>
  <cp:lastModifiedBy>xyyz</cp:lastModifiedBy>
  <dcterms:modified xsi:type="dcterms:W3CDTF">2015-11-01T18:14:31Z</dcterms:modified>
  <cp:revision>3</cp:revision>
  <dc:subject/>
  <dc:title>العمل التطوعي  دورة في الارشاد الطلابي د. عمر عبد الجبار</dc:title>
</cp:coreProperties>
</file>