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7AB9ED-D133-4F59-8498-53E55D02C0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3DB618-0312-4BCA-9507-D1FF75D91A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2FE48-69CE-4856-879D-83CA5F90E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9D794-061A-44C1-BF7C-F94A6854F0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0D54-93A3-4AC8-8708-805E5FFEFC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9C133-EC2A-4A95-865B-F40F72D0A5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71585-0FC4-410F-8EBD-BDCDF984C4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8A8EE-DF30-4035-9AE0-B5E76C576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DF63E7-6FA2-4829-8E0E-9A46C450D8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985D5-4CCB-4A38-9A2B-00AF14DF2F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3F5E7E-50F3-46FF-8806-4F2FDBC4F6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C221F-924F-487E-882A-183FE190EA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C:\Documents and Settings\user\Desktop\ar_icahis_heading_text.jpg"/>
          <p:cNvPicPr/>
          <p:nvPr/>
        </p:nvPicPr>
        <p:blipFill>
          <a:blip r:embed="rId2"/>
          <a:srcRect l="11309" t="0" r="84155" b="55576"/>
          <a:stretch/>
        </p:blipFill>
        <p:spPr>
          <a:xfrm>
            <a:off x="8238960" y="1571760"/>
            <a:ext cx="1428840" cy="5000400"/>
          </a:xfrm>
          <a:prstGeom prst="rect">
            <a:avLst/>
          </a:prstGeom>
          <a:ln w="0">
            <a:noFill/>
          </a:ln>
        </p:spPr>
      </p:pic>
      <p:sp>
        <p:nvSpPr>
          <p:cNvPr id="1" name="Rectangle 8"/>
          <p:cNvSpPr/>
          <p:nvPr/>
        </p:nvSpPr>
        <p:spPr>
          <a:xfrm>
            <a:off x="8307360" y="1571760"/>
            <a:ext cx="1297080" cy="4618080"/>
          </a:xfrm>
          <a:prstGeom prst="rect">
            <a:avLst/>
          </a:prstGeom>
          <a:noFill/>
          <a:ln w="0">
            <a:noFill/>
          </a:ln>
        </p:spPr>
        <p:style>
          <a:lnRef idx="0"/>
          <a:fillRef idx="0"/>
          <a:effectRef idx="0"/>
          <a:fontRef idx="minor"/>
        </p:style>
        <p:txBody>
          <a:bodyPr lIns="36000" rIns="18000" tIns="36000" bIns="360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قياس مدى توافق مشروع تطوير الدرعية مع دليل المحافظة على التراث العمراني بدول مجلس التعاون لدول الخليج العربي</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محور:  </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الجهود الحكومية ومبادرات القطاع الخاص</a:t>
            </a: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f5020"/>
                </a:solidFill>
                <a:latin typeface="Arial"/>
              </a:rPr>
              <a:t>الجهود الحكومية في مجال تنمية التراث العمراني</a:t>
            </a:r>
            <a:endParaRPr b="0" lang="en-US" sz="1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3f5020"/>
                </a:solidFill>
                <a:latin typeface="Arial"/>
              </a:rPr>
              <a:t>أحمد بن رشدي طومان</a:t>
            </a:r>
            <a:endParaRPr b="0" lang="en-US" sz="1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ماجستير التصميم العمراني</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جامعة الملك سعود </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3f5020"/>
                </a:solidFill>
                <a:latin typeface="Arial"/>
              </a:rPr>
              <a:t>كلية العمارة والتخطيط</a:t>
            </a: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f5020"/>
                </a:solidFill>
                <a:latin typeface="Arial"/>
              </a:rPr>
              <a:t>Toman222@hotmail.com</a:t>
            </a:r>
            <a:endParaRPr b="0" lang="en-US" sz="700" spc="-1" strike="noStrike">
              <a:solidFill>
                <a:srgbClr val="000000"/>
              </a:solidFill>
              <a:latin typeface="Arial"/>
            </a:endParaRPr>
          </a:p>
        </p:txBody>
      </p:sp>
      <p:sp>
        <p:nvSpPr>
          <p:cNvPr id="2" name="Rectangle 9"/>
          <p:cNvSpPr/>
          <p:nvPr/>
        </p:nvSpPr>
        <p:spPr>
          <a:xfrm>
            <a:off x="8307360" y="6391800"/>
            <a:ext cx="1297080" cy="3070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 name="PlaceHolder 1"/>
          <p:cNvSpPr>
            <a:spLocks noGrp="1"/>
          </p:cNvSpPr>
          <p:nvPr>
            <p:ph type="sldNum" idx="1"/>
          </p:nvPr>
        </p:nvSpPr>
        <p:spPr>
          <a:xfrm>
            <a:off x="8786880" y="6215040"/>
            <a:ext cx="425520" cy="287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c472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259E-5F8A-4104-8F9F-DB6A5590D894}"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4" name="Picture 11" descr="C:\Documents and Settings\user\Desktop\ar_icahis_heading_text.jpg"/>
          <p:cNvPicPr/>
          <p:nvPr/>
        </p:nvPicPr>
        <p:blipFill>
          <a:blip r:embed="rId3"/>
          <a:srcRect l="0" t="0" r="84155" b="0"/>
          <a:stretch/>
        </p:blipFill>
        <p:spPr>
          <a:xfrm>
            <a:off x="8199360" y="142920"/>
            <a:ext cx="1501920" cy="1285920"/>
          </a:xfrm>
          <a:prstGeom prst="rect">
            <a:avLst/>
          </a:prstGeom>
          <a:ln w="0">
            <a:noFill/>
          </a:ln>
        </p:spPr>
      </p:pic>
      <p:pic>
        <p:nvPicPr>
          <p:cNvPr id="5" name="Picture 11" descr="C:\Documents and Settings\user\Desktop\ar_icahis_heading_text.jpg"/>
          <p:cNvPicPr/>
          <p:nvPr/>
        </p:nvPicPr>
        <p:blipFill>
          <a:blip r:embed="rId4"/>
          <a:srcRect l="11309" t="0" r="84155" b="55576"/>
          <a:stretch/>
        </p:blipFill>
        <p:spPr>
          <a:xfrm>
            <a:off x="237960" y="142920"/>
            <a:ext cx="7858440" cy="6500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4B84-A9DB-43CC-8472-ED5F21E50861}"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3" name="Rectangle 2"/>
          <p:cNvSpPr/>
          <p:nvPr/>
        </p:nvSpPr>
        <p:spPr>
          <a:xfrm>
            <a:off x="1095480" y="1946160"/>
            <a:ext cx="5857920" cy="4359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ياس مدى توافق مشروع تطوير الدرعية مع دليل المحافظة على التراث العمراني بدول مجلس التعاون لدول الخليج العرب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حور: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هود الحكومية ومبادرات القطاع الخاص</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جهود الحكومية في مجال تنمية التراث العمراني</a:t>
            </a:r>
            <a:endParaRPr b="0" lang="en-US" sz="2800" spc="-1" strike="noStrike">
              <a:solidFill>
                <a:srgbClr val="000000"/>
              </a:solidFill>
              <a:latin typeface="Arial"/>
            </a:endParaRPr>
          </a:p>
        </p:txBody>
      </p:sp>
      <p:sp>
        <p:nvSpPr>
          <p:cNvPr id="44" name="Rectangle 3"/>
          <p:cNvSpPr/>
          <p:nvPr/>
        </p:nvSpPr>
        <p:spPr>
          <a:xfrm>
            <a:off x="84600" y="1216440"/>
            <a:ext cx="815580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بسم الله الرحمن الرحيم</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A786-EAC4-499B-BCD8-7B516E031DCE}"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65" name="مستطيل 5"/>
          <p:cNvSpPr/>
          <p:nvPr/>
        </p:nvSpPr>
        <p:spPr>
          <a:xfrm>
            <a:off x="3759120" y="357120"/>
            <a:ext cx="46292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شروع تطوير الدرعية </a:t>
            </a:r>
            <a:endParaRPr b="0" lang="en-US" sz="3200" spc="-1" strike="noStrike">
              <a:solidFill>
                <a:srgbClr val="000000"/>
              </a:solidFill>
              <a:latin typeface="Arial"/>
            </a:endParaRPr>
          </a:p>
        </p:txBody>
      </p:sp>
      <p:pic>
        <p:nvPicPr>
          <p:cNvPr id="66" name="Picture 8" descr="صورة1"/>
          <p:cNvPicPr/>
          <p:nvPr/>
        </p:nvPicPr>
        <p:blipFill>
          <a:blip r:embed="rId1"/>
          <a:srcRect l="0" t="0" r="2573" b="0"/>
          <a:stretch/>
        </p:blipFill>
        <p:spPr>
          <a:xfrm>
            <a:off x="809640" y="3286080"/>
            <a:ext cx="3054240" cy="2857680"/>
          </a:xfrm>
          <a:prstGeom prst="rect">
            <a:avLst/>
          </a:prstGeom>
          <a:ln w="0">
            <a:noFill/>
          </a:ln>
        </p:spPr>
      </p:pic>
      <p:pic>
        <p:nvPicPr>
          <p:cNvPr id="67" name="Picture 7" descr="صورة2"/>
          <p:cNvPicPr/>
          <p:nvPr/>
        </p:nvPicPr>
        <p:blipFill>
          <a:blip r:embed="rId2"/>
          <a:srcRect l="3574" t="0" r="22095" b="0"/>
          <a:stretch/>
        </p:blipFill>
        <p:spPr>
          <a:xfrm>
            <a:off x="5167440" y="3357720"/>
            <a:ext cx="2500200" cy="2786040"/>
          </a:xfrm>
          <a:prstGeom prst="rect">
            <a:avLst/>
          </a:prstGeom>
          <a:ln w="0">
            <a:noFill/>
          </a:ln>
        </p:spPr>
      </p:pic>
      <p:sp>
        <p:nvSpPr>
          <p:cNvPr id="68" name="Rectangle 9"/>
          <p:cNvSpPr/>
          <p:nvPr/>
        </p:nvSpPr>
        <p:spPr>
          <a:xfrm>
            <a:off x="738360" y="899640"/>
            <a:ext cx="7024680" cy="256032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539892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درعية التاريخية: </a:t>
            </a:r>
            <a:endParaRPr b="0" lang="en-US" sz="2400" spc="-1" strike="noStrike">
              <a:solidFill>
                <a:srgbClr val="000000"/>
              </a:solidFill>
              <a:latin typeface="Arial"/>
            </a:endParaRPr>
          </a:p>
          <a:p>
            <a:pPr lvl="2"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تكون منطقة التطوير من أحياء الطريف وسمحان والبجيري والظويهرة والروقيه والظهره وغصيبة والمزارع المرتبطة بها ،وتضم مباني سكنية مبنية بالطين معظمها متهدم وغير مأهول بالسكان، وتفتقر المساكن بهذه الأحياء لبعض الخدمات الأساسية. </a:t>
            </a:r>
            <a:endParaRPr b="0" lang="en-US" sz="2400" spc="-1" strike="noStrike">
              <a:solidFill>
                <a:srgbClr val="000000"/>
              </a:solidFill>
              <a:latin typeface="Arial"/>
            </a:endParaRPr>
          </a:p>
          <a:p>
            <a:pPr algn="r">
              <a:tabLst>
                <a:tab algn="l" pos="0"/>
                <a:tab algn="l" pos="539892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69" name="Rectangle 10"/>
          <p:cNvSpPr/>
          <p:nvPr/>
        </p:nvSpPr>
        <p:spPr>
          <a:xfrm>
            <a:off x="5275440" y="1875600"/>
            <a:ext cx="269280" cy="3070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FD8E-920C-4B19-B580-0374909F7A4C}"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1" name="Rectangle 255"/>
          <p:cNvSpPr/>
          <p:nvPr/>
        </p:nvSpPr>
        <p:spPr>
          <a:xfrm>
            <a:off x="666720" y="482400"/>
            <a:ext cx="7167600" cy="490752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457200"/>
                <a:tab algn="l" pos="539892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كرة المشروع</a:t>
            </a:r>
            <a:endParaRPr b="0" lang="en-US" sz="2400" spc="-1" strike="noStrike">
              <a:solidFill>
                <a:srgbClr val="000000"/>
              </a:solidFill>
              <a:latin typeface="Arial"/>
            </a:endParaRPr>
          </a:p>
          <a:p>
            <a:pPr algn="r" rtl="1">
              <a:tabLst>
                <a:tab algn="l" pos="0"/>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عتمد فكرة المشروع على إعادة تطوير الدرعية التاريخية من جميع الجوانب ( عمرانياً – ثقافياً – اجتماعياً - اقتصادياً – بيئياً ) بحيث تصبح مركزاً للأنشطة المتنوعة وتبنى على :</a:t>
            </a:r>
            <a:endParaRPr b="0" lang="en-US" sz="2400" spc="-1" strike="noStrike">
              <a:solidFill>
                <a:srgbClr val="000000"/>
              </a:solidFill>
              <a:latin typeface="Arial"/>
            </a:endParaRPr>
          </a:p>
          <a:p>
            <a:pPr algn="r" rtl="1">
              <a:tabLst>
                <a:tab algn="l" pos="0"/>
                <a:tab algn="l" pos="45720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طوير الشامل للدرعية التاريخية والقديمة والذي يشمل النواحي التراثية والثقافية والاقتصادية والعمرانية والبيئية والاجتماعية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شجيع الأنشطة القائمة الملائمة لخطة التطوير ودعمها بما يؤكد استمرارها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شجيع مشاركة الأفراد في التطوير بجميع أشكاله .</a:t>
            </a:r>
            <a:endParaRPr b="0" lang="en-US" sz="2400" spc="-1" strike="noStrike">
              <a:solidFill>
                <a:srgbClr val="000000"/>
              </a:solidFill>
              <a:latin typeface="Arial"/>
            </a:endParaRPr>
          </a:p>
          <a:p>
            <a:pPr algn="r" rtl="1">
              <a:buClr>
                <a:srgbClr val="000000"/>
              </a:buClr>
              <a:buFont typeface="Arial"/>
              <a:buChar char="•"/>
              <a:tabLst>
                <a:tab algn="l" pos="45720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ضع الأطر النظامية لمشاركة القطاع الخاص المؤسسي في الأعمال الملائمة ل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BA8E8-9BDC-4C09-BC96-4468A0D47995}"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3" name="Rectangle 6"/>
          <p:cNvSpPr/>
          <p:nvPr/>
        </p:nvSpPr>
        <p:spPr>
          <a:xfrm>
            <a:off x="595440" y="271440"/>
            <a:ext cx="6953040" cy="5639040"/>
          </a:xfrm>
          <a:prstGeom prst="rect">
            <a:avLst/>
          </a:prstGeom>
          <a:noFill/>
          <a:ln w="0">
            <a:noFill/>
          </a:ln>
        </p:spPr>
        <p:style>
          <a:lnRef idx="0"/>
          <a:fillRef idx="0"/>
          <a:effectRef idx="0"/>
          <a:fontRef idx="minor"/>
        </p:style>
        <p:txBody>
          <a:bodyPr lIns="90000" rIns="90000" tIns="152280" bIns="0" anchor="ctr">
            <a:spAutoFit/>
          </a:bodyPr>
          <a:p>
            <a:pPr lvl="2" algn="r" rtl="1">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أهداف المشروع :</a:t>
            </a:r>
            <a:endParaRPr b="0" lang="en-US" sz="2400" spc="-1" strike="noStrike">
              <a:solidFill>
                <a:srgbClr val="000000"/>
              </a:solidFill>
              <a:latin typeface="Arial"/>
            </a:endParaRPr>
          </a:p>
          <a:p>
            <a:pPr lvl="2" algn="r" rtl="1">
              <a:lnSpc>
                <a:spcPct val="100000"/>
              </a:lnSpc>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درعية كمركز حضار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درعية كنموذج لعمران الواحات.</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حافظة على بيئة الدرعية من التدهور إعادة  توازنها الطبيعي.</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طوير المنطقة اقتصادياً من خلال التنشيط الزراعي والسياحي والترفيهي.</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gn="r" rtl="1">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1080" indent="-181080" algn="r" rtl="1">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نامج التطوير:</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عمران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بيئ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ثقافي والتراث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تطوير الاقتصادي والاجتماعي .</a:t>
            </a:r>
            <a:endParaRPr b="0" lang="en-US" sz="2400" spc="-1" strike="noStrike">
              <a:solidFill>
                <a:srgbClr val="000000"/>
              </a:solidFill>
              <a:latin typeface="Arial"/>
            </a:endParaRPr>
          </a:p>
          <a:p>
            <a:pPr marL="181080" indent="-181080" algn="r" rtl="1">
              <a:buClr>
                <a:srgbClr val="000000"/>
              </a:buClr>
              <a:buFont typeface="Arial"/>
              <a:buChar char="•"/>
              <a:tabLst>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برنامج المرافق العام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1F90-A8DB-4B40-9C2D-E475AEB9B33A}"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5" name="Rectangle 4"/>
          <p:cNvSpPr/>
          <p:nvPr/>
        </p:nvSpPr>
        <p:spPr>
          <a:xfrm>
            <a:off x="809640" y="37800"/>
            <a:ext cx="7072200" cy="417600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فكرة التصميم العمراني للمشروع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تلخص الفكرة العامة لتطوير الدرعية التاريخية في إعادة الخصائص العمرانية و البيئية التي فقدتها الدرعية أثناء عملية التطور مع الاهتمام بتوفير الاحتياجات و المتطلبات المعاصرة .</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قد تم توزيع الأنشطة على سبعة مناطق في منطقة برنامج التطوير، بحيث يتم تطوير كل جزء من أجزاء المناطق وفق الخصائص التي تتميز بها. مع  معالجة الشوارع و ممرات المشاة بما يوفر حركة مشاة آمنة و حركة سيارات مستمرة مع توفير عدد مناسب من المواقف</a:t>
            </a:r>
            <a:endParaRPr b="0" lang="en-US" sz="2400" spc="-1" strike="noStrike">
              <a:solidFill>
                <a:srgbClr val="000000"/>
              </a:solidFill>
              <a:latin typeface="Arial"/>
            </a:endParaRPr>
          </a:p>
        </p:txBody>
      </p:sp>
      <p:pic>
        <p:nvPicPr>
          <p:cNvPr id="76" name="Picture 3" descr="صورة1"/>
          <p:cNvPicPr/>
          <p:nvPr/>
        </p:nvPicPr>
        <p:blipFill>
          <a:blip r:embed="rId1"/>
          <a:srcRect l="4174" t="3685" r="0" b="0"/>
          <a:stretch/>
        </p:blipFill>
        <p:spPr>
          <a:xfrm>
            <a:off x="2738520" y="3822840"/>
            <a:ext cx="3714840" cy="2685960"/>
          </a:xfrm>
          <a:prstGeom prst="rect">
            <a:avLst/>
          </a:prstGeom>
          <a:ln w="0">
            <a:noFill/>
          </a:ln>
        </p:spPr>
      </p:pic>
      <p:sp>
        <p:nvSpPr>
          <p:cNvPr id="77" name="Rectangle 5"/>
          <p:cNvSpPr/>
          <p:nvPr/>
        </p:nvSpPr>
        <p:spPr>
          <a:xfrm>
            <a:off x="3717360" y="2229480"/>
            <a:ext cx="2471400" cy="246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ea typeface="Times New Roman"/>
              </a:rPr>
              <a:t>( شكل </a:t>
            </a:r>
            <a:r>
              <a:rPr b="1" lang="ar-SA" sz="1000" spc="-1" strike="noStrike">
                <a:solidFill>
                  <a:srgbClr val="000000"/>
                </a:solidFill>
                <a:latin typeface="Times New Roman"/>
                <a:ea typeface="Times New Roman"/>
              </a:rPr>
              <a:t>2</a:t>
            </a:r>
            <a:r>
              <a:rPr b="1" lang="ar-SA" sz="1000" spc="-1" strike="noStrike">
                <a:solidFill>
                  <a:srgbClr val="000000"/>
                </a:solidFill>
                <a:latin typeface="Times New Roman"/>
                <a:ea typeface="Times New Roman"/>
              </a:rPr>
              <a:t> )  مناطق التطوير في الدرعية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66DA-6453-45FE-8F91-AD26F883C98B}"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79" name="Rectangle 3"/>
          <p:cNvSpPr/>
          <p:nvPr/>
        </p:nvSpPr>
        <p:spPr>
          <a:xfrm>
            <a:off x="595440" y="-132120"/>
            <a:ext cx="7286400" cy="710208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ضوابط البناء:</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أصدرت ضوابط للبناء خاصة للمباني والمزارع والعناصر البيئية والأثرية بمنطقة التطوير بما يحقق الهدف المرجو من برنامج التطوير . </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راحل العمل:</a:t>
            </a: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ضمنت مرحلة العمل الأولى تهيئة المدينة لاستقبال مثل هذا التطوير ومثل هذه الأنشطة، وذلك بإعادة تأهيل المنطقة من حيث تأهيل شبكة المرافق العامة ( كهرباء – مياه – صرف صحي وغيرها من البنية التحتية ) ، كذلك تحسين الشوارع وأرصفة المشاة وتنفيذ الحدائق والساحات العامة ومواقف السيارات، وأبرز ما تتضمنه هذه المرحلة من أعمال:</a:t>
            </a:r>
            <a:endParaRPr b="0" lang="en-US" sz="2400" spc="-1" strike="noStrike">
              <a:solidFill>
                <a:srgbClr val="000000"/>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عادة تأهيل طرق الوصول لمنطقة التطوير.</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حسين وتطوير شبكة المرافق العامة ( البنية   التحتية ) </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نفيذ الحدائق والساحات العامة </a:t>
            </a:r>
            <a:endParaRPr b="0" lang="en-US" sz="2400" spc="-1" strike="noStrike">
              <a:solidFill>
                <a:srgbClr val="000000"/>
              </a:solidFill>
              <a:latin typeface="Arial"/>
            </a:endParaRPr>
          </a:p>
          <a:p>
            <a:pPr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عادة رصف وتشـــجير وإضاءة وتأثيث جميع الشوارع والممرات</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8F22-4CA0-4C8F-A7AC-C4C205C5E8ED}"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1" name="Rectangle 1"/>
          <p:cNvSpPr/>
          <p:nvPr/>
        </p:nvSpPr>
        <p:spPr>
          <a:xfrm>
            <a:off x="452520" y="344880"/>
            <a:ext cx="7500960" cy="6004800"/>
          </a:xfrm>
          <a:prstGeom prst="rect">
            <a:avLst/>
          </a:prstGeom>
          <a:noFill/>
          <a:ln w="0">
            <a:noFill/>
          </a:ln>
        </p:spPr>
        <p:style>
          <a:lnRef idx="0"/>
          <a:fillRef idx="0"/>
          <a:effectRef idx="0"/>
          <a:fontRef idx="minor"/>
        </p:style>
        <p:txBody>
          <a:bodyPr lIns="90000" rIns="90000" tIns="152280" bIns="0" anchor="ctr">
            <a:spAutoFit/>
          </a:bodyPr>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ial"/>
              </a:rPr>
              <a:t>المعايير المتبعة لمشروع تطوير الدرعية .</a:t>
            </a:r>
            <a:endParaRPr b="0" lang="en-US" sz="2400" spc="-1" strike="noStrike">
              <a:solidFill>
                <a:srgbClr val="000000"/>
              </a:solidFill>
              <a:latin typeface="Arial"/>
            </a:endParaRPr>
          </a:p>
          <a:p>
            <a:pPr lvl="2" algn="just"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تبعت الهيئة العليا لتطوير مدينة الرياض بعض المعايير والاعتبارات لمشروع تطوير الدرعية وهي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حافظة على البيئة العمرانية بترميمها وجعله جزء من العملية التثقيفية والسياحي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تنظيم شبكات الطرق ونقاط الدخول والخروج للمنطقة وتوفير مناطق الوقوف وربطها بالمدين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إشراك المستخدمين والملاك في عملية التطوير بتطوير ممتلكاتهم وفق الأنظمة المعتمدة وتهيئة فرص الاستثمار لهم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تأكيد على ملائمة النسيج العمراني للمباني الجديدة والمراد ترميمها لعمارة المنطقة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يجاد العناصر الثقافية والترفيهية وتفعيل النشاطات داخل النسيج الحضري لمنطقة التطوير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أهيل البنية  التحتية وشبكات المرافق والخدمات .</a:t>
            </a:r>
            <a:endParaRPr b="0" lang="en-US" sz="2400" spc="-1" strike="noStrike">
              <a:solidFill>
                <a:srgbClr val="000000"/>
              </a:solidFill>
              <a:latin typeface="Arial"/>
            </a:endParaRPr>
          </a:p>
          <a:p>
            <a:pPr marL="266760" indent="-266760" algn="just"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فظة على الخصائص الطبيعية والبيئية للمنطق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5376-FDBF-4CFC-BD31-4E3EE3FCE75D}"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3" name="Rectangle 1"/>
          <p:cNvSpPr/>
          <p:nvPr/>
        </p:nvSpPr>
        <p:spPr>
          <a:xfrm>
            <a:off x="452520" y="-528480"/>
            <a:ext cx="7358040" cy="7643520"/>
          </a:xfrm>
          <a:prstGeom prst="rect">
            <a:avLst/>
          </a:prstGeom>
          <a:noFill/>
          <a:ln w="0">
            <a:noFill/>
          </a:ln>
        </p:spPr>
        <p:style>
          <a:lnRef idx="0"/>
          <a:fillRef idx="0"/>
          <a:effectRef idx="0"/>
          <a:fontRef idx="minor"/>
        </p:style>
        <p:txBody>
          <a:bodyPr lIns="181080" rIns="181080" tIns="152280" bIns="0" anchor="ctr">
            <a:spAutoFit/>
          </a:bodyPr>
          <a:p>
            <a:pPr algn="just" rtl="1">
              <a:lnSpc>
                <a:spcPct val="100000"/>
              </a:lnSpc>
              <a:tabLst>
                <a:tab algn="l" pos="0"/>
                <a:tab algn="l" pos="5398920"/>
                <a:tab algn="l" pos="5486400"/>
                <a:tab algn="l" pos="6400800"/>
                <a:tab algn="l" pos="7315200"/>
                <a:tab algn="l" pos="8229600"/>
                <a:tab algn="l" pos="9144000"/>
                <a:tab algn="l" pos="10058400"/>
              </a:tabLst>
            </a:pPr>
            <a:r>
              <a:rPr b="1" lang="ar-SA" sz="3200" spc="-1" strike="noStrike">
                <a:solidFill>
                  <a:srgbClr val="000000"/>
                </a:solidFill>
                <a:latin typeface="Times New Roman"/>
              </a:rPr>
              <a:t>مدى تطبيق مشروع تطوير الدرعية لدليل المحافظة على التراث العمراني بدول مجلس التعاون</a:t>
            </a:r>
            <a:endParaRPr b="0" lang="en-US" sz="3200" spc="-1" strike="noStrike">
              <a:solidFill>
                <a:srgbClr val="000000"/>
              </a:solidFill>
              <a:latin typeface="Arial"/>
            </a:endParaRPr>
          </a:p>
          <a:p>
            <a:pPr algn="just" rtl="1">
              <a:lnSpc>
                <a:spcPct val="100000"/>
              </a:lnSpc>
              <a:tabLst>
                <a:tab algn="l" pos="0"/>
                <a:tab algn="l" pos="539892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بالاستناد إلى دليل المحافظة على التراث العمراني بدول مجلس التعاون لدول الخليج العربي، وقياس تجربة تطوير الدرعية من خلاله يمكن تقريب الصورة الحالية لما أنجز، والبعد المستقبلي لما يجب أن يتم.</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المدن والقري التاريخية.</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هي المدن أو القرى أو جزء أو أجزاء منها تحوي معالم تاريخية أو تراثية مميزة، كما يجب أن يكون فيها سمات عامة أو خاصة تتميز بها عن غيرها من المدن أو القرى وتشمل ما يلي:</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أ) المناطق والمراكز الحضرية التاريخية أو التراثي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ب) الأحياء السكنية التاريخية والتراثية كلا أو جزء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ج) البيئة الطبيعية المحيط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د) الحدائق والمتنزهات الملحقة بها أو القريبة منها أو الواقعة في محيطها.</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وباستعراض الشروط التي وردت في تعرف التراث العمراني، وأنه هو كل ما خلفه الإنسان من مدن، أو قري، أو أحياء سكنية، أو مباني عامة أو خاصة أو أي معالم بنائية أخري لها مدلولات تاريخية، أو ثقافية أو تراثية يتم تحديدها وتصنيفها وفق المعايير التالي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1</a:t>
            </a:r>
            <a:r>
              <a:rPr b="0" lang="ar-SA" sz="1400" spc="-1" strike="noStrike">
                <a:solidFill>
                  <a:srgbClr val="000000"/>
                </a:solidFill>
                <a:latin typeface="Arial"/>
                <a:ea typeface="Times New Roman"/>
              </a:rPr>
              <a:t>- ألا يقل عمرها عن الخمسين عام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2</a:t>
            </a:r>
            <a:r>
              <a:rPr b="0" lang="ar-SA" sz="1400" spc="-1" strike="noStrike">
                <a:solidFill>
                  <a:srgbClr val="000000"/>
                </a:solidFill>
                <a:latin typeface="Arial"/>
                <a:ea typeface="Times New Roman"/>
              </a:rPr>
              <a:t>- أن تكون ذات أصالة من الناحيتين الحرفية ومواد البناء المستخدمة فيها.</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3</a:t>
            </a:r>
            <a:r>
              <a:rPr b="0" lang="ar-SA" sz="1400" spc="-1" strike="noStrike">
                <a:solidFill>
                  <a:srgbClr val="000000"/>
                </a:solidFill>
                <a:latin typeface="Arial"/>
                <a:ea typeface="Times New Roman"/>
              </a:rPr>
              <a:t>- أن تعبر وتعكس أبعاد الفترة العمرانية التي أقيمت خلالها، وأن يكون لها مكانة بارزة في تاريخ المنطقة المتواجدة فيها، أو سكنها أحد أعلام المشاهير الذين قدموا للمنطقة عطاء مميزاً في أي مجال من المجالات.</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4</a:t>
            </a:r>
            <a:r>
              <a:rPr b="0" lang="ar-SA" sz="1400" spc="-1" strike="noStrike">
                <a:solidFill>
                  <a:srgbClr val="000000"/>
                </a:solidFill>
                <a:latin typeface="Arial"/>
                <a:ea typeface="Times New Roman"/>
              </a:rPr>
              <a:t>- أن تتميز بجمالية وعناصر معمارية ذات قيمة مميزة.</a:t>
            </a:r>
            <a:endParaRPr b="0" lang="en-US" sz="1400" spc="-1" strike="noStrike">
              <a:solidFill>
                <a:srgbClr val="000000"/>
              </a:solidFill>
              <a:latin typeface="Arial"/>
            </a:endParaRPr>
          </a:p>
          <a:p>
            <a:pPr lvl="1" marL="457200" algn="just" rtl="1">
              <a:lnSpc>
                <a:spcPct val="100000"/>
              </a:lnSpc>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ea typeface="Times New Roman"/>
              </a:rPr>
              <a:t>5</a:t>
            </a:r>
            <a:r>
              <a:rPr b="0" lang="ar-SA" sz="1400" spc="-1" strike="noStrike">
                <a:solidFill>
                  <a:srgbClr val="000000"/>
                </a:solidFill>
                <a:latin typeface="Arial"/>
                <a:ea typeface="Times New Roman"/>
              </a:rPr>
              <a:t>- أن تحوي طرزاً معمارية وزخرفية ذات طابع محلي.</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يمكن القول إن الدرعية حققتها وبأبلغ صورة، فعمر الدرعية الزمني كمعلم بارز شهد العديد من الوقائع يعود لكونها عاصمة الدولة السعودية الأولى ومنطلق دعوة الشيخ محمد بن عبدالوهاب – رحمه الله -، فهي تمثل بعداً سياسياً وتاريخياً وثقافياً واجتماعياً منذ ما يزيد على مائتي عام.</a:t>
            </a:r>
            <a:endParaRPr b="0" lang="en-US" sz="1400" spc="-1" strike="noStrike">
              <a:solidFill>
                <a:srgbClr val="000000"/>
              </a:solidFill>
              <a:latin typeface="Arial"/>
            </a:endParaRPr>
          </a:p>
          <a:p>
            <a:pPr algn="just" rtl="1">
              <a:tabLst>
                <a:tab algn="l" pos="0"/>
                <a:tab algn="l" pos="5398920"/>
                <a:tab algn="l" pos="5486400"/>
                <a:tab algn="l" pos="6400800"/>
                <a:tab algn="l" pos="7315200"/>
                <a:tab algn="l" pos="8229600"/>
                <a:tab algn="l" pos="9144000"/>
                <a:tab algn="l" pos="10058400"/>
              </a:tabLst>
            </a:pPr>
            <a:r>
              <a:rPr b="0" lang="ar-SA" sz="1400" spc="-1" strike="noStrike">
                <a:solidFill>
                  <a:srgbClr val="000000"/>
                </a:solidFill>
                <a:latin typeface="Arial"/>
                <a:cs typeface="Times New Roman"/>
              </a:rPr>
              <a:t>كما إن الأصالة الحرفية وتميز مواد البناء لا ينفكان عن ذهن المتخصص عن ذكر آثار الدرعية، والتي جاءت بنسق بديع يعكس وبجلاء عمق الحقب العمرانية التي تعاقبتها، وسكانها هم قادة الدولة دينياً وقيادياً بالمحمدين، ابن عبدالوهاب وابن سعود</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A66A-5275-438D-8A4E-92FAB1DBB706}"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5" name="Rectangle 1"/>
          <p:cNvSpPr/>
          <p:nvPr/>
        </p:nvSpPr>
        <p:spPr>
          <a:xfrm>
            <a:off x="523800" y="376200"/>
            <a:ext cx="7358040" cy="563904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539892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نجزات</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راعى مشروع تطوير الدرعية ومنذ بداياته الأولى عام </a:t>
            </a:r>
            <a:r>
              <a:rPr b="0" lang="ar-SA" sz="2400" spc="-1" strike="noStrike">
                <a:solidFill>
                  <a:srgbClr val="000000"/>
                </a:solidFill>
                <a:latin typeface="Arial"/>
                <a:ea typeface="Times New Roman"/>
              </a:rPr>
              <a:t>1406</a:t>
            </a:r>
            <a:r>
              <a:rPr b="0" lang="ar-SA" sz="2400" spc="-1" strike="noStrike">
                <a:solidFill>
                  <a:srgbClr val="000000"/>
                </a:solidFill>
                <a:latin typeface="Arial"/>
                <a:cs typeface="Times New Roman"/>
              </a:rPr>
              <a:t>هـ الالتزام بمعايير عالية الجودة في الأداء، وتعامل بحرفية مع كل جزئية من المدينة التاريخية، وقد قسم إلى مرحلتين هما: </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أولى: مرحلة التوثيق والتصميم.</a:t>
            </a: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ثانية: مرحلة التنفيذ، وكانت على ثلاث مستويات: </a:t>
            </a:r>
            <a:endParaRPr b="0" lang="en-US" sz="2400" spc="-1" strike="noStrike">
              <a:solidFill>
                <a:srgbClr val="000000"/>
              </a:solidFill>
              <a:latin typeface="Arial"/>
            </a:endParaRPr>
          </a:p>
          <a:p>
            <a:pPr lvl="1" marL="457200" algn="r" rtl="1">
              <a:lnSpc>
                <a:spcPct val="100000"/>
              </a:lnSpc>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بنية التحتية</a:t>
            </a: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طرق الساحات </a:t>
            </a:r>
            <a:endParaRPr b="0" lang="en-US" sz="2400" spc="-1" strike="noStrike">
              <a:solidFill>
                <a:srgbClr val="000000"/>
              </a:solidFill>
              <a:latin typeface="Arial"/>
            </a:endParaRPr>
          </a:p>
          <a:p>
            <a:pPr lvl="3" marL="1371600" algn="r" rtl="1">
              <a:lnSpc>
                <a:spcPct val="100000"/>
              </a:lnSpc>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المباني والمنشآت</a:t>
            </a: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5398920"/>
                <a:tab algn="l" pos="5486400"/>
                <a:tab algn="l" pos="6400800"/>
                <a:tab algn="l" pos="7315200"/>
                <a:tab algn="l" pos="8229600"/>
                <a:tab algn="l" pos="9144000"/>
                <a:tab algn="l" pos="10058400"/>
              </a:tabLst>
            </a:pPr>
            <a:r>
              <a:rPr b="0" lang="ar-SA" sz="2400" spc="-1" strike="noStrike">
                <a:solidFill>
                  <a:srgbClr val="000000"/>
                </a:solidFill>
                <a:latin typeface="Arial"/>
                <a:cs typeface="Times New Roman"/>
              </a:rPr>
              <a:t>وحتى </a:t>
            </a:r>
            <a:r>
              <a:rPr b="0" lang="ar-SA" sz="2400" spc="-1" strike="noStrike">
                <a:solidFill>
                  <a:srgbClr val="000000"/>
                </a:solidFill>
                <a:latin typeface="Arial"/>
                <a:ea typeface="Times New Roman"/>
              </a:rPr>
              <a:t>1430</a:t>
            </a:r>
            <a:r>
              <a:rPr b="0" lang="ar-SA" sz="2400" spc="-1" strike="noStrike">
                <a:solidFill>
                  <a:srgbClr val="000000"/>
                </a:solidFill>
                <a:latin typeface="Arial"/>
                <a:cs typeface="Times New Roman"/>
              </a:rPr>
              <a:t>هـ أنجز المشروع جميع مراحله ولم يتبق إلا المرحلة الأخيرة لاستكمال المباني والمنشآ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59698-73FD-4E77-96E5-9344FEBA6F85}"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7" name="Rectangle 1"/>
          <p:cNvSpPr/>
          <p:nvPr/>
        </p:nvSpPr>
        <p:spPr>
          <a:xfrm>
            <a:off x="738360" y="-102960"/>
            <a:ext cx="7024680" cy="704340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استمراراً لنجاح تجربة الدرعية توصي الدراسة بالأخذ بتوجيهات وإرشادات الدليل في النواحي الآت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1</a:t>
            </a:r>
            <a:r>
              <a:rPr b="0" lang="ar-SA" sz="2000" spc="-1" strike="noStrike">
                <a:solidFill>
                  <a:srgbClr val="000000"/>
                </a:solidFill>
                <a:latin typeface="Arial"/>
                <a:ea typeface="Times New Roman"/>
              </a:rPr>
              <a:t> من الدليل على تدريب وتأهيل كوادر محلية تسعي إلي تنفيذ آليات ذات ضوابط فنية خاصة ومدروسة علمياً تتناسب مع أعمال الحفاظ التي تحتاجها الأماكن التاريخية ووفق ما ينسجم مع أصالتها والمعايير المعتمدة دولياً.</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والتوصية أن ينشأ معهد متخصص في الدرعية وفي قلب منطقة التطوير يتبع لكلية الآثار والسياحة بجامعة الملك سعود، بالتعاون مع الهيئة العامة للسياحة، وكلية الهندسة والعمارة والتخطيط،  يمنح شهادات البكالوريوس في التطوير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16</a:t>
            </a:r>
            <a:r>
              <a:rPr b="0" lang="ar-SA" sz="2000" spc="-1" strike="noStrike">
                <a:solidFill>
                  <a:srgbClr val="000000"/>
                </a:solidFill>
                <a:latin typeface="Arial"/>
                <a:ea typeface="Times New Roman"/>
              </a:rPr>
              <a:t> على مراعاة عدم إصدار تراخيص عامة أو خاصة للبناء أو التشييد في محيط المنطقة التاريخية أو المبني التاريخي وذلك لمسافة </a:t>
            </a:r>
            <a:r>
              <a:rPr b="0" lang="ar-SA" sz="2000" spc="-1" strike="noStrike">
                <a:solidFill>
                  <a:srgbClr val="000000"/>
                </a:solidFill>
                <a:latin typeface="Arial"/>
                <a:ea typeface="Times New Roman"/>
              </a:rPr>
              <a:t>100</a:t>
            </a:r>
            <a:r>
              <a:rPr b="0" lang="ar-SA" sz="2000" spc="-1" strike="noStrike">
                <a:solidFill>
                  <a:srgbClr val="000000"/>
                </a:solidFill>
                <a:latin typeface="Arial"/>
                <a:ea typeface="Times New Roman"/>
              </a:rPr>
              <a:t> متر ويشمل ذلك المباني الحديثة شق القنوات، طرق عامة أو خاصة، نشاط زراعي، مجاري إلا في حالات الضرورة القصوى والحصول علي موافقة اللجنة المختصة. ولا زالت المنطقة المتاخمة للمنطقة الأثرية والمسماة بحي سمحان تصدر لها تراخيص بناء، ولم يتخذ بشأنها إجراء واضح يجعلها متممة لعملية التطوي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005E-C924-4DFE-BA1D-D09D1DC9A899}"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89" name="Rectangle 1"/>
          <p:cNvSpPr/>
          <p:nvPr/>
        </p:nvSpPr>
        <p:spPr>
          <a:xfrm>
            <a:off x="714240" y="-326880"/>
            <a:ext cx="7024680" cy="734832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32</a:t>
            </a:r>
            <a:r>
              <a:rPr b="0" lang="ar-SA" sz="2000" spc="-1" strike="noStrike">
                <a:solidFill>
                  <a:srgbClr val="000000"/>
                </a:solidFill>
                <a:latin typeface="Arial"/>
                <a:ea typeface="Times New Roman"/>
              </a:rPr>
              <a:t> بأن علي الجهات ذات العلاقة والاختصاص العمل علي تدريب كوادر في كل دولة، وتأهيل مختصين مدربين تدريبا جيدا يعملون ويعمدون وبكل الأبعاد علي حماية مواقع التراث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كما نصت المادة </a:t>
            </a:r>
            <a:r>
              <a:rPr b="0" lang="ar-SA" sz="2000" spc="-1" strike="noStrike">
                <a:solidFill>
                  <a:srgbClr val="000000"/>
                </a:solidFill>
                <a:latin typeface="Arial"/>
                <a:ea typeface="Times New Roman"/>
              </a:rPr>
              <a:t>33</a:t>
            </a:r>
            <a:r>
              <a:rPr b="0" lang="ar-SA" sz="2000" spc="-1" strike="noStrike">
                <a:solidFill>
                  <a:srgbClr val="000000"/>
                </a:solidFill>
                <a:latin typeface="Arial"/>
                <a:ea typeface="Times New Roman"/>
              </a:rPr>
              <a:t> بأن علي المتدربين والعاملين في حقل الحفاظ العمراني كسب المهارات والخبرات اللازمة في هذا الحقل ووضع وتبني سياسات تعليمية في هذا المجال في كل دولة من دول مجلس التعاون. ويجب الاستعانة بالخبرات وذوي الاختصاص من المنظمات العالمية (الايكوموس والايكروم) والمنظمات العربية والإقليمية لتدريب العاملين في هذا المجال، كما يجب تحديد مستويات التدريب والمهارات المهنية في كل دولة من دول مجلس التعاون الخليجي بغية تبادل الخبرات في كافة المجالات الخاصة بعمليات الحفاظ علي الموروث العمران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34</a:t>
            </a:r>
            <a:r>
              <a:rPr b="0" lang="ar-SA" sz="2000" spc="-1" strike="noStrike">
                <a:solidFill>
                  <a:srgbClr val="000000"/>
                </a:solidFill>
                <a:latin typeface="Arial"/>
                <a:ea typeface="Times New Roman"/>
              </a:rPr>
              <a:t> على ضرورة السعي إلي تطوير برامج التدريب إلي ما بعد المرحلة الجامعية والتركيز علي أبعاد الحفاظ علي الموروث العمراني وتشمل هذه الاختصاصات، الهندسة المعمارية، الهندسة المدنية، هندسة الكهرباء، علم الآثار، علوم الصيانة والمحافظة علي المباني، علوم صيانة الزخارف بأنواعها. كما يجوز الاستعانة بالفنانين التشكيليين والحرفيين والصناع المهرة وذوي الاختصا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5F2E-BB12-4149-AA0B-BD9CC34D9EDB}"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6" name="Rectangle 2"/>
          <p:cNvSpPr/>
          <p:nvPr/>
        </p:nvSpPr>
        <p:spPr>
          <a:xfrm>
            <a:off x="488880" y="-309600"/>
            <a:ext cx="7402680" cy="6799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خلاصة الورق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جاء دليل المحافظة على التراث العمراني بدول مجلس التعاون لدول الخليج العربي في </a:t>
            </a:r>
            <a:r>
              <a:rPr b="0" lang="ar-SA" sz="2400" spc="-1" strike="noStrike">
                <a:solidFill>
                  <a:srgbClr val="000000"/>
                </a:solidFill>
                <a:latin typeface="Arial"/>
              </a:rPr>
              <a:t>47</a:t>
            </a:r>
            <a:r>
              <a:rPr b="0" lang="ar-SA" sz="2400" spc="-1" strike="noStrike">
                <a:solidFill>
                  <a:srgbClr val="000000"/>
                </a:solidFill>
                <a:latin typeface="Arial"/>
              </a:rPr>
              <a:t> مادة وينص علي إنشاء المجلس الأعلى للحفاظ علي التراث العمراني كسلطة منوط بها مسؤوليات تنفيذ ومتابعة بنود الدليل ويكون من ذوي الاختصاص في دول المجلس، ويهدف إلي وضع ضوابط واشتراطات موحدة تكفل وبكل الأبعاد المحافظة علي التراث العمراني من دول المجلس.</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بالرغم من أن الدليل صدر في عام </a:t>
            </a:r>
            <a:r>
              <a:rPr b="0" lang="ar-SA" sz="2400" spc="-1" strike="noStrike">
                <a:solidFill>
                  <a:srgbClr val="000000"/>
                </a:solidFill>
                <a:latin typeface="Arial"/>
              </a:rPr>
              <a:t>1429</a:t>
            </a:r>
            <a:r>
              <a:rPr b="0" lang="ar-SA" sz="2400" spc="-1" strike="noStrike">
                <a:solidFill>
                  <a:srgbClr val="000000"/>
                </a:solidFill>
                <a:latin typeface="Arial"/>
              </a:rPr>
              <a:t>هـ إلا أن بدأ العمل في مشروع تطوير الدرعية التاريخية شمال غرب مدينة الرياض في المملكة العربية السعودية بدأ في عام </a:t>
            </a:r>
            <a:r>
              <a:rPr b="0" lang="ar-SA" sz="2400" spc="-1" strike="noStrike">
                <a:solidFill>
                  <a:srgbClr val="000000"/>
                </a:solidFill>
                <a:latin typeface="Arial"/>
              </a:rPr>
              <a:t>1406</a:t>
            </a:r>
            <a:r>
              <a:rPr b="0" lang="ar-SA" sz="2400" spc="-1" strike="noStrike">
                <a:solidFill>
                  <a:srgbClr val="000000"/>
                </a:solidFill>
                <a:latin typeface="Arial"/>
              </a:rPr>
              <a:t>هـ، وقد جاء متوافقاً وبشكل كبير جدا ًمع مواد وتوصيات الدليل، ورغبة من الباحث في إضفاء مزيد من التميز على هذا المشروع الوطني الكبير كانت هذه الدراسة للتعريف بالمشروع ومدى مطابقته للدليل مع توصيات في الختام تبين جوانب تحتاج إلى استكمال في مشروع الدرعية ليبلغ مراتب تميز أعل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9646-C53B-4BB0-A217-89D575E3F2F7}"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91" name="Rectangle 1"/>
          <p:cNvSpPr/>
          <p:nvPr/>
        </p:nvSpPr>
        <p:spPr>
          <a:xfrm>
            <a:off x="571680" y="-113040"/>
            <a:ext cx="7024680" cy="5518800"/>
          </a:xfrm>
          <a:prstGeom prst="rect">
            <a:avLst/>
          </a:prstGeom>
          <a:noFill/>
          <a:ln w="0">
            <a:noFill/>
          </a:ln>
        </p:spPr>
        <p:style>
          <a:lnRef idx="0"/>
          <a:fillRef idx="0"/>
          <a:effectRef idx="0"/>
          <a:fontRef idx="minor"/>
        </p:style>
        <p:txBody>
          <a:bodyPr lIns="181080" rIns="181080" tIns="152280" bIns="0" anchor="ctr">
            <a:spAutoFit/>
          </a:bodyPr>
          <a:p>
            <a:pPr algn="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تطلبات التميز </a:t>
            </a:r>
            <a:r>
              <a:rPr b="1" lang="ar-SA" sz="2400" spc="-1" strike="noStrike">
                <a:solidFill>
                  <a:srgbClr val="000000"/>
                </a:solidFill>
                <a:latin typeface="Arial"/>
                <a:ea typeface="Times New Roman"/>
              </a:rPr>
              <a:t>(التوصيات) </a:t>
            </a:r>
            <a:r>
              <a:rPr b="0" lang="ar-SA" sz="2400" spc="-1" strike="noStrike">
                <a:solidFill>
                  <a:srgbClr val="000000"/>
                </a:solidFill>
                <a:latin typeface="Arial"/>
                <a:ea typeface="Times New Roman"/>
              </a:rPr>
              <a:t>:</a:t>
            </a:r>
            <a:endParaRPr b="0" lang="en-US" sz="24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المادة </a:t>
            </a:r>
            <a:r>
              <a:rPr b="0" lang="ar-SA" sz="2000" spc="-1" strike="noStrike">
                <a:solidFill>
                  <a:srgbClr val="000000"/>
                </a:solidFill>
                <a:latin typeface="Arial"/>
                <a:ea typeface="Times New Roman"/>
              </a:rPr>
              <a:t>38</a:t>
            </a:r>
            <a:r>
              <a:rPr b="0" lang="ar-SA" sz="2000" spc="-1" strike="noStrike">
                <a:solidFill>
                  <a:srgbClr val="000000"/>
                </a:solidFill>
                <a:latin typeface="Arial"/>
                <a:ea typeface="Times New Roman"/>
              </a:rPr>
              <a:t> نصت على العمل علي إنشاء مركز للتدريب، وتبادل الخبرات والتجارب في مجال الحفاظ علي الموروث العمراني، وعقد مؤتمرات وندوات وورش عمل ودورات تدريبية دورية. وجميعها تعود إلى التوصية الأولى بضرورة ترجمة هذه المواد إلى برامج عملية.</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نصت المادة </a:t>
            </a:r>
            <a:r>
              <a:rPr b="0" lang="ar-SA" sz="2000" spc="-1" strike="noStrike">
                <a:solidFill>
                  <a:srgbClr val="000000"/>
                </a:solidFill>
                <a:latin typeface="Arial"/>
                <a:ea typeface="Times New Roman"/>
              </a:rPr>
              <a:t>41</a:t>
            </a:r>
            <a:r>
              <a:rPr b="0" lang="ar-SA" sz="2000" spc="-1" strike="noStrike">
                <a:solidFill>
                  <a:srgbClr val="000000"/>
                </a:solidFill>
                <a:latin typeface="Arial"/>
                <a:ea typeface="Times New Roman"/>
              </a:rPr>
              <a:t> على ضرورة العمل علي إدخال أسس حماية التراث العمراني في خطط التنمية الاقتصادية في دول مجلس التعاون الخليجي.</a:t>
            </a: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Pr>
              <a:t>والتوصية: أن يكون هنا اهتمام واضح من خلال المخاطبات الرسمية والوسائل الإعلامية لإبراز مشروع تطوير الدرعية وجعله مشروعا وطنياً يعنى به الجميع، وينال حظه من الميزانية، ليكون له مشاركة في الميزانية بعد ذلك من خلال تشغيله كمعلم سياحي ومقصد أثر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8000F-B703-481C-93D2-62B0DA74B9BD}"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93" name="Rectangle 2"/>
          <p:cNvSpPr/>
          <p:nvPr/>
        </p:nvSpPr>
        <p:spPr>
          <a:xfrm>
            <a:off x="488880" y="1481040"/>
            <a:ext cx="7402680" cy="3690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م بحمد الله</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شكراً لاستماعكم</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صلى الله على نبينا محمد وعلى آله وصحبه</a:t>
            </a:r>
            <a:r>
              <a:rPr b="1" lang="ar-SA"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5610-EE5C-423C-8D3A-A7FA4BB9BFC2}"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48" name="Rectangle 2"/>
          <p:cNvSpPr/>
          <p:nvPr/>
        </p:nvSpPr>
        <p:spPr>
          <a:xfrm>
            <a:off x="488880" y="-202320"/>
            <a:ext cx="7402680" cy="6737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فهوم التراث في ميثاق المحافظة على التراث العمراني بدول مجلس التعاون لدول الخليج العرب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هو كل ما خلفه الإنسان من مدن، أو قري، أو أحياء سكنية، أو مباني عامة أو خاصة أو أي معالم بنائية أخري لها مدلولات تاريخية، أو ثقافية أو تراثية يتم تحديدها وتصنيفها وفق المعايير التا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 ألا يقل عمرها عن الخمسين عام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2</a:t>
            </a:r>
            <a:r>
              <a:rPr b="0" lang="ar-SA" sz="2400" spc="-1" strike="noStrike">
                <a:solidFill>
                  <a:srgbClr val="000000"/>
                </a:solidFill>
                <a:latin typeface="Arial"/>
              </a:rPr>
              <a:t>- أن تكون ذات أصالة من الناحيتين الحرفية ومواد البناء المستخدمة في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3</a:t>
            </a:r>
            <a:r>
              <a:rPr b="0" lang="ar-SA" sz="2400" spc="-1" strike="noStrike">
                <a:solidFill>
                  <a:srgbClr val="000000"/>
                </a:solidFill>
                <a:latin typeface="Arial"/>
              </a:rPr>
              <a:t>- أن تعبر وتعكس أبعاد الفترة العمرانية التي أقيمت خلالها، وأن يكون لها مكانة بارزة في تاريخ المنطقة المتواجدة فيها، أو سكنها أحد أعلام المشاهير الذين قدموا للمنطقة عطاء مميزاً في أي مجال من المجالات.</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4</a:t>
            </a:r>
            <a:r>
              <a:rPr b="0" lang="ar-SA" sz="2400" spc="-1" strike="noStrike">
                <a:solidFill>
                  <a:srgbClr val="000000"/>
                </a:solidFill>
                <a:latin typeface="Arial"/>
              </a:rPr>
              <a:t>- أن تتميز بجمالية وعناصر معمارية ذات قيمة مميز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5</a:t>
            </a:r>
            <a:r>
              <a:rPr b="0" lang="ar-SA" sz="2400" spc="-1" strike="noStrike">
                <a:solidFill>
                  <a:srgbClr val="000000"/>
                </a:solidFill>
                <a:latin typeface="Arial"/>
              </a:rPr>
              <a:t>- أن تحوي طرزاً معمارية وزخرفية ذات طابع مح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0626D-33D8-4C2C-AEED-08F27CFD7AAD}"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0" name="Rectangle 2"/>
          <p:cNvSpPr/>
          <p:nvPr/>
        </p:nvSpPr>
        <p:spPr>
          <a:xfrm>
            <a:off x="523800" y="72000"/>
            <a:ext cx="7402680" cy="70426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اية المملكة العربية السعودية بالتراث العمراني</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بني حكومة المملكة العربية السعودية "جائزة الملك فهد للعمارة الإسلامية"</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وجيه خادم الحرمين الشريفين معالي وزير الشئون البلدية والقروية بأن تحتفظ كل مدينة وبلدة بحيّها التقليدي</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إنشاء "جائزة الأمير سلطان بن سلمان للتراث العمراني"</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قد المؤتمرات المتخصصة في قضايا التراث</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شروع الجنادرية والقرى الشعبية ضمن فعاليات المهرجان الوطني للتراث والثقافة</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ظهور أنماط من العمارة المعاصرة تجمع بين الأصالة والتقنية الحديثة ويتمثل ذلك في: قصر الحكم في الرياض، وحي السفارات، الذي يقع شمال غرب مدينة الرياض</a:t>
            </a:r>
            <a:endParaRPr b="0" lang="en-US" sz="24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كما لوزارة الشئون البلدية والقروية برنامج للتراث العمراني لدراسته وتوثيقه وتصنيفه والعناية والاستفادة منه وقد بدأ هذا البرنامج عام </a:t>
            </a:r>
            <a:r>
              <a:rPr b="0" lang="ar-SA" sz="2400" spc="-1" strike="noStrike">
                <a:solidFill>
                  <a:srgbClr val="000000"/>
                </a:solidFill>
                <a:latin typeface="Arial"/>
              </a:rPr>
              <a:t>1408</a:t>
            </a:r>
            <a:r>
              <a:rPr b="0" lang="ar-SA" sz="2400" spc="-1" strike="noStrike">
                <a:solidFill>
                  <a:srgbClr val="000000"/>
                </a:solidFill>
                <a:latin typeface="Arial"/>
              </a:rPr>
              <a:t>هـ ولازال مستمراً حتى اليو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A149-6E65-4E17-A1EA-720DA667B45C}"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2" name="Rectangle 2"/>
          <p:cNvSpPr/>
          <p:nvPr/>
        </p:nvSpPr>
        <p:spPr>
          <a:xfrm>
            <a:off x="488880" y="342360"/>
            <a:ext cx="7402680" cy="4177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التجارب التي قامت بها حكومة المملكة العربية السعودية:</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الحفاظ على حي الطريف في الدرعية.</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الحفاظ على حي البجيري في الدرعية.</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مدينة جدة في الحفاظ على التراث العمراني بوسط المدينة وإعادة تطويره.</a:t>
            </a:r>
            <a:endParaRPr b="0" lang="en-US" sz="2400" spc="-1" strike="noStrike">
              <a:solidFill>
                <a:srgbClr val="000000"/>
              </a:solidFill>
              <a:latin typeface="Arial"/>
            </a:endParaRPr>
          </a:p>
          <a:p>
            <a:pPr lvl="1" marL="542880" indent="-27612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جربة قرية مفتاحة في مدينة أبها، التي تمتد على مساحة سبعة آلآف متر مربع، والتي مازالت تحتفظ ببعض الأنماط المعمارية المحل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53ED-673A-4C76-B918-0A0091893510}"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sp>
        <p:nvSpPr>
          <p:cNvPr id="54" name="Rectangle 2"/>
          <p:cNvSpPr/>
          <p:nvPr/>
        </p:nvSpPr>
        <p:spPr>
          <a:xfrm>
            <a:off x="488880" y="157680"/>
            <a:ext cx="7402680" cy="6006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هات الحكومية في المملكة العربية السعودية التي عنيت بالتراث العمران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كالة الآثا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جامعة الملك سعود ممثلة في: كلية السياحة والآثار (قسم الآثار والمتاحف سابقاً)، وكلية العمارة والتخطيط</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زارة الشؤون البلدية والقرو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يئة العليا للسياحة والآثار</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هيئة العليا لتطوير الرياض</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6685-9A44-4AAF-916F-80793F4CA8F6}"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56" name="Picture 472" descr=""/>
          <p:cNvPicPr/>
          <p:nvPr/>
        </p:nvPicPr>
        <p:blipFill>
          <a:blip r:embed="rId1"/>
          <a:stretch/>
        </p:blipFill>
        <p:spPr>
          <a:xfrm>
            <a:off x="4178160" y="714240"/>
            <a:ext cx="3846600" cy="5478480"/>
          </a:xfrm>
          <a:prstGeom prst="rect">
            <a:avLst/>
          </a:prstGeom>
          <a:ln w="0">
            <a:noFill/>
          </a:ln>
        </p:spPr>
      </p:pic>
      <p:pic>
        <p:nvPicPr>
          <p:cNvPr id="57" name="Picture 473" descr=""/>
          <p:cNvPicPr/>
          <p:nvPr/>
        </p:nvPicPr>
        <p:blipFill>
          <a:blip r:embed="rId2"/>
          <a:srcRect l="1740" t="0" r="0" b="1314"/>
          <a:stretch/>
        </p:blipFill>
        <p:spPr>
          <a:xfrm>
            <a:off x="237960" y="714240"/>
            <a:ext cx="3857760" cy="542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74D2-B3BD-49DD-B809-5F818D0F6F71}"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59" name="Picture 4" descr=""/>
          <p:cNvPicPr/>
          <p:nvPr/>
        </p:nvPicPr>
        <p:blipFill>
          <a:blip r:embed="rId1"/>
          <a:srcRect l="10692" t="0" r="6820" b="22184"/>
          <a:stretch/>
        </p:blipFill>
        <p:spPr>
          <a:xfrm>
            <a:off x="4238640" y="1143000"/>
            <a:ext cx="3857760" cy="3429000"/>
          </a:xfrm>
          <a:prstGeom prst="rect">
            <a:avLst/>
          </a:prstGeom>
          <a:ln w="0">
            <a:noFill/>
          </a:ln>
        </p:spPr>
      </p:pic>
      <p:pic>
        <p:nvPicPr>
          <p:cNvPr id="60" name="Picture 6" descr=""/>
          <p:cNvPicPr/>
          <p:nvPr/>
        </p:nvPicPr>
        <p:blipFill>
          <a:blip r:embed="rId2"/>
          <a:srcRect l="9359" t="1720" r="11127" b="13798"/>
          <a:stretch/>
        </p:blipFill>
        <p:spPr>
          <a:xfrm>
            <a:off x="309600" y="1143000"/>
            <a:ext cx="3643200" cy="350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عنصر نائب لرقم الشريحة 3"/>
          <p:cNvSpPr/>
          <p:nvPr/>
        </p:nvSpPr>
        <p:spPr>
          <a:xfrm>
            <a:off x="8786880" y="6215040"/>
            <a:ext cx="425520" cy="287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E556-F4F9-42B3-BFB6-BA91934CA798}" type="slidenum">
              <a:rPr b="0" lang="ar-SA" sz="1400" spc="-1" strike="noStrike">
                <a:solidFill>
                  <a:srgbClr val="3c4729"/>
                </a:solidFill>
                <a:latin typeface="Arial"/>
              </a:rPr>
              <a:t>&lt;number&gt;</a:t>
            </a:fld>
            <a:endParaRPr b="0" lang="en-US" sz="1400" spc="-1" strike="noStrike">
              <a:solidFill>
                <a:srgbClr val="000000"/>
              </a:solidFill>
              <a:latin typeface="Arial"/>
            </a:endParaRPr>
          </a:p>
        </p:txBody>
      </p:sp>
      <p:pic>
        <p:nvPicPr>
          <p:cNvPr id="62" name="Picture 4" descr=""/>
          <p:cNvPicPr/>
          <p:nvPr/>
        </p:nvPicPr>
        <p:blipFill>
          <a:blip r:embed="rId1"/>
          <a:srcRect l="12274" t="0" r="14113" b="0"/>
          <a:stretch/>
        </p:blipFill>
        <p:spPr>
          <a:xfrm>
            <a:off x="4452840" y="1285920"/>
            <a:ext cx="3429000" cy="3562200"/>
          </a:xfrm>
          <a:prstGeom prst="rect">
            <a:avLst/>
          </a:prstGeom>
          <a:ln w="0">
            <a:noFill/>
          </a:ln>
        </p:spPr>
      </p:pic>
      <p:pic>
        <p:nvPicPr>
          <p:cNvPr id="63" name="Picture 5" descr=""/>
          <p:cNvPicPr/>
          <p:nvPr/>
        </p:nvPicPr>
        <p:blipFill>
          <a:blip r:embed="rId2"/>
          <a:srcRect l="12400" t="33224" r="11674" b="2897"/>
          <a:stretch/>
        </p:blipFill>
        <p:spPr>
          <a:xfrm>
            <a:off x="523800" y="1285920"/>
            <a:ext cx="3500640" cy="3571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07:01:42Z</dcterms:created>
  <dc:creator>HP</dc:creator>
  <dc:description/>
  <dc:language>en-US</dc:language>
  <cp:lastModifiedBy>HP</cp:lastModifiedBy>
  <dcterms:modified xsi:type="dcterms:W3CDTF">2010-05-10T07:21:19Z</dcterms:modified>
  <cp:revision>42</cp:revision>
  <dc:subject/>
  <dc:title>الشريحة 1</dc:title>
</cp:coreProperties>
</file>