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79A6-53CF-49E3-BA14-DE71E880579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F380-2EC4-4D2E-92BC-D8D9E366E47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A3A-7C1F-4FDB-9955-3556C44D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5A6-A69B-4C59-B0F9-251247E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42F-901A-4504-987D-992EE546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CF8-A59C-4C73-A0DE-769B4F36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D791-81D5-459B-8D88-011FA0FA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ACC9-0938-47E5-AE01-58E76299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A75E-AAE7-4957-A5B7-28A16EC9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CB7-9D55-4121-B979-F3AB60B3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DDA-CC64-4D2D-ABE1-75F4E2A5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425-CFB9-4F25-A5AD-65CA2D64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7CA-15B6-4412-9755-B17B008A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C08-B417-4B01-8320-CCEF53F0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50CE-B286-4FEC-A56D-32FAFF2DD43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742F-0E5C-475A-BF32-31E8C74CAEA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4AF0-E14B-46FA-9801-3F5435590D7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1E8-0054-4502-A708-AB189AEE076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f I told you once, it must be...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828800" y="2819520"/>
            <a:ext cx="5257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Recur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0D67-8B85-4DBC-A478-31566E51DAA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D51B-B733-4D85-BE41-1CF74B6106D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n) be the statement “3n belongs to S”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asis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(1) is true, because 3 is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P(n) is true, then P(n + 1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ume 3n is in S. Since 3n is in S and 3 is in S, it follows from the recursive definition of S tha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n + 3 = 3(n + 1) is also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 of Part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56BD-B465-49D1-ADA0-1028D049996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7E3D-AC93-4E2A-A834-77979C03502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Part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asis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initial elements of S are in A. 3 is in A.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step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show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+ y) is in A whenever x and y are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x and y are both in A, it follows that 3 | x and 3 | y. From Theorem I, Section 2.3, it follows that 3 | (x + y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 of Part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verall conclus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3446-639A-4BE2-AC8B-4F5FF550D31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548D-7FB5-46E3-B9E1-6D435A79CC2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well-formed formulae of variables, numerals and operators from {+, -, *, /, ^} are defined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is a well-formed formula if x is a numeral or variab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 + g), (f – g), (f * g), (f / g), (f ^ g) are well-formed formulae if f and g a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1989-B56E-4170-9EFC-17F0CC3D2FB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E0A5-96A4-48C4-98F1-97CDBD834C7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ith this definition, we can construct formulae such a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–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3) –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3) – (6 + 5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(z / (2 * 4)) – (6 + 5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B8DA-030B-442F-9E1E-F84FA420120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B228-757C-4717-9A9B-CD2F906B7CF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algorithm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it solves a problem by reducing it to an instance of the same problem with smaller inpu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cursive Euclidean Algorith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cd(a, b: nonnegative integers with a &lt; b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= 0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cd(a, b) := 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cd(a, b) := gcd(b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o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, a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6FC8-A049-4105-88C6-8F4957B7C83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8B96-0BFC-4B6C-92CC-26C32C695D5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cursive Fibonacci Algorith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ibo(n: nonnegative intege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 = 0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bo(0) :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 i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 = 1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bo(1) :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ibo(n) := fibo(n – 1) + fibo(n – 2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ABB4-54B7-4CCE-AC7E-2CFC5C14574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F24C-B409-4961-9E11-6060CEF46D9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cursive Fibonacci Evalua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4038480" y="1905120"/>
            <a:ext cx="1143000" cy="533160"/>
            <a:chOff x="4038480" y="1905120"/>
            <a:chExt cx="1143000" cy="533160"/>
          </a:xfrm>
        </p:grpSpPr>
        <p:sp>
          <p:nvSpPr>
            <p:cNvPr id="113" name="AutoShape 4"/>
            <p:cNvSpPr/>
            <p:nvPr/>
          </p:nvSpPr>
          <p:spPr>
            <a:xfrm>
              <a:off x="4038480" y="228600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Text Box 5"/>
            <p:cNvSpPr/>
            <p:nvPr/>
          </p:nvSpPr>
          <p:spPr>
            <a:xfrm>
              <a:off x="4267080" y="1905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4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15" name="Line 6"/>
          <p:cNvSpPr/>
          <p:nvPr/>
        </p:nvSpPr>
        <p:spPr>
          <a:xfrm flipH="1">
            <a:off x="3271320" y="2438280"/>
            <a:ext cx="690840" cy="6876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191120" y="2438280"/>
            <a:ext cx="6858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Line 10"/>
          <p:cNvSpPr/>
          <p:nvPr/>
        </p:nvSpPr>
        <p:spPr>
          <a:xfrm flipH="1">
            <a:off x="2666880" y="33526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281400" y="33512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Line 14"/>
          <p:cNvSpPr/>
          <p:nvPr/>
        </p:nvSpPr>
        <p:spPr>
          <a:xfrm flipH="1">
            <a:off x="4495680" y="33526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5110200" y="33512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Line 18"/>
          <p:cNvSpPr/>
          <p:nvPr/>
        </p:nvSpPr>
        <p:spPr>
          <a:xfrm flipH="1">
            <a:off x="2057400" y="426708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671920" y="4265640"/>
            <a:ext cx="45720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3" name="Group 31"/>
          <p:cNvGrpSpPr/>
          <p:nvPr/>
        </p:nvGrpSpPr>
        <p:grpSpPr>
          <a:xfrm>
            <a:off x="2133720" y="2743200"/>
            <a:ext cx="1143000" cy="533520"/>
            <a:chOff x="2133720" y="2743200"/>
            <a:chExt cx="1143000" cy="533520"/>
          </a:xfrm>
        </p:grpSpPr>
        <p:sp>
          <p:nvSpPr>
            <p:cNvPr id="124" name="AutoShape 7"/>
            <p:cNvSpPr/>
            <p:nvPr/>
          </p:nvSpPr>
          <p:spPr>
            <a:xfrm>
              <a:off x="3124080" y="3124080"/>
              <a:ext cx="152640" cy="15264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" name="Text Box 22"/>
            <p:cNvSpPr/>
            <p:nvPr/>
          </p:nvSpPr>
          <p:spPr>
            <a:xfrm>
              <a:off x="2133720" y="27432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3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6" name="Group 33"/>
          <p:cNvGrpSpPr/>
          <p:nvPr/>
        </p:nvGrpSpPr>
        <p:grpSpPr>
          <a:xfrm>
            <a:off x="1523880" y="3657600"/>
            <a:ext cx="1148040" cy="531720"/>
            <a:chOff x="1523880" y="3657600"/>
            <a:chExt cx="1148040" cy="531720"/>
          </a:xfrm>
        </p:grpSpPr>
        <p:sp>
          <p:nvSpPr>
            <p:cNvPr id="127" name="AutoShape 11"/>
            <p:cNvSpPr/>
            <p:nvPr/>
          </p:nvSpPr>
          <p:spPr>
            <a:xfrm>
              <a:off x="25192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Text Box 23"/>
            <p:cNvSpPr/>
            <p:nvPr/>
          </p:nvSpPr>
          <p:spPr>
            <a:xfrm>
              <a:off x="1523880" y="36576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2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1066680" y="4951440"/>
            <a:ext cx="995400" cy="674640"/>
            <a:chOff x="1066680" y="4951440"/>
            <a:chExt cx="995400" cy="674640"/>
          </a:xfrm>
        </p:grpSpPr>
        <p:sp>
          <p:nvSpPr>
            <p:cNvPr id="130" name="AutoShape 19"/>
            <p:cNvSpPr/>
            <p:nvPr/>
          </p:nvSpPr>
          <p:spPr>
            <a:xfrm>
              <a:off x="1909800" y="495144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Text Box 24"/>
            <p:cNvSpPr/>
            <p:nvPr/>
          </p:nvSpPr>
          <p:spPr>
            <a:xfrm>
              <a:off x="1066680" y="51055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2" name="Group 35"/>
          <p:cNvGrpSpPr/>
          <p:nvPr/>
        </p:nvGrpSpPr>
        <p:grpSpPr>
          <a:xfrm>
            <a:off x="2895480" y="4951440"/>
            <a:ext cx="914400" cy="750600"/>
            <a:chOff x="2895480" y="4951440"/>
            <a:chExt cx="914400" cy="750600"/>
          </a:xfrm>
        </p:grpSpPr>
        <p:sp>
          <p:nvSpPr>
            <p:cNvPr id="133" name="AutoShape 21"/>
            <p:cNvSpPr/>
            <p:nvPr/>
          </p:nvSpPr>
          <p:spPr>
            <a:xfrm>
              <a:off x="3052800" y="4951440"/>
              <a:ext cx="15228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Text Box 25"/>
            <p:cNvSpPr/>
            <p:nvPr/>
          </p:nvSpPr>
          <p:spPr>
            <a:xfrm>
              <a:off x="2895480" y="51814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0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5" name="Group 36"/>
          <p:cNvGrpSpPr/>
          <p:nvPr/>
        </p:nvGrpSpPr>
        <p:grpSpPr>
          <a:xfrm>
            <a:off x="3352680" y="4037040"/>
            <a:ext cx="914400" cy="750600"/>
            <a:chOff x="3352680" y="4037040"/>
            <a:chExt cx="914400" cy="750600"/>
          </a:xfrm>
        </p:grpSpPr>
        <p:sp>
          <p:nvSpPr>
            <p:cNvPr id="136" name="AutoShape 13"/>
            <p:cNvSpPr/>
            <p:nvPr/>
          </p:nvSpPr>
          <p:spPr>
            <a:xfrm>
              <a:off x="36622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3352680" y="4267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8" name="Group 32"/>
          <p:cNvGrpSpPr/>
          <p:nvPr/>
        </p:nvGrpSpPr>
        <p:grpSpPr>
          <a:xfrm>
            <a:off x="4876920" y="2743200"/>
            <a:ext cx="1143000" cy="533520"/>
            <a:chOff x="4876920" y="2743200"/>
            <a:chExt cx="1143000" cy="533520"/>
          </a:xfrm>
        </p:grpSpPr>
        <p:sp>
          <p:nvSpPr>
            <p:cNvPr id="139" name="AutoShape 9"/>
            <p:cNvSpPr/>
            <p:nvPr/>
          </p:nvSpPr>
          <p:spPr>
            <a:xfrm>
              <a:off x="4876920" y="3124080"/>
              <a:ext cx="152280" cy="15264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Text Box 27"/>
            <p:cNvSpPr/>
            <p:nvPr/>
          </p:nvSpPr>
          <p:spPr>
            <a:xfrm>
              <a:off x="5105520" y="27432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2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1" name="Group 37"/>
          <p:cNvGrpSpPr/>
          <p:nvPr/>
        </p:nvGrpSpPr>
        <p:grpSpPr>
          <a:xfrm>
            <a:off x="4343400" y="4037040"/>
            <a:ext cx="914400" cy="750600"/>
            <a:chOff x="4343400" y="4037040"/>
            <a:chExt cx="914400" cy="750600"/>
          </a:xfrm>
        </p:grpSpPr>
        <p:sp>
          <p:nvSpPr>
            <p:cNvPr id="142" name="AutoShape 15"/>
            <p:cNvSpPr/>
            <p:nvPr/>
          </p:nvSpPr>
          <p:spPr>
            <a:xfrm>
              <a:off x="43480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3" name="Text Box 28"/>
            <p:cNvSpPr/>
            <p:nvPr/>
          </p:nvSpPr>
          <p:spPr>
            <a:xfrm>
              <a:off x="4343400" y="4267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1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4" name="Group 38"/>
          <p:cNvGrpSpPr/>
          <p:nvPr/>
        </p:nvGrpSpPr>
        <p:grpSpPr>
          <a:xfrm>
            <a:off x="5491080" y="4037040"/>
            <a:ext cx="986040" cy="674640"/>
            <a:chOff x="5491080" y="4037040"/>
            <a:chExt cx="986040" cy="674640"/>
          </a:xfrm>
        </p:grpSpPr>
        <p:sp>
          <p:nvSpPr>
            <p:cNvPr id="145" name="AutoShape 17"/>
            <p:cNvSpPr/>
            <p:nvPr/>
          </p:nvSpPr>
          <p:spPr>
            <a:xfrm>
              <a:off x="5491080" y="4037040"/>
              <a:ext cx="152640" cy="152280"/>
            </a:xfrm>
            <a:prstGeom prst="flowChartConnector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Text Box 29"/>
            <p:cNvSpPr/>
            <p:nvPr/>
          </p:nvSpPr>
          <p:spPr>
            <a:xfrm>
              <a:off x="5562720" y="419112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f(0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9CFD-76A7-44E9-902F-3B75C5DF62C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E505-3D63-4A29-8DCF-70A1B8D3D82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procedur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iterative_fibo(n: nonnegative integer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n = 0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th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lse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begi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:= 0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 := 1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to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n-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begi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 := x + 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 : = y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 := z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n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en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{y is the n-th Fibonacci number}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464B-3A21-431B-AD12-C6E3C2F7862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93A4-1C5D-4991-8691-A63F72A7B5D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Algorith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very recursive algorithm, there is an equivalent iterative algorith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cursive algorithms are often shorter, more elegant, and easier to understand than their iterative counterpar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iterative algorithms are usually more efficient in their use of space and tim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BA9-914E-4A8A-965F-A1070399A30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F684-19DB-4CF8-88A1-B2E90DE8D5A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 Defini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principle closely related to mathematical indu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 object is defined in terms of itsel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recursively defin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unct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CC53-985F-4950-BE2F-0172F50CE13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21B3-49E5-4AC2-AFD0-4C3294BFD11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qu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equence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of powers of 2 is given b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n = 0, 1, 2, … 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ame sequence can also be defin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+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n = 0, 1, 2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Obviously, induction and recursion are similar princi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516C-7FFF-4A45-9323-47446539AF0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2CCC-4832-4F4B-A7C9-9A2BFD05DCB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the following method to define a function with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natural number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 its domai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pecify the value of the function at zer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ive a rule for finding its value at any integer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from its values at smaller integ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ch a definition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curs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ve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CED2-A71F-463A-A6BD-EC673C0FB4E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2536-B014-4A4F-9AC1-0D147D813BA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 + 1) = 2f(n) +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2f(0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 + 3 = 9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2f(1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9 + 3 = 2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2f(2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1 + 3 = 4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2f(3) + 3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5 + 3 = 9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211B-768B-46C1-96FB-6552605CBB6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C87B-3F38-4C96-960E-738AA9CFD4F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can we recursively define the factorial function f(n) = n! ?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 + 1) = (n + 1)f(n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1f(0) = 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2f(1) = 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3f(2) = 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= 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4f(3) = 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 = 2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621E-3876-430D-950F-926547CB982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180D-AAAE-41F4-9B28-A98308F58DF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 famous example: The Fibonacci numbers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0, f(1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n) = f(n – 1) + f(n - 2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0)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1)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2) = f(1) + f(0) = 1 + 0 =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3) = f(2) + f(1) = 1 + 1 =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4) = f(3) + f(2) = 2 + 1 =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5) = f(4) + f(3) = 3 + 2 = 5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6) = f(5) + f(4) = 5 + 3 = 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D787-77CA-4AF2-B1CB-32509ADA86B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7458-5EAB-4C46-B0DB-9FC522C807E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want to recursively define a set, we need to provide two thing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itial se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the construction of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ddition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elements from elements in the se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be recursively defined b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+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if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) and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 is the set of positive integers divisible by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61FA-E819-4088-99B8-E3C86D096D2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6DBF-6F32-4AF2-BF74-206AC5801F1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cursively Defined Set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A be the set of all positive integers divisible by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show that A = S, we must show tha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 and 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Part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prove that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, we must show that every positive integer divisible by 3 is in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ill use mathematical induction to show this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3T03:25:33Z</dcterms:modified>
  <cp:revision>117</cp:revision>
  <dc:subject/>
  <dc:title>PowerPoint Presentation</dc:title>
</cp:coreProperties>
</file>