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BD3-8A69-407E-9BEB-EB828423E1B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B7BE-E8FA-4238-ACC0-8ECDB1F8A43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940-6744-4830-AC7D-24FDECE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EE2-7BB4-4DCB-8CAF-4E4024B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6FC-3FE3-48C2-B4C8-8BCAB119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441-84CD-4FF4-88A1-5A83F0C5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6F8-FA22-4F44-9E20-17C685A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5CE-0AD6-4139-A686-CD600E06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600-1FFE-4335-8D91-18BDA8A5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77C-D06E-4B5A-B966-6D78BF5E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027-C515-4DB5-A7EF-9653EB4D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11E-88DA-46AF-B2F4-1FC402C7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043-C4B5-418F-A45E-AF2217C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D69-0062-4547-A566-7803143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BF8-E85F-47E3-90EE-F8A0EB35F2C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ABEB-026D-4814-9BD0-96B7D6DA6E1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59A-CE7A-4F18-917F-D5ABD2529B6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DC04-748F-4998-8C85-D91D0D26C60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f I told you once, it must be..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828800" y="2819520"/>
            <a:ext cx="5257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041-0401-4862-9491-3F58706FA48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3B93-E017-4398-9B6F-20201ECC71D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statement “3n belongs to S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(1) is true, because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P(n) is true, then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3n is in S. Since 3n is in S and 3 is in S, it follows from the recursive definition of S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n + 3 = 3(n + 1) is also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610B-1A81-4445-9E2F-76C720E0D52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BE2-3385-4C11-B329-96A3C84B025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initial elements of S are in A. 3 is in A.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is in A whenever x and y are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and y are both in A, it follows that 3 | x and 3 | y. From Theorem I, Section 2.3, it follows that 3 | (x + y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verall conclus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647-9636-466B-A092-6334AD871CA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037-2D78-4E0F-A0EF-DF6EA17816A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well-formed formulae of variables, numerals and operators from {+, -, *, /, ^} are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is a well-formed formula if x is a numeral or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, (f – g), (f * g), (f / g), (f ^ g) are well-formed formulae if f and g a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9AE1-734F-4739-A386-BDDB79AE4F3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0AA7-E085-4E65-9952-CEA26E08336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is definition, we can construct formulae such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(2 * 4)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E946-CF33-4BAA-8A2B-D68D1C1CC09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74B5-CB5A-4E47-8BFA-8616312AB86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algorithm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solves a problem by reducing it to an instance of the same problem with smaller inpu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Euclidean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: nonnegative integers with a &lt; b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cd(a, b) :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) := gcd(b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, 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331C-6903-4DAB-82ED-DF145B610A4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56C-589F-40AC-9923-F1610D95F3E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Fibonacci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: nonnegative integ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0) :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 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1) :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) := fibo(n – 1) + fibo(n – 2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930F-AAEA-4D66-8107-308486A700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615-BFDC-438B-926D-4DAD0B70502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Fibonacci Evalu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4038480" y="1905120"/>
            <a:ext cx="1143000" cy="533160"/>
            <a:chOff x="4038480" y="1905120"/>
            <a:chExt cx="1143000" cy="533160"/>
          </a:xfrm>
        </p:grpSpPr>
        <p:sp>
          <p:nvSpPr>
            <p:cNvPr id="113" name="AutoShape 4"/>
            <p:cNvSpPr/>
            <p:nvPr/>
          </p:nvSpPr>
          <p:spPr>
            <a:xfrm>
              <a:off x="4038480" y="228600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4267080" y="1905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4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15" name="Line 6"/>
          <p:cNvSpPr/>
          <p:nvPr/>
        </p:nvSpPr>
        <p:spPr>
          <a:xfrm flipH="1">
            <a:off x="3271320" y="2438280"/>
            <a:ext cx="690840" cy="6876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191120" y="2438280"/>
            <a:ext cx="6858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26668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2814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Line 14"/>
          <p:cNvSpPr/>
          <p:nvPr/>
        </p:nvSpPr>
        <p:spPr>
          <a:xfrm flipH="1">
            <a:off x="44956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1102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2057400" y="42670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671920" y="42656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3" name="Group 31"/>
          <p:cNvGrpSpPr/>
          <p:nvPr/>
        </p:nvGrpSpPr>
        <p:grpSpPr>
          <a:xfrm>
            <a:off x="2133720" y="2743200"/>
            <a:ext cx="1143000" cy="533520"/>
            <a:chOff x="2133720" y="2743200"/>
            <a:chExt cx="1143000" cy="533520"/>
          </a:xfrm>
        </p:grpSpPr>
        <p:sp>
          <p:nvSpPr>
            <p:cNvPr id="124" name="AutoShape 7"/>
            <p:cNvSpPr/>
            <p:nvPr/>
          </p:nvSpPr>
          <p:spPr>
            <a:xfrm>
              <a:off x="3124080" y="31240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Text Box 22"/>
            <p:cNvSpPr/>
            <p:nvPr/>
          </p:nvSpPr>
          <p:spPr>
            <a:xfrm>
              <a:off x="21337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3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6" name="Group 33"/>
          <p:cNvGrpSpPr/>
          <p:nvPr/>
        </p:nvGrpSpPr>
        <p:grpSpPr>
          <a:xfrm>
            <a:off x="1523880" y="3657600"/>
            <a:ext cx="1148040" cy="531720"/>
            <a:chOff x="1523880" y="3657600"/>
            <a:chExt cx="1148040" cy="531720"/>
          </a:xfrm>
        </p:grpSpPr>
        <p:sp>
          <p:nvSpPr>
            <p:cNvPr id="127" name="AutoShape 11"/>
            <p:cNvSpPr/>
            <p:nvPr/>
          </p:nvSpPr>
          <p:spPr>
            <a:xfrm>
              <a:off x="2519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1523880" y="3657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066680" y="4951440"/>
            <a:ext cx="995400" cy="674640"/>
            <a:chOff x="1066680" y="4951440"/>
            <a:chExt cx="995400" cy="674640"/>
          </a:xfrm>
        </p:grpSpPr>
        <p:sp>
          <p:nvSpPr>
            <p:cNvPr id="130" name="AutoShape 19"/>
            <p:cNvSpPr/>
            <p:nvPr/>
          </p:nvSpPr>
          <p:spPr>
            <a:xfrm>
              <a:off x="1909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1066680" y="5105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2" name="Group 35"/>
          <p:cNvGrpSpPr/>
          <p:nvPr/>
        </p:nvGrpSpPr>
        <p:grpSpPr>
          <a:xfrm>
            <a:off x="2895480" y="4951440"/>
            <a:ext cx="914400" cy="750600"/>
            <a:chOff x="2895480" y="4951440"/>
            <a:chExt cx="914400" cy="750600"/>
          </a:xfrm>
        </p:grpSpPr>
        <p:sp>
          <p:nvSpPr>
            <p:cNvPr id="133" name="AutoShape 21"/>
            <p:cNvSpPr/>
            <p:nvPr/>
          </p:nvSpPr>
          <p:spPr>
            <a:xfrm>
              <a:off x="3052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Text Box 25"/>
            <p:cNvSpPr/>
            <p:nvPr/>
          </p:nvSpPr>
          <p:spPr>
            <a:xfrm>
              <a:off x="2895480" y="5181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5" name="Group 36"/>
          <p:cNvGrpSpPr/>
          <p:nvPr/>
        </p:nvGrpSpPr>
        <p:grpSpPr>
          <a:xfrm>
            <a:off x="3352680" y="4037040"/>
            <a:ext cx="914400" cy="750600"/>
            <a:chOff x="3352680" y="4037040"/>
            <a:chExt cx="914400" cy="750600"/>
          </a:xfrm>
        </p:grpSpPr>
        <p:sp>
          <p:nvSpPr>
            <p:cNvPr id="136" name="AutoShape 13"/>
            <p:cNvSpPr/>
            <p:nvPr/>
          </p:nvSpPr>
          <p:spPr>
            <a:xfrm>
              <a:off x="3662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335268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" name="Group 32"/>
          <p:cNvGrpSpPr/>
          <p:nvPr/>
        </p:nvGrpSpPr>
        <p:grpSpPr>
          <a:xfrm>
            <a:off x="4876920" y="2743200"/>
            <a:ext cx="1143000" cy="533520"/>
            <a:chOff x="4876920" y="2743200"/>
            <a:chExt cx="1143000" cy="533520"/>
          </a:xfrm>
        </p:grpSpPr>
        <p:sp>
          <p:nvSpPr>
            <p:cNvPr id="139" name="AutoShape 9"/>
            <p:cNvSpPr/>
            <p:nvPr/>
          </p:nvSpPr>
          <p:spPr>
            <a:xfrm>
              <a:off x="4876920" y="3124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51055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343400" y="4037040"/>
            <a:ext cx="914400" cy="750600"/>
            <a:chOff x="4343400" y="4037040"/>
            <a:chExt cx="914400" cy="750600"/>
          </a:xfrm>
        </p:grpSpPr>
        <p:sp>
          <p:nvSpPr>
            <p:cNvPr id="142" name="AutoShape 15"/>
            <p:cNvSpPr/>
            <p:nvPr/>
          </p:nvSpPr>
          <p:spPr>
            <a:xfrm>
              <a:off x="4348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Text Box 28"/>
            <p:cNvSpPr/>
            <p:nvPr/>
          </p:nvSpPr>
          <p:spPr>
            <a:xfrm>
              <a:off x="434340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4" name="Group 38"/>
          <p:cNvGrpSpPr/>
          <p:nvPr/>
        </p:nvGrpSpPr>
        <p:grpSpPr>
          <a:xfrm>
            <a:off x="5491080" y="4037040"/>
            <a:ext cx="986040" cy="674640"/>
            <a:chOff x="5491080" y="4037040"/>
            <a:chExt cx="986040" cy="674640"/>
          </a:xfrm>
        </p:grpSpPr>
        <p:sp>
          <p:nvSpPr>
            <p:cNvPr id="145" name="AutoShape 17"/>
            <p:cNvSpPr/>
            <p:nvPr/>
          </p:nvSpPr>
          <p:spPr>
            <a:xfrm>
              <a:off x="5491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Text Box 29"/>
            <p:cNvSpPr/>
            <p:nvPr/>
          </p:nvSpPr>
          <p:spPr>
            <a:xfrm>
              <a:off x="5562720" y="4191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C90-D596-44DC-9947-22B6956A33D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CB99-18EC-4FD7-8304-E3FE1574B74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iterative_fibo(n: nonnegative integer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 := 1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-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 := x +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 =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z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{y is the n-th Fibonacci number}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910-BD4B-4694-94B6-58B834206A6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2F1A-E0C2-430C-AC99-9DEB7C43F72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recursive algorithm, there is an equivalent iterative algorith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algorithms are often shorter, more elegant, and easier to understand than their iterative counterpar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terative algorithms are usually more efficient in their use of space and tim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B34-69E6-42A3-8F02-A2D593E05DF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EE2B-C9B0-46A9-A16A-A0E453CF219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Defin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inciple closely related to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 object is defined in terms of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recursively defi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unc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586-47A1-4042-9D3D-44D6F3A2C8E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071-3875-484D-8AD4-1A610DA09A8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qu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quence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of powers of 2 is given b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n = 0, 1, 2, … 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ame sequence can also be defin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, 1, 2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Obviously, induction and recursion are similar princi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E2ED-A0EA-40A6-A50B-1ACF03176A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4284-AA6B-4625-A475-D04A0DCAE8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e following method to define a function with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its dom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fy the value of the function at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ive a rule for finding its value at any integer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from its values at smaller integ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ch a definition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070-42F2-4EC7-89FE-FB4CFD57072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5C8E-9AC1-4B1D-9262-77D00941FCD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2f(n) +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2f(0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+ 3 = 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9 + 3 = 2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2f(2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+ 3 = 4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2f(3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5 + 3 = 9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E8F3-8662-4560-A183-982F4460771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A47-4DEF-44C2-8402-40610D57C92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can we recursively define the factorial function f(n) = n! ?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(n + 1)f(n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f(0) =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3f(2) = 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= 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4f(3) = 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2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2D1-6CD2-42BB-AC15-AC9243C26E0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9A1-310B-4F4F-B320-0D9099B4289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 famous example: The Fibonacci number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, 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) = f(n – 1) + f(n - 2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f(1) + f(0) = 1 + 0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f(2) + f(1) = 1 + 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f(3) + f(2) = 2 + 1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5) = f(4) + f(3) = 3 + 2 =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6) = f(5) + f(4) = 5 + 3 = 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44B4-4567-4394-9088-7330A040682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5BA-0BC8-47F0-9E67-14D0BD6E9A3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recursively define a set, we need to provide two thing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itial 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the construction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ddition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elements from elements in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be recursively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if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and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 is the set of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203D-8014-4882-8E1B-D19DEE4785D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9DF-C89F-485F-83A2-F4E4281A86F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A be the set of all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show that A = S, we must show tha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and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prove that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, we must show that every positive integer divisible by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use mathematical induction to show thi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3T03:25:33Z</dcterms:modified>
  <cp:revision>117</cp:revision>
  <dc:subject/>
  <dc:title>PowerPoint Presentation</dc:title>
</cp:coreProperties>
</file>