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6B42-B481-49D9-82BD-CFC7C58D6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62A7-E3C8-4B7F-BCCF-85F977E03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2A158F-12DC-4C22-BC46-8F5A37F4D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0B9FFA-23A2-43F0-8BA3-D9200F147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250045-9E89-47BA-88D1-A1C4A11BA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76533C-C432-4AD3-9ABB-1F8D7841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A95B8D-E379-45C9-8094-C41C3E13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C84C6E-5376-433C-8898-CDF54DCB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7E94E3-22ED-4C7F-802A-57FF642B2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12F5E0-81A6-4ED2-A0AF-736E130A4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FA30EB-D302-4616-8CCD-E54A7E18A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C51D-2DA0-4955-846B-D98462429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ECA1-2B26-4601-B7A1-066B7CC38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4FF12-0ABF-4279-A25E-F202F4958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5E562-287C-4F7D-A9D8-5F955FDB4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D44DD-B229-4685-AA82-D0421F4E4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BC190-66F0-4935-A758-5463C4784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83A7D-D877-49C5-8F5E-F05955E3D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5CE65-D07A-4CEE-A61C-862A91242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5F93B-F4C5-41F6-AB3C-3D11F2B3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DA73-37E6-4D12-BDBB-A823E493C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A04A0-3F3B-49FC-901F-F71D32B5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E3E25-5F07-4377-A32F-350B01BF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24F1C-834B-4947-80FF-51277F58E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DBC3E-C8C9-46D8-BE9F-6185A05D6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6CDE0-048F-457F-BC42-5EE9C8D26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ECADA-4303-4234-A4EB-9EB61E0E6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029E9-C8BB-4D6D-AB68-9102DA39D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D0158-65C6-4273-AE62-C989DCD0E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C7C4E-0144-4186-9A03-8F70FD933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C55DD-3A08-4EE2-8CC2-E3C59BF94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0E85-4F9B-4BAA-8373-DBD877D32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700CE-B0A2-4EB0-8C1D-640E28DD6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B36AA-AEC5-4588-B880-490962E0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78513-3302-429A-8506-87C3C986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28368-5ECC-43E1-8055-6FC2EC4C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94FB4-E76A-47C4-9993-190B91341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FB9AF-B1CB-4D1B-9C55-A88926E71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C40F2-6990-43FA-AF39-589A2121D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82A73-27D6-43FB-88EC-577FC7403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270FC-9A0D-40F5-BD46-9915CC652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2E205-B3F1-4CC3-8410-3AE9EAF0F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363B-524B-4ECC-9D6F-6BF5F447A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47FC0-0948-446C-AA96-008FFC5F2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CCB96-C452-4CE5-86B6-8F3BBBE48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892C5-B569-4AD3-BD1B-BC499879A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F9D5D-48C5-4879-9B39-301E7B73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39EC3-FC40-431F-A488-A67DFD11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87728-5691-4BCE-929F-CEFC33DA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53E1D-59A2-40B6-A567-55D46E135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725A1-DC7B-4A2C-BBC1-7F043B477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F9E41-F8A9-45C0-BADC-4035DA0D2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7A162-A26B-45F2-A16F-AB6A10AE6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6605-7D60-4E50-BEC3-D5398DF9C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327C0-D632-4829-BFE7-254D9471A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0CDE3-E3FB-4DBC-95A5-2BE864887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04678-EA3C-4F71-AAF3-B6E987A50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4502F-A2CF-4C3B-BDBA-F99E551EA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C66D7-7D08-4E6E-9412-7AD364376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FCF3C-1B6D-47E8-B06E-773F6FB0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AD305-4F41-4A37-A465-1AD8B2E6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E4335-F1B2-4CC5-9328-5C214CBB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989E8-8D62-470A-ABA6-1D662F087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C15A0-6FCD-48EF-BEDB-28D1B562F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A384-C989-4D42-B5C3-B2DD2E5FA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869E6-C912-4429-ABDA-F27204159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78A343-477C-4165-B38A-D62E2A6D9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AEF0F-4C9C-42C4-AB8E-ADEC8EA15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A5520-A2E6-4CFF-9F60-2DCB9C711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5E233-D245-44DB-A527-FF25D524E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514EDF-EDC4-4D6A-8BC2-1284A4905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34AB28-D3D3-4508-9C45-1E3F5689B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8085B-630B-48F7-B0C6-A3432A53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795E6-AFA3-43D5-B3C7-1BB30EE7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A5159-C903-4D8D-A609-B56EDC6D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B397-3885-4461-BF41-574E4D76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854FE-2397-4892-861F-EEA220A87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5A17B-1991-4FC7-A634-79E08A7EF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E6BFD6-6633-424C-8979-6AD8D9EE8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31D060-E2FD-4377-9532-D10FC8A29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B1B059-2DF9-4232-9455-5F879A586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2EEE7D-F079-4A5F-8D4F-82E7F4F8A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F4D137-A02F-4966-892C-E76126FFA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124D6-4C9E-4164-A1ED-449446106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2B9A9F-2695-4060-AE99-F6CE0FD44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6FF819-5D76-4706-931E-46CBD70A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7511-0E4E-4CA4-BE3E-176DFA8C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D29242-0940-4CBD-A10F-FA09B956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B1611C-B9CE-4093-8708-C9E66585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84200-D81F-4BC7-B827-BDF46B531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972A51-F28F-4859-8A38-53FBBBDB5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D7F345-3809-4747-8B48-69731320F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6F8CB5-561A-467C-9617-18A411418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6312E2-DDF2-4A3C-8101-D73377AE4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5B527F-655C-4946-9804-32E668B06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E59518-32FA-428E-ACDB-E27B1696A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451FA8-591D-43BD-9C7D-12DDDCFD9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0D42-B217-4A74-8348-7A98EDC8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68167F-FC0D-4170-959C-1702E0807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776807-6D4B-4872-A4BC-35D56B78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BB4E21-760E-4229-AF50-6A195871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C26EEC-730C-4635-8A08-E00E8B23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59E888-941D-4C12-9B59-2DE1D2D94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BD6C81-7489-476B-A215-64CDC7EE6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4C2206-6B1C-473F-8180-134A05925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084AEE-56AB-4F1B-84B8-21FB242AA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FEA64C-DA10-42C2-9352-2228CACB0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F49940-B192-4446-9347-7ECB4D05A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5B416-C414-45C9-8B76-5CB826AA4082}" type="datetime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F4B33-94DF-45C5-9456-AEBCED3E915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C9B99-354B-4A89-929A-9F826CE0E23B}" type="datetime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D6BF0-A7AD-4B8F-8D8F-57C1FDAB9AF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C7370-A604-435A-8327-C3989AC389B3}" type="datetime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04AD2-6A21-420A-97EA-BE92209D29E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5BB6F-B0C3-4C03-AF24-7E834AF5A655}" type="datetime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94934-D4D4-4A36-B020-A1FDC3A20C5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C7062-977E-421E-AAA3-8FCCE13CB79E}" type="datetime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48F3A-E3DE-4314-BC56-3F39974FC40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706C7-FABD-4C4F-A56A-F8D94706B9B7}" type="datetime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319AE-5E1B-40DD-BDD6-B5984664DBC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B0206-5406-4A98-B163-21C91D8D24D2}" type="datetime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66076-DD53-4760-BAE6-04003608943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05FA3-7A6C-49C5-AC55-556159F53173}" type="datetime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FB9A3-D1F3-4BA6-917B-8204AF96862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25C30-B753-480E-A798-E9ED7725A304}" type="datetime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F9FCD-E576-4E38-A8C0-8B3A021E365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285840" y="219240"/>
            <a:ext cx="8407440" cy="102996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Fundamentals of Biochemistry, by Voet D., Voet JG, and Pratt CW, John Wiley &amp; Sons, Inc (1999)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Lehninger Principles of Biochemistry, 5th edition, by Nelson DL and Cox MM, W.H. Freeman and Company (2008)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Biochemistry, 6th edition, by Berg JM, Tymoczko JL, and Stryer L, W.H. Freeman and Company (2006)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Lippincott's Illustrated Reviews: Biochemistry, by Pamela C. Champe &amp; Richard A. Harvey (2010)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Biochemical Calculations: How to Solve Mathematical Problems in General Biochemistry, by Irwin H. Segel 2nd Edition (1976)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5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1AB3B-76FB-4BB9-9533-4BB4B2570E5B}" type="slidenum">
              <a:rPr b="0" lang="en-US" sz="1100" spc="-1" strike="noStrike">
                <a:solidFill>
                  <a:srgbClr val="d38e27"/>
                </a:solidFill>
                <a:latin typeface="Arial"/>
              </a:rPr>
              <a:t>1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4T05:05:16Z</dcterms:created>
  <dc:creator>Al-Dbass</dc:creator>
  <dc:description/>
  <dc:language>en-US</dc:language>
  <cp:lastModifiedBy>sabdi</cp:lastModifiedBy>
  <dcterms:modified xsi:type="dcterms:W3CDTF">2015-09-10T08:25:20Z</dcterms:modified>
  <cp:revision>16</cp:revision>
  <dc:subject/>
  <dc:title>Enzymology</dc:title>
</cp:coreProperties>
</file>