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EBF7-4402-4266-BEAB-712D07713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0746-CA32-4990-AD91-E7F5D231D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7B55C6-F830-4DE4-B4A4-0F51C9C4E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A2ED6D-AF1E-4AD1-8B67-19F343232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C0A770-0F39-4B1B-8AF0-7E8727116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AA8593-2D09-4E2A-ABDD-F6D2C59C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0B67C2-C374-45F0-A2D2-50037EC1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CD4ABD-E564-4248-B3A5-51DAF05E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273E19-FDF0-46F8-A8B6-B11B80F0F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CEAD48-109D-46F6-A5E0-0EC58082D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533785-151A-44CD-89BB-3B73121FD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7CB0-0AF2-4C2D-8912-1F14D2BF4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40A2-9CCB-4177-93A3-2DEE726BB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EC4D9-82A9-4385-ACD5-3F791B6A6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2238B-7E5F-4747-8B29-D15305F1A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BFE14-4011-4929-BB05-0B51584D9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19142-5E9C-4EAD-B468-5BE223E2C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34DFC-D29C-4D49-8B80-1CD2D891C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D657F-61F0-43B1-84A6-D05138358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64572-4A27-4DCB-A195-DD8092B3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D82C-4980-43E3-838D-DB8E0F93F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54666-C95F-457D-9CD9-7DB86601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A1E2A-A11F-41BE-A09A-14078C32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F08A1-4797-4655-9EC1-B2197039B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C4D63-F671-4556-AF2F-4E152A37C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A1A6E-BD3B-4042-AE95-F1AF06C8A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CFDAC-679A-4381-B47D-583DCE937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16324-BCB7-46F1-9DE4-622451C10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4FBCA-616D-4C8D-A747-8B20F37AC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B3734-027F-4C12-BCDA-AAB0417F2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FAF2A-8893-4F45-8CB2-605A458D0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2194-8766-4CDA-AB3F-7F0E88021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59B1B-32E4-426A-BC3E-6FA83277F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4FEC9-B976-4849-84BC-559B592D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56CEA-E0CD-4862-A213-8D6B5C17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AF5E2-5F3B-4483-B798-507C7D12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EB107-504F-4E51-91E2-5655010AE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C0C61-C971-447C-8B54-3F52A5EBE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C419D-B7F1-41B6-B05C-88A3EFA5C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058A5-7D41-4C23-81D3-845AF91CB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995F3-F1A9-45BC-AB8F-053B1F1DA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8D260-87A7-4129-BA90-B3D684925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1F06-2944-4C5E-8845-3E8CDD9D2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E293D-C484-4283-94F1-50BACE8AE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2CF85-9022-43DA-8E60-0845C5C9C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4E3A1-5851-4937-9290-73D79DF40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EA08C-AEE2-4179-B245-41000245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8128D-17E4-4F62-A01F-BFCD18AC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B1485-801F-4780-947E-2CE1BA18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B160C-D5BE-481A-AF5A-C5C1E654E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2A714-ECCC-4E4B-8865-0694B10A0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0523A-5A7B-4ECF-B3DF-A7DCEBE8D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5F5B9-3A38-4A1B-AC92-156C42E5F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773F-FC1D-448E-934D-DBB9F6B80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83851-3B31-491B-8147-377E7CD7A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9EF97-7761-491E-986B-9DC4A4B2A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23B78-8A01-4E77-88B3-045FEF86D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D9B03-1972-44C2-92CF-230B09672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E738A-FAF1-4155-81F4-515E64AA8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418DA-CD86-40B6-9D21-FCD6239A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3728A-8D27-4E05-9CE3-ABD30637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8D0EC-B242-49AE-88E5-5A3CFC98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C27ED-E96B-40BA-831F-0C6C66EFA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AAAA6-E5A1-4875-9D78-8C05739AB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424C-B927-4F60-BF48-5E30E57BF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00502-17EE-4C1C-89CC-7AC608E3C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89F1D-16D0-4DBA-8E78-EF7AC19C7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085C3-34DD-4FCF-B265-665C0E330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33202-D73F-4687-84AD-2EBB13CFE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876A2-EFD4-4C54-B3A3-D424D654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C22C5-7E2D-43B9-BCF0-82AD89665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A84F8-D728-4806-94EA-90562A582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E9DA6-FA4A-433E-B8C9-0CF38C4A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6B3D4-C866-48F7-B3FE-2A5249D2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730B1-CF44-4A44-9D95-F8F4B0E9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76EF-557B-491E-8AC5-D6C93898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AA642-5373-4DC7-A619-69BCABB9F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CA12B-0023-4370-B54B-0F42D8AB0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9545C-E3C0-4D3D-9A36-F69CE42AB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777C0-3A6B-4A62-90F9-480682F34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AA290-3A90-4410-A730-CA7521200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9DE79A-5612-4724-8441-77AD1E780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4F86BB-3BC2-40DC-B5E4-BA40C6BD9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8B41E-84FB-4D95-B6C3-DAE7EF764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F094E1-0A60-4D71-A782-104E9A3B6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12A902-42AB-4A8B-A9F1-54D8F197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B125-FEE0-41AB-A4CE-F265EA2C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E02BC-C4E9-4602-AB88-3C84251F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BFB1C-523C-4A09-B4A9-C6E5C535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F0D9A-560B-4D55-B769-3D3E316DF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4A2FF-E4EB-4228-A834-9290225DB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3D796B-F45E-494E-BF43-20B5F6B29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70F141-8E88-4CCC-B634-8C19F5B96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955818-88B7-48DF-9B6E-8EFA948E8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79240-2B15-4D94-B683-FB9ED0A3F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AD50F0-6961-4F7B-9C58-588DC0ED7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D11134-0F1E-4368-80B3-4D6BFECB6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DA50-7A7E-4710-B4BD-26347FC83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BF7066-7C18-4427-A4E3-BC806C1F5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BDA2DB-2605-43B2-A245-26864483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C7686-8728-4F5D-9ED6-E10AF8FC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9855C5-06CC-47AC-8EB9-25640F8E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2D84C6-7F47-496C-AD18-31CABF423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D95D10-0ECC-4285-AC48-F0121626B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432D16-B58A-4DB2-8790-60B92AE1B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6784C6-2B40-4454-ADA7-8AE67C9E9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F69BAD-0EBC-43A2-A478-8DB3BDF10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6FEF9D-BC01-4913-B3FD-ABA11C08F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4B0CA-5460-4413-B392-2EEFBDAB757F}" type="datetime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17E7B-FDB5-47BE-9952-F03CD33D443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4D86B-8F14-4628-91A8-09D22B1B6221}" type="datetime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E20AF-F161-46F7-AED1-CCCE46ED350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D1497-F010-4E5E-965A-173EF20EBC96}" type="datetime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C497-0A11-4D86-9E76-6C5C1F74D01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06F79-8958-4526-9FC0-3AABBAA831E4}" type="datetime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36D2A-A388-425C-9B86-7A19917022D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52AA7-D33B-4435-8949-B11BDEFA3721}" type="datetime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5D55D-B280-4A7D-9D56-B0A2F06CE90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3B85D-9215-4531-826D-FA22AF4E45C2}" type="datetime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018E8-416A-415D-A8D4-77876342C93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5DB17-0B2C-44E2-966B-DFD703445761}" type="datetime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EC646-B9AF-4B2D-9FA9-4370937ED06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5DABF-9777-43C4-B900-95D39976394F}" type="datetime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A6968-D26E-4BBA-BDE4-2516B8F01D0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20488-A8CE-4381-B41E-5CF181D4BDF0}" type="datetime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FCE98-BD9E-448E-9BAA-A52758FF4E8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285840" y="219240"/>
            <a:ext cx="8407440" cy="102996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Fundamentals of Biochemistry, by Voet D., Voet JG, and Pratt CW, John Wiley &amp; Sons, Inc (1999)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Lehninger Principles of Biochemistry, 5th edition, by Nelson DL and Cox MM, W.H. Freeman and Company (2008)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Biochemistry, 6th edition, by Berg JM, Tymoczko JL, and Stryer L, W.H. Freeman and Company (2006)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Lippincott's Illustrated Reviews: Biochemistry, by Pamela C. Champe &amp; Richard A. Harvey (2010)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Biochemical Calculations: How to Solve Mathematical Problems in General Biochemistry, by Irwin H. Segel 2nd Edition (1976)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5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1E63C-424F-45A5-B0C7-FB4BC8A7EBFF}" type="slidenum">
              <a:rPr b="0" lang="en-US" sz="1100" spc="-1" strike="noStrike">
                <a:solidFill>
                  <a:srgbClr val="d38e27"/>
                </a:solidFill>
                <a:latin typeface="Arial"/>
              </a:rPr>
              <a:t>1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4T05:05:16Z</dcterms:created>
  <dc:creator>Al-Dbass</dc:creator>
  <dc:description/>
  <dc:language>en-US</dc:language>
  <cp:lastModifiedBy>sabdi</cp:lastModifiedBy>
  <dcterms:modified xsi:type="dcterms:W3CDTF">2015-09-10T08:25:20Z</dcterms:modified>
  <cp:revision>16</cp:revision>
  <dc:subject/>
  <dc:title>Enzymology</dc:title>
</cp:coreProperties>
</file>