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406368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20062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8000"/>
          </a:bodyPr>
          <a:p>
            <a:pPr marL="49500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3196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5884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5055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5943240" y="2298240"/>
            <a:ext cx="3225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8000"/>
          </a:bodyPr>
          <a:p>
            <a:pPr marL="4316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250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01052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31256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16232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16232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16232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990360" y="825120"/>
            <a:ext cx="8178840" cy="5956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59796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99072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371960" indent="-30888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3" marL="177660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4" marL="219276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5" marL="219276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6" marL="219276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95160" indent="-33948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546200" indent="-3398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3" marL="1990800" indent="-3398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4" marL="2448000" indent="-3398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5" marL="2448000" indent="-339840">
              <a:spcBef>
                <a:spcPts val="7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6" marL="2448000" indent="-339840">
              <a:spcBef>
                <a:spcPts val="7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3000"/>
          </a:bodyPr>
          <a:p>
            <a:pPr marL="61128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01268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402200" indent="-31536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3" marL="181584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4" marL="224100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5" marL="224100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6" marL="224100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434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69800" y="3860280"/>
            <a:ext cx="4711680" cy="238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69800" y="1397160"/>
            <a:ext cx="4711680" cy="238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281916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8000"/>
          </a:bodyPr>
          <a:p>
            <a:pPr marL="49500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3196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5884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5055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7000"/>
          </a:bodyPr>
          <a:p>
            <a:pPr marL="61596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03464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44144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231588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231588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231588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chague@u.washington.edu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55240" y="-943200"/>
            <a:ext cx="9410760" cy="3817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1430"/>
                </a:solidFill>
                <a:latin typeface="Cooper Black"/>
              </a:rPr>
              <a:t>Regulation of </a:t>
            </a:r>
            <a:br>
              <a:rPr sz="6200"/>
            </a:br>
            <a:r>
              <a:rPr b="0" lang="en-US" sz="6200" spc="-1" strike="noStrike">
                <a:solidFill>
                  <a:srgbClr val="ff1430"/>
                </a:solidFill>
                <a:latin typeface="Cooper Black"/>
              </a:rPr>
              <a:t>Cardiac Output</a:t>
            </a:r>
            <a:endParaRPr b="0" lang="en-US" sz="6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90360" y="4648320"/>
            <a:ext cx="8178840" cy="1828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hris Hague, Ph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oper Black"/>
                <a:hlinkClick r:id="rId2"/>
              </a:rPr>
              <a:t>chague@u.washington.edu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Technical Advisor: Seth Goldenberg, Ph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400" y="-63360"/>
            <a:ext cx="10045800" cy="15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1430"/>
                </a:solidFill>
                <a:latin typeface="Cooper Black"/>
              </a:rPr>
              <a:t>Excitation-Contraction Coupling</a:t>
            </a:r>
            <a:endParaRPr b="0" lang="en-US" sz="4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240" y="1168200"/>
            <a:ext cx="10122120" cy="5956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generation of rhythmical electrical impuls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inus (or sinoatrial) nod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propagation of impulses throughout the hear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internodal pathway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A-V nod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A-V bundl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Purkinje fiber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400" y="-63360"/>
            <a:ext cx="10045800" cy="15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Generation of cardiac rhythmicity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9320" y="1790280"/>
            <a:ext cx="5499000" cy="4597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Sinus node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mall specialized muscle in right atrium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ontrols heart rat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pontaneous” action potentia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0" y="0"/>
            <a:ext cx="7416720" cy="3848040"/>
            <a:chOff x="0" y="0"/>
            <a:chExt cx="7416720" cy="3848040"/>
          </a:xfrm>
        </p:grpSpPr>
        <p:pic>
          <p:nvPicPr>
            <p:cNvPr id="509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2882880" cy="38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7124760" y="3492360"/>
              <a:ext cx="291960" cy="241200"/>
            </a:xfrm>
            <a:prstGeom prst="ellipse">
              <a:avLst/>
            </a:prstGeom>
            <a:solidFill>
              <a:srgbClr val="00ff2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400" y="-63360"/>
            <a:ext cx="10045800" cy="15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Cardiac Electrophysiology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419040" y="4457880"/>
          <a:ext cx="9512280" cy="2831760"/>
        </p:xfrm>
        <a:graphic>
          <a:graphicData uri="http://schemas.openxmlformats.org/drawingml/2006/table">
            <a:tbl>
              <a:tblPr/>
              <a:tblGrid>
                <a:gridCol w="2332080"/>
                <a:gridCol w="2333520"/>
                <a:gridCol w="2332080"/>
                <a:gridCol w="2514600"/>
              </a:tblGrid>
              <a:tr h="70596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ooper Black"/>
                          <a:ea typeface="ヒラギノ角ゴ Pro W3"/>
                        </a:rPr>
                        <a:t>Ion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ooper Black"/>
                          <a:ea typeface="ヒラギノ角ゴ Pro W3"/>
                        </a:rPr>
                        <a:t>[EC] (mM)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ooper Black"/>
                          <a:ea typeface="ヒラギノ角ゴ Pro W3"/>
                        </a:rPr>
                        <a:t>[IC] (mM)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ooper Black"/>
                          <a:ea typeface="ヒラギノ角ゴ Pro W3"/>
                        </a:rPr>
                        <a:t>Eq. Potentia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1cfdff"/>
                          </a:solidFill>
                          <a:latin typeface="Cooper Black"/>
                          <a:ea typeface="ヒラギノ角ゴ Pro W3"/>
                        </a:rPr>
                        <a:t>Na</a:t>
                      </a:r>
                      <a:r>
                        <a:rPr b="0" lang="en-US" sz="2700" spc="-1" strike="noStrike" baseline="32000">
                          <a:solidFill>
                            <a:srgbClr val="1cfdff"/>
                          </a:solidFill>
                          <a:latin typeface="Cooper Black"/>
                          <a:ea typeface="ヒラギノ角ゴ Pro W3"/>
                        </a:rPr>
                        <a:t>+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ff2d"/>
                          </a:solidFill>
                          <a:latin typeface="Cooper Black"/>
                          <a:ea typeface="ヒラギノ角ゴ Pro W3"/>
                        </a:rPr>
                        <a:t>145</a:t>
                      </a: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ooper Black"/>
                          <a:ea typeface="ヒラギノ角ゴ Pro W3"/>
                        </a:rPr>
                        <a:t> 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1430"/>
                          </a:solidFill>
                          <a:latin typeface="Cooper Black"/>
                          <a:ea typeface="ヒラギノ角ゴ Pro W3"/>
                        </a:rPr>
                        <a:t>1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ooper Black"/>
                          <a:ea typeface="ヒラギノ角ゴ Pro W3"/>
                        </a:rPr>
                        <a:t>50 mV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bff00"/>
                          </a:solidFill>
                          <a:latin typeface="Cooper Black"/>
                          <a:ea typeface="ヒラギノ角ゴ Pro W3"/>
                        </a:rPr>
                        <a:t>K</a:t>
                      </a:r>
                      <a:r>
                        <a:rPr b="0" lang="en-US" sz="2700" spc="-1" strike="noStrike" baseline="32000">
                          <a:solidFill>
                            <a:srgbClr val="fbff00"/>
                          </a:solidFill>
                          <a:latin typeface="Cooper Black"/>
                          <a:ea typeface="ヒラギノ角ゴ Pro W3"/>
                        </a:rPr>
                        <a:t>+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1430"/>
                          </a:solidFill>
                          <a:latin typeface="Cooper Black"/>
                          <a:ea typeface="ヒラギノ角ゴ Pro W3"/>
                        </a:rPr>
                        <a:t>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ff2d"/>
                          </a:solidFill>
                          <a:latin typeface="Cooper Black"/>
                          <a:ea typeface="ヒラギノ角ゴ Pro W3"/>
                        </a:rPr>
                        <a:t>14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ooper Black"/>
                          <a:ea typeface="ヒラギノ角ゴ Pro W3"/>
                        </a:rPr>
                        <a:t>-90 mV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3400ff"/>
                          </a:solidFill>
                          <a:latin typeface="Cooper Black"/>
                          <a:ea typeface="ヒラギノ角ゴ Pro W3"/>
                        </a:rPr>
                        <a:t>Ca</a:t>
                      </a:r>
                      <a:r>
                        <a:rPr b="0" lang="en-US" sz="2700" spc="-1" strike="noStrike" baseline="32000">
                          <a:solidFill>
                            <a:srgbClr val="3400ff"/>
                          </a:solidFill>
                          <a:latin typeface="Cooper Black"/>
                          <a:ea typeface="ヒラギノ角ゴ Pro W3"/>
                        </a:rPr>
                        <a:t>2+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ff2d"/>
                          </a:solidFill>
                          <a:latin typeface="Cooper Black"/>
                          <a:ea typeface="ヒラギノ角ゴ Pro W3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1430"/>
                          </a:solidFill>
                          <a:latin typeface="Cooper Black"/>
                          <a:ea typeface="ヒラギノ角ゴ Pro W3"/>
                        </a:rPr>
                        <a:t>0.0001 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ooper Black"/>
                          <a:ea typeface="ヒラギノ角ゴ Pro W3"/>
                        </a:rPr>
                        <a:t>140 mV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halkboard"/>
                      </a:endParaRPr>
                    </a:p>
                  </a:txBody>
                  <a:tcPr anchor="ctr" marL="25560" marR="255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3" name=""/>
          <p:cNvSpPr/>
          <p:nvPr/>
        </p:nvSpPr>
        <p:spPr>
          <a:xfrm>
            <a:off x="2705040" y="1320840"/>
            <a:ext cx="4953240" cy="2743200"/>
          </a:xfrm>
          <a:prstGeom prst="ellipse">
            <a:avLst/>
          </a:prstGeom>
          <a:solidFill>
            <a:srgbClr val="ffffff">
              <a:alpha val="52000"/>
            </a:srgbClr>
          </a:solidFill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4" name=""/>
          <p:cNvSpPr/>
          <p:nvPr/>
        </p:nvSpPr>
        <p:spPr>
          <a:xfrm rot="18202800">
            <a:off x="2844720" y="1612800"/>
            <a:ext cx="279720" cy="838080"/>
          </a:xfrm>
          <a:prstGeom prst="rect">
            <a:avLst/>
          </a:prstGeom>
          <a:gradFill rotWithShape="0">
            <a:gsLst>
              <a:gs pos="0">
                <a:srgbClr val="1cfdff"/>
              </a:gs>
              <a:gs pos="100000">
                <a:srgbClr val="ffffff"/>
              </a:gs>
            </a:gsLst>
            <a:lin ang="1332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5" name=""/>
          <p:cNvSpPr/>
          <p:nvPr/>
        </p:nvSpPr>
        <p:spPr>
          <a:xfrm rot="13785600">
            <a:off x="2844360" y="3035160"/>
            <a:ext cx="279360" cy="838080"/>
          </a:xfrm>
          <a:prstGeom prst="rect">
            <a:avLst/>
          </a:prstGeom>
          <a:gradFill rotWithShape="0">
            <a:gsLst>
              <a:gs pos="0">
                <a:srgbClr val="fbff00"/>
              </a:gs>
              <a:gs pos="100000">
                <a:srgbClr val="ffffff"/>
              </a:gs>
            </a:gsLst>
            <a:lin ang="888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6" name=""/>
          <p:cNvSpPr/>
          <p:nvPr/>
        </p:nvSpPr>
        <p:spPr>
          <a:xfrm rot="5236200">
            <a:off x="7530840" y="2273400"/>
            <a:ext cx="279360" cy="83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400ff"/>
              </a:gs>
            </a:gsLst>
            <a:lin ang="1116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2361960" y="1663560"/>
            <a:ext cx="1320840" cy="8128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8" name=""/>
          <p:cNvSpPr/>
          <p:nvPr/>
        </p:nvSpPr>
        <p:spPr>
          <a:xfrm>
            <a:off x="1400040" y="1149120"/>
            <a:ext cx="9457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cfdff"/>
                </a:solidFill>
                <a:latin typeface="Cooper Black"/>
              </a:rPr>
              <a:t>Na</a:t>
            </a:r>
            <a:r>
              <a:rPr b="0" lang="en-US" sz="4500" spc="-1" strike="noStrike" baseline="32000">
                <a:solidFill>
                  <a:srgbClr val="1cfdff"/>
                </a:solidFill>
                <a:latin typeface="Cooper Black"/>
              </a:rPr>
              <a:t>+</a:t>
            </a:r>
            <a:endParaRPr b="0" lang="en-US" sz="45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9" name=""/>
          <p:cNvSpPr/>
          <p:nvPr/>
        </p:nvSpPr>
        <p:spPr>
          <a:xfrm>
            <a:off x="3839760" y="2378520"/>
            <a:ext cx="358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cfdff"/>
                </a:solidFill>
                <a:latin typeface="Cooper Black"/>
              </a:rPr>
              <a:t>Na</a:t>
            </a:r>
            <a:r>
              <a:rPr b="0" lang="en-US" sz="1700" spc="-1" strike="noStrike" baseline="32000">
                <a:solidFill>
                  <a:srgbClr val="1cfdff"/>
                </a:solidFill>
                <a:latin typeface="Cooper Black"/>
              </a:rPr>
              <a:t>+</a:t>
            </a:r>
            <a:endParaRPr b="0" lang="en-US" sz="17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6743880" y="2653920"/>
            <a:ext cx="1854000" cy="507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1" name=""/>
          <p:cNvSpPr/>
          <p:nvPr/>
        </p:nvSpPr>
        <p:spPr>
          <a:xfrm>
            <a:off x="8771400" y="2350440"/>
            <a:ext cx="10400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00ff"/>
                </a:solidFill>
                <a:latin typeface="Cooper Black"/>
              </a:rPr>
              <a:t>Ca</a:t>
            </a:r>
            <a:r>
              <a:rPr b="0" lang="en-US" sz="4400" spc="-1" strike="noStrike" baseline="32000">
                <a:solidFill>
                  <a:srgbClr val="3400ff"/>
                </a:solidFill>
                <a:latin typeface="Cooper Black"/>
              </a:rPr>
              <a:t>2+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2" name=""/>
          <p:cNvSpPr/>
          <p:nvPr/>
        </p:nvSpPr>
        <p:spPr>
          <a:xfrm>
            <a:off x="6241680" y="2586960"/>
            <a:ext cx="307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400ff"/>
                </a:solidFill>
                <a:latin typeface="Cooper Black"/>
              </a:rPr>
              <a:t>Ca</a:t>
            </a:r>
            <a:r>
              <a:rPr b="0" lang="en-US" sz="1300" spc="-1" strike="noStrike" baseline="32000">
                <a:solidFill>
                  <a:srgbClr val="3400ff"/>
                </a:solidFill>
                <a:latin typeface="Cooper Black"/>
              </a:rPr>
              <a:t>2+</a:t>
            </a:r>
            <a:endParaRPr b="0" lang="en-US" sz="13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235240" y="3073320"/>
            <a:ext cx="1193760" cy="1015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4" name=""/>
          <p:cNvSpPr/>
          <p:nvPr/>
        </p:nvSpPr>
        <p:spPr>
          <a:xfrm>
            <a:off x="3700440" y="2696040"/>
            <a:ext cx="44748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bff00"/>
                </a:solidFill>
                <a:latin typeface="Cooper Black"/>
              </a:rPr>
              <a:t>K</a:t>
            </a:r>
            <a:r>
              <a:rPr b="0" lang="en-US" sz="3700" spc="-1" strike="noStrike" baseline="32000">
                <a:solidFill>
                  <a:srgbClr val="fbff00"/>
                </a:solidFill>
                <a:latin typeface="Cooper Black"/>
              </a:rPr>
              <a:t>+</a:t>
            </a:r>
            <a:endParaRPr b="0" lang="en-US" sz="37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5" name=""/>
          <p:cNvSpPr/>
          <p:nvPr/>
        </p:nvSpPr>
        <p:spPr>
          <a:xfrm>
            <a:off x="1794600" y="4001400"/>
            <a:ext cx="16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ff00"/>
                </a:solidFill>
                <a:latin typeface="Cooper Black"/>
              </a:rPr>
              <a:t>K</a:t>
            </a:r>
            <a:r>
              <a:rPr b="0" lang="en-US" sz="1400" spc="-1" strike="noStrike" baseline="32000">
                <a:solidFill>
                  <a:srgbClr val="fbff00"/>
                </a:solidFill>
                <a:latin typeface="Cooper Black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400" y="-63360"/>
            <a:ext cx="10045800" cy="15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Ion channel conformational states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1920" y="1168560"/>
            <a:ext cx="9410760" cy="260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8000"/>
          </a:bodyPr>
          <a:p>
            <a:pPr marL="681120" indent="-3326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3 states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04480" indent="-33300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resting: closed, can be open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04480" indent="-33300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activated: open and ions moving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04480" indent="-33300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inactivated: closed and can not be open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6"/>
          <a:stretch/>
        </p:blipFill>
        <p:spPr>
          <a:xfrm>
            <a:off x="939960" y="3860640"/>
            <a:ext cx="8270640" cy="3606840"/>
          </a:xfrm>
          <a:prstGeom prst="rect">
            <a:avLst/>
          </a:prstGeom>
          <a:ln w="9360">
            <a:solidFill>
              <a:srgbClr val="ff1430"/>
            </a:solidFill>
            <a:miter/>
          </a:ln>
        </p:spPr>
      </p:pic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400" y="-63360"/>
            <a:ext cx="10045800" cy="15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Spontaneous Action Potentials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93400" y="1130040"/>
            <a:ext cx="7759800" cy="3149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2 ion channels regulate rhythmicit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low” Ca+ channels: phase 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K+ channels:  phase 3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membrane leakiness: phase 4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6"/>
          <a:stretch/>
        </p:blipFill>
        <p:spPr>
          <a:xfrm>
            <a:off x="1359000" y="4191120"/>
            <a:ext cx="7416720" cy="3251160"/>
          </a:xfrm>
          <a:prstGeom prst="rect">
            <a:avLst/>
          </a:prstGeom>
          <a:ln w="9360">
            <a:solidFill>
              <a:srgbClr val="ff1430"/>
            </a:solidFill>
            <a:miter/>
          </a:ln>
        </p:spPr>
      </p:pic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400" y="88920"/>
            <a:ext cx="10045800" cy="15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Transmission of Cardiac Impulses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0440" y="1358640"/>
            <a:ext cx="9779040" cy="5613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Internodal pathway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pread current around atrial muscl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A-V nod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eparates atria and ventricl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elays spread of signal to ventricl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has spontaneous activity (ectopic pacemaker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Purkinje fiber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preads impulse around ventricl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400" y="-63360"/>
            <a:ext cx="1004580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Non-spontaneous Action Potential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93400" y="1130040"/>
            <a:ext cx="775980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3 ion channels regulate firing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fast” Na+ channels: phases 0 + 1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low” Ca+ channels: phase 2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K+ channels:  phases 3 + 4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6"/>
          <a:stretch/>
        </p:blipFill>
        <p:spPr>
          <a:xfrm>
            <a:off x="1359000" y="4191120"/>
            <a:ext cx="7416720" cy="3251160"/>
          </a:xfrm>
          <a:prstGeom prst="rect">
            <a:avLst/>
          </a:prstGeom>
          <a:ln w="9360">
            <a:solidFill>
              <a:srgbClr val="ff143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400" y="-63360"/>
            <a:ext cx="10045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Cardiomyocyte Contraction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3800" y="647280"/>
            <a:ext cx="96390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rmAutofit fontScale="99000"/>
          </a:bodyPr>
          <a:p>
            <a:pPr marL="687960" indent="-3358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increased [Ca</a:t>
            </a:r>
            <a:r>
              <a:rPr b="0" lang="en-US" sz="2800" spc="-1" strike="noStrike" baseline="32000">
                <a:solidFill>
                  <a:srgbClr val="ffffff"/>
                </a:solidFill>
                <a:latin typeface="Cooper Black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]i through Ca</a:t>
            </a:r>
            <a:r>
              <a:rPr b="0" lang="en-US" sz="2800" spc="-1" strike="noStrike" baseline="32000">
                <a:solidFill>
                  <a:srgbClr val="ffffff"/>
                </a:solidFill>
                <a:latin typeface="Cooper Black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 channel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87960" indent="-3358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a</a:t>
            </a:r>
            <a:r>
              <a:rPr b="0" lang="en-US" sz="2800" spc="-1" strike="noStrike" baseline="32000">
                <a:solidFill>
                  <a:srgbClr val="ffffff"/>
                </a:solidFill>
                <a:latin typeface="Cooper Black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 spread by transverse T-tubul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87960" indent="-3358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opens ryanodine receptors on sarcoplasmic reticulum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15640" indent="-3362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“ 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a</a:t>
            </a:r>
            <a:r>
              <a:rPr b="0" lang="en-US" sz="2800" spc="-1" strike="noStrike" baseline="32000">
                <a:solidFill>
                  <a:srgbClr val="ffffff"/>
                </a:solidFill>
                <a:latin typeface="Cooper Black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 induced Ca</a:t>
            </a:r>
            <a:r>
              <a:rPr b="0" lang="en-US" sz="2800" spc="-1" strike="noStrike" baseline="32000">
                <a:solidFill>
                  <a:srgbClr val="ffffff"/>
                </a:solidFill>
                <a:latin typeface="Cooper Black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 release”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6"/>
          <a:stretch/>
        </p:blipFill>
        <p:spPr>
          <a:xfrm>
            <a:off x="4654440" y="3782880"/>
            <a:ext cx="5270760" cy="3329280"/>
          </a:xfrm>
          <a:prstGeom prst="rect">
            <a:avLst/>
          </a:prstGeom>
          <a:ln w="9360">
            <a:solidFill>
              <a:srgbClr val="ff1430"/>
            </a:solidFill>
            <a:miter/>
          </a:ln>
        </p:spPr>
      </p:pic>
      <p:sp>
        <p:nvSpPr>
          <p:cNvPr id="540" name=""/>
          <p:cNvSpPr/>
          <p:nvPr/>
        </p:nvSpPr>
        <p:spPr>
          <a:xfrm>
            <a:off x="127080" y="4044960"/>
            <a:ext cx="434340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  <a:ea typeface="Cooper Black"/>
              </a:rPr>
              <a:t>Ca</a:t>
            </a:r>
            <a:r>
              <a:rPr b="0" lang="en-US" sz="2800" spc="-1" strike="noStrike" baseline="32000">
                <a:solidFill>
                  <a:srgbClr val="ffffff"/>
                </a:solidFill>
                <a:latin typeface="Cooper Black"/>
                <a:ea typeface="Cooper Black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  <a:ea typeface="Cooper Black"/>
              </a:rPr>
              <a:t> binds to troponin-tropomyosi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  <a:ea typeface="Cooper Black"/>
              </a:rPr>
              <a:t>actin-myosin filament movemen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400" y="-101520"/>
            <a:ext cx="10045800" cy="15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1430"/>
                </a:solidFill>
                <a:latin typeface="Cooper Black"/>
              </a:rPr>
              <a:t>Factors affecting Cardiac Output</a:t>
            </a:r>
            <a:endParaRPr b="0" lang="en-US" sz="4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06000" y="1625760"/>
            <a:ext cx="7734600" cy="4356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Frank-Starling Mechanism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Autonomic Inputs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ympathetic nervous system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parasympathetic nervous system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Cardiovascular diseas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42720" y="37800"/>
            <a:ext cx="94741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1430"/>
                </a:solidFill>
                <a:latin typeface="Cooper Black"/>
              </a:rPr>
              <a:t>Frank-Starling Mechanism</a:t>
            </a:r>
            <a:endParaRPr b="0" lang="en-US" sz="4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-190440" y="1307880"/>
            <a:ext cx="594360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rmAutofit/>
          </a:bodyPr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venous retur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increased cardiomyocyte contractilit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increased stroke volum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5"/>
          <a:srcRect l="2538" t="0" r="12149" b="64028"/>
          <a:stretch/>
        </p:blipFill>
        <p:spPr>
          <a:xfrm>
            <a:off x="6108840" y="1378080"/>
            <a:ext cx="3835440" cy="299088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  <p:sp>
        <p:nvSpPr>
          <p:cNvPr id="546" name=""/>
          <p:cNvSpPr/>
          <p:nvPr/>
        </p:nvSpPr>
        <p:spPr>
          <a:xfrm>
            <a:off x="304920" y="5181480"/>
            <a:ext cx="9537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oper Black"/>
                <a:ea typeface="Cooper Black"/>
              </a:rPr>
              <a:t>“</a:t>
            </a:r>
            <a:r>
              <a:rPr b="0" lang="en-US" sz="3200" spc="-1" strike="noStrike">
                <a:solidFill>
                  <a:srgbClr val="fbff00"/>
                </a:solidFill>
                <a:latin typeface="Cooper Black"/>
                <a:ea typeface="Cooper Black"/>
              </a:rPr>
              <a:t>within physiological limits, the heart pumps all the blood it receives without allowing excessing damming of blood in the veins</a:t>
            </a:r>
            <a:r>
              <a:rPr b="0" lang="en-US" sz="3200" spc="-1" strike="noStrike">
                <a:solidFill>
                  <a:srgbClr val="ffffff"/>
                </a:solidFill>
                <a:latin typeface="Cooper Black"/>
                <a:ea typeface="Cooper Black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1430"/>
                </a:solidFill>
                <a:latin typeface="Cooper Black"/>
              </a:rPr>
              <a:t>Outline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90360" y="177768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. Function and Anatomy of the Hear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. Cardiac Output, Afterload and Preloa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. Excitation-contraction coupling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. Frank-Starling and Venous Retur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. Autonomic Regulation of Cardiac Outpu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400" y="-139680"/>
            <a:ext cx="10045800" cy="15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Autonomic Regulation of Cardiac Output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4120" y="939600"/>
            <a:ext cx="5879880" cy="5854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Parasympathetic Nervous System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ecreases HR and SV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ominant at res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Sympathetic Nervous System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increases HR and SV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ominant during exercise/stres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8"/>
          <a:stretch/>
        </p:blipFill>
        <p:spPr>
          <a:xfrm>
            <a:off x="5530680" y="2179800"/>
            <a:ext cx="4432320" cy="3714480"/>
          </a:xfrm>
          <a:prstGeom prst="rect">
            <a:avLst/>
          </a:prstGeom>
          <a:ln w="9360">
            <a:solidFill>
              <a:srgbClr val="ff1430"/>
            </a:solidFill>
            <a:miter/>
          </a:ln>
        </p:spPr>
      </p:pic>
    </p:spTree>
  </p:cSld>
  <p:transition spd="med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5560" y="1270080"/>
            <a:ext cx="36064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Autonomic Nervous System</a:t>
            </a: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Cooper Black"/>
              </a:rPr>
              <a:t>schematic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3835440" y="730080"/>
            <a:ext cx="6070680" cy="6445440"/>
          </a:xfrm>
          <a:prstGeom prst="rect">
            <a:avLst/>
          </a:prstGeom>
          <a:ln w="9360">
            <a:solidFill>
              <a:srgbClr val="ff1430"/>
            </a:solidFill>
            <a:miter/>
          </a:ln>
        </p:spPr>
      </p:pic>
    </p:spTree>
  </p:cSld>
  <p:transition spd="med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400" y="88920"/>
            <a:ext cx="10045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Parasympathetic Effects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160" y="685800"/>
            <a:ext cx="4635360" cy="7035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Vagal nerves release acetylcholine at SA and A-V nod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timulates muscarinic receptor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increased K+ channel opening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ecreased sinus node rhythm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ecreased A-V node transmis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ventricular escape”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8"/>
          <a:srcRect l="1548" t="15326" r="27581" b="4018"/>
          <a:stretch/>
        </p:blipFill>
        <p:spPr>
          <a:xfrm>
            <a:off x="4915080" y="1282680"/>
            <a:ext cx="4992480" cy="5829480"/>
          </a:xfrm>
          <a:prstGeom prst="rect">
            <a:avLst/>
          </a:prstGeom>
          <a:ln w="9360">
            <a:solidFill>
              <a:srgbClr val="ff1430"/>
            </a:solidFill>
            <a:miter/>
          </a:ln>
        </p:spPr>
      </p:pic>
    </p:spTree>
  </p:cSld>
  <p:transition spd="med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400" y="88920"/>
            <a:ext cx="10045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Sympathetic Effects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-279720" y="851040"/>
            <a:ext cx="6248520" cy="6781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ympathetic nerves release norepinephrine throughout hear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timulates adrenergic receptor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increased Ca+ and Na+ channel opening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increased SA node rhythm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increased A-V node transmis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increased force of atrial and ventricular contrac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8"/>
          <a:srcRect l="0" t="9210" r="28942" b="3758"/>
          <a:stretch/>
        </p:blipFill>
        <p:spPr>
          <a:xfrm>
            <a:off x="5676840" y="1911240"/>
            <a:ext cx="4140360" cy="4186440"/>
          </a:xfrm>
          <a:prstGeom prst="rect">
            <a:avLst/>
          </a:prstGeom>
          <a:ln w="9360">
            <a:solidFill>
              <a:srgbClr val="ff1430"/>
            </a:solidFill>
            <a:miter/>
          </a:ln>
        </p:spPr>
      </p:pic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400" y="88920"/>
            <a:ext cx="1004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Baroreceptor Reflex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5435640" y="1073160"/>
            <a:ext cx="4559400" cy="5456160"/>
          </a:xfrm>
          <a:prstGeom prst="rect">
            <a:avLst/>
          </a:prstGeom>
          <a:ln w="9360">
            <a:solidFill>
              <a:srgbClr val="ff1430"/>
            </a:solidFill>
            <a:miter/>
          </a:ln>
        </p:spPr>
      </p:pic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-178200" y="190080"/>
            <a:ext cx="565164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rapid control of CVS func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ensory baroreceptors in carotid sinus and aortic arch detect BP chang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increased BP detected, increased vagal firing, decreased C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ecreased BP detected, increased sympathetic firing, increased C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-291960" y="787320"/>
            <a:ext cx="100836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ecreased BP causes release of renin from juxtaglomerular cells of kidney into bloo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renin cleaves angiotensin to angiotensin I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angiotensin converting enzyme (ACE) converts Ang-I to Ang-II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50400" y="88920"/>
            <a:ext cx="1004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Renin-Angiotensin System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5"/>
          <a:stretch/>
        </p:blipFill>
        <p:spPr>
          <a:xfrm>
            <a:off x="3652920" y="3619440"/>
            <a:ext cx="6389640" cy="3429000"/>
          </a:xfrm>
          <a:prstGeom prst="rect">
            <a:avLst/>
          </a:prstGeom>
          <a:ln w="9360">
            <a:solidFill>
              <a:srgbClr val="ff1430"/>
            </a:solidFill>
            <a:miter/>
          </a:ln>
        </p:spPr>
      </p:pic>
      <p:sp>
        <p:nvSpPr>
          <p:cNvPr id="564" name=""/>
          <p:cNvSpPr/>
          <p:nvPr/>
        </p:nvSpPr>
        <p:spPr>
          <a:xfrm>
            <a:off x="-279360" y="4495680"/>
            <a:ext cx="40132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  <a:ea typeface="Cooper Black"/>
              </a:rPr>
              <a:t>Ang-II increases plasma volume and BP, increases CO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400" y="88920"/>
            <a:ext cx="10045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1430"/>
                </a:solidFill>
                <a:latin typeface="Cooper Black"/>
              </a:rPr>
              <a:t>Diseases affecting cardiac output</a:t>
            </a:r>
            <a:endParaRPr b="0" lang="en-US" sz="35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-291960" y="1155240"/>
            <a:ext cx="1033776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atherosclerosis: increased TPR, increased afterloa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oronary artery disease: decreased cardiac O2 suppl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ongestive heart failure: decreased stroke volum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strok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renal diseas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iabet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383840" y="-38520"/>
            <a:ext cx="8178840" cy="93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1430"/>
                </a:solidFill>
                <a:latin typeface="Cooper Black"/>
              </a:rPr>
              <a:t>Role of the Heart </a:t>
            </a:r>
            <a:r>
              <a:rPr b="0" lang="en-US" sz="5600" spc="-1" strike="noStrike">
                <a:solidFill>
                  <a:srgbClr val="ff1430"/>
                </a:solidFill>
                <a:latin typeface="Chalkboard"/>
              </a:rPr>
              <a:t> 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5613480" y="952560"/>
            <a:ext cx="4102200" cy="64008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533520" y="1727280"/>
            <a:ext cx="4254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oper Black"/>
                <a:ea typeface="Cooper Black"/>
              </a:rPr>
              <a:t>- pumps blood around the body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" name=""/>
          <p:cNvSpPr/>
          <p:nvPr/>
        </p:nvSpPr>
        <p:spPr>
          <a:xfrm>
            <a:off x="533520" y="3200400"/>
            <a:ext cx="4267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oper Black"/>
                <a:ea typeface="Cooper Black"/>
              </a:rPr>
              <a:t>- left heart pumps </a:t>
            </a:r>
            <a:r>
              <a:rPr b="0" lang="en-US" sz="3200" spc="-1" strike="noStrike">
                <a:solidFill>
                  <a:srgbClr val="ff1430"/>
                </a:solidFill>
                <a:latin typeface="Cooper Black"/>
                <a:ea typeface="Cooper Black"/>
              </a:rPr>
              <a:t>oxygenated</a:t>
            </a:r>
            <a:r>
              <a:rPr b="0" lang="en-US" sz="3200" spc="-1" strike="noStrike">
                <a:solidFill>
                  <a:srgbClr val="ffffff"/>
                </a:solidFill>
                <a:latin typeface="Cooper Black"/>
                <a:ea typeface="Cooper Black"/>
              </a:rPr>
              <a:t> blood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" name=""/>
          <p:cNvSpPr/>
          <p:nvPr/>
        </p:nvSpPr>
        <p:spPr>
          <a:xfrm>
            <a:off x="533520" y="4648320"/>
            <a:ext cx="4267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oper Black"/>
                <a:ea typeface="Cooper Black"/>
              </a:rPr>
              <a:t>- right heart pumps </a:t>
            </a:r>
            <a:r>
              <a:rPr b="0" lang="en-US" sz="3200" spc="-1" strike="noStrike">
                <a:solidFill>
                  <a:srgbClr val="3400ff"/>
                </a:solidFill>
                <a:latin typeface="Cooper Black"/>
                <a:ea typeface="Cooper Black"/>
              </a:rPr>
              <a:t>deoxygenated</a:t>
            </a:r>
            <a:r>
              <a:rPr b="0" lang="en-US" sz="3200" spc="-1" strike="noStrike">
                <a:solidFill>
                  <a:srgbClr val="ffffff"/>
                </a:solidFill>
                <a:latin typeface="Cooper Black"/>
                <a:ea typeface="Cooper Black"/>
              </a:rPr>
              <a:t>  bloo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83840" y="-38520"/>
            <a:ext cx="817884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1430"/>
                </a:solidFill>
                <a:latin typeface="Cooper Black"/>
              </a:rPr>
              <a:t>Anatomy of the Heart </a:t>
            </a:r>
            <a:r>
              <a:rPr b="0" lang="en-US" sz="5600" spc="-1" strike="noStrike">
                <a:solidFill>
                  <a:srgbClr val="ff1430"/>
                </a:solidFill>
                <a:latin typeface="Chalkboard"/>
              </a:rPr>
              <a:t> 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3632040" y="1879560"/>
            <a:ext cx="2883240" cy="384804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 flipH="1" flipV="1">
            <a:off x="3276720" y="3200400"/>
            <a:ext cx="1041120" cy="596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4" name=""/>
          <p:cNvSpPr/>
          <p:nvPr/>
        </p:nvSpPr>
        <p:spPr>
          <a:xfrm>
            <a:off x="1384200" y="2730600"/>
            <a:ext cx="1994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ff00"/>
                </a:solidFill>
                <a:latin typeface="Cooper Black"/>
                <a:ea typeface="Cooper Black"/>
              </a:rPr>
              <a:t>Right Atrium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390480" y="4521240"/>
            <a:ext cx="114300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" name=""/>
          <p:cNvSpPr/>
          <p:nvPr/>
        </p:nvSpPr>
        <p:spPr>
          <a:xfrm>
            <a:off x="6819840" y="2730600"/>
            <a:ext cx="1994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ff00"/>
                </a:solidFill>
                <a:latin typeface="Cooper Black"/>
                <a:ea typeface="Cooper Black"/>
              </a:rPr>
              <a:t>Left Atrium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" name=""/>
          <p:cNvSpPr/>
          <p:nvPr/>
        </p:nvSpPr>
        <p:spPr>
          <a:xfrm>
            <a:off x="1384200" y="4737240"/>
            <a:ext cx="1994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ff00"/>
                </a:solidFill>
                <a:latin typeface="Cooper Black"/>
                <a:ea typeface="Cooper Black"/>
              </a:rPr>
              <a:t>Right Ventricle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5638680" y="3149640"/>
            <a:ext cx="1308240" cy="355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9" name=""/>
          <p:cNvSpPr/>
          <p:nvPr/>
        </p:nvSpPr>
        <p:spPr>
          <a:xfrm>
            <a:off x="5524560" y="4559400"/>
            <a:ext cx="1346040" cy="520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" name=""/>
          <p:cNvSpPr/>
          <p:nvPr/>
        </p:nvSpPr>
        <p:spPr>
          <a:xfrm>
            <a:off x="6819840" y="4737240"/>
            <a:ext cx="1994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ff00"/>
                </a:solidFill>
                <a:latin typeface="Cooper Black"/>
                <a:ea typeface="Cooper Black"/>
              </a:rPr>
              <a:t>Left Ventricle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832120" y="4127400"/>
            <a:ext cx="1727280" cy="11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2" name=""/>
          <p:cNvSpPr/>
          <p:nvPr/>
        </p:nvSpPr>
        <p:spPr>
          <a:xfrm>
            <a:off x="838080" y="3746520"/>
            <a:ext cx="1994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fdff"/>
                </a:solidFill>
                <a:latin typeface="Cooper Black"/>
                <a:ea typeface="Cooper Black"/>
              </a:rPr>
              <a:t>Tricuspid Valve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3352320" y="2298240"/>
            <a:ext cx="1473480" cy="1041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" name=""/>
          <p:cNvSpPr/>
          <p:nvPr/>
        </p:nvSpPr>
        <p:spPr>
          <a:xfrm>
            <a:off x="1117440" y="1816200"/>
            <a:ext cx="226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fdff"/>
                </a:solidFill>
                <a:latin typeface="Cooper Black"/>
                <a:ea typeface="Cooper Black"/>
              </a:rPr>
              <a:t>Pulmonary Valve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5" name=""/>
          <p:cNvSpPr/>
          <p:nvPr/>
        </p:nvSpPr>
        <p:spPr>
          <a:xfrm>
            <a:off x="5626080" y="3809880"/>
            <a:ext cx="1587600" cy="25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6" name=""/>
          <p:cNvSpPr/>
          <p:nvPr/>
        </p:nvSpPr>
        <p:spPr>
          <a:xfrm>
            <a:off x="7365960" y="3429000"/>
            <a:ext cx="1994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fdff"/>
                </a:solidFill>
                <a:latin typeface="Cooper Black"/>
                <a:ea typeface="Cooper Black"/>
              </a:rPr>
              <a:t>Mitral Valve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" name=""/>
          <p:cNvSpPr/>
          <p:nvPr/>
        </p:nvSpPr>
        <p:spPr>
          <a:xfrm>
            <a:off x="7365960" y="4114800"/>
            <a:ext cx="1994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fdff"/>
                </a:solidFill>
                <a:latin typeface="Cooper Black"/>
                <a:ea typeface="Cooper Black"/>
              </a:rPr>
              <a:t>Aortic Valve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8" name=""/>
          <p:cNvSpPr/>
          <p:nvPr/>
        </p:nvSpPr>
        <p:spPr>
          <a:xfrm>
            <a:off x="5257800" y="3962520"/>
            <a:ext cx="2070000" cy="546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42720" y="37800"/>
            <a:ext cx="9474120" cy="1181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1430"/>
                </a:solidFill>
                <a:latin typeface="Cooper Black"/>
              </a:rPr>
              <a:t>The Cardiac Cycle</a:t>
            </a:r>
            <a:endParaRPr b="0" lang="en-US" sz="4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55320" y="723960"/>
            <a:ext cx="8178840" cy="5384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events that occur from beginning of one heartbeat to beginning of next heartbe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onsists of 2 periods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Diastole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: relaxation, heart fills with blood (BP ~ 80 mm Hg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Systole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: contraction, blood is ejected (BP ~ 120 mm Hg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42720" y="37800"/>
            <a:ext cx="94741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1430"/>
                </a:solidFill>
                <a:latin typeface="Cooper Black"/>
              </a:rPr>
              <a:t>Diastole</a:t>
            </a:r>
            <a:endParaRPr b="0" lang="en-US" sz="4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-127080" y="736560"/>
            <a:ext cx="717552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venous filling of atria, A-V valve ope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75% flow-through to ventricl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Atrial Priming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: 25% increase in ventricular filling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A-V valve clos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6"/>
          <a:stretch/>
        </p:blipFill>
        <p:spPr>
          <a:xfrm>
            <a:off x="6946920" y="1879560"/>
            <a:ext cx="2882880" cy="38480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 flipH="1" flipV="1">
            <a:off x="7594560" y="3682800"/>
            <a:ext cx="774720" cy="888840"/>
          </a:xfrm>
          <a:prstGeom prst="line">
            <a:avLst/>
          </a:prstGeom>
          <a:ln w="101520">
            <a:solidFill>
              <a:srgbClr val="34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5" name=""/>
          <p:cNvSpPr/>
          <p:nvPr/>
        </p:nvSpPr>
        <p:spPr>
          <a:xfrm>
            <a:off x="7480440" y="3898800"/>
            <a:ext cx="355320" cy="406440"/>
          </a:xfrm>
          <a:prstGeom prst="line">
            <a:avLst/>
          </a:prstGeom>
          <a:ln w="50760">
            <a:solidFill>
              <a:srgbClr val="34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442280" y="3708360"/>
            <a:ext cx="635040" cy="583920"/>
            <a:chOff x="7442280" y="3708360"/>
            <a:chExt cx="635040" cy="583920"/>
          </a:xfrm>
        </p:grpSpPr>
        <p:sp>
          <p:nvSpPr>
            <p:cNvPr id="487" name=""/>
            <p:cNvSpPr/>
            <p:nvPr/>
          </p:nvSpPr>
          <p:spPr>
            <a:xfrm flipV="1">
              <a:off x="7581960" y="3771360"/>
              <a:ext cx="495360" cy="520920"/>
            </a:xfrm>
            <a:prstGeom prst="line">
              <a:avLst/>
            </a:prstGeom>
            <a:ln w="88920">
              <a:solidFill>
                <a:srgbClr val="ff14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42280" y="3708360"/>
              <a:ext cx="366840" cy="317520"/>
            </a:xfrm>
            <a:prstGeom prst="line">
              <a:avLst/>
            </a:prstGeom>
            <a:ln w="88920">
              <a:solidFill>
                <a:srgbClr val="ff14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42720" y="37800"/>
            <a:ext cx="94741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1430"/>
                </a:solidFill>
                <a:latin typeface="Cooper Black"/>
              </a:rPr>
              <a:t>Systole</a:t>
            </a:r>
            <a:endParaRPr b="0" lang="en-US" sz="4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-152640" y="787320"/>
            <a:ext cx="623556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ventricular filling,  increased pressur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isometric contraction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:   aortic/pulmonary valve ope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period of ejection:                  70% fast, 30% slow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ventricular relaxation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aortic/pulmonary valves clos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7"/>
          <a:stretch/>
        </p:blipFill>
        <p:spPr>
          <a:xfrm>
            <a:off x="6946920" y="1879560"/>
            <a:ext cx="2882880" cy="384804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 flipH="1">
            <a:off x="8000640" y="2705040"/>
            <a:ext cx="609480" cy="1003320"/>
          </a:xfrm>
          <a:prstGeom prst="line">
            <a:avLst/>
          </a:prstGeom>
          <a:ln w="101520">
            <a:solidFill>
              <a:srgbClr val="34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7924680" y="3251160"/>
            <a:ext cx="431280" cy="469800"/>
            <a:chOff x="7924680" y="3251160"/>
            <a:chExt cx="431280" cy="469800"/>
          </a:xfrm>
        </p:grpSpPr>
        <p:sp>
          <p:nvSpPr>
            <p:cNvPr id="494" name=""/>
            <p:cNvSpPr/>
            <p:nvPr/>
          </p:nvSpPr>
          <p:spPr>
            <a:xfrm flipH="1" flipV="1">
              <a:off x="8013600" y="3251160"/>
              <a:ext cx="342360" cy="317520"/>
            </a:xfrm>
            <a:prstGeom prst="line">
              <a:avLst/>
            </a:prstGeom>
            <a:ln w="88920">
              <a:solidFill>
                <a:srgbClr val="ff14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924680" y="3416400"/>
              <a:ext cx="269280" cy="304560"/>
            </a:xfrm>
            <a:prstGeom prst="line">
              <a:avLst/>
            </a:prstGeom>
            <a:ln w="88920">
              <a:solidFill>
                <a:srgbClr val="ff14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42720" y="114480"/>
            <a:ext cx="9474120" cy="1180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1430"/>
                </a:solidFill>
                <a:latin typeface="Cooper Black"/>
              </a:rPr>
              <a:t>What is Cardiac Output?</a:t>
            </a:r>
            <a:endParaRPr b="0" lang="en-US" sz="4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77480" y="3949200"/>
            <a:ext cx="81788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Stroke Volume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: blood volume ejected by ventricles/be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Heart Rate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: heart beats/mi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8" name=""/>
          <p:cNvSpPr/>
          <p:nvPr/>
        </p:nvSpPr>
        <p:spPr>
          <a:xfrm>
            <a:off x="228600" y="1384200"/>
            <a:ext cx="9982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oper Black"/>
                <a:ea typeface="Cooper Black"/>
              </a:rPr>
              <a:t>Cardiac output = Stroke Volume X Heart Rate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9" name=""/>
          <p:cNvSpPr/>
          <p:nvPr/>
        </p:nvSpPr>
        <p:spPr>
          <a:xfrm>
            <a:off x="4933440" y="2130840"/>
            <a:ext cx="572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f00"/>
                </a:solidFill>
                <a:latin typeface="Cooper Black"/>
                <a:ea typeface="Cooper Black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0" name=""/>
          <p:cNvSpPr/>
          <p:nvPr/>
        </p:nvSpPr>
        <p:spPr>
          <a:xfrm>
            <a:off x="3619440" y="30481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oper Black"/>
                <a:ea typeface="Cooper Black"/>
              </a:rPr>
              <a:t>CO = SV x HR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1" name=""/>
          <p:cNvSpPr/>
          <p:nvPr/>
        </p:nvSpPr>
        <p:spPr>
          <a:xfrm>
            <a:off x="3467160" y="2844720"/>
            <a:ext cx="3505320" cy="939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42720" y="279000"/>
            <a:ext cx="9474120" cy="863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1430"/>
                </a:solidFill>
                <a:latin typeface="Cooper Black"/>
              </a:rPr>
              <a:t>Preload/Afterload</a:t>
            </a:r>
            <a:endParaRPr b="0" lang="en-US" sz="4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240" y="1168560"/>
            <a:ext cx="10122120" cy="5270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eterminants of stroke volum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Preload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tension on ventricular muscle before contrac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etermined by left ventricular end diastolic volum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ff00"/>
                </a:solidFill>
                <a:latin typeface="Cooper Black"/>
              </a:rPr>
              <a:t>Afterload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pressure against which ventricles pump bloo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etermined by total peripheral resistanc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ZonaNet</cp:lastModifiedBy>
  <dcterms:modified xsi:type="dcterms:W3CDTF">2008-05-03T03:41:47Z</dcterms:modified>
  <cp:revision>2</cp:revision>
  <dc:subject/>
  <dc:title>PH402  Regulation of  Cardiac Output</dc:title>
</cp:coreProperties>
</file>