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5160" indent="-339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9908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hague@u.washington.edu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5240" y="-943200"/>
            <a:ext cx="9410760" cy="381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Regulation of </a:t>
            </a:r>
            <a:br>
              <a:rPr sz="6200"/>
            </a:b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Cardiac Output</a:t>
            </a:r>
            <a:endParaRPr b="0" lang="en-US" sz="6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360" y="464832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hris Hague, Ph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chague@u.washington.edu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Technical Advisor: Seth Goldenberg, Ph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Excitation-Contraction Coupling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240" y="1168200"/>
            <a:ext cx="1012212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generation of rhythmical electrical impul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inus (or sinoatrial)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ropagation of impulses throughout the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ternodal pathway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bund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urkinje fibe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Generation of cardiac rhythmicity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9320" y="1790280"/>
            <a:ext cx="5499000" cy="4597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inus node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mall specialized muscle in right atriu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trols heart rat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ontaneous” action potentia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7416720" cy="3848040"/>
            <a:chOff x="0" y="0"/>
            <a:chExt cx="7416720" cy="3848040"/>
          </a:xfrm>
        </p:grpSpPr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88288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24760" y="3492360"/>
              <a:ext cx="291960" cy="241200"/>
            </a:xfrm>
            <a:prstGeom prst="ellipse">
              <a:avLst/>
            </a:prstGeom>
            <a:solidFill>
              <a:srgbClr val="00ff2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Cardiac Electrophysiology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19040" y="4457880"/>
          <a:ext cx="9512280" cy="2831760"/>
        </p:xfrm>
        <a:graphic>
          <a:graphicData uri="http://schemas.openxmlformats.org/drawingml/2006/table">
            <a:tbl>
              <a:tblPr/>
              <a:tblGrid>
                <a:gridCol w="2332080"/>
                <a:gridCol w="2333520"/>
                <a:gridCol w="2332080"/>
                <a:gridCol w="2514600"/>
              </a:tblGrid>
              <a:tr h="7059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Ion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[EC] (mM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[IC] (mM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Eq. Potentia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1cfdff"/>
                          </a:solidFill>
                          <a:latin typeface="Cooper Black"/>
                          <a:ea typeface="ヒラギノ角ゴ Pro W3"/>
                        </a:rPr>
                        <a:t>Na</a:t>
                      </a:r>
                      <a:r>
                        <a:rPr b="0" lang="en-US" sz="2700" spc="-1" strike="noStrike" baseline="32000">
                          <a:solidFill>
                            <a:srgbClr val="1cfdff"/>
                          </a:solidFill>
                          <a:latin typeface="Cooper Black"/>
                          <a:ea typeface="ヒラギノ角ゴ Pro W3"/>
                        </a:rPr>
                        <a:t>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145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1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5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bff00"/>
                          </a:solidFill>
                          <a:latin typeface="Cooper Black"/>
                          <a:ea typeface="ヒラギノ角ゴ Pro W3"/>
                        </a:rPr>
                        <a:t>K</a:t>
                      </a:r>
                      <a:r>
                        <a:rPr b="0" lang="en-US" sz="2700" spc="-1" strike="noStrike" baseline="32000">
                          <a:solidFill>
                            <a:srgbClr val="fbff00"/>
                          </a:solidFill>
                          <a:latin typeface="Cooper Black"/>
                          <a:ea typeface="ヒラギノ角ゴ Pro W3"/>
                        </a:rPr>
                        <a:t>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1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-9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3400ff"/>
                          </a:solidFill>
                          <a:latin typeface="Cooper Black"/>
                          <a:ea typeface="ヒラギノ角ゴ Pro W3"/>
                        </a:rPr>
                        <a:t>Ca</a:t>
                      </a:r>
                      <a:r>
                        <a:rPr b="0" lang="en-US" sz="2700" spc="-1" strike="noStrike" baseline="32000">
                          <a:solidFill>
                            <a:srgbClr val="3400ff"/>
                          </a:solidFill>
                          <a:latin typeface="Cooper Black"/>
                          <a:ea typeface="ヒラギノ角ゴ Pro W3"/>
                        </a:rPr>
                        <a:t>2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0.0001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14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"/>
          <p:cNvSpPr/>
          <p:nvPr/>
        </p:nvSpPr>
        <p:spPr>
          <a:xfrm>
            <a:off x="2705040" y="1320840"/>
            <a:ext cx="4953240" cy="2743200"/>
          </a:xfrm>
          <a:prstGeom prst="ellipse">
            <a:avLst/>
          </a:prstGeom>
          <a:solidFill>
            <a:srgbClr val="ffffff">
              <a:alpha val="52000"/>
            </a:srgbClr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"/>
          <p:cNvSpPr/>
          <p:nvPr/>
        </p:nvSpPr>
        <p:spPr>
          <a:xfrm rot="18202800">
            <a:off x="2844720" y="1612800"/>
            <a:ext cx="279720" cy="838080"/>
          </a:xfrm>
          <a:prstGeom prst="rect">
            <a:avLst/>
          </a:prstGeom>
          <a:gradFill rotWithShape="0">
            <a:gsLst>
              <a:gs pos="0">
                <a:srgbClr val="1cfdff"/>
              </a:gs>
              <a:gs pos="100000">
                <a:srgbClr val="ffffff"/>
              </a:gs>
            </a:gsLst>
            <a:lin ang="1332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"/>
          <p:cNvSpPr/>
          <p:nvPr/>
        </p:nvSpPr>
        <p:spPr>
          <a:xfrm rot="13785600">
            <a:off x="2844360" y="3035160"/>
            <a:ext cx="279360" cy="838080"/>
          </a:xfrm>
          <a:prstGeom prst="rect">
            <a:avLst/>
          </a:prstGeom>
          <a:gradFill rotWithShape="0">
            <a:gsLst>
              <a:gs pos="0">
                <a:srgbClr val="fbff00"/>
              </a:gs>
              <a:gs pos="100000">
                <a:srgbClr val="ffffff"/>
              </a:gs>
            </a:gsLst>
            <a:lin ang="888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"/>
          <p:cNvSpPr/>
          <p:nvPr/>
        </p:nvSpPr>
        <p:spPr>
          <a:xfrm rot="5236200">
            <a:off x="7530840" y="2273400"/>
            <a:ext cx="27936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00ff"/>
              </a:gs>
            </a:gsLst>
            <a:lin ang="1116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960" y="1663560"/>
            <a:ext cx="1320840" cy="812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"/>
          <p:cNvSpPr/>
          <p:nvPr/>
        </p:nvSpPr>
        <p:spPr>
          <a:xfrm>
            <a:off x="1400040" y="1149120"/>
            <a:ext cx="9457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fdff"/>
                </a:solidFill>
                <a:latin typeface="Cooper Black"/>
              </a:rPr>
              <a:t>Na</a:t>
            </a:r>
            <a:r>
              <a:rPr b="0" lang="en-US" sz="4500" spc="-1" strike="noStrike" baseline="32000">
                <a:solidFill>
                  <a:srgbClr val="1cfdff"/>
                </a:solidFill>
                <a:latin typeface="Cooper Black"/>
              </a:rPr>
              <a:t>+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"/>
          <p:cNvSpPr/>
          <p:nvPr/>
        </p:nvSpPr>
        <p:spPr>
          <a:xfrm>
            <a:off x="3839760" y="2378520"/>
            <a:ext cx="358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cfdff"/>
                </a:solidFill>
                <a:latin typeface="Cooper Black"/>
              </a:rPr>
              <a:t>Na</a:t>
            </a:r>
            <a:r>
              <a:rPr b="0" lang="en-US" sz="1700" spc="-1" strike="noStrike" baseline="32000">
                <a:solidFill>
                  <a:srgbClr val="1cfdff"/>
                </a:solidFill>
                <a:latin typeface="Cooper Black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743880" y="2653920"/>
            <a:ext cx="1854000" cy="507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"/>
          <p:cNvSpPr/>
          <p:nvPr/>
        </p:nvSpPr>
        <p:spPr>
          <a:xfrm>
            <a:off x="8771400" y="2350440"/>
            <a:ext cx="1040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0ff"/>
                </a:solidFill>
                <a:latin typeface="Cooper Black"/>
              </a:rPr>
              <a:t>Ca</a:t>
            </a:r>
            <a:r>
              <a:rPr b="0" lang="en-US" sz="4400" spc="-1" strike="noStrike" baseline="32000">
                <a:solidFill>
                  <a:srgbClr val="3400ff"/>
                </a:solidFill>
                <a:latin typeface="Cooper Black"/>
              </a:rPr>
              <a:t>2+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"/>
          <p:cNvSpPr/>
          <p:nvPr/>
        </p:nvSpPr>
        <p:spPr>
          <a:xfrm>
            <a:off x="6241680" y="2586960"/>
            <a:ext cx="307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400ff"/>
                </a:solidFill>
                <a:latin typeface="Cooper Black"/>
              </a:rPr>
              <a:t>Ca</a:t>
            </a:r>
            <a:r>
              <a:rPr b="0" lang="en-US" sz="1300" spc="-1" strike="noStrike" baseline="32000">
                <a:solidFill>
                  <a:srgbClr val="3400ff"/>
                </a:solidFill>
                <a:latin typeface="Cooper Black"/>
              </a:rPr>
              <a:t>2+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35240" y="3073320"/>
            <a:ext cx="1193760" cy="1015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"/>
          <p:cNvSpPr/>
          <p:nvPr/>
        </p:nvSpPr>
        <p:spPr>
          <a:xfrm>
            <a:off x="3700440" y="2696040"/>
            <a:ext cx="4474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bff00"/>
                </a:solidFill>
                <a:latin typeface="Cooper Black"/>
              </a:rPr>
              <a:t>K</a:t>
            </a:r>
            <a:r>
              <a:rPr b="0" lang="en-US" sz="3700" spc="-1" strike="noStrike" baseline="32000">
                <a:solidFill>
                  <a:srgbClr val="fbff00"/>
                </a:solidFill>
                <a:latin typeface="Cooper Black"/>
              </a:rPr>
              <a:t>+</a:t>
            </a:r>
            <a:endParaRPr b="0" lang="en-US" sz="3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"/>
          <p:cNvSpPr/>
          <p:nvPr/>
        </p:nvSpPr>
        <p:spPr>
          <a:xfrm>
            <a:off x="1794600" y="4001400"/>
            <a:ext cx="16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ff00"/>
                </a:solidFill>
                <a:latin typeface="Cooper Black"/>
              </a:rPr>
              <a:t>K</a:t>
            </a:r>
            <a:r>
              <a:rPr b="0" lang="en-US" sz="1400" spc="-1" strike="noStrike" baseline="32000">
                <a:solidFill>
                  <a:srgbClr val="fbff00"/>
                </a:solidFill>
                <a:latin typeface="Cooper Black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Ion channel conformational state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168560"/>
            <a:ext cx="9410760" cy="260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 state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sting: closed, can be open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ctivated: open and ions mov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activated: closed and can not be open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939960" y="3860640"/>
            <a:ext cx="8270640" cy="36068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Spontaneous Action Potential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93400" y="1130040"/>
            <a:ext cx="7759800" cy="3149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2 ion channels regulate rhythmic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low” Ca+ channels: phase 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+ channels:  phase 3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mbrane leakiness: phase 4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1359000" y="4191120"/>
            <a:ext cx="7416720" cy="3251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Transmission of Cardiac Impulse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440" y="1358640"/>
            <a:ext cx="9779040" cy="561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Internodal pathway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read current around atrial musc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-V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eparates atria and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lays spread of signal to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has spontaneous activity (ectopic pacemaker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urkinje fibe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reads impulse around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Non-spontaneous Action Potential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93400" y="1130040"/>
            <a:ext cx="77598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 ion channels regulate fir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st” Na+ channels: phases 0 + 1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low” Ca+ channels: phase 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+ channels:  phases 3 + 4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1359000" y="4191120"/>
            <a:ext cx="7416720" cy="3251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Cardiomyocyte Contraction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3800" y="647280"/>
            <a:ext cx="96390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 fontScale="99000"/>
          </a:bodyPr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[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]i through 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channe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spread by transverse T-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opens ryanodine receptors on sarcoplasmic reticulum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15640" indent="-3362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induced 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release”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4654440" y="3782880"/>
            <a:ext cx="5270760" cy="33292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40" name=""/>
          <p:cNvSpPr/>
          <p:nvPr/>
        </p:nvSpPr>
        <p:spPr>
          <a:xfrm>
            <a:off x="127080" y="4044960"/>
            <a:ext cx="43434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  <a:ea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 binds to troponin-tropomyosi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actin-myosin filament movem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00" y="-10152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Factors affecting Cardiac Outpu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06000" y="1625760"/>
            <a:ext cx="7734600" cy="435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Frank-Starling Mechanism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utonomic Inputs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Cardiovascular dis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Frank-Starling Mechanism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-190440" y="1307880"/>
            <a:ext cx="5943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ous retur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cardiomyocyte contractil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rcRect l="2538" t="0" r="12149" b="64028"/>
          <a:stretch/>
        </p:blipFill>
        <p:spPr>
          <a:xfrm>
            <a:off x="6108840" y="1378080"/>
            <a:ext cx="3835440" cy="29908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546" name=""/>
          <p:cNvSpPr/>
          <p:nvPr/>
        </p:nvSpPr>
        <p:spPr>
          <a:xfrm>
            <a:off x="304920" y="5181480"/>
            <a:ext cx="9537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“</a:t>
            </a:r>
            <a:r>
              <a:rPr b="0" lang="en-US" sz="3200" spc="-1" strike="noStrike">
                <a:solidFill>
                  <a:srgbClr val="fbff00"/>
                </a:solidFill>
                <a:latin typeface="Cooper Black"/>
                <a:ea typeface="Cooper Black"/>
              </a:rPr>
              <a:t>within physiological limits, the heart pumps all the blood it receives without allowing excessing damming of blood in the veins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1430"/>
                </a:solidFill>
                <a:latin typeface="Cooper Black"/>
              </a:rPr>
              <a:t>Outline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177768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Function and Anatomy of the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Cardiac Output, Afterload and Preloa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Excitation-contraction coupl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Frank-Starling and Venous Retur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Autonomic Regulation of Cardiac Outpu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400" y="-13968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Autonomic Regulation of Cardiac Output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120" y="939600"/>
            <a:ext cx="5879880" cy="585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s HR and SV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ominant at res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s HR and SV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ominant during exercise/stres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5530680" y="2179800"/>
            <a:ext cx="4432320" cy="37144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60" y="1270080"/>
            <a:ext cx="36064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Autonomic Nervous System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Cooper Black"/>
              </a:rPr>
              <a:t>schematic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835440" y="730080"/>
            <a:ext cx="6070680" cy="64454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Parasympathetic Effect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160" y="685800"/>
            <a:ext cx="4635360" cy="703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agal nerves release acetylcholine at SA and A-V nod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imulates muscarinic recepto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K+ channel open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sinus node rhyth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A-V node transmi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escape”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8"/>
          <a:srcRect l="1548" t="15326" r="27581" b="4018"/>
          <a:stretch/>
        </p:blipFill>
        <p:spPr>
          <a:xfrm>
            <a:off x="4915080" y="1282680"/>
            <a:ext cx="4992480" cy="58294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Sympathetic Effect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279720" y="851040"/>
            <a:ext cx="6248520" cy="678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ympathetic nerves release norepinephrine throughout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imulates adrenergic recepto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Ca+ and Na+ channel open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SA node rhyth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A-V node transmi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force of atrial and ventricular contra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rcRect l="0" t="9210" r="28942" b="3758"/>
          <a:stretch/>
        </p:blipFill>
        <p:spPr>
          <a:xfrm>
            <a:off x="5676840" y="1911240"/>
            <a:ext cx="4140360" cy="41864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Baroreceptor Reflex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435640" y="1073160"/>
            <a:ext cx="4559400" cy="5456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-178200" y="190080"/>
            <a:ext cx="56516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apid control of CVS fun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ensory baroreceptors in carotid sinus and aortic arch detect BP chang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BP detected, increased vagal firing, decreased C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BP detected, increased sympathetic firing, increased C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-291960" y="787320"/>
            <a:ext cx="100836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BP causes release of renin from juxtaglomerular cells of kidney into bloo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nin cleaves angiotensin to angiotensin 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ngiotensin converting enzyme (ACE) converts Ang-I to Ang-I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Renin-Angiotensin System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3652920" y="3619440"/>
            <a:ext cx="6389640" cy="342900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64" name=""/>
          <p:cNvSpPr/>
          <p:nvPr/>
        </p:nvSpPr>
        <p:spPr>
          <a:xfrm>
            <a:off x="-279360" y="4495680"/>
            <a:ext cx="4013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Ang-II increases plasma volume and BP, increases C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Diseases affecting cardiac output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-291960" y="1155240"/>
            <a:ext cx="103377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therosclerosis: increased TPR, increased afterloa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ronary artery disease: decreased cardiac O2 supp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gestive heart failure: decreased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rok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nal dis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83840" y="-38520"/>
            <a:ext cx="8178840" cy="93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Role of the Heart </a:t>
            </a:r>
            <a:r>
              <a:rPr b="0" lang="en-US" sz="5600" spc="-1" strike="noStrike">
                <a:solidFill>
                  <a:srgbClr val="ff1430"/>
                </a:solidFill>
                <a:latin typeface="Chalkboard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613480" y="952560"/>
            <a:ext cx="4102200" cy="6400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33520" y="1727280"/>
            <a:ext cx="4254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pumps blood around the body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3200400"/>
            <a:ext cx="426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left heart pumps </a:t>
            </a:r>
            <a:r>
              <a:rPr b="0" lang="en-US" sz="3200" spc="-1" strike="noStrike">
                <a:solidFill>
                  <a:srgbClr val="ff1430"/>
                </a:solidFill>
                <a:latin typeface="Cooper Black"/>
                <a:ea typeface="Cooper Black"/>
              </a:rPr>
              <a:t>oxygenated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 blood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right heart pumps </a:t>
            </a:r>
            <a:r>
              <a:rPr b="0" lang="en-US" sz="3200" spc="-1" strike="noStrike">
                <a:solidFill>
                  <a:srgbClr val="3400ff"/>
                </a:solidFill>
                <a:latin typeface="Cooper Black"/>
                <a:ea typeface="Cooper Black"/>
              </a:rPr>
              <a:t>deoxygenated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  bloo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83840" y="-38520"/>
            <a:ext cx="81788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Anatomy of the Heart </a:t>
            </a:r>
            <a:r>
              <a:rPr b="0" lang="en-US" sz="5600" spc="-1" strike="noStrike">
                <a:solidFill>
                  <a:srgbClr val="ff1430"/>
                </a:solidFill>
                <a:latin typeface="Chalkboard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632040" y="1879560"/>
            <a:ext cx="2883240" cy="38480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 flipV="1">
            <a:off x="3276720" y="3200400"/>
            <a:ext cx="1041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1384200" y="273060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Right Atriu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390480" y="452124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6819840" y="273060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Left Atriu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1384200" y="473724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638680" y="3149640"/>
            <a:ext cx="1308240" cy="355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5524560" y="4559400"/>
            <a:ext cx="1346040" cy="520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"/>
          <p:cNvSpPr/>
          <p:nvPr/>
        </p:nvSpPr>
        <p:spPr>
          <a:xfrm>
            <a:off x="6819840" y="473724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832120" y="4127400"/>
            <a:ext cx="1727280" cy="11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374652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Tricuspid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352320" y="2298240"/>
            <a:ext cx="14734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1117440" y="1816200"/>
            <a:ext cx="226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Pulmonary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"/>
          <p:cNvSpPr/>
          <p:nvPr/>
        </p:nvSpPr>
        <p:spPr>
          <a:xfrm>
            <a:off x="5626080" y="3809880"/>
            <a:ext cx="1587600" cy="2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7365960" y="342900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Mitral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"/>
          <p:cNvSpPr/>
          <p:nvPr/>
        </p:nvSpPr>
        <p:spPr>
          <a:xfrm>
            <a:off x="7365960" y="411480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Aortic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962520"/>
            <a:ext cx="2070000" cy="54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The Cardiac Cyc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723960"/>
            <a:ext cx="8178840" cy="538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events that occur from beginning of one heartbeat to beginning of next heartbe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ists of 2 period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Diastol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relaxation, heart fills with blood (BP ~ 80 mm Hg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ystol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contraction, blood is ejected (BP ~ 120 mm Hg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Diasto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-127080" y="736560"/>
            <a:ext cx="71755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ous filling of atria, A-V valve ope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75% flow-through to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trial Priming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25% increase in ventricular fill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valve clo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946920" y="1879560"/>
            <a:ext cx="2882880" cy="38480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 flipH="1" flipV="1">
            <a:off x="7594560" y="3682800"/>
            <a:ext cx="774720" cy="888840"/>
          </a:xfrm>
          <a:prstGeom prst="line">
            <a:avLst/>
          </a:prstGeom>
          <a:ln w="101520">
            <a:solidFill>
              <a:srgbClr val="34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"/>
          <p:cNvSpPr/>
          <p:nvPr/>
        </p:nvSpPr>
        <p:spPr>
          <a:xfrm>
            <a:off x="7480440" y="3898800"/>
            <a:ext cx="355320" cy="406440"/>
          </a:xfrm>
          <a:prstGeom prst="line">
            <a:avLst/>
          </a:prstGeom>
          <a:ln w="50760">
            <a:solidFill>
              <a:srgbClr val="34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442280" y="3708360"/>
            <a:ext cx="635040" cy="583920"/>
            <a:chOff x="7442280" y="3708360"/>
            <a:chExt cx="635040" cy="583920"/>
          </a:xfrm>
        </p:grpSpPr>
        <p:sp>
          <p:nvSpPr>
            <p:cNvPr id="487" name=""/>
            <p:cNvSpPr/>
            <p:nvPr/>
          </p:nvSpPr>
          <p:spPr>
            <a:xfrm flipV="1">
              <a:off x="7581960" y="3771360"/>
              <a:ext cx="495360" cy="5209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42280" y="3708360"/>
              <a:ext cx="366840" cy="3175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Systo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-152640" y="787320"/>
            <a:ext cx="62355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filling,  increased press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isometric contraction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  aortic/pulmonary valve ope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eriod of ejection:                  70% fast, 30% slow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relaxatio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ortic/pulmonary valves clo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6946920" y="1879560"/>
            <a:ext cx="2882880" cy="38480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flipH="1">
            <a:off x="8000640" y="2705040"/>
            <a:ext cx="609480" cy="1003320"/>
          </a:xfrm>
          <a:prstGeom prst="line">
            <a:avLst/>
          </a:prstGeom>
          <a:ln w="101520">
            <a:solidFill>
              <a:srgbClr val="34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924680" y="3251160"/>
            <a:ext cx="431280" cy="469800"/>
            <a:chOff x="7924680" y="3251160"/>
            <a:chExt cx="431280" cy="469800"/>
          </a:xfrm>
        </p:grpSpPr>
        <p:sp>
          <p:nvSpPr>
            <p:cNvPr id="494" name=""/>
            <p:cNvSpPr/>
            <p:nvPr/>
          </p:nvSpPr>
          <p:spPr>
            <a:xfrm flipH="1" flipV="1">
              <a:off x="8013600" y="3251160"/>
              <a:ext cx="342360" cy="3175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924680" y="3416400"/>
              <a:ext cx="269280" cy="30456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114480"/>
            <a:ext cx="9474120" cy="118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What is Cardiac Output?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7480" y="3949200"/>
            <a:ext cx="81788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troke Volum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blood volume ejected by ventricles/be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Heart Rat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heart beats/mi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1384200"/>
            <a:ext cx="998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Cardiac output = Stroke Volume X Heart Rate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"/>
          <p:cNvSpPr/>
          <p:nvPr/>
        </p:nvSpPr>
        <p:spPr>
          <a:xfrm>
            <a:off x="4933440" y="2130840"/>
            <a:ext cx="572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ooper Black"/>
                <a:ea typeface="Cooper Black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"/>
          <p:cNvSpPr/>
          <p:nvPr/>
        </p:nvSpPr>
        <p:spPr>
          <a:xfrm>
            <a:off x="3619440" y="30481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CO = SV x H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"/>
          <p:cNvSpPr/>
          <p:nvPr/>
        </p:nvSpPr>
        <p:spPr>
          <a:xfrm>
            <a:off x="3467160" y="2844720"/>
            <a:ext cx="3505320" cy="93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79000"/>
            <a:ext cx="9474120" cy="863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Preload/Afterload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240" y="1168560"/>
            <a:ext cx="10122120" cy="5270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ants of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reload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tension on ventricular muscle before contra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ed by left ventricular end diastolic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fterload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ressure against which ventricles pump bloo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ed by total peripheral resistan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onaNet</cp:lastModifiedBy>
  <dcterms:modified xsi:type="dcterms:W3CDTF">2008-05-03T03:41:47Z</dcterms:modified>
  <cp:revision>2</cp:revision>
  <dc:subject/>
  <dc:title>PH402  Regulation of  Cardiac Output</dc:title>
</cp:coreProperties>
</file>