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8A5-A731-43AE-AD6D-E670F8D4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74A-C335-4476-9364-D4D026E6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19F-717B-4E7F-9EB5-116D388B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B20-6546-43AC-BF63-3D2A9363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98B4-1278-4AC5-916C-A415FED1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B6D5-C575-4248-A80E-88B89BC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1223-13D5-4E6B-82F6-6321F0E7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D595-7260-4023-976C-409D5ACA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022E-8331-4104-8893-4C465B1D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ED67-A510-4765-AB3B-64B47519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E8BD-BE3C-415E-B4B4-9F462E5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F68-E956-43E6-8058-B7B0E113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DA66-F820-4885-B5E1-7FC9DB7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BA2E-E2BF-4CD9-9510-97341FC1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7FF2-0104-47FF-ABCA-C4D8B779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B34B-83EB-4C0F-A385-1573606B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1766-5F45-4FFF-8505-A9B8E543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D5EB-E085-4BFB-99D1-6A9CD321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4F67-E665-49E6-A741-B86CE152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9836-F0D0-42A2-99F2-BDC61665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DA09-E856-4FE1-B4C9-32B26A5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9A15-AFD4-4F74-B708-F210B5FC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1F7-2AD2-44A0-B2A0-3D7330D3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BD25-CF89-4DDA-A589-814E772C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56F5-3845-46D8-B92A-4513D077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0CEA-F6A9-46C0-98D0-939CE35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41EA-E6C7-4C28-8F4C-B5AE655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6A6E-0013-475E-95BE-05DA5F1B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0118-7165-4A60-B5D2-2AD5D99C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BF09-4496-48B2-845C-B713A930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8E180-6785-4EAD-80F6-0DABD767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97D7-8AA6-41D7-9AB3-E177F5AF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EDD3-32CE-4827-A1D8-29529EA6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EE1-55C4-4E61-A6AA-6908ADD0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73729-CE6A-4715-B8AF-1013B03A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0DB3-3115-4E16-9E1B-E06D41C7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86E4C-6A5C-45AA-8593-4C01288F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BD83-2544-4116-A1A7-92D0B11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9F21-A48E-468A-A142-DB5B6A5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765A-0FD8-4226-B791-574AB00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CE33F-C79C-4969-880D-862B31D1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DB54-BEE1-413A-A757-A9341861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442D-CDAC-4739-A8AB-7F743F0B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7D7E-C4B1-4385-B57F-DC622858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771-303C-4EEC-BE4A-F72DE19D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B6DE1-A08B-4C10-A729-1B5B1BA4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F60F-7BB6-46DA-9036-82DB9FBF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92F81-09BE-4BE7-83E2-FA00598B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1E33F-CD61-4D7B-8992-3901AD29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216D-E302-476A-B3DA-E3FA8E6D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BDF1-FABC-4DC1-8115-9D903A31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4CBB-B030-4CA9-8F05-1A6451F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13DB1-D688-45CE-B4B1-20BBAD7D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D5AF0-C1E5-4C43-BB57-2F95E672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1654-0EA9-4A9A-96B3-DF032487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D88-C660-499F-9931-23B4E9E0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C62F-4BCD-41D6-A074-E9070C11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20D-503D-437E-B375-E0EC09A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D4F-B01C-4E79-8B2E-1BB3DF7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15A-C202-49E4-9B08-12DB5584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F972-7221-437D-AB95-5EF8415D3C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0930-677A-41CB-9F73-BD95A19E95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5002-676A-47EA-A92F-16C9B35BF7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6550-B0CF-40B2-9F53-6603D3D473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870A-DA1D-4C01-9593-6E8D71BBDE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go4u.com/" TargetMode="External"/><Relationship Id="rId2" Type="http://schemas.openxmlformats.org/officeDocument/2006/relationships/hyperlink" Target="http://www.drmosad.com/index14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elative Clau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mparative Constructions 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Arabic vs. Engli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52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lative clause in both English and Arabic occurs after the noun/pronoun it modif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English, relative clauses may modify a definite or an indefinite noun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rabic, relative clauses modify definite nouns only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الولد الذي فا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ولداً الذي فاز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Arabic, the relative pronoun agrees with the noun it modifies in number, gender, and cas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ducing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9907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lative clauses with the pronouns who, which, and that as subject pronouns can be reduced into participial phras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How to reduce 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 Relative clauses with verbs in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ctiv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voice, eliminate the connecting word (relative pronoun), and us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 participl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the main verb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liv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liv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wo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was hurry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to catch the bu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ripped and f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wo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urry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to catch the bu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ripped and f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stud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tudy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ducing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How to reduce 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relative clauses with verbs in the passive voice, eliminate the connecting word (relative pronoun) and (is, was, were, are), and use the past participle of the main verb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that are 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languag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tha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are spok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Switzerl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erman, French, and Italia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languag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pok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Switzerl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erman, French, and Italia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ic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a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to translate participial phra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o translate participial phrases into Arabic, we use ( </a:t>
            </a: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فاعل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or ( </a:t>
            </a: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مفعول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liv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يمة بجوارن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tudy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دارسون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سلم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murde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in the par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as a docto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تول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عروض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zar, B. S. (1999)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Understanding and using English grammar (3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ed.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New York: Pearson Educ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mdallah, R. W. &amp; Tushyeh, H. Y. (1998). A contrastive analysis of English and Arabic in relativization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apers and Studies in Contrastive Linguistics, 34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41-15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ego4u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drmosad.com/index14.ht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elative clauses are subordinate clauses that function as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adjective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Perpetua"/>
              </a:rPr>
              <a:t>modifying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 noun or a noun phrase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ntain a subject and a verb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egin with a relative pronoun or relative adverb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unction as adjective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 have not read the magazin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Perpetua"/>
              </a:rPr>
              <a:t>that is lying on the tabl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o passed the ex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take the next leve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Restrictive vs. Non-Restrictive Relative Claus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can be restrictive or non-restri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trictive relative clauses provide essential inform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not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know the gir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s talking to Sara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 read yesterday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interest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fess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teaches my biology clas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won a Nobel priz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strictive vs. Non-Restrictive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provide additional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i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s an engine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likes to organize thing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i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s the capital of Franc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is a beautiful cit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fessor Jon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teaches my biology clas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on a Nobel priz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Pronou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 (subject or object - peop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told you about 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 told you abou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(subject or object - animals and thing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see the c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s hiding under the tabl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our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 passed with 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was difficul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se (possession for people, animals, or thing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met the bo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se mother is the famous surge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returned th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se cover was tor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 the libra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Pronou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m (object pronoun - peop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was invited by the teacher whom I met by chan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t (subject or object pronoun - people, animals, or things, in restrictive relative claus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bought the t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we eat on everyda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see the c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s hiding under the tabl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told you about 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 told you abou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Subject vs. Object Relative Pronou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followed by a verb, it is a subject pronoun. In this case, the relative pronoun must be used. For example: 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which is lying on the tab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not followed by a verb (i.e., by a noun or a pronoun), it is an object pronoun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 restrictive relative clauses, it may be omitt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which Sara put on the tabl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ara put on the tab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lative Adverb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times relative adverbs may be used instead of relative pronoun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(in/on which - tim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y was an unforgettable day.+ We met them on the 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y when we met them was an unforgettable 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(in/at which - plac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library is more than 30 years old.+ We study at the libra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library where we study is more than 30 years ol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y (for which - reas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eason is to graduate.+ We study for a reas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eason why we study is to gradu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In Arabic 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in Arabic are called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pronouns introduce the relative clause, such 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ذي - التي - اللذان - اللتان - الذين- اللاتي - اللائي - من - ما - ذا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 تُعرب على حسب موقعها من الإعراب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ادة ما يكون هناك ضمير في جملة الصلة يربط بينها وبين ما تعود عليه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Ghadah Alotaibi</cp:lastModifiedBy>
  <dcterms:modified xsi:type="dcterms:W3CDTF">2015-05-03T17:11:32Z</dcterms:modified>
  <cp:revision>36</cp:revision>
  <dc:subject/>
  <dc:title>Comparative Constructions II</dc:title>
</cp:coreProperties>
</file>