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201-989A-46E4-BE90-7844FB26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2E4-EDBC-4C4A-B649-69D5B561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7D5-862E-4AB1-9455-6C95453A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C4E-7B84-40CF-A38B-3E3662A2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1FF3-615E-40BA-BF66-C48D7530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FDA7-B659-42C8-A2D9-58ADFD97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842A-CDE7-4313-BF51-AE66A6CB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38B9-ECE0-478E-8FA6-52E187FB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67C2-DF42-4DFC-987D-99F7C03B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415F-C66B-43D4-90E9-EA8E081E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D20C-704B-436C-A1D5-19B7BA3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680-8E1B-4F9C-9D1B-036C6E98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DAB9-5996-4CF8-BBDB-E90CC584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CE22-14F9-4CA3-9AA2-FD3F57D4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9548-4886-4B40-862A-03237F0E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9E1B-4E23-4766-AD74-F112FAF8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A1C2-C645-49AC-A763-C3F48B87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B479-8508-420C-96BF-B923FAE4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B5232-F34E-4210-AC62-1CD1BCDD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0B1C-F026-47E5-9456-2224BE76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69EA-1364-4896-8442-CA028154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C38D-89AD-4C87-9B29-BC7BB334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AB4-498F-40A7-ADF2-06AE50FF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2467-BC71-40A2-A30B-CAFE082D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6D61-6B45-4419-A929-A21DAB8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814A0-031D-4FBE-9DE3-F420C665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1F4B-4520-49B0-98DD-7DB11C66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AF11-5A96-4A67-8D39-E9BF2F1F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7522-FC71-4659-8079-1E9D0B97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66FB-AD51-4148-A64B-418D580B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DB108-01F2-4178-AB2C-9E48B53B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6AFB-CF6B-44DF-8258-A4CEB761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4C391-3408-40EE-9FCF-E558A578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601-FA16-4BD5-AA0B-7357AFEE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5805-A693-4BF6-BD33-F2D5F79F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D788F-FB54-4855-A31E-B1B1F300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5A2F-F465-460D-8DCF-E04B9337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51405-D5EF-406F-AC5C-C21E165C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F7C7-15AF-4DD6-9E4A-0ADE522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F67C-E076-4305-A8EB-8DA96299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4AF1-5962-4C14-A77C-BDB82BA5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C570A-2F32-480F-9FD3-FBE26826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47E2-3977-4353-8DCF-F87DA58B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C71FA-1797-4E28-BF2C-788CD411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BA8-BF0F-40A3-9B9B-C09FDF79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8D727-E934-4C06-A39E-BF1363EA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0C57-7E5F-458B-9EB9-4EC9DCD4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F71A6-A5E0-4537-A50A-8B227D02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14076-29F3-4492-A84B-0CEF4E98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926D2-E267-472A-929F-C5C6854A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84948-36C6-41BA-A792-CA004B7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259F9-F641-4859-8FFC-6DBEDD7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B78A-A5F0-4DB8-A0D0-16DA0DF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8042-FA9E-477F-8FE7-E0458951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3801E-5825-4922-8917-72B4AB67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81B-E347-4787-9615-A203E7FB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EBC77-AB4F-4EDF-B92B-62903E33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EA7-8157-47DD-BEA6-B9D3CBB2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DF0-22DA-4D0F-A0BF-93911C26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308-9AC3-4CF8-86FA-8A6842F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90FF-CF0B-408B-BE64-D8AFCC2E562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4DB3-5661-4FD4-94CF-661EE8503F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9AE0-3A6C-4134-B7E7-239B10ED001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7460-7A6D-40AB-B611-2A9C68F3DE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17F2-7716-4B6D-8934-93CB90A6088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go4u.com/" TargetMode="External"/><Relationship Id="rId2" Type="http://schemas.openxmlformats.org/officeDocument/2006/relationships/hyperlink" Target="http://www.drmosad.com/index14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elative Clau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omparative Constructions I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Arabic vs. Englis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520" y="14479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lative clause in both English and Arabic occurs after the noun/pronoun it modif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English, relative clauses may modify a definite or an indefinite noun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oy who plays football is sic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boy who plays football is sic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Arabic, relative clauses modify definite nouns only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رأيت الولد الذي فا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رأيت ولداً الذي فاز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Arabic, the relative pronoun agrees with the noun it modifies in number, gender, and cas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ducing 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9907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lative clauses with the pronouns who, which, and that as subject pronouns can be reduced into participial phras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How to reduce relative clauses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 Relative clauses with verbs in 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activ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voice, eliminate the connecting word (relative pronoun), and use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 participl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of the main verb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 told you about the gir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o liv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next doo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 told you about the gir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liv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next doo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wom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o was hurry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to catch the bu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ripped and fel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 wom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hurry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to catch the bu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tripped and fel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ny studen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o stud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at this universit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re from foreign countr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ny studen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study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at this universit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from foreign countr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ducing 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How to reduce relative clauses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relative clauses with verbs in the passive voice, eliminate the connecting word (relative pronoun) and (is, was, were, are), and use the past participle of the main verb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ly research pape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that are hand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by Wednesda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ll be accept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ly research pape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hand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by Wednesda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ll be accept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languag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tha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are spoke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Switzerland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erman, French, and Italia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languag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spoke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Switzerland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erman, French, and Italia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ide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whic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a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that boo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ood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ide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that boo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oo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ow to translate participial phra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o translate participial phrases into Arabic, we use ( </a:t>
            </a: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سم الفاعل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or ( </a:t>
            </a: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سم المفعول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 told you about the gir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liv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next door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قيمة بجوارنا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ny studen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study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at this universit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from foreign countr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دارسون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ly research pape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hand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by Wednesday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ill be accept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سلم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m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murder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in the par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as a doctor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قتول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ide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presente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Perpetua"/>
              </a:rPr>
              <a:t> in that book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re goo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عروض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zar, B. S. (1999)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Understanding and using English grammar (3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Perpetua"/>
              </a:rPr>
              <a:t>rd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 ed.)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New York: Pearson Educatio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mdallah, R. W. &amp; Tushyeh, H. Y. (1998). A contrastive analysis of English and Arabic in relativization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Papers and Studies in Contrastive Linguistics, 34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41-152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ego4u.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drmosad.com/index14.ht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Relative clauses are subordinate clauses that function as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adjectives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Perpetua"/>
              </a:rPr>
              <a:t>modifying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 noun or a noun phrase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Relative clauses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ontain a subject and a verb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Begin with a relative pronoun or relative adverb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unction as adjective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 have not read the magazin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Perpetua"/>
              </a:rPr>
              <a:t>that is lying on the tabl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o passed the ex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take the next leve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Restrictive vs. Non-Restrictive Relative Claus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can be restrictive or non-restri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trictiv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strictive relative clauses provide essential informa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are not set off by comm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you know the gir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is talking to Sara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oo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I read yesterday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interest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fess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teaches my biology clas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won a Nobel priz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strictive vs. Non-Restrictive 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-Restrictiv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provide additional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are set off by comm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i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is an enginee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likes to organize thing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i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ich is the capital of Franc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is a beautiful cit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fessor Jon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teaches my biology clas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won a Nobel priz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Pronou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 (subject or object - peop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told you about 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 I told you about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(subject or object - animals and thing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you see the c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ich is hiding under the tabl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our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ich I passed with 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was difficul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se (possession for people, animals, or thing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met the bo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se mother is the famous surge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returned the boo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whose cover was tor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 the librar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Pronou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m (object pronoun - peop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was invited by the teacher whom I met by chanc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at (subject or object pronoun - people, animals, or things, in restrictive relative claus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bought the tab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we eat on everyda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you see the c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is hiding under the tabl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told you about 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wom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at I told you about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Subject vs. Object Relative Pronou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relative pronoun is followed by a verb, it is a subject pronoun. In this case, the relative pronoun must be used. For example: I ate the appl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which is lying on the tabl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relative pronoun is not followed by a verb (i.e., by a noun or a pronoun), it is an object pronoun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 restrictive relative clauses, it may be omitte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ate the appl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which Sara put on the tabl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ate the appl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ara put on the tabl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lative Adverb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metimes relative adverbs may be used instead of relative pronoun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(in/on which - tim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ay was an unforgettable day.+ We met them on the d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ay when we met them was an unforgettable d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(in/at which - plac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library is more than 30 years old.+ We study at the librar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library where we study is more than 30 years ol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y (for which - reas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reason is to graduate.+ We study for a reas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reason why we study is to gradu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In Arabic 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in Arabic are called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جملة الصل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pronouns introduce the relative clause, such 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ذي - التي - اللذان - اللتان - الذين- اللاتي - اللائي - من - ما - ذا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جملة الصلة تُعرب على حسب موقعها من الإعراب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عادة ما يكون هناك ضمير في جملة الصلة يربط بينها وبين ما تعود عليه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Ghadah Alotaibi</cp:lastModifiedBy>
  <dcterms:modified xsi:type="dcterms:W3CDTF">2015-05-03T17:11:32Z</dcterms:modified>
  <cp:revision>36</cp:revision>
  <dc:subject/>
  <dc:title>Comparative Constructions II</dc:title>
</cp:coreProperties>
</file>