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027B-2DFE-4856-8AED-3A545F76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B8A-5184-40E5-B221-693C6B51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93F-ED93-4047-B971-2CD41872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EED-6D11-4A04-AF41-0F8ABAF3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543-E596-4E77-8B15-35C802AF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810-B052-4615-922B-451F3200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0DA-D8B4-4896-8022-AF586463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032-918B-4B96-89F2-F4D21DAA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220D-2155-4D38-A4BE-469BEC08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7D45-627C-4B17-BF5B-A617D421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7128-25CC-4EBF-AD5B-609F9136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E5D2-7498-4CEB-846E-E9C12E1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FC46-6944-49C3-98DD-915E586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85B5-13CC-42BD-8838-FA6AB0E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4F3-77EB-47CE-A3FC-49E1F0C5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7A7F-A297-464E-A2AA-0297EDE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079-4935-4855-9F5F-244F8B9E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D21D-B3BB-446B-84F7-4A8EAEEE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A4DB-E319-42C3-8905-947F03CE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14D-AACD-4C70-B4D7-77A02920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001-27D6-4039-BC10-3AFF761A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BDC-68F9-48C9-BFE1-BF84CBD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70E-1B84-4BF0-819B-14BDB96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799-745C-4C2E-8954-C61EB0D6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A23-4A3D-43D0-8F1F-4406325D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A63-CFD3-4D64-97F8-4AB1902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FD9-F2BB-4E96-BC12-2F2E572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5040" y="-4680"/>
                <a:ext cx="941400" cy="683280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0720" y="16970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1960" y="1257480"/>
                <a:ext cx="941760" cy="5029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1960" y="121680"/>
                <a:ext cx="941760" cy="302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0720" y="989640"/>
                <a:ext cx="941760" cy="3481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2520" y="662760"/>
                <a:ext cx="941760" cy="4327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3600" y="35496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1560" y="3898080"/>
                <a:ext cx="941400" cy="4993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3160" y="35366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3160" y="2397600"/>
                <a:ext cx="941760" cy="30420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3160" y="3213000"/>
                <a:ext cx="941760" cy="347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3160" y="2931480"/>
                <a:ext cx="941760" cy="42768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2800" y="2600280"/>
                <a:ext cx="953640" cy="37584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31640"/>
                <a:ext cx="941760" cy="4993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9120" y="4499640"/>
                <a:ext cx="941400" cy="5029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1560" y="5607000"/>
                <a:ext cx="941400" cy="30276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9280" y="6208560"/>
                <a:ext cx="345960" cy="9432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3200"/>
                  <a:gd name="textAreaBottom" fmla="*/ 943560 h 9432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7600"/>
                <a:ext cx="941760" cy="428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5072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DF2-D2DF-409E-8897-BC5BBDFB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6440" y="-1583280"/>
                <a:ext cx="975240" cy="9118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8440" y="2641680"/>
                <a:ext cx="975240" cy="66816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736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9040" y="2794320"/>
                <a:ext cx="974880" cy="40428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2080" y="274284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4520" y="2688840"/>
                <a:ext cx="975240" cy="574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900200" y="2753280"/>
                <a:ext cx="987840" cy="4996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040" y="2635920"/>
                <a:ext cx="974880" cy="6678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1080" y="263304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6000" y="2786760"/>
                <a:ext cx="974880" cy="40464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6880" y="273492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2200" y="2683800"/>
                <a:ext cx="974880" cy="5724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901040" y="2724120"/>
                <a:ext cx="987840" cy="50112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200" y="2642040"/>
                <a:ext cx="975240" cy="667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624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400" y="2784960"/>
                <a:ext cx="975240" cy="40428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66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6680"/>
                  <a:gd name="textAreaBottom" fmla="*/ 976680 h 9766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600" y="2683440"/>
                <a:ext cx="974880" cy="57276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9200" y="2723760"/>
                <a:ext cx="987840" cy="5014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F71-91CE-4141-8013-933992D3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Relative Pronou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cla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3"/>
          <p:cNvSpPr/>
          <p:nvPr/>
        </p:nvSpPr>
        <p:spPr>
          <a:xfrm>
            <a:off x="1066680" y="3808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ve pronouns is a type of pronoun that often introduces dependent (or relative) clauses in sentences. They also can stand alone as the subject or object of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pecific list of relative pronouns, and here they are: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, whoever, whom, that, which, when, where, and whose. (what, which, and 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serve as relative pronoun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honed me last night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the above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es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 person phoned me last n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4300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28600"/>
          <a:ext cx="7848720" cy="63244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433440">
                <a:tc>
                  <a:txBody>
                    <a:bodyPr lIns="25200" rIns="25200" tIns="25200" bIns="252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There are five relative pronou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opl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are my teachers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I phoned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I drive is o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stud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 just rang should stand up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Student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arents are wealthy pay ext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river was maske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 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he driver was mask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2-06T17:34:58Z</dcterms:modified>
  <cp:revision>94</cp:revision>
  <dc:subject/>
  <dc:title>No Slide Title</dc:title>
</cp:coreProperties>
</file>