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DE35D-9B88-4ABC-BEFF-5CE179FD75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17567-D794-40E2-A914-9B7399AAC4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9082A-77F0-4303-8A38-52F1CB6333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26D6-91DA-4CDA-A180-ABB9421E1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4C30-B3C5-470B-8051-29F430964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5DD6-9B80-48D9-961C-D6C68684D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CC37-69B3-437F-8D5A-CAC6D81BA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C4F3A-4D88-40A2-86DF-8AA1A1030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2D20B-DF2C-4672-A461-56C1F27CB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A6286-67E3-4328-AEFC-8AFBE8725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9E45E-7ED6-44E7-8E75-D9312726D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A54C1-FA26-4E04-A34F-A8DEED4CD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CB16E-0D53-4D9C-88A3-F83FC445F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D3F7A-C9ED-48A0-AE14-84A6A30F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FD78-C5AA-49D4-8126-27F3EE6CC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9C046-5D97-45DB-BB36-F3EC52839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4F4D5-1077-4512-B8E8-B89248D11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837BF-311B-41E3-A0D9-DD4386937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4CDA8-99FE-4FBE-940C-01D310496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206C8-6F13-4B99-877E-AC1469359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D047-2900-4ED3-8B6C-EF6C84B3A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406A-8383-444C-914A-87A246E90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61B9-A3A1-4279-9ACB-0125FC9A7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10B9-18F0-4375-96B3-6D02C3ADE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451C-AC75-419B-AD3C-45BD0EE24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C531-5619-4E64-80D0-750578B4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0DF2-421C-4747-BBD0-6EA4A9E46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95040" y="-4680"/>
                <a:ext cx="941400" cy="6832800"/>
              </a:xfrm>
              <a:custGeom>
                <a:avLst/>
                <a:gdLst>
                  <a:gd name="textAreaLeft" fmla="*/ -360 w 941400"/>
                  <a:gd name="textAreaRight" fmla="*/ 941400 w 94140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90720" y="1697040"/>
                <a:ext cx="941760" cy="500760"/>
              </a:xfrm>
              <a:custGeom>
                <a:avLst/>
                <a:gdLst>
                  <a:gd name="textAreaLeft" fmla="*/ 360 w 941760"/>
                  <a:gd name="textAreaRight" fmla="*/ 942480 w 94176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111960" y="1257480"/>
                <a:ext cx="941760" cy="502920"/>
              </a:xfrm>
              <a:custGeom>
                <a:avLst/>
                <a:gdLst>
                  <a:gd name="textAreaLeft" fmla="*/ 360 w 941760"/>
                  <a:gd name="textAreaRight" fmla="*/ 942480 w 94176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111960" y="121680"/>
                <a:ext cx="941760" cy="302760"/>
              </a:xfrm>
              <a:custGeom>
                <a:avLst/>
                <a:gdLst>
                  <a:gd name="textAreaLeft" fmla="*/ 360 w 941760"/>
                  <a:gd name="textAreaRight" fmla="*/ 942480 w 94176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90720" y="989640"/>
                <a:ext cx="941760" cy="348120"/>
              </a:xfrm>
              <a:custGeom>
                <a:avLst/>
                <a:gdLst>
                  <a:gd name="textAreaLeft" fmla="*/ 360 w 941760"/>
                  <a:gd name="textAreaRight" fmla="*/ 942480 w 94176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92520" y="662760"/>
                <a:ext cx="941760" cy="432720"/>
              </a:xfrm>
              <a:custGeom>
                <a:avLst/>
                <a:gdLst>
                  <a:gd name="textAreaLeft" fmla="*/ 360 w 941760"/>
                  <a:gd name="textAreaRight" fmla="*/ 942480 w 94176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93600" y="354960"/>
                <a:ext cx="953640" cy="375480"/>
              </a:xfrm>
              <a:custGeom>
                <a:avLst/>
                <a:gdLst>
                  <a:gd name="textAreaLeft" fmla="*/ -360 w 953640"/>
                  <a:gd name="textAreaRight" fmla="*/ 953640 w 95364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61560" y="3898080"/>
                <a:ext cx="941400" cy="499320"/>
              </a:xfrm>
              <a:custGeom>
                <a:avLst/>
                <a:gdLst>
                  <a:gd name="textAreaLeft" fmla="*/ -360 w 941400"/>
                  <a:gd name="textAreaRight" fmla="*/ 941400 w 94140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83160" y="3536640"/>
                <a:ext cx="941760" cy="500760"/>
              </a:xfrm>
              <a:custGeom>
                <a:avLst/>
                <a:gdLst>
                  <a:gd name="textAreaLeft" fmla="*/ 360 w 941760"/>
                  <a:gd name="textAreaRight" fmla="*/ 942480 w 94176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83160" y="2397600"/>
                <a:ext cx="941760" cy="304200"/>
              </a:xfrm>
              <a:custGeom>
                <a:avLst/>
                <a:gdLst>
                  <a:gd name="textAreaLeft" fmla="*/ 360 w 941760"/>
                  <a:gd name="textAreaRight" fmla="*/ 942480 w 94176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83160" y="3213000"/>
                <a:ext cx="941760" cy="347040"/>
              </a:xfrm>
              <a:custGeom>
                <a:avLst/>
                <a:gdLst>
                  <a:gd name="textAreaLeft" fmla="*/ 360 w 941760"/>
                  <a:gd name="textAreaRight" fmla="*/ 942480 w 94176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83160" y="2931480"/>
                <a:ext cx="941760" cy="427680"/>
              </a:xfrm>
              <a:custGeom>
                <a:avLst/>
                <a:gdLst>
                  <a:gd name="textAreaLeft" fmla="*/ 360 w 941760"/>
                  <a:gd name="textAreaRight" fmla="*/ 942480 w 94176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82800" y="2600280"/>
                <a:ext cx="953640" cy="375840"/>
              </a:xfrm>
              <a:custGeom>
                <a:avLst/>
                <a:gdLst>
                  <a:gd name="textAreaLeft" fmla="*/ -360 w 953640"/>
                  <a:gd name="textAreaRight" fmla="*/ 953640 w 95364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600" y="4931640"/>
                <a:ext cx="941760" cy="499320"/>
              </a:xfrm>
              <a:custGeom>
                <a:avLst/>
                <a:gdLst>
                  <a:gd name="textAreaLeft" fmla="*/ 360 w 941760"/>
                  <a:gd name="textAreaRight" fmla="*/ 942480 w 94176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9120" y="4499640"/>
                <a:ext cx="941400" cy="502920"/>
              </a:xfrm>
              <a:custGeom>
                <a:avLst/>
                <a:gdLst>
                  <a:gd name="textAreaLeft" fmla="*/ -360 w 941400"/>
                  <a:gd name="textAreaRight" fmla="*/ 941400 w 94140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61560" y="5607000"/>
                <a:ext cx="941400" cy="302760"/>
              </a:xfrm>
              <a:custGeom>
                <a:avLst/>
                <a:gdLst>
                  <a:gd name="textAreaLeft" fmla="*/ -360 w 941400"/>
                  <a:gd name="textAreaRight" fmla="*/ 941400 w 94140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59280" y="6208560"/>
                <a:ext cx="345960" cy="94320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43200"/>
                  <a:gd name="textAreaBottom" fmla="*/ 943560 h 94320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77600"/>
                <a:ext cx="941760" cy="428040"/>
              </a:xfrm>
              <a:custGeom>
                <a:avLst/>
                <a:gdLst>
                  <a:gd name="textAreaLeft" fmla="*/ 360 w 941760"/>
                  <a:gd name="textAreaRight" fmla="*/ 942480 w 941760"/>
                  <a:gd name="textAreaTop" fmla="*/ 0 h 428040"/>
                  <a:gd name="textAreaBottom" fmla="*/ 428400 h 42804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0680" y="5850720"/>
                <a:ext cx="953640" cy="375480"/>
              </a:xfrm>
              <a:custGeom>
                <a:avLst/>
                <a:gdLst>
                  <a:gd name="textAreaLeft" fmla="*/ -360 w 953640"/>
                  <a:gd name="textAreaRight" fmla="*/ 953640 w 95364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C6F04-9EA2-4AF3-BC3C-2D7098C1B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7360"/>
              <a:chOff x="-3240" y="2479680"/>
              <a:chExt cx="9146880" cy="101736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6440" y="-1583280"/>
                <a:ext cx="975240" cy="911880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9118800"/>
                  <a:gd name="textAreaBottom" fmla="*/ 9119160 h 9118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8440" y="2641680"/>
                <a:ext cx="975240" cy="66816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7360" y="2640960"/>
                <a:ext cx="975240" cy="66960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9040" y="2794320"/>
                <a:ext cx="974880" cy="404280"/>
              </a:xfrm>
              <a:custGeom>
                <a:avLst/>
                <a:gdLst>
                  <a:gd name="textAreaLeft" fmla="*/ 360 w 974880"/>
                  <a:gd name="textAreaRight" fmla="*/ 975600 w 97488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102080" y="2742840"/>
                <a:ext cx="975240" cy="46620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54520" y="2688840"/>
                <a:ext cx="975240" cy="57420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574200"/>
                  <a:gd name="textAreaBottom" fmla="*/ 574560 h 574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900200" y="2753280"/>
                <a:ext cx="987840" cy="499680"/>
              </a:xfrm>
              <a:custGeom>
                <a:avLst/>
                <a:gdLst>
                  <a:gd name="textAreaLeft" fmla="*/ 360 w 987840"/>
                  <a:gd name="textAreaRight" fmla="*/ 988560 w 98784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040" y="2635920"/>
                <a:ext cx="974880" cy="667800"/>
              </a:xfrm>
              <a:custGeom>
                <a:avLst/>
                <a:gdLst>
                  <a:gd name="textAreaLeft" fmla="*/ 360 w 974880"/>
                  <a:gd name="textAreaRight" fmla="*/ 975600 w 97488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601080" y="2633040"/>
                <a:ext cx="975240" cy="66960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56000" y="2786760"/>
                <a:ext cx="974880" cy="404640"/>
              </a:xfrm>
              <a:custGeom>
                <a:avLst/>
                <a:gdLst>
                  <a:gd name="textAreaLeft" fmla="*/ 360 w 974880"/>
                  <a:gd name="textAreaRight" fmla="*/ 975600 w 97488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6880" y="2734920"/>
                <a:ext cx="975240" cy="46620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62200" y="2683800"/>
                <a:ext cx="974880" cy="572400"/>
              </a:xfrm>
              <a:custGeom>
                <a:avLst/>
                <a:gdLst>
                  <a:gd name="textAreaLeft" fmla="*/ 360 w 974880"/>
                  <a:gd name="textAreaRight" fmla="*/ 975600 w 97488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901040" y="2724120"/>
                <a:ext cx="987840" cy="501120"/>
              </a:xfrm>
              <a:custGeom>
                <a:avLst/>
                <a:gdLst>
                  <a:gd name="textAreaLeft" fmla="*/ 360 w 987840"/>
                  <a:gd name="textAreaRight" fmla="*/ 988560 w 98784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200" y="2642040"/>
                <a:ext cx="975240" cy="66780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6240" y="2640960"/>
                <a:ext cx="975240" cy="66960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400" y="2784960"/>
                <a:ext cx="975240" cy="40428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7668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76680"/>
                  <a:gd name="textAreaBottom" fmla="*/ 976680 h 97668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600" y="2683440"/>
                <a:ext cx="974880" cy="572760"/>
              </a:xfrm>
              <a:custGeom>
                <a:avLst/>
                <a:gdLst>
                  <a:gd name="textAreaLeft" fmla="*/ 360 w 974880"/>
                  <a:gd name="textAreaRight" fmla="*/ 975600 w 97488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9200" y="2723760"/>
                <a:ext cx="987840" cy="501480"/>
              </a:xfrm>
              <a:custGeom>
                <a:avLst/>
                <a:gdLst>
                  <a:gd name="textAreaLeft" fmla="*/ 360 w 987840"/>
                  <a:gd name="textAreaRight" fmla="*/ 988560 w 98784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>
                <a:gd name="textAreaLeft" fmla="*/ -360 w 9144360"/>
                <a:gd name="textAreaRight" fmla="*/ 9144360 w 91443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8F808-6DCF-4976-A9AB-82F8A7AA0C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6"/>
          <p:cNvSpPr/>
          <p:nvPr/>
        </p:nvSpPr>
        <p:spPr>
          <a:xfrm>
            <a:off x="2514600" y="1371600"/>
            <a:ext cx="5029200" cy="54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cc"/>
                </a:solidFill>
                <a:latin typeface="Comic Sans MS"/>
              </a:rPr>
              <a:t>Relative Pronouns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cc"/>
                </a:solidFill>
                <a:latin typeface="Comic Sans MS"/>
              </a:rPr>
              <a:t>&amp; claus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مستطيل 3"/>
          <p:cNvSpPr/>
          <p:nvPr/>
        </p:nvSpPr>
        <p:spPr>
          <a:xfrm>
            <a:off x="1066680" y="380880"/>
            <a:ext cx="784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relative pronouns is a type of pronoun that often introduces dependent (or relative) clauses in sentences. They also can stand alone as the subject or object of a sente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a specific list of relative pronouns, and here they are: </a:t>
            </a:r>
            <a:r>
              <a:rPr b="0" i="1" lang="en-US" sz="2400" spc="-1" strike="noStrike">
                <a:solidFill>
                  <a:srgbClr val="c00000"/>
                </a:solidFill>
                <a:latin typeface="Times New Roman"/>
              </a:rPr>
              <a:t>who, whoever, whom, that, which, when, where, and whose. (what, which, and 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also serve as relative pronouns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Times New Roman"/>
              </a:rPr>
              <a:t>The person </a:t>
            </a:r>
            <a:r>
              <a:rPr b="0" i="1" lang="en-US" sz="2400" spc="-1" strike="noStrike">
                <a:solidFill>
                  <a:srgbClr val="c00000"/>
                </a:solidFill>
                <a:latin typeface="Times New Roman"/>
              </a:rPr>
              <a:t>wh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66cc"/>
                </a:solidFill>
                <a:latin typeface="Times New Roman"/>
              </a:rPr>
              <a:t>phoned me last night is my teac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In the above examp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"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wh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: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relates the claus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en-US" sz="2400" spc="-1" strike="noStrike">
                <a:solidFill>
                  <a:srgbClr val="3366cc"/>
                </a:solidFill>
                <a:latin typeface="Times New Roman"/>
              </a:rPr>
              <a:t>A person phoned me last nigh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,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o the claus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 </a:t>
            </a:r>
            <a:r>
              <a:rPr b="0" lang="en-US" sz="2400" spc="-1" strike="noStrike">
                <a:solidFill>
                  <a:srgbClr val="3366cc"/>
                </a:solidFill>
                <a:latin typeface="Times New Roman"/>
              </a:rPr>
              <a:t>The person is my teac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"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1143000" y="38088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066680" y="228600"/>
          <a:ext cx="7848720" cy="6324480"/>
        </p:xfrm>
        <a:graphic>
          <a:graphicData uri="http://schemas.openxmlformats.org/drawingml/2006/table">
            <a:tbl>
              <a:tblPr/>
              <a:tblGrid>
                <a:gridCol w="7848720"/>
              </a:tblGrid>
              <a:tr h="433440">
                <a:tc>
                  <a:txBody>
                    <a:bodyPr lIns="25200" rIns="25200" tIns="25200" bIns="2520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There are five relative pronouns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: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4f81bd"/>
                          </a:solidFill>
                          <a:latin typeface="Times New Roman"/>
                          <a:ea typeface="Arial"/>
                        </a:rPr>
                        <a:t>who</a:t>
                      </a: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Times New Roman"/>
                          <a:ea typeface="Arial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4f81bd"/>
                          </a:solidFill>
                          <a:latin typeface="Times New Roman"/>
                          <a:ea typeface="Arial"/>
                        </a:rPr>
                        <a:t>whom</a:t>
                      </a: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Times New Roman"/>
                          <a:ea typeface="Arial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4f81bd"/>
                          </a:solidFill>
                          <a:latin typeface="Times New Roman"/>
                          <a:ea typeface="Arial"/>
                        </a:rPr>
                        <a:t>whose</a:t>
                      </a: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Times New Roman"/>
                          <a:ea typeface="Arial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4f81bd"/>
                          </a:solidFill>
                          <a:latin typeface="Times New Roman"/>
                          <a:ea typeface="Arial"/>
                        </a:rPr>
                        <a:t>which</a:t>
                      </a: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Times New Roman"/>
                          <a:ea typeface="Arial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4f81bd"/>
                          </a:solidFill>
                          <a:latin typeface="Times New Roman"/>
                          <a:ea typeface="Arial"/>
                        </a:rPr>
                        <a:t>th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25200" marR="25200">
                    <a:lnL w="5760">
                      <a:solidFill>
                        <a:srgbClr val="cbcbcb"/>
                      </a:solidFill>
                    </a:lnL>
                    <a:lnR w="5760">
                      <a:solidFill>
                        <a:srgbClr val="cbcbcb"/>
                      </a:solidFill>
                    </a:lnR>
                    <a:lnT w="5760">
                      <a:solidFill>
                        <a:srgbClr val="cbcbcb"/>
                      </a:solidFill>
                    </a:lnT>
                    <a:lnB w="5760">
                      <a:solidFill>
                        <a:srgbClr val="cbcbcb"/>
                      </a:solidFill>
                    </a:lnB>
                    <a:solidFill>
                      <a:srgbClr val="ececec"/>
                    </a:solidFill>
                  </a:tcPr>
                </a:tc>
              </a:tr>
              <a:tr h="799920">
                <a:tc>
                  <a:txBody>
                    <a:bodyPr lIns="25200" rIns="25200" tIns="25200" bIns="25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 The person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wh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phoned me last night is my teacher.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 The person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ha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phoned me last night is my teache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0" marR="25200">
                    <a:lnL w="5760">
                      <a:solidFill>
                        <a:srgbClr val="cbcbcb"/>
                      </a:solidFill>
                    </a:lnL>
                    <a:lnR w="5760">
                      <a:solidFill>
                        <a:srgbClr val="cbcbcb"/>
                      </a:solidFill>
                    </a:lnR>
                    <a:lnT w="5760">
                      <a:solidFill>
                        <a:srgbClr val="cbcbcb"/>
                      </a:solidFill>
                    </a:lnT>
                    <a:lnB w="5760">
                      <a:solidFill>
                        <a:srgbClr val="cbcbcb"/>
                      </a:solidFill>
                    </a:lnB>
                    <a:noFill/>
                  </a:tcPr>
                </a:tc>
              </a:tr>
              <a:tr h="801720">
                <a:tc>
                  <a:txBody>
                    <a:bodyPr lIns="25200" rIns="25200" tIns="25200" bIns="25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 The car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which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hit me was yellow.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 The car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ha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hit me was yellow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0" marR="25200">
                    <a:lnL w="5760">
                      <a:solidFill>
                        <a:srgbClr val="cbcbcb"/>
                      </a:solidFill>
                    </a:lnL>
                    <a:lnR w="5760">
                      <a:solidFill>
                        <a:srgbClr val="cbcbcb"/>
                      </a:solidFill>
                    </a:lnR>
                    <a:lnT w="5760">
                      <a:solidFill>
                        <a:srgbClr val="cbcbcb"/>
                      </a:solidFill>
                    </a:lnT>
                    <a:lnB w="5760">
                      <a:solidFill>
                        <a:srgbClr val="cbcbcb"/>
                      </a:solidFill>
                    </a:lnB>
                    <a:noFill/>
                  </a:tcPr>
                </a:tc>
              </a:tr>
              <a:tr h="1524240">
                <a:tc>
                  <a:txBody>
                    <a:bodyPr lIns="25200" rIns="25200" tIns="25200" bIns="25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 The person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who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I phoned last night is my teacher.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 The people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wh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I phoned last night are my teachers.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 The person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ha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I phoned last night is my teacher.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 The person I phoned last night is my teache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0" marR="25200">
                    <a:lnL w="5760">
                      <a:solidFill>
                        <a:srgbClr val="cbcbcb"/>
                      </a:solidFill>
                    </a:lnL>
                    <a:lnR w="5760">
                      <a:solidFill>
                        <a:srgbClr val="cbcbcb"/>
                      </a:solidFill>
                    </a:lnR>
                    <a:lnT w="5760">
                      <a:solidFill>
                        <a:srgbClr val="cbcbcb"/>
                      </a:solidFill>
                    </a:lnT>
                    <a:lnB w="5760">
                      <a:solidFill>
                        <a:srgbClr val="cbcbcb"/>
                      </a:solidFill>
                    </a:lnB>
                    <a:noFill/>
                  </a:tcPr>
                </a:tc>
              </a:tr>
              <a:tr h="1163520">
                <a:tc>
                  <a:txBody>
                    <a:bodyPr lIns="25200" rIns="25200" tIns="25200" bIns="25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 The car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which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I drive is old.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 The car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ha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I drive is old.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 The car I drive is ol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0" marR="25200">
                    <a:lnL w="5760">
                      <a:solidFill>
                        <a:srgbClr val="cbcbcb"/>
                      </a:solidFill>
                    </a:lnL>
                    <a:lnR w="5760">
                      <a:solidFill>
                        <a:srgbClr val="cbcbcb"/>
                      </a:solidFill>
                    </a:lnR>
                    <a:lnT w="5760">
                      <a:solidFill>
                        <a:srgbClr val="cbcbcb"/>
                      </a:solidFill>
                    </a:lnT>
                    <a:lnB w="5760">
                      <a:solidFill>
                        <a:srgbClr val="cbcbcb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25200" rIns="25200" tIns="25200" bIns="25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 The student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whos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phone just rang should stand up.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 Students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whos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parents are wealthy pay extra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0" marR="25200">
                    <a:lnL w="5760">
                      <a:solidFill>
                        <a:srgbClr val="cbcbcb"/>
                      </a:solidFill>
                    </a:lnL>
                    <a:lnR w="5760">
                      <a:solidFill>
                        <a:srgbClr val="cbcbcb"/>
                      </a:solidFill>
                    </a:lnR>
                    <a:lnT w="5760">
                      <a:solidFill>
                        <a:srgbClr val="cbcbcb"/>
                      </a:solidFill>
                    </a:lnT>
                    <a:lnB w="5760">
                      <a:solidFill>
                        <a:srgbClr val="cbcbcb"/>
                      </a:solidFill>
                    </a:lnB>
                    <a:noFill/>
                  </a:tcPr>
                </a:tc>
              </a:tr>
              <a:tr h="801720">
                <a:tc>
                  <a:txBody>
                    <a:bodyPr lIns="25200" rIns="25200" tIns="25200" bIns="25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 The police are looking for the car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whos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driver was masked.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 The police are looking for the car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of which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the driver was masked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25200" marR="25200">
                    <a:lnL w="5760">
                      <a:solidFill>
                        <a:srgbClr val="cbcbcb"/>
                      </a:solidFill>
                    </a:lnL>
                    <a:lnR w="5760">
                      <a:solidFill>
                        <a:srgbClr val="cbcbcb"/>
                      </a:solidFill>
                    </a:lnR>
                    <a:lnT w="5760">
                      <a:solidFill>
                        <a:srgbClr val="cbcbcb"/>
                      </a:solidFill>
                    </a:lnT>
                    <a:lnB w="5760">
                      <a:solidFill>
                        <a:srgbClr val="cbcbc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17:24:48Z</dcterms:created>
  <dc:creator>Computer &amp; Technology</dc:creator>
  <dc:description/>
  <dc:language>en-US</dc:language>
  <cp:lastModifiedBy>ASUS</cp:lastModifiedBy>
  <cp:lastPrinted>2005-06-10T16:41:19Z</cp:lastPrinted>
  <dcterms:modified xsi:type="dcterms:W3CDTF">2015-12-06T17:34:58Z</dcterms:modified>
  <cp:revision>94</cp:revision>
  <dc:subject/>
  <dc:title>No Slide Title</dc:title>
</cp:coreProperties>
</file>