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C42C-C35C-4C26-93BF-40A6B24A8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4232-D177-4051-B1ED-0185A3379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674E-2261-4672-B8AB-8F72909AD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32B-7B84-4B48-B328-7A399786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046-D904-4B07-806C-1F19EEBE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962-03DB-4D8C-BEE4-D1657E72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7CD-D9A9-4081-AAB4-64D7E575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127E-5AB7-4452-9AD7-380DDFBC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50CC-CBE0-4B08-9BDC-FE698F9A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5EDB-0E37-48FE-B2C6-CF2E7AF5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F3F0-30C9-4CA8-99D2-CBD18565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C71B-BD0F-4BFB-83E5-B5F37213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9C2F-63BF-46BA-A77B-A0B45B06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C1A4-D3C7-48E0-AE31-39047AE7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A36-B4B1-4742-8861-FB38413C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34F1-063F-4C15-AA82-57D65ED4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F78A-3168-4ECD-B4F2-FA62AF9C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F3A2-1418-414D-8889-2536B05B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7F0C-B2F3-475D-B9D9-58345B97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AD50-1641-4A30-8207-082DCC6C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F1E-387D-40AE-9BC3-4315F141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FED-2BE0-4AC2-8B15-FAA0F5BB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DD1-093E-4BE1-B41A-D98AA5FB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BC9-78FB-4609-AFB9-2ACE46F5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C5F-59BD-46C8-894B-EFAD0968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998-1415-45B2-9F0C-9596661E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E29-D3DD-4BF7-97C8-7376ECEA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5040" y="-4680"/>
                <a:ext cx="941400" cy="683280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0720" y="1697040"/>
                <a:ext cx="941760" cy="50076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11960" y="1257480"/>
                <a:ext cx="941760" cy="5029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11960" y="121680"/>
                <a:ext cx="941760" cy="30276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0720" y="989640"/>
                <a:ext cx="941760" cy="3481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2520" y="662760"/>
                <a:ext cx="941760" cy="4327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3600" y="354960"/>
                <a:ext cx="953640" cy="375480"/>
              </a:xfrm>
              <a:custGeom>
                <a:avLst/>
                <a:gdLst>
                  <a:gd name="textAreaLeft" fmla="*/ -360 w 953640"/>
                  <a:gd name="textAreaRight" fmla="*/ 953640 w 9536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1560" y="3898080"/>
                <a:ext cx="941400" cy="49932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3160" y="3536640"/>
                <a:ext cx="941760" cy="50076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3160" y="2397600"/>
                <a:ext cx="941760" cy="30420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3160" y="3213000"/>
                <a:ext cx="941760" cy="34704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3160" y="2931480"/>
                <a:ext cx="941760" cy="42768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2800" y="2600280"/>
                <a:ext cx="953640" cy="375840"/>
              </a:xfrm>
              <a:custGeom>
                <a:avLst/>
                <a:gdLst>
                  <a:gd name="textAreaLeft" fmla="*/ -360 w 953640"/>
                  <a:gd name="textAreaRight" fmla="*/ 953640 w 9536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31640"/>
                <a:ext cx="941760" cy="4993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9120" y="4499640"/>
                <a:ext cx="941400" cy="50292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1560" y="5607000"/>
                <a:ext cx="941400" cy="30276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9280" y="6208560"/>
                <a:ext cx="345960" cy="9432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43200"/>
                  <a:gd name="textAreaBottom" fmla="*/ 943560 h 9432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7600"/>
                <a:ext cx="941760" cy="42804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50720"/>
                <a:ext cx="953640" cy="375480"/>
              </a:xfrm>
              <a:custGeom>
                <a:avLst/>
                <a:gdLst>
                  <a:gd name="textAreaLeft" fmla="*/ -360 w 953640"/>
                  <a:gd name="textAreaRight" fmla="*/ 953640 w 9536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50C2-857A-49DC-8F2A-7AE8D48B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6440" y="-1583280"/>
                <a:ext cx="975240" cy="91188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8440" y="2641680"/>
                <a:ext cx="975240" cy="66816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7360" y="2640960"/>
                <a:ext cx="975240" cy="6696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9040" y="2794320"/>
                <a:ext cx="974880" cy="40428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2080" y="2742840"/>
                <a:ext cx="975240" cy="4662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4520" y="2688840"/>
                <a:ext cx="975240" cy="5742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900200" y="2753280"/>
                <a:ext cx="987840" cy="499680"/>
              </a:xfrm>
              <a:custGeom>
                <a:avLst/>
                <a:gdLst>
                  <a:gd name="textAreaLeft" fmla="*/ 360 w 987840"/>
                  <a:gd name="textAreaRight" fmla="*/ 988560 w 9878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040" y="2635920"/>
                <a:ext cx="974880" cy="66780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601080" y="2633040"/>
                <a:ext cx="975240" cy="6696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6000" y="2786760"/>
                <a:ext cx="974880" cy="40464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6880" y="2734920"/>
                <a:ext cx="975240" cy="4662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2200" y="2683800"/>
                <a:ext cx="974880" cy="57240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901040" y="2724120"/>
                <a:ext cx="987840" cy="501120"/>
              </a:xfrm>
              <a:custGeom>
                <a:avLst/>
                <a:gdLst>
                  <a:gd name="textAreaLeft" fmla="*/ 360 w 987840"/>
                  <a:gd name="textAreaRight" fmla="*/ 988560 w 9878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200" y="2642040"/>
                <a:ext cx="975240" cy="6678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6240" y="2640960"/>
                <a:ext cx="975240" cy="6696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400" y="2784960"/>
                <a:ext cx="975240" cy="40428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766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6680"/>
                  <a:gd name="textAreaBottom" fmla="*/ 976680 h 9766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600" y="2683440"/>
                <a:ext cx="974880" cy="57276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9200" y="2723760"/>
                <a:ext cx="987840" cy="501480"/>
              </a:xfrm>
              <a:custGeom>
                <a:avLst/>
                <a:gdLst>
                  <a:gd name="textAreaLeft" fmla="*/ 360 w 987840"/>
                  <a:gd name="textAreaRight" fmla="*/ 988560 w 9878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18D6-9184-4763-BA07-2740C578C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2514600" y="1371600"/>
            <a:ext cx="50292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Relative Pronoun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&amp; cla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مستطيل 3"/>
          <p:cNvSpPr/>
          <p:nvPr/>
        </p:nvSpPr>
        <p:spPr>
          <a:xfrm>
            <a:off x="1066680" y="3808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lative pronouns is a type of pronoun that often introduces dependent (or relative) clauses in sentences. They also can stand alone as the subject or object of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pecific list of relative pronouns, and here they are: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who, whoever, whom, that, which, when, where, and whose. (what, which, and 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also serve as relative pronouns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The person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phoned me last night is my teac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 the above 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lates the cl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A person phoned me last nigh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,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o the cl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The person is my teac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143000" y="380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228600"/>
          <a:ext cx="7848720" cy="63244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433440">
                <a:tc>
                  <a:txBody>
                    <a:bodyPr lIns="25200" rIns="25200" tIns="25200" bIns="252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There are five relative pronoun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7999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honed me last night is my teacher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honed me last night is my teach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hit me was yellow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hit me was yello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phoned last night is my teacher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opl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phoned last night are my teachers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phoned last night is my teacher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I phoned last night is my teach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drive is old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drive is old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I drive is ol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stud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hone just rang should stand up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Student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arents are wealthy pay extr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olice are looking for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driver was masked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olice are looking for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f whi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he driver was maske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4:48Z</dcterms:created>
  <dc:creator>Computer &amp; Technology</dc:creator>
  <dc:description/>
  <dc:language>en-US</dc:language>
  <cp:lastModifiedBy>ASUS</cp:lastModifiedBy>
  <cp:lastPrinted>2005-06-10T16:41:19Z</cp:lastPrinted>
  <dcterms:modified xsi:type="dcterms:W3CDTF">2015-12-06T17:34:58Z</dcterms:modified>
  <cp:revision>94</cp:revision>
  <dc:subject/>
  <dc:title>No Slide Title</dc:title>
</cp:coreProperties>
</file>