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51A0-56B3-4181-9750-7BD0FD34C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2B5E-28B3-4EF6-9DE0-C4ABC7118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441E-AE4B-4CEF-96F9-C02A76937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90A2-E397-4FB7-B687-007F156B1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BA65-DA08-45AD-A522-DCEA5332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0568-57E9-43F0-AA03-8E2F11FB6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4F56-C012-4658-A486-F02CF37FB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B8A6-4D62-4882-89DA-9015CA8D8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95FE-37E2-4731-B948-9AD5F0B9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0E08-CC71-4018-83F8-6804D034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0B68-A0D8-4CE8-A1D5-70788282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1153-974E-442B-BCFD-D86C9AE8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B990-7C77-4ECC-A1DD-CFC3C03E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D3A6-63FD-439A-9C50-8C92234F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1660-6F42-4D72-BC6E-2FC016E6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BA9F-7B40-4800-AF48-DAA66638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E8D9-4376-4166-8874-1D4A10E8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35F6-7FC8-40CA-8A76-A60D3A86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9E92-2095-400F-AA0B-69CFA8500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085F-DB39-4A2D-9237-B9E570F7B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A1D9-BBFE-4CA1-81CF-3E991EAA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4156-89CB-4D84-A7B4-CB152B0A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5EF1-7E2B-4874-A6C4-EFDA3F1E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CC04-9D1E-4340-89DC-81E3B8D0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3721-59AF-4CF9-B294-BC1D0342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019E-ACD8-47C5-BF50-93CF4F5E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59F8-C09E-4107-BBD9-50160997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95040" y="-4680"/>
                <a:ext cx="941400" cy="6832800"/>
              </a:xfrm>
              <a:custGeom>
                <a:avLst/>
                <a:gdLst>
                  <a:gd name="textAreaLeft" fmla="*/ -360 w 941400"/>
                  <a:gd name="textAreaRight" fmla="*/ 941400 w 94140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90720" y="1697040"/>
                <a:ext cx="941760" cy="500760"/>
              </a:xfrm>
              <a:custGeom>
                <a:avLst/>
                <a:gdLst>
                  <a:gd name="textAreaLeft" fmla="*/ 360 w 941760"/>
                  <a:gd name="textAreaRight" fmla="*/ 942480 w 94176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111960" y="1257480"/>
                <a:ext cx="941760" cy="502920"/>
              </a:xfrm>
              <a:custGeom>
                <a:avLst/>
                <a:gdLst>
                  <a:gd name="textAreaLeft" fmla="*/ 360 w 941760"/>
                  <a:gd name="textAreaRight" fmla="*/ 942480 w 94176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111960" y="121680"/>
                <a:ext cx="941760" cy="302760"/>
              </a:xfrm>
              <a:custGeom>
                <a:avLst/>
                <a:gdLst>
                  <a:gd name="textAreaLeft" fmla="*/ 360 w 941760"/>
                  <a:gd name="textAreaRight" fmla="*/ 942480 w 94176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90720" y="989640"/>
                <a:ext cx="941760" cy="348120"/>
              </a:xfrm>
              <a:custGeom>
                <a:avLst/>
                <a:gdLst>
                  <a:gd name="textAreaLeft" fmla="*/ 360 w 941760"/>
                  <a:gd name="textAreaRight" fmla="*/ 942480 w 94176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92520" y="662760"/>
                <a:ext cx="941760" cy="432720"/>
              </a:xfrm>
              <a:custGeom>
                <a:avLst/>
                <a:gdLst>
                  <a:gd name="textAreaLeft" fmla="*/ 360 w 941760"/>
                  <a:gd name="textAreaRight" fmla="*/ 942480 w 94176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93600" y="354960"/>
                <a:ext cx="953640" cy="375480"/>
              </a:xfrm>
              <a:custGeom>
                <a:avLst/>
                <a:gdLst>
                  <a:gd name="textAreaLeft" fmla="*/ -360 w 953640"/>
                  <a:gd name="textAreaRight" fmla="*/ 953640 w 95364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61560" y="3898080"/>
                <a:ext cx="941400" cy="499320"/>
              </a:xfrm>
              <a:custGeom>
                <a:avLst/>
                <a:gdLst>
                  <a:gd name="textAreaLeft" fmla="*/ -360 w 941400"/>
                  <a:gd name="textAreaRight" fmla="*/ 941400 w 94140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83160" y="3536640"/>
                <a:ext cx="941760" cy="500760"/>
              </a:xfrm>
              <a:custGeom>
                <a:avLst/>
                <a:gdLst>
                  <a:gd name="textAreaLeft" fmla="*/ 360 w 941760"/>
                  <a:gd name="textAreaRight" fmla="*/ 942480 w 94176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83160" y="2397600"/>
                <a:ext cx="941760" cy="304200"/>
              </a:xfrm>
              <a:custGeom>
                <a:avLst/>
                <a:gdLst>
                  <a:gd name="textAreaLeft" fmla="*/ 360 w 941760"/>
                  <a:gd name="textAreaRight" fmla="*/ 942480 w 94176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83160" y="3213000"/>
                <a:ext cx="941760" cy="347040"/>
              </a:xfrm>
              <a:custGeom>
                <a:avLst/>
                <a:gdLst>
                  <a:gd name="textAreaLeft" fmla="*/ 360 w 941760"/>
                  <a:gd name="textAreaRight" fmla="*/ 942480 w 94176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83160" y="2931480"/>
                <a:ext cx="941760" cy="427680"/>
              </a:xfrm>
              <a:custGeom>
                <a:avLst/>
                <a:gdLst>
                  <a:gd name="textAreaLeft" fmla="*/ 360 w 941760"/>
                  <a:gd name="textAreaRight" fmla="*/ 942480 w 94176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82800" y="2600280"/>
                <a:ext cx="953640" cy="375840"/>
              </a:xfrm>
              <a:custGeom>
                <a:avLst/>
                <a:gdLst>
                  <a:gd name="textAreaLeft" fmla="*/ -360 w 953640"/>
                  <a:gd name="textAreaRight" fmla="*/ 953640 w 95364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600" y="4931640"/>
                <a:ext cx="941760" cy="499320"/>
              </a:xfrm>
              <a:custGeom>
                <a:avLst/>
                <a:gdLst>
                  <a:gd name="textAreaLeft" fmla="*/ 360 w 941760"/>
                  <a:gd name="textAreaRight" fmla="*/ 942480 w 94176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9120" y="4499640"/>
                <a:ext cx="941400" cy="502920"/>
              </a:xfrm>
              <a:custGeom>
                <a:avLst/>
                <a:gdLst>
                  <a:gd name="textAreaLeft" fmla="*/ -360 w 941400"/>
                  <a:gd name="textAreaRight" fmla="*/ 941400 w 94140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61560" y="5607000"/>
                <a:ext cx="941400" cy="302760"/>
              </a:xfrm>
              <a:custGeom>
                <a:avLst/>
                <a:gdLst>
                  <a:gd name="textAreaLeft" fmla="*/ -360 w 941400"/>
                  <a:gd name="textAreaRight" fmla="*/ 941400 w 94140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59280" y="6208560"/>
                <a:ext cx="345960" cy="94320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43200"/>
                  <a:gd name="textAreaBottom" fmla="*/ 943560 h 94320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77600"/>
                <a:ext cx="941760" cy="428040"/>
              </a:xfrm>
              <a:custGeom>
                <a:avLst/>
                <a:gdLst>
                  <a:gd name="textAreaLeft" fmla="*/ 360 w 941760"/>
                  <a:gd name="textAreaRight" fmla="*/ 942480 w 94176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0680" y="5850720"/>
                <a:ext cx="953640" cy="375480"/>
              </a:xfrm>
              <a:custGeom>
                <a:avLst/>
                <a:gdLst>
                  <a:gd name="textAreaLeft" fmla="*/ -360 w 953640"/>
                  <a:gd name="textAreaRight" fmla="*/ 953640 w 95364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0DD8-3FEE-4E69-9FF3-B42F957B5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6440" y="-1583280"/>
                <a:ext cx="975240" cy="911880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8440" y="2641680"/>
                <a:ext cx="975240" cy="66816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7360" y="2640960"/>
                <a:ext cx="975240" cy="66960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9040" y="2794320"/>
                <a:ext cx="974880" cy="404280"/>
              </a:xfrm>
              <a:custGeom>
                <a:avLst/>
                <a:gdLst>
                  <a:gd name="textAreaLeft" fmla="*/ 360 w 974880"/>
                  <a:gd name="textAreaRight" fmla="*/ 975600 w 97488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102080" y="2742840"/>
                <a:ext cx="975240" cy="46620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54520" y="2688840"/>
                <a:ext cx="975240" cy="57420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900200" y="2753280"/>
                <a:ext cx="987840" cy="499680"/>
              </a:xfrm>
              <a:custGeom>
                <a:avLst/>
                <a:gdLst>
                  <a:gd name="textAreaLeft" fmla="*/ 360 w 987840"/>
                  <a:gd name="textAreaRight" fmla="*/ 988560 w 98784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040" y="2635920"/>
                <a:ext cx="974880" cy="667800"/>
              </a:xfrm>
              <a:custGeom>
                <a:avLst/>
                <a:gdLst>
                  <a:gd name="textAreaLeft" fmla="*/ 360 w 974880"/>
                  <a:gd name="textAreaRight" fmla="*/ 975600 w 97488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601080" y="2633040"/>
                <a:ext cx="975240" cy="66960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56000" y="2786760"/>
                <a:ext cx="974880" cy="404640"/>
              </a:xfrm>
              <a:custGeom>
                <a:avLst/>
                <a:gdLst>
                  <a:gd name="textAreaLeft" fmla="*/ 360 w 974880"/>
                  <a:gd name="textAreaRight" fmla="*/ 975600 w 97488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6880" y="2734920"/>
                <a:ext cx="975240" cy="46620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62200" y="2683800"/>
                <a:ext cx="974880" cy="572400"/>
              </a:xfrm>
              <a:custGeom>
                <a:avLst/>
                <a:gdLst>
                  <a:gd name="textAreaLeft" fmla="*/ 360 w 974880"/>
                  <a:gd name="textAreaRight" fmla="*/ 975600 w 97488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901040" y="2724120"/>
                <a:ext cx="987840" cy="501120"/>
              </a:xfrm>
              <a:custGeom>
                <a:avLst/>
                <a:gdLst>
                  <a:gd name="textAreaLeft" fmla="*/ 360 w 987840"/>
                  <a:gd name="textAreaRight" fmla="*/ 988560 w 98784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200" y="2642040"/>
                <a:ext cx="975240" cy="66780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6240" y="2640960"/>
                <a:ext cx="975240" cy="66960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400" y="2784960"/>
                <a:ext cx="975240" cy="40428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7668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76680"/>
                  <a:gd name="textAreaBottom" fmla="*/ 976680 h 97668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600" y="2683440"/>
                <a:ext cx="974880" cy="572760"/>
              </a:xfrm>
              <a:custGeom>
                <a:avLst/>
                <a:gdLst>
                  <a:gd name="textAreaLeft" fmla="*/ 360 w 974880"/>
                  <a:gd name="textAreaRight" fmla="*/ 975600 w 97488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9200" y="2723760"/>
                <a:ext cx="987840" cy="501480"/>
              </a:xfrm>
              <a:custGeom>
                <a:avLst/>
                <a:gdLst>
                  <a:gd name="textAreaLeft" fmla="*/ 360 w 987840"/>
                  <a:gd name="textAreaRight" fmla="*/ 988560 w 98784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A930-2198-43C2-BC01-A9A9BBE8D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6"/>
          <p:cNvSpPr/>
          <p:nvPr/>
        </p:nvSpPr>
        <p:spPr>
          <a:xfrm>
            <a:off x="2514600" y="1371600"/>
            <a:ext cx="502920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cc"/>
                </a:solidFill>
                <a:latin typeface="Comic Sans MS"/>
              </a:rPr>
              <a:t>Relative Pronoun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cc"/>
                </a:solidFill>
                <a:latin typeface="Comic Sans MS"/>
              </a:rPr>
              <a:t>&amp; claus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مستطيل 3"/>
          <p:cNvSpPr/>
          <p:nvPr/>
        </p:nvSpPr>
        <p:spPr>
          <a:xfrm>
            <a:off x="1066680" y="38088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elative pronouns is a type of pronoun that often introduces dependent (or relative) clauses in sentences. They also can stand alone as the subject or object of a sente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specific list of relative pronouns, and here they are: 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</a:rPr>
              <a:t>who, whoever, whom, that, which, when, where, and whose. (what, which, and 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also serve as relative pronouns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imes New Roman"/>
              </a:rPr>
              <a:t>The person 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</a:rPr>
              <a:t>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cc"/>
                </a:solidFill>
                <a:latin typeface="Times New Roman"/>
              </a:rPr>
              <a:t>phoned me last night is my teac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n the above exa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"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: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elates the clau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n-US" sz="2400" spc="-1" strike="noStrike">
                <a:solidFill>
                  <a:srgbClr val="3366cc"/>
                </a:solidFill>
                <a:latin typeface="Times New Roman"/>
              </a:rPr>
              <a:t>A person phoned me last nigh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,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o the clau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0" lang="en-US" sz="2400" spc="-1" strike="noStrike">
                <a:solidFill>
                  <a:srgbClr val="3366cc"/>
                </a:solidFill>
                <a:latin typeface="Times New Roman"/>
              </a:rPr>
              <a:t>The person is my teac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1143000" y="3808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066680" y="228600"/>
          <a:ext cx="7848720" cy="6324480"/>
        </p:xfrm>
        <a:graphic>
          <a:graphicData uri="http://schemas.openxmlformats.org/drawingml/2006/table">
            <a:tbl>
              <a:tblPr/>
              <a:tblGrid>
                <a:gridCol w="7848720"/>
              </a:tblGrid>
              <a:tr h="433440">
                <a:tc>
                  <a:txBody>
                    <a:bodyPr lIns="25200" rIns="25200" tIns="25200" bIns="2520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There are five relative pronoun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: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4f81bd"/>
                          </a:solidFill>
                          <a:latin typeface="Times New Roman"/>
                          <a:ea typeface="Arial"/>
                        </a:rPr>
                        <a:t>who</a:t>
                      </a: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Times New Roman"/>
                          <a:ea typeface="Arial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4f81bd"/>
                          </a:solidFill>
                          <a:latin typeface="Times New Roman"/>
                          <a:ea typeface="Arial"/>
                        </a:rPr>
                        <a:t>whom</a:t>
                      </a: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Times New Roman"/>
                          <a:ea typeface="Arial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4f81bd"/>
                          </a:solidFill>
                          <a:latin typeface="Times New Roman"/>
                          <a:ea typeface="Arial"/>
                        </a:rPr>
                        <a:t>whose</a:t>
                      </a: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Times New Roman"/>
                          <a:ea typeface="Arial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4f81bd"/>
                          </a:solidFill>
                          <a:latin typeface="Times New Roman"/>
                          <a:ea typeface="Arial"/>
                        </a:rPr>
                        <a:t>which</a:t>
                      </a: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Times New Roman"/>
                          <a:ea typeface="Arial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4f81bd"/>
                          </a:solidFill>
                          <a:latin typeface="Times New Roman"/>
                          <a:ea typeface="Arial"/>
                        </a:rPr>
                        <a:t>th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25200" marR="25200">
                    <a:lnL w="5760">
                      <a:solidFill>
                        <a:srgbClr val="cbcbcb"/>
                      </a:solidFill>
                    </a:lnL>
                    <a:lnR w="5760">
                      <a:solidFill>
                        <a:srgbClr val="cbcbcb"/>
                      </a:solidFill>
                    </a:lnR>
                    <a:lnT w="5760">
                      <a:solidFill>
                        <a:srgbClr val="cbcbcb"/>
                      </a:solidFill>
                    </a:lnT>
                    <a:lnB w="5760">
                      <a:solidFill>
                        <a:srgbClr val="cbcbcb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799920">
                <a:tc>
                  <a:txBody>
                    <a:bodyPr lIns="25200" rIns="25200" tIns="25200" bIns="25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person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wh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phoned me last night is my teacher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person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ha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phoned me last night is my teache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0" marR="25200">
                    <a:lnL w="5760">
                      <a:solidFill>
                        <a:srgbClr val="cbcbcb"/>
                      </a:solidFill>
                    </a:lnL>
                    <a:lnR w="5760">
                      <a:solidFill>
                        <a:srgbClr val="cbcbcb"/>
                      </a:solidFill>
                    </a:lnR>
                    <a:lnT w="5760">
                      <a:solidFill>
                        <a:srgbClr val="cbcbcb"/>
                      </a:solidFill>
                    </a:lnT>
                    <a:lnB w="5760">
                      <a:solidFill>
                        <a:srgbClr val="cbcbcb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25200" rIns="25200" tIns="25200" bIns="25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car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whic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hit me was yellow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car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ha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hit me was yellow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0" marR="25200">
                    <a:lnL w="5760">
                      <a:solidFill>
                        <a:srgbClr val="cbcbcb"/>
                      </a:solidFill>
                    </a:lnL>
                    <a:lnR w="5760">
                      <a:solidFill>
                        <a:srgbClr val="cbcbcb"/>
                      </a:solidFill>
                    </a:lnR>
                    <a:lnT w="5760">
                      <a:solidFill>
                        <a:srgbClr val="cbcbcb"/>
                      </a:solidFill>
                    </a:lnT>
                    <a:lnB w="5760">
                      <a:solidFill>
                        <a:srgbClr val="cbcbcb"/>
                      </a:solidFill>
                    </a:lnB>
                    <a:noFill/>
                  </a:tcPr>
                </a:tc>
              </a:tr>
              <a:tr h="1524240">
                <a:tc>
                  <a:txBody>
                    <a:bodyPr lIns="25200" rIns="25200" tIns="25200" bIns="25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person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wh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I phoned last night is my teacher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peopl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wh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I phoned last night are my teachers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person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ha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I phoned last night is my teacher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person I phoned last night is my teache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0" marR="25200">
                    <a:lnL w="5760">
                      <a:solidFill>
                        <a:srgbClr val="cbcbcb"/>
                      </a:solidFill>
                    </a:lnL>
                    <a:lnR w="5760">
                      <a:solidFill>
                        <a:srgbClr val="cbcbcb"/>
                      </a:solidFill>
                    </a:lnR>
                    <a:lnT w="5760">
                      <a:solidFill>
                        <a:srgbClr val="cbcbcb"/>
                      </a:solidFill>
                    </a:lnT>
                    <a:lnB w="5760">
                      <a:solidFill>
                        <a:srgbClr val="cbcbcb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25200" rIns="25200" tIns="25200" bIns="25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car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whic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I drive is old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car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ha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I drive is old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car I drive is ol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0" marR="25200">
                    <a:lnL w="5760">
                      <a:solidFill>
                        <a:srgbClr val="cbcbcb"/>
                      </a:solidFill>
                    </a:lnL>
                    <a:lnR w="5760">
                      <a:solidFill>
                        <a:srgbClr val="cbcbcb"/>
                      </a:solidFill>
                    </a:lnR>
                    <a:lnT w="5760">
                      <a:solidFill>
                        <a:srgbClr val="cbcbcb"/>
                      </a:solidFill>
                    </a:lnT>
                    <a:lnB w="5760">
                      <a:solidFill>
                        <a:srgbClr val="cbcbcb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25200" rIns="25200" tIns="25200" bIns="25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studen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who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phone just rang should stand up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Students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who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parents are wealthy pay extra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0" marR="25200">
                    <a:lnL w="5760">
                      <a:solidFill>
                        <a:srgbClr val="cbcbcb"/>
                      </a:solidFill>
                    </a:lnL>
                    <a:lnR w="5760">
                      <a:solidFill>
                        <a:srgbClr val="cbcbcb"/>
                      </a:solidFill>
                    </a:lnR>
                    <a:lnT w="5760">
                      <a:solidFill>
                        <a:srgbClr val="cbcbcb"/>
                      </a:solidFill>
                    </a:lnT>
                    <a:lnB w="5760">
                      <a:solidFill>
                        <a:srgbClr val="cbcbcb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25200" rIns="25200" tIns="25200" bIns="25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police are looking for the car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who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driver was masked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police are looking for the car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f whic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the driver was masked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0" marR="25200">
                    <a:lnL w="5760">
                      <a:solidFill>
                        <a:srgbClr val="cbcbcb"/>
                      </a:solidFill>
                    </a:lnL>
                    <a:lnR w="5760">
                      <a:solidFill>
                        <a:srgbClr val="cbcbcb"/>
                      </a:solidFill>
                    </a:lnR>
                    <a:lnT w="5760">
                      <a:solidFill>
                        <a:srgbClr val="cbcbcb"/>
                      </a:solidFill>
                    </a:lnT>
                    <a:lnB w="5760">
                      <a:solidFill>
                        <a:srgbClr val="cbcbc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7:24:48Z</dcterms:created>
  <dc:creator>Computer &amp; Technology</dc:creator>
  <dc:description/>
  <dc:language>en-US</dc:language>
  <cp:lastModifiedBy>ASUS</cp:lastModifiedBy>
  <cp:lastPrinted>2005-06-10T16:41:19Z</cp:lastPrinted>
  <dcterms:modified xsi:type="dcterms:W3CDTF">2015-12-06T17:34:58Z</dcterms:modified>
  <cp:revision>94</cp:revision>
  <dc:subject/>
  <dc:title>No Slide Title</dc:title>
</cp:coreProperties>
</file>