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002FD-B5FD-44E9-AE63-33A8FEB29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B9E57-8027-4E21-9260-2C561F36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BC4381-6ADE-48DB-80F5-62AEBA1CAA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70A19B-2DCF-43EC-BA53-0DA7C08C96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EA9DE3-C437-4B38-AC38-1975C7648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5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5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94117-781C-45DB-ABA5-75BB5BEC5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2"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4A88C1-767D-4BB5-AD19-622479DEB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6"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357B2-4DAC-455B-9F59-A57FF6CDA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8"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69"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7C5F40-391B-445F-9282-99BF20C522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4"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2021D3-9DAE-4033-8A7F-D51DEC0D95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76"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7"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8"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9"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0"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1"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BFD2CB-E49C-404B-9FE9-FE6B448162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05FF59-3C6E-4844-BCF0-20EF49A584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A042D-4521-4D53-B464-D65397401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88"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FE18F2-F750-4108-9288-F12FB82A46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0"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4BBE43-7E37-40B0-BCD5-36ACB501A8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28DB9B-0453-46F9-9E4C-F8BCBA80DD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606364-DBC7-46F8-92EF-F8ACD07DB4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904740-6CB7-495E-AC53-E98BB8CE33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9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9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1561EC-3A85-4DCA-AED4-D83B725250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1"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3"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211DBE-B747-4492-8620-F43CEA0B62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07"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0020B0-A03D-4BDF-B320-20595AED02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09"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0"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334FEF-9230-45CC-83EB-470A51F4E9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5"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1B5F1D-4717-4557-A60C-478E287722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D4D4B-C922-4F75-8584-136D8ED04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17"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8"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19"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0"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1"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22"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942542-ED1E-4C37-B974-047B08521F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B83C6F-3BAA-4642-ABFE-4FD0A61387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2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9C3973-530B-45DD-B10F-B5853B7A11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303465-579B-400D-8A89-C447C00E09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628586-C242-4333-B419-C4F54525A6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AE9510-3804-4487-A120-2ECC5414BD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82B0F5-0E1A-48BE-BCB0-81DB990AC0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3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3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FD385A-C29F-43F2-A11F-BF84DD094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873B5-D8A6-4574-8307-8C59B0003B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4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4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4B74F9-13D7-45BF-AAA5-B8AB791266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AD833-BAF2-4389-93E8-566E792EF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0"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1"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07F915-D983-4A2F-9198-C1380C3AE0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6"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5E9643-1009-4E72-BA99-181B2B38EA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58"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59"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0"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1"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2"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63"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3DA6DD-0F9C-4E9E-9DE1-318F38195E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DE60BD-A809-4FEF-A1F7-727F204054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AF4263-200B-4A2B-9003-B0D4208AD7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B5DBC8-0C00-433B-9BAF-5CA13CF2C3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CCF1EE-97C3-4F9C-B816-9BCFE40F89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9955C6-A54E-4A33-BC01-9DB0D611F6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89A687-CDC5-4CC7-B422-3EB930A6228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7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FBFE67-FE70-4A49-8769-030AB13B76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0"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164AD-51B7-4A6D-8B08-B3E9D03A8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EFB03A-3AE4-46C0-97F9-5D81D63874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8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8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5AAE99-3825-4326-80EC-0DCB58C87E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16DA1C-1CBA-474A-B332-B761E87B94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9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CE0345-6314-4013-8C2B-21C5B939DD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49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0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313644-0611-4F35-ACE1-D0009EEC48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2"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A11BA-BF4F-4F0D-9697-6E730C20A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D39E8-31EC-4B3A-8E6D-3607C8075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665E0-3B8E-4037-A1AE-62A08808F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8084F-2E25-41C7-B53E-661600FD1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6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6BFEE-8C40-4944-ADBC-0C4481039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3636C-3020-4357-8E9D-3D9BBD977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5"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346BA-E20C-4C59-90B5-922FA4A3F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7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9"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95BCA-1AC4-4B5D-8DE4-C1B189A9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1"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2"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41B9F-F081-4B90-AA38-0964842E0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87"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2D226-F47D-4BA8-A067-7F748F7B0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89"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0"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1"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2"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3"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4"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C0E55-17D5-459D-9BE3-8B5338B74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DB6704-F7E4-4AF4-AC6B-5816471FD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1"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AC1AF-E1F6-4993-A2A9-D85C27151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3"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29015-8F17-4369-8A1B-FFFFEDFCF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0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0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04753-13BD-474F-9899-19A82F969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E02DF-E324-4BD4-8B70-992B406F9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65684-C397-479A-97C5-48FB49D3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6E48F-2B11-4FA1-A4F7-A2A35B709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7F0AE-6079-42C3-8A1E-B955420CB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4"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5"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6"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391E4-4C11-4840-BE3F-7F909EFA2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1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1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0"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7F356-781C-4C19-B0FD-43D52F44F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2"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3"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456BF-20F2-4576-9977-A46820BE9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2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28"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263A34-54E0-43F0-A299-5BBC4B0B0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30"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1"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2"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3"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4"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35"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9AEACE-45D5-4F58-9C48-391DC4A7E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C65ED8-7028-4085-A863-8F69BD13FD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2"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ADB3C-73BC-4FE0-ADF5-38783DA3D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4"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760D1-B335-441C-9D99-7E09A06AD7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DC22-FC47-4E29-90AF-54222CE4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4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47"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631D7E-18A2-4E88-AEDB-47C9D986C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3CD9B-25F7-4FEE-8541-2E3FB2A2A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C8FD5-C127-404E-BEA7-FAE27F110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2"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3"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ECD4B-6677-4163-B02B-947C78101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5"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6"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57"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D65C6-0413-4A40-833B-FC7CF74DE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5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1"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9D644-68E5-4A8E-976D-FEAB82BAC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3"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4"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0EF3B-88DE-46FE-8B44-F6366D604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6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8"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69"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2DBC46-75E7-4D69-90DE-8494DB800F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71"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2"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3"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4"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5"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76"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7B78DA-29C3-4BC7-B551-80000A7068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7A5BA5-733C-40FD-B735-C3F416BDE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20685-691C-467D-8ACC-164D0986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3"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A20EC-D886-499C-81B8-B398E2150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5"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F2F6E-C22F-4CDF-9B50-2787328F0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8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88"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2FE55-7C12-466C-9767-314FD5D5C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A1C49-2D8A-40E0-BD4D-49EAFA9BA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09FAA-CA2F-4586-B86B-8A0F0BF2E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3"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4"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B3D1D-608C-4E8C-9F99-9624B5231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196"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198"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A9AF1-A860-40B7-A5E8-1C3016749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2"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5582C-23CC-444C-9988-DF30A7983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4"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5"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2432B0-538A-464A-A459-EF258CA161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07"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09"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0"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9DF74D-6072-4F31-8A62-58D5095FB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E105-5BA0-47FD-ABC9-2C8E3BCE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12"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3"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4"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5"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6"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17"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57341-53A5-41B9-876B-4A14B7C11C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410CA5-27D6-41BA-BB96-84A20F04EB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4"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09A47-A257-40D8-B4FF-DAE8E4ADC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6"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D3380-A11C-4FD8-854C-BDB1C500B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2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F4C7A4-4476-478E-92D0-1B5FCCD82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1B1EC2-1229-4F7D-965A-3DA2A99AE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F656F-F879-4296-8B05-2C7435CA7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4"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5"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179F3F-9B25-4CCC-B178-0B6150419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37"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8"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39"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93E3F-7658-422A-8092-75AA7585C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1"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2"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3"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71845-98ED-45DF-A140-9B0C0FC32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0414-25C5-44CA-841F-1815CC08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5"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6"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291FDC-36E8-40F9-95DE-CEF79F8A78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48"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4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0"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1"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572BAB-DB1B-4F41-9EEE-3BDB1153BE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53"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4"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5"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6"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7"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58"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141E40-99ED-4A3F-9988-167BC6E190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A66399-3680-47A8-B7E5-F452A2A436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5"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99F8B-9054-4E64-B638-BE607E930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7"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1C82FA-9128-4A21-8172-AA3944A8F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6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0"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8A61E9-4C65-4A3D-83D2-638D40A53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11F52A-5F53-49DF-B704-8EF7408156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A534B-A907-4EDC-B722-303D29F72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4"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5"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6"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41B41-9B19-4DD9-8363-25A283DC0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0C475-BB63-485C-A6E2-D40B8DFE8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78"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79"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0"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CD221-0AC2-429B-9E91-171D1E2276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2"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3"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4"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6886D-11CC-45F2-B07E-98B730499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6"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87"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7E827-8F21-4D6C-9BC4-867C02A852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89"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1"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2"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9EE5F5-B4C4-4057-9C7A-FB1C463979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294"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5"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6"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7"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8"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299"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1D28EE-A3BB-4FBD-83DA-B7EE708453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0A7500-2CE3-4F9C-A239-34D4D03709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6"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ED0AA-95F3-4024-9AC4-0633F05EE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0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9B62B3-378F-4E4D-A111-870524C19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0"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1"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71FAC-0BD1-4847-8577-DB36927D5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834E98-6A4C-4F94-8287-A216AB3DEF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6"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7"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8"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A13E-FDA8-4AD3-B702-52C06AADE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990720" y="271080"/>
            <a:ext cx="7772400" cy="4395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D610D-CF69-4A12-8B8D-9C162E69A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5"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6" name="PlaceHolder 3"/>
          <p:cNvSpPr>
            <a:spLocks noGrp="1"/>
          </p:cNvSpPr>
          <p:nvPr>
            <p:ph/>
          </p:nvPr>
        </p:nvSpPr>
        <p:spPr>
          <a:xfrm>
            <a:off x="497340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17"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72252-5C68-448B-AD69-52347DA13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19" name="PlaceHolder 2"/>
          <p:cNvSpPr>
            <a:spLocks noGrp="1"/>
          </p:cNvSpPr>
          <p:nvPr>
            <p:ph/>
          </p:nvPr>
        </p:nvSpPr>
        <p:spPr>
          <a:xfrm>
            <a:off x="990720" y="1371240"/>
            <a:ext cx="37926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0"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1" name="PlaceHolder 4"/>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212D9-1693-4AF3-AA1C-2884A332D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3"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4"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5" name="PlaceHolder 4"/>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EB24F-0AAC-45E1-95AF-1680A24FC9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27" name="PlaceHolder 2"/>
          <p:cNvSpPr>
            <a:spLocks noGrp="1"/>
          </p:cNvSpPr>
          <p:nvPr>
            <p:ph/>
          </p:nvPr>
        </p:nvSpPr>
        <p:spPr>
          <a:xfrm>
            <a:off x="990720" y="137124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28" name="PlaceHolder 3"/>
          <p:cNvSpPr>
            <a:spLocks noGrp="1"/>
          </p:cNvSpPr>
          <p:nvPr>
            <p:ph/>
          </p:nvPr>
        </p:nvSpPr>
        <p:spPr>
          <a:xfrm>
            <a:off x="990720" y="3684960"/>
            <a:ext cx="77724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EFE0B-82CF-41B1-B627-FBC62EB0BC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0" name="PlaceHolder 2"/>
          <p:cNvSpPr>
            <a:spLocks noGrp="1"/>
          </p:cNvSpPr>
          <p:nvPr>
            <p:ph/>
          </p:nvPr>
        </p:nvSpPr>
        <p:spPr>
          <a:xfrm>
            <a:off x="99072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1" name="PlaceHolder 3"/>
          <p:cNvSpPr>
            <a:spLocks noGrp="1"/>
          </p:cNvSpPr>
          <p:nvPr>
            <p:ph/>
          </p:nvPr>
        </p:nvSpPr>
        <p:spPr>
          <a:xfrm>
            <a:off x="4973400" y="137124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2" name="PlaceHolder 4"/>
          <p:cNvSpPr>
            <a:spLocks noGrp="1"/>
          </p:cNvSpPr>
          <p:nvPr>
            <p:ph/>
          </p:nvPr>
        </p:nvSpPr>
        <p:spPr>
          <a:xfrm>
            <a:off x="99072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3" name="PlaceHolder 5"/>
          <p:cNvSpPr>
            <a:spLocks noGrp="1"/>
          </p:cNvSpPr>
          <p:nvPr>
            <p:ph/>
          </p:nvPr>
        </p:nvSpPr>
        <p:spPr>
          <a:xfrm>
            <a:off x="4973400" y="3684960"/>
            <a:ext cx="379260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93BB69-A229-406E-8854-61A8A59AA6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35" name="PlaceHolder 2"/>
          <p:cNvSpPr>
            <a:spLocks noGrp="1"/>
          </p:cNvSpPr>
          <p:nvPr>
            <p:ph/>
          </p:nvPr>
        </p:nvSpPr>
        <p:spPr>
          <a:xfrm>
            <a:off x="990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6" name="PlaceHolder 3"/>
          <p:cNvSpPr>
            <a:spLocks noGrp="1"/>
          </p:cNvSpPr>
          <p:nvPr>
            <p:ph/>
          </p:nvPr>
        </p:nvSpPr>
        <p:spPr>
          <a:xfrm>
            <a:off x="361872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7" name="PlaceHolder 4"/>
          <p:cNvSpPr>
            <a:spLocks noGrp="1"/>
          </p:cNvSpPr>
          <p:nvPr>
            <p:ph/>
          </p:nvPr>
        </p:nvSpPr>
        <p:spPr>
          <a:xfrm>
            <a:off x="6246360" y="137124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8" name="PlaceHolder 5"/>
          <p:cNvSpPr>
            <a:spLocks noGrp="1"/>
          </p:cNvSpPr>
          <p:nvPr>
            <p:ph/>
          </p:nvPr>
        </p:nvSpPr>
        <p:spPr>
          <a:xfrm>
            <a:off x="990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39" name="PlaceHolder 6"/>
          <p:cNvSpPr>
            <a:spLocks noGrp="1"/>
          </p:cNvSpPr>
          <p:nvPr>
            <p:ph/>
          </p:nvPr>
        </p:nvSpPr>
        <p:spPr>
          <a:xfrm>
            <a:off x="361872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340" name="PlaceHolder 7"/>
          <p:cNvSpPr>
            <a:spLocks noGrp="1"/>
          </p:cNvSpPr>
          <p:nvPr>
            <p:ph/>
          </p:nvPr>
        </p:nvSpPr>
        <p:spPr>
          <a:xfrm>
            <a:off x="6246360" y="3684960"/>
            <a:ext cx="2502360" cy="21124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79910E-7A82-454C-BF1E-A92987A885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71D93D-68D3-4DC0-A310-234BC9330B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7" name="PlaceHolder 2"/>
          <p:cNvSpPr>
            <a:spLocks noGrp="1"/>
          </p:cNvSpPr>
          <p:nvPr>
            <p:ph type="subTitle"/>
          </p:nvPr>
        </p:nvSpPr>
        <p:spPr>
          <a:xfrm>
            <a:off x="990720" y="1371240"/>
            <a:ext cx="7772400" cy="4429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6A29F9-8D0C-4C4A-A030-4EA704C2D0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ff"/>
              </a:solidFill>
              <a:latin typeface="Book Antiqua"/>
            </a:endParaRPr>
          </a:p>
        </p:txBody>
      </p:sp>
      <p:sp>
        <p:nvSpPr>
          <p:cNvPr id="349"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C82B74-BB8C-4305-8D12-B8B095E65C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8DA5-86D2-4794-B597-038F48C74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5"/>
          <p:cNvGrpSpPr/>
          <p:nvPr/>
        </p:nvGrpSpPr>
        <p:grpSpPr>
          <a:xfrm>
            <a:off x="0" y="385920"/>
            <a:ext cx="9134640" cy="6188040"/>
            <a:chOff x="0" y="385920"/>
            <a:chExt cx="9134640" cy="6188040"/>
          </a:xfrm>
        </p:grpSpPr>
        <p:grpSp>
          <p:nvGrpSpPr>
            <p:cNvPr id="4" name="Group 6"/>
            <p:cNvGrpSpPr/>
            <p:nvPr/>
          </p:nvGrpSpPr>
          <p:grpSpPr>
            <a:xfrm>
              <a:off x="0" y="385920"/>
              <a:ext cx="966960" cy="457200"/>
              <a:chOff x="0" y="385920"/>
              <a:chExt cx="966960" cy="457200"/>
            </a:xfrm>
          </p:grpSpPr>
          <p:sp>
            <p:nvSpPr>
              <p:cNvPr id="5" name="Freeform 7"/>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 name="Freeform 8"/>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 name="Freeform 9"/>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 name="Freeform 10"/>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 name="Freeform 11"/>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0" name="Group 12"/>
            <p:cNvGrpSpPr/>
            <p:nvPr/>
          </p:nvGrpSpPr>
          <p:grpSpPr>
            <a:xfrm>
              <a:off x="838080" y="6257880"/>
              <a:ext cx="8296560" cy="316080"/>
              <a:chOff x="838080" y="6257880"/>
              <a:chExt cx="8296560" cy="316080"/>
            </a:xfrm>
          </p:grpSpPr>
          <p:sp>
            <p:nvSpPr>
              <p:cNvPr id="11" name="Freeform 13"/>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2" name="Freeform 14"/>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13" name="Freeform 15"/>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Times New Roman"/>
                </a:endParaRPr>
              </a:p>
            </p:txBody>
          </p:sp>
        </p:grpSp>
      </p:grpSp>
      <p:sp>
        <p:nvSpPr>
          <p:cNvPr id="14" name="PlaceHolder 4"/>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5" name="PlaceHolder 5"/>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6" name="Rectangle 18"/>
          <p:cNvSpPr/>
          <p:nvPr/>
        </p:nvSpPr>
        <p:spPr>
          <a:xfrm>
            <a:off x="887040" y="6600960"/>
            <a:ext cx="4363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of Industrial Engineering - The University of Oklahoma</a:t>
            </a:r>
            <a:endParaRPr b="1" lang="en-US" sz="1200" spc="-1" strike="noStrike">
              <a:solidFill>
                <a:srgbClr val="000000"/>
              </a:solidFill>
              <a:latin typeface="Times New Roman"/>
            </a:endParaRPr>
          </a:p>
        </p:txBody>
      </p:sp>
      <p:pic>
        <p:nvPicPr>
          <p:cNvPr id="17" name="Picture 19" descr=""/>
          <p:cNvPicPr/>
          <p:nvPr/>
        </p:nvPicPr>
        <p:blipFill>
          <a:blip r:embed="rId2"/>
          <a:stretch/>
        </p:blipFill>
        <p:spPr>
          <a:xfrm>
            <a:off x="101520" y="6006960"/>
            <a:ext cx="85104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83"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84"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E2A0-FF9A-450B-8128-63B057BD3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24"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2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0884-A153-4949-B834-9906AE9D6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46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466"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7"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8"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F2E5-05A6-4DF9-B9AE-0B5D8A72B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55"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5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8449-B876-4E54-AC2B-E67544A71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96"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97"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3E21-041E-4542-8DFC-75717BFD5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37"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38"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E50C-3520-4376-8647-CBA9EB856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178"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179"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22F4-3BAA-4D17-9311-C95D9BA1A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19"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20"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8B89-CE70-452B-A401-B86D24134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260"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261"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30BC-5170-48F9-9D24-37A21BF31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01"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02"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B175-F0B4-45D5-B934-DBCB3ACF4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Click to edit the title text format</a:t>
            </a:r>
            <a:endParaRPr b="0" i="1" lang="en-US" sz="4400" spc="-1" strike="noStrike">
              <a:solidFill>
                <a:srgbClr val="0000ff"/>
              </a:solidFill>
              <a:latin typeface="Book Antiqua"/>
            </a:endParaRPr>
          </a:p>
        </p:txBody>
      </p:sp>
      <p:sp>
        <p:nvSpPr>
          <p:cNvPr id="342" name="PlaceHolder 2"/>
          <p:cNvSpPr>
            <a:spLocks noGrp="1"/>
          </p:cNvSpPr>
          <p:nvPr>
            <p:ph type="body"/>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lick to edit the outline text format</a:t>
            </a:r>
            <a:endParaRPr b="0" lang="en-US" sz="3000" spc="-1" strike="noStrike">
              <a:solidFill>
                <a:srgbClr val="000000"/>
              </a:solidFill>
              <a:latin typeface="Book Antiqua"/>
            </a:endParaRPr>
          </a:p>
          <a:p>
            <a:pPr lvl="1" marL="743040" indent="-28584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cond Outline Level</a:t>
            </a:r>
            <a:endParaRPr b="0" lang="en-US" sz="3000" spc="-1" strike="noStrike">
              <a:solidFill>
                <a:srgbClr val="000000"/>
              </a:solidFill>
              <a:latin typeface="Book Antiqua"/>
            </a:endParaRPr>
          </a:p>
          <a:p>
            <a:pPr lvl="2" marL="1143000" indent="-228600">
              <a:spcBef>
                <a:spcPts val="75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Third Outline Level</a:t>
            </a:r>
            <a:endParaRPr b="0" lang="en-US" sz="3000" spc="-1" strike="noStrike">
              <a:solidFill>
                <a:srgbClr val="000000"/>
              </a:solidFill>
              <a:latin typeface="Book Antiqua"/>
            </a:endParaRPr>
          </a:p>
          <a:p>
            <a:pPr lvl="3" marL="1600200" indent="-228600">
              <a:spcBef>
                <a:spcPts val="751"/>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ourth Outline Level</a:t>
            </a:r>
            <a:endParaRPr b="0" lang="en-US" sz="3000" spc="-1" strike="noStrike">
              <a:solidFill>
                <a:srgbClr val="000000"/>
              </a:solidFill>
              <a:latin typeface="Book Antiqua"/>
            </a:endParaRPr>
          </a:p>
          <a:p>
            <a:pPr lvl="4" marL="2057400" indent="-228600">
              <a:spcBef>
                <a:spcPts val="75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Fifth Outline Level</a:t>
            </a:r>
            <a:endParaRPr b="0" lang="en-US" sz="3000" spc="-1" strike="noStrike">
              <a:solidFill>
                <a:srgbClr val="000000"/>
              </a:solidFill>
              <a:latin typeface="Book Antiqua"/>
            </a:endParaRPr>
          </a:p>
          <a:p>
            <a:pPr lvl="5"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ixth Outline Level</a:t>
            </a:r>
            <a:endParaRPr b="0" lang="en-US" sz="3000" spc="-1" strike="noStrike">
              <a:solidFill>
                <a:srgbClr val="000000"/>
              </a:solidFill>
              <a:latin typeface="Book Antiqua"/>
            </a:endParaRPr>
          </a:p>
          <a:p>
            <a:pPr lvl="6" marL="2057400" indent="-228600">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eventh Outline Level</a:t>
            </a:r>
            <a:endParaRPr b="0" lang="en-US" sz="3000" spc="-1" strike="noStrike">
              <a:solidFill>
                <a:srgbClr val="000000"/>
              </a:solidFill>
              <a:latin typeface="Book Antiqua"/>
            </a:endParaRPr>
          </a:p>
        </p:txBody>
      </p:sp>
      <p:sp>
        <p:nvSpPr>
          <p:cNvPr id="343"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AE98-CCA4-42DB-8334-54022886B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26920" y="1294920"/>
            <a:ext cx="7631280" cy="2421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ff"/>
                </a:solidFill>
                <a:latin typeface="Book Antiqua"/>
              </a:rPr>
              <a:t>Reliability Analysis</a:t>
            </a:r>
            <a:br>
              <a:rPr sz="4800"/>
            </a:br>
            <a:r>
              <a:rPr b="0" i="1" lang="en-US" sz="4800" spc="-1" strike="noStrike">
                <a:solidFill>
                  <a:srgbClr val="0000ff"/>
                </a:solidFill>
                <a:latin typeface="Book Antiqua"/>
              </a:rPr>
              <a:t> </a:t>
            </a:r>
            <a:endParaRPr b="0" i="1" lang="en-US" sz="48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lnSpc>
                <a:spcPct val="90000"/>
              </a:lnSpc>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makes a question “Good” or “Bad” in terms of alpha?</a:t>
            </a:r>
            <a:endParaRPr b="0" lang="en-US" sz="26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PSS  will report “alpha if item deleted”, which shows how alpha would change if that one question was not on the test.</a:t>
            </a:r>
            <a:endParaRPr b="0" lang="en-US" sz="2400" spc="-1" strike="noStrike">
              <a:solidFill>
                <a:srgbClr val="000000"/>
              </a:solidFill>
              <a:latin typeface="Book Antiqua"/>
            </a:endParaRPr>
          </a:p>
          <a:p>
            <a:pPr lvl="1" marL="743040" indent="-285840">
              <a:lnSpc>
                <a:spcPct val="90000"/>
              </a:lnSpc>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igher “alpha if item deleted” means a question is not so good because deleting that question would improve the overall alpha.</a:t>
            </a:r>
            <a:endParaRPr b="0" lang="en-US" sz="2400" spc="-1" strike="noStrike">
              <a:solidFill>
                <a:srgbClr val="000000"/>
              </a:solidFill>
              <a:latin typeface="Book Antiqu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 Example</a:t>
            </a:r>
            <a:endParaRPr b="0" i="1" lang="en-US" sz="4400" spc="-1" strike="noStrike">
              <a:solidFill>
                <a:srgbClr val="0000ff"/>
              </a:solidFill>
              <a:latin typeface="Book Antiqua"/>
            </a:endParaRPr>
          </a:p>
        </p:txBody>
      </p:sp>
      <p:sp>
        <p:nvSpPr>
          <p:cNvPr id="522"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fontScale="95000"/>
          </a:bodyPr>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105 members of the community completed a ten-item ‘attitudes-to-help-seeking’ instrument, using a 5-point Likert scale (1=Strongly disagree to 5=Strongly agree). You wish to determine the internal consistency of this scale using Cronbach’s alpha.</a:t>
            </a:r>
            <a:endParaRPr b="0" lang="en-US" sz="3000" spc="-1" strike="noStrike">
              <a:solidFill>
                <a:srgbClr val="000000"/>
              </a:solidFill>
              <a:latin typeface="Book Antiqua"/>
            </a:endParaRPr>
          </a:p>
          <a:p>
            <a:pPr marL="578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ea typeface="Arial"/>
              </a:rPr>
              <a:t>The data is given in Attitude_Reliability.sav</a:t>
            </a:r>
            <a:endParaRPr b="0" lang="en-US" sz="3000" spc="-1" strike="noStrike">
              <a:solidFill>
                <a:srgbClr val="000000"/>
              </a:solidFill>
              <a:latin typeface="Book Antiqua"/>
            </a:endParaRPr>
          </a:p>
        </p:txBody>
      </p:sp>
      <p:sp>
        <p:nvSpPr>
          <p:cNvPr id="523"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ff"/>
                </a:solidFill>
                <a:latin typeface="Book Antiqua"/>
              </a:rPr>
              <a:t>Obtaining Reliability of Scale using SPSS - Example</a:t>
            </a:r>
            <a:endParaRPr b="0" i="1" lang="en-US" sz="4400" spc="-1" strike="noStrike">
              <a:solidFill>
                <a:srgbClr val="0000ff"/>
              </a:solidFill>
              <a:latin typeface="Book Antiqua"/>
            </a:endParaRPr>
          </a:p>
        </p:txBody>
      </p:sp>
      <p:sp>
        <p:nvSpPr>
          <p:cNvPr id="525" name="PlaceHolder 2"/>
          <p:cNvSpPr>
            <a:spLocks noGrp="1"/>
          </p:cNvSpPr>
          <p:nvPr>
            <p:ph/>
          </p:nvPr>
        </p:nvSpPr>
        <p:spPr>
          <a:xfrm>
            <a:off x="755280" y="1371240"/>
            <a:ext cx="8007480" cy="4429080"/>
          </a:xfrm>
          <a:prstGeom prst="rect">
            <a:avLst/>
          </a:prstGeom>
          <a:noFill/>
          <a:ln w="0">
            <a:noFill/>
          </a:ln>
        </p:spPr>
        <p:txBody>
          <a:bodyPr lIns="90360" rIns="90360" tIns="44280" bIns="4428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Obtaining Cronbach’s Alpha:</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f0000"/>
                </a:solidFill>
                <a:latin typeface="Book Antiqua"/>
              </a:rPr>
              <a:t>Analyze </a:t>
            </a:r>
            <a:r>
              <a:rPr b="1" lang="en-AU" sz="3000" spc="-1" strike="noStrike">
                <a:solidFill>
                  <a:srgbClr val="ff0000"/>
                </a:solidFill>
                <a:latin typeface="Book Antiqua"/>
                <a:ea typeface="Arial"/>
              </a:rPr>
              <a:t>→ Scale →Reliability Analysis</a:t>
            </a: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Book Antiqua"/>
              </a:rPr>
              <a:t>Model </a:t>
            </a:r>
            <a:r>
              <a:rPr b="0" lang="en-AU" sz="3000" spc="-1" strike="noStrike">
                <a:solidFill>
                  <a:srgbClr val="ff0000"/>
                </a:solidFill>
                <a:latin typeface="Book Antiqua"/>
                <a:ea typeface="Arial"/>
              </a:rPr>
              <a:t>→</a:t>
            </a:r>
            <a:r>
              <a:rPr b="0" lang="en-US" sz="3000" spc="-1" strike="noStrike">
                <a:solidFill>
                  <a:srgbClr val="ff0000"/>
                </a:solidFill>
                <a:latin typeface="Book Antiqua"/>
              </a:rPr>
              <a:t> Alpha</a:t>
            </a:r>
            <a:endParaRPr b="0" lang="en-US" sz="3000" spc="-1" strike="noStrike">
              <a:solidFill>
                <a:srgbClr val="000000"/>
              </a:solidFill>
              <a:latin typeface="Book Antiqua"/>
            </a:endParaRPr>
          </a:p>
          <a:p>
            <a:pPr marL="609480" indent="-6094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Drag items on the left to the right dialog box</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Book Antiqua"/>
              </a:rPr>
              <a:t>In this case: items hs1 to hs10</a:t>
            </a:r>
            <a:endParaRPr b="0" lang="en-US" sz="28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
        <p:nvSpPr>
          <p:cNvPr id="526" name="Line 4"/>
          <p:cNvSpPr/>
          <p:nvPr/>
        </p:nvSpPr>
        <p:spPr>
          <a:xfrm>
            <a:off x="320040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Book Antiqua"/>
              </a:rPr>
              <a:t>Reliability</a:t>
            </a:r>
            <a:endParaRPr b="0" i="1" lang="en-US" sz="4400" spc="-1" strike="noStrike">
              <a:solidFill>
                <a:srgbClr val="0000ff"/>
              </a:solidFill>
              <a:latin typeface="Book Antiqua"/>
            </a:endParaRPr>
          </a:p>
        </p:txBody>
      </p:sp>
      <p:sp>
        <p:nvSpPr>
          <p:cNvPr id="528" name="PlaceHolder 2"/>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Press “statistics”</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Choose “scale if item deleted”</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Press “continue”</a:t>
            </a:r>
            <a:endParaRPr b="0" lang="en-US" sz="3000" spc="-1" strike="noStrike">
              <a:solidFill>
                <a:srgbClr val="000000"/>
              </a:solidFill>
              <a:latin typeface="Book Antiqua"/>
            </a:endParaRPr>
          </a:p>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Book Antiqua"/>
              </a:rPr>
              <a:t>Then “OK”</a:t>
            </a:r>
            <a:endParaRPr b="0" lang="en-US" sz="3000" spc="-1" strike="noStrike">
              <a:solidFill>
                <a:srgbClr val="000000"/>
              </a:solidFill>
              <a:latin typeface="Book Antiqu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271080"/>
            <a:ext cx="7772400" cy="9478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Book Antiqua"/>
              </a:rPr>
              <a:t>Reliability</a:t>
            </a:r>
            <a:endParaRPr b="0" i="1" lang="en-US" sz="4400" spc="-1" strike="noStrike">
              <a:solidFill>
                <a:srgbClr val="0000ff"/>
              </a:solidFill>
              <a:latin typeface="Book Antiqua"/>
            </a:endParaRPr>
          </a:p>
        </p:txBody>
      </p:sp>
      <p:sp>
        <p:nvSpPr>
          <p:cNvPr id="530" name="PlaceHolder 2"/>
          <p:cNvSpPr>
            <a:spLocks noGrp="1"/>
          </p:cNvSpPr>
          <p:nvPr>
            <p:ph/>
          </p:nvPr>
        </p:nvSpPr>
        <p:spPr>
          <a:xfrm>
            <a:off x="990720" y="1371240"/>
            <a:ext cx="7772400" cy="76212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Book Antiqua"/>
              </a:rPr>
              <a:t>The SPSS Output</a:t>
            </a:r>
            <a:endParaRPr b="0" lang="en-US" sz="3000" spc="-1" strike="noStrike">
              <a:solidFill>
                <a:srgbClr val="000000"/>
              </a:solidFill>
              <a:latin typeface="Book Antiqua"/>
            </a:endParaRPr>
          </a:p>
        </p:txBody>
      </p:sp>
      <p:graphicFrame>
        <p:nvGraphicFramePr>
          <p:cNvPr id="531" name=""/>
          <p:cNvGraphicFramePr/>
          <p:nvPr/>
        </p:nvGraphicFramePr>
        <p:xfrm>
          <a:off x="1332000" y="2205000"/>
          <a:ext cx="6553080" cy="1933560"/>
        </p:xfrm>
        <a:graphic>
          <a:graphicData uri="http://schemas.openxmlformats.org/drawingml/2006/table">
            <a:tbl>
              <a:tblPr/>
              <a:tblGrid>
                <a:gridCol w="1744560"/>
                <a:gridCol w="1744560"/>
                <a:gridCol w="1532160"/>
                <a:gridCol w="1531800"/>
              </a:tblGrid>
              <a:tr h="276120">
                <a:tc gridSpan="4">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se Processing Summary</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gridSpan="2">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76120">
                <a:tc rowSpan="3">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ses</a:t>
                      </a:r>
                      <a:endParaRPr b="1" lang="en-US" sz="1800" spc="-1" strike="noStrike">
                        <a:solidFill>
                          <a:srgbClr val="000000"/>
                        </a:solidFill>
                        <a:latin typeface="Times New Roman"/>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a:t>
                      </a:r>
                      <a:endParaRPr b="1" lang="en-US" sz="1800" spc="-1" strike="noStrike">
                        <a:solidFill>
                          <a:srgbClr val="000000"/>
                        </a:solidFill>
                        <a:latin typeface="Times New Roman"/>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761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luded</a:t>
                      </a:r>
                      <a:r>
                        <a:rPr b="0" lang="en-US" sz="1800" spc="-1" strike="noStrike" baseline="30000">
                          <a:solidFill>
                            <a:srgbClr val="000000"/>
                          </a:solidFill>
                          <a:latin typeface="Times New Roman"/>
                          <a:ea typeface="Times New Roman"/>
                        </a:rPr>
                        <a:t>a</a:t>
                      </a:r>
                      <a:endParaRPr b="1"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764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a:t>
                      </a:r>
                      <a:endParaRPr b="1"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552240">
                <a:tc gridSpan="4">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Listwise deletion based on all variables in the procedure</a:t>
                      </a: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2" name="Text Box 3"/>
          <p:cNvSpPr/>
          <p:nvPr/>
        </p:nvSpPr>
        <p:spPr>
          <a:xfrm>
            <a:off x="1577520" y="4365720"/>
            <a:ext cx="640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5 cases (observations/respondents) were us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 the calculation of Cronbach’s alpha</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3"/>
          <p:cNvSpPr/>
          <p:nvPr/>
        </p:nvSpPr>
        <p:spPr>
          <a:xfrm>
            <a:off x="378000" y="278136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btained alpha score is 0.768, which indicates that the scale has high internal consistency (reliabilit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ronbach alpha is a reliability coefficient that indicates how well the items are positively correlated to one another. The closer the Cronbach alpha is to 1, the higher the internal consistency.  As a thumb rule, values of below 0.6 are considered to be poor, 0.6 to 0.7 ranges are acceptable and those over 0.7 are good. </a:t>
            </a:r>
            <a:endParaRPr b="1" lang="en-US" sz="2400" spc="-1" strike="noStrike">
              <a:solidFill>
                <a:srgbClr val="000000"/>
              </a:solidFill>
              <a:latin typeface="Times New Roman"/>
            </a:endParaRPr>
          </a:p>
        </p:txBody>
      </p:sp>
      <p:graphicFrame>
        <p:nvGraphicFramePr>
          <p:cNvPr id="534" name=""/>
          <p:cNvGraphicFramePr/>
          <p:nvPr/>
        </p:nvGraphicFramePr>
        <p:xfrm>
          <a:off x="1692360" y="476280"/>
          <a:ext cx="5543640" cy="1944720"/>
        </p:xfrm>
        <a:graphic>
          <a:graphicData uri="http://schemas.openxmlformats.org/drawingml/2006/table">
            <a:tbl>
              <a:tblPr/>
              <a:tblGrid>
                <a:gridCol w="1992240"/>
                <a:gridCol w="1990800"/>
                <a:gridCol w="1560600"/>
              </a:tblGrid>
              <a:tr h="51912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06480">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nbach's Alpha Based on Standardized Items</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 of Items</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1912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68</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7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826920" y="4581360"/>
            <a:ext cx="7848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at items 7 and 10 have lowest “corrected item – total correlations”. If these two items were removed from the scale, the “alpha if item deleted” column shows that overall reliability would increase slightly. Hence, deletion of these items may be considered.  </a:t>
            </a:r>
            <a:endParaRPr b="1" lang="en-US" sz="2400" spc="-1" strike="noStrike">
              <a:solidFill>
                <a:srgbClr val="000000"/>
              </a:solidFill>
              <a:latin typeface="Times New Roman"/>
            </a:endParaRPr>
          </a:p>
        </p:txBody>
      </p:sp>
      <p:graphicFrame>
        <p:nvGraphicFramePr>
          <p:cNvPr id="536" name=""/>
          <p:cNvGraphicFramePr/>
          <p:nvPr/>
        </p:nvGraphicFramePr>
        <p:xfrm>
          <a:off x="826920" y="404640"/>
          <a:ext cx="6840720" cy="3718080"/>
        </p:xfrm>
        <a:graphic>
          <a:graphicData uri="http://schemas.openxmlformats.org/drawingml/2006/table">
            <a:tbl>
              <a:tblPr/>
              <a:tblGrid>
                <a:gridCol w="622440"/>
                <a:gridCol w="1244520"/>
                <a:gridCol w="1241640"/>
                <a:gridCol w="1244520"/>
                <a:gridCol w="1244520"/>
                <a:gridCol w="1243080"/>
              </a:tblGrid>
              <a:tr h="282600">
                <a:tc gridSpan="6">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em-Total Statistics</a:t>
                      </a:r>
                      <a:endParaRPr b="1"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840">
                <a:tc>
                  <a: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Mean if Item Deleted</a:t>
                      </a:r>
                      <a:endParaRPr b="1" lang="en-US" sz="1800" spc="-1" strike="noStrike">
                        <a:solidFill>
                          <a:srgbClr val="000000"/>
                        </a:solidFill>
                        <a:latin typeface="Times New Roman"/>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cale Variance if Item Deleted</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rected Item-Total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quared Multiple Correlation</a:t>
                      </a:r>
                      <a:endParaRPr b="1" lang="en-US" sz="1800" spc="-1" strike="noStrike">
                        <a:solidFill>
                          <a:srgbClr val="000000"/>
                        </a:solidFill>
                        <a:latin typeface="Times New Roman"/>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onbach's Alpha if Item Deleted</a:t>
                      </a:r>
                      <a:endParaRPr b="1" lang="en-US" sz="1800" spc="-1" strike="noStrike">
                        <a:solidFill>
                          <a:srgbClr val="000000"/>
                        </a:solidFill>
                        <a:latin typeface="Times New Roman"/>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9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86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0</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2</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0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01</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64</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3</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4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3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1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24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4</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2</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83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7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5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8</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5</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7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977</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6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64</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2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6</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6</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22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2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9</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7</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39</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02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4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58</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7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8</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692</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41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3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52</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9</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15</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65</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26</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89</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743</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a:noFill/>
                    </a:lnB>
                    <a:solidFill>
                      <a:srgbClr val="ffffff"/>
                    </a:solidFill>
                  </a:tcPr>
                </a:tc>
              </a:tr>
              <a:tr h="282600">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s10</a:t>
                      </a:r>
                      <a:endParaRPr b="1"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44</a:t>
                      </a:r>
                      <a:endParaRPr b="1" lang="en-US" sz="1800" spc="-1" strike="noStrike">
                        <a:solidFill>
                          <a:srgbClr val="000000"/>
                        </a:solidFill>
                        <a:latin typeface="Times New Roman"/>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710</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5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93</a:t>
                      </a:r>
                      <a:endParaRPr b="1" lang="en-US" sz="1800" spc="-1" strike="noStrike">
                        <a:solidFill>
                          <a:srgbClr val="000000"/>
                        </a:solidFill>
                        <a:latin typeface="Times New Roman"/>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781</a:t>
                      </a:r>
                      <a:endParaRPr b="1" lang="en-US" sz="1800" spc="-1" strike="noStrike">
                        <a:solidFill>
                          <a:srgbClr val="000000"/>
                        </a:solidFill>
                        <a:latin typeface="Times New Roman"/>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9640" y="620280"/>
            <a:ext cx="7772400" cy="51022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Book Antiqua"/>
              </a:rPr>
              <a:t>The </a:t>
            </a:r>
            <a:r>
              <a:rPr b="1" i="1" lang="en-US" sz="4400" spc="-1" strike="noStrike">
                <a:solidFill>
                  <a:srgbClr val="ff0000"/>
                </a:solidFill>
                <a:latin typeface="Book Antiqua"/>
              </a:rPr>
              <a:t>reliability</a:t>
            </a:r>
            <a:r>
              <a:rPr b="0" i="1" lang="en-US" sz="4400" spc="-1" strike="noStrike">
                <a:solidFill>
                  <a:srgbClr val="0000ff"/>
                </a:solidFill>
                <a:latin typeface="Book Antiqua"/>
              </a:rPr>
              <a:t> of a measuring instrument is defined as the ability of the instrument to measure consistently the phenomenon it is designed to assess. Reliability, therefore, refers to test consistency.</a:t>
            </a:r>
            <a:br>
              <a:rPr sz="4400"/>
            </a:br>
            <a:r>
              <a:rPr b="0" i="1" lang="en-US" sz="4400" spc="-1" strike="noStrike">
                <a:solidFill>
                  <a:srgbClr val="0000ff"/>
                </a:solidFill>
                <a:latin typeface="Book Antiqua"/>
              </a:rPr>
              <a:t>  </a:t>
            </a: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6AFD-960F-4D38-B7BC-E77C3C9D196E}"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08"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09" name="Text Box 4"/>
          <p:cNvSpPr/>
          <p:nvPr/>
        </p:nvSpPr>
        <p:spPr>
          <a:xfrm>
            <a:off x="838080" y="141300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It is very common in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the degree to which multiple measures of the same thing agree with one anoth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826920" y="907920"/>
            <a:ext cx="7772400" cy="44546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Book Antiqua"/>
              </a:rPr>
              <a:t>Cronbach’s alpha</a:t>
            </a:r>
            <a:r>
              <a:rPr b="0" i="1" lang="en-US" sz="3200" spc="-1" strike="noStrike">
                <a:solidFill>
                  <a:srgbClr val="0000ff"/>
                </a:solidFill>
                <a:latin typeface="Book Antiqua"/>
              </a:rPr>
              <a:t>—This is a single correlation coefficient that is an estimate of the average of all the correlation coefficients of the items within a test. If alpha is high (0.80 or higher), then this suggests that all of the items are reliable and the entire test is internally consistent. If alpha is low, then at least one of the items is unreliable, and must be identified via item analysis procedure.</a:t>
            </a:r>
            <a:br>
              <a:rPr sz="3200"/>
            </a:br>
            <a:r>
              <a:rPr b="0" i="1" lang="en-US" sz="4400" spc="-1" strike="noStrike">
                <a:solidFill>
                  <a:srgbClr val="0000ff"/>
                </a:solidFill>
                <a:latin typeface="Book Antiqua"/>
              </a:rPr>
              <a:t>  </a:t>
            </a:r>
            <a:r>
              <a:rPr b="0" lang="en-US" sz="4400" spc="-1" strike="noStrike">
                <a:solidFill>
                  <a:srgbClr val="0000ff"/>
                </a:solidFill>
                <a:latin typeface="Book Antiqua"/>
              </a:rPr>
              <a:t> </a:t>
            </a:r>
            <a:br>
              <a:rPr sz="4400"/>
            </a:br>
            <a:endParaRPr b="0" i="1" lang="en-US" sz="4400" spc="-1" strike="noStrike">
              <a:solidFill>
                <a:srgbClr val="0000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307C-74FD-4E04-B13B-FBCC5E3C5552}" type="slidenum">
              <a:rPr b="0" lang="en-GB" sz="1400" spc="-1" strike="noStrike">
                <a:solidFill>
                  <a:srgbClr val="000000"/>
                </a:solidFill>
                <a:latin typeface="Arial"/>
                <a:ea typeface="Arial"/>
              </a:rPr>
              <a:t>&lt;number&gt;</a:t>
            </a:fld>
            <a:endParaRPr b="1" lang="en-US" sz="1400" spc="-1" strike="noStrike">
              <a:solidFill>
                <a:srgbClr val="000000"/>
              </a:solidFill>
              <a:latin typeface="Times New Roman"/>
            </a:endParaRPr>
          </a:p>
        </p:txBody>
      </p:sp>
      <p:sp>
        <p:nvSpPr>
          <p:cNvPr id="512" name="PlaceHolder 1"/>
          <p:cNvSpPr>
            <a:spLocks noGrp="1"/>
          </p:cNvSpPr>
          <p:nvPr>
            <p:ph type="title"/>
          </p:nvPr>
        </p:nvSpPr>
        <p:spPr>
          <a:xfrm>
            <a:off x="609480" y="380880"/>
            <a:ext cx="7772400" cy="147024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ff"/>
                </a:solidFill>
                <a:latin typeface="Comic Sans MS"/>
              </a:rPr>
              <a:t>Cronbach’s Alpha</a:t>
            </a:r>
            <a:endParaRPr b="0" i="1" lang="en-US" sz="4400" spc="-1" strike="noStrike">
              <a:solidFill>
                <a:srgbClr val="0000ff"/>
              </a:solidFill>
              <a:latin typeface="Book Antiqua"/>
            </a:endParaRPr>
          </a:p>
        </p:txBody>
      </p:sp>
      <p:sp>
        <p:nvSpPr>
          <p:cNvPr id="513" name="Rectangle 1"/>
          <p:cNvSpPr/>
          <p:nvPr/>
        </p:nvSpPr>
        <p:spPr>
          <a:xfrm>
            <a:off x="1042920" y="1268280"/>
            <a:ext cx="7274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xample: </a:t>
            </a:r>
            <a:r>
              <a:rPr b="1" lang="en-US" sz="2400" spc="-1" strike="noStrike">
                <a:solidFill>
                  <a:srgbClr val="000000"/>
                </a:solidFill>
                <a:latin typeface="Times New Roman"/>
              </a:rPr>
              <a:t>Does my questionnaire measure customer satisfaction in a useful way? Using reliability analysis, you can determine the extent to which the items in your questionnaire are related to each other, you can get an overall index of the repeatability or internal consistency of the scale as a whole, and you can identify problem items that should be excluded from the scal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64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hat is alpha and why should we care?</a:t>
            </a:r>
            <a:endParaRPr b="0" lang="en-US" sz="26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ronbach’s alpha is the most commonly used measure of reliability (i.e., internal consistency).</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t was originally derived by Kuder &amp; Richardson (1937) for dichotomously scored data (0 or 1) and later generalized by Cronbach (1951) to account for any scoring method.</a:t>
            </a:r>
            <a:endParaRPr b="0" lang="en-US" sz="2400" spc="-1" strike="noStrike">
              <a:solidFill>
                <a:srgbClr val="000000"/>
              </a:solidFill>
              <a:latin typeface="Book Antiqua"/>
            </a:endParaRPr>
          </a:p>
          <a:p>
            <a:pPr lvl="1" marL="743040" indent="-285840">
              <a:spcBef>
                <a:spcPts val="601"/>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high value of alpha is good, but it is important to have a deeper knowledge to use it properly.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Other types of reliability</a:t>
            </a:r>
            <a:endParaRPr b="0" lang="en-US" sz="30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st/Re-Test</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The same test is taken twice.</a:t>
            </a:r>
            <a:endParaRPr b="0" lang="en-US" sz="2300" spc="-1" strike="noStrike">
              <a:solidFill>
                <a:srgbClr val="000000"/>
              </a:solidFill>
              <a:latin typeface="Book Antiqua"/>
            </a:endParaRPr>
          </a:p>
          <a:p>
            <a:pPr lvl="1" marL="743040" indent="-28584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Equivalent Forms</a:t>
            </a:r>
            <a:endParaRPr b="0" lang="en-US" sz="28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Different tests covering the same topics</a:t>
            </a:r>
            <a:endParaRPr b="0" lang="en-US" sz="2300" spc="-1" strike="noStrike">
              <a:solidFill>
                <a:srgbClr val="000000"/>
              </a:solidFill>
              <a:latin typeface="Book Antiqua"/>
            </a:endParaRPr>
          </a:p>
          <a:p>
            <a:pPr lvl="2" marL="1143000" indent="-22860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Can be accomplished by splitting a test into halves</a:t>
            </a:r>
            <a:endParaRPr b="0" lang="en-US" sz="23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a:bodyPr>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Cronbach’s basic equation for alpha</a:t>
            </a: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Book Antiqua"/>
            </a:endParaRPr>
          </a:p>
          <a:p>
            <a:pPr lvl="1" marL="743040" indent="-28584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 = number of questions</a:t>
            </a:r>
            <a:endParaRPr b="0" lang="en-US" sz="2800" spc="-1" strike="noStrike">
              <a:solidFill>
                <a:srgbClr val="000000"/>
              </a:solidFill>
              <a:latin typeface="Book Antiqua"/>
            </a:endParaRPr>
          </a:p>
          <a:p>
            <a:pPr lvl="1" marL="743040" indent="-28584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i = variance of scores on each question</a:t>
            </a:r>
            <a:endParaRPr b="0" lang="en-US" sz="2800" spc="-1" strike="noStrike">
              <a:solidFill>
                <a:srgbClr val="000000"/>
              </a:solidFill>
              <a:latin typeface="Book Antiqua"/>
            </a:endParaRPr>
          </a:p>
          <a:p>
            <a:pPr lvl="1" marL="743040" indent="-285840">
              <a:lnSpc>
                <a:spcPct val="90000"/>
              </a:lnSpc>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test = total variance of overall scores on the entire test</a:t>
            </a:r>
            <a:endParaRPr b="0" lang="en-US" sz="2800" spc="-1" strike="noStrike">
              <a:solidFill>
                <a:srgbClr val="000000"/>
              </a:solidFill>
              <a:latin typeface="Book Antiqua"/>
            </a:endParaRPr>
          </a:p>
        </p:txBody>
      </p:sp>
      <mc:AlternateContent>
        <mc:Choice xmlns:a14="http://schemas.microsoft.com/office/drawing/2010/main" Requires="a14">
          <p:sp>
            <p:nvSpPr>
              <p:cNvPr id="517" name="Object 4"/>
              <p:cNvSpPr txBox="1"/>
              <p:nvPr/>
            </p:nvSpPr>
            <p:spPr>
              <a:xfrm>
                <a:off x="2286000" y="2209680"/>
                <a:ext cx="3676680" cy="126216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m:t>
                            </m:r>
                            <m:r>
                              <m:rPr>
                                <m:lit/>
                                <m:nor/>
                              </m:rPr>
                              <m:t xml:space="preserve">Vi</m:t>
                            </m:r>
                          </m:num>
                          <m:den>
                            <m:r>
                              <m:rPr>
                                <m:lit/>
                                <m:nor/>
                              </m:rPr>
                              <m:t xml:space="preserve">Vtest</m:t>
                            </m:r>
                          </m:den>
                        </m:f>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p:nvPr>
        </p:nvSpPr>
        <p:spPr>
          <a:xfrm>
            <a:off x="990720" y="1371240"/>
            <a:ext cx="7772400" cy="4429080"/>
          </a:xfrm>
          <a:prstGeom prst="rect">
            <a:avLst/>
          </a:prstGeom>
          <a:noFill/>
          <a:ln w="0">
            <a:noFill/>
          </a:ln>
        </p:spPr>
        <p:txBody>
          <a:bodyPr lIns="90360" rIns="90360" tIns="44280" bIns="44280" anchor="t">
            <a:normAutofit fontScale="98000"/>
          </a:bodyPr>
          <a:p>
            <a:pPr marL="335880" indent="-335880">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How alpha works</a:t>
            </a:r>
            <a:endParaRPr b="0" lang="en-US" sz="3000" spc="-1" strike="noStrike">
              <a:solidFill>
                <a:srgbClr val="000000"/>
              </a:solidFill>
              <a:latin typeface="Book Antiqua"/>
            </a:endParaRPr>
          </a:p>
          <a:p>
            <a:pPr lvl="1" marL="727920" indent="-28008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Vtest is the most important part of alpha</a:t>
            </a:r>
            <a:endParaRPr b="0" lang="en-US" sz="28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lvl="1" marL="727920" indent="-280080">
              <a:spcBef>
                <a:spcPts val="700"/>
              </a:spcBef>
              <a:buClr>
                <a:srgbClr val="0000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Vtest is large, it can be seen that alpha will be large also:</a:t>
            </a:r>
            <a:endParaRPr b="0" lang="en-US" sz="2800" spc="-1" strike="noStrike">
              <a:solidFill>
                <a:srgbClr val="000000"/>
              </a:solidFill>
              <a:latin typeface="Book Antiqua"/>
            </a:endParaRPr>
          </a:p>
          <a:p>
            <a:pPr lvl="2" marL="1119960" indent="-223920">
              <a:spcBef>
                <a:spcPts val="575"/>
              </a:spcBef>
              <a:buClr>
                <a:srgbClr val="ff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Book Antiqua"/>
              </a:rPr>
              <a:t>Large Vtest </a:t>
            </a:r>
            <a:r>
              <a:rPr b="0" lang="en-US" sz="2300" spc="-1" strike="noStrike">
                <a:solidFill>
                  <a:srgbClr val="000000"/>
                </a:solidFill>
                <a:latin typeface="Wingdings"/>
                <a:ea typeface="Wingdings"/>
              </a:rPr>
              <a:t></a:t>
            </a:r>
            <a:r>
              <a:rPr b="0" lang="en-US" sz="2300" spc="-1" strike="noStrike">
                <a:solidFill>
                  <a:srgbClr val="000000"/>
                </a:solidFill>
                <a:latin typeface="Book Antiqua"/>
              </a:rPr>
              <a:t> Small Ratio </a:t>
            </a:r>
            <a:r>
              <a:rPr b="0" lang="en-US" sz="2300" spc="-1" strike="noStrike">
                <a:solidFill>
                  <a:srgbClr val="000000"/>
                </a:solidFill>
                <a:latin typeface="Book Antiqua"/>
                <a:ea typeface="Times New Roman"/>
              </a:rPr>
              <a:t>ΣVi/Vtest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Subtract this small ratio from 1 </a:t>
            </a:r>
            <a:r>
              <a:rPr b="0" lang="en-US" sz="2300" spc="-1" strike="noStrike">
                <a:solidFill>
                  <a:srgbClr val="000000"/>
                </a:solidFill>
                <a:latin typeface="Wingdings"/>
                <a:ea typeface="Wingdings"/>
              </a:rPr>
              <a:t></a:t>
            </a:r>
            <a:r>
              <a:rPr b="0" lang="en-US" sz="2300" spc="-1" strike="noStrike">
                <a:solidFill>
                  <a:srgbClr val="000000"/>
                </a:solidFill>
                <a:latin typeface="Book Antiqua"/>
                <a:ea typeface="Times New Roman"/>
              </a:rPr>
              <a:t> high alpha</a:t>
            </a:r>
            <a:endParaRPr b="0" lang="en-US" sz="2300" spc="-1" strike="noStrike">
              <a:solidFill>
                <a:srgbClr val="000000"/>
              </a:solidFill>
              <a:latin typeface="Book Antiqu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mc:AlternateContent>
        <mc:Choice xmlns:a14="http://schemas.microsoft.com/office/drawing/2010/main" Requires="a14">
          <p:sp>
            <p:nvSpPr>
              <p:cNvPr id="519" name="Object 4"/>
              <p:cNvSpPr txBox="1"/>
              <p:nvPr/>
            </p:nvSpPr>
            <p:spPr>
              <a:xfrm>
                <a:off x="2971800" y="2590920"/>
                <a:ext cx="3676680" cy="1261800"/>
              </a:xfrm>
              <a:prstGeom prst="rect">
                <a:avLst/>
              </a:prstGeom>
            </p:spPr>
            <p:txBody>
              <a:bodyPr/>
              <a:p>
                <a14:m>
                  <m:oMath xmlns:m="http://schemas.openxmlformats.org/officeDocument/2006/math">
                    <m:r>
                      <m:t xml:space="preserve">α</m:t>
                    </m:r>
                    <m:r>
                      <m:t xml:space="preserve">=</m:t>
                    </m:r>
                    <m:f>
                      <m:num>
                        <m:r>
                          <m:t xml:space="preserve">n</m:t>
                        </m:r>
                      </m:num>
                      <m:den>
                        <m:r>
                          <m:t xml:space="preserve">n</m:t>
                        </m:r>
                        <m:r>
                          <m:t xml:space="preserve">−</m:t>
                        </m:r>
                        <m:r>
                          <m:t xml:space="preserve">1</m:t>
                        </m:r>
                      </m:den>
                    </m:f>
                    <m:d>
                      <m:dPr>
                        <m:begChr m:val="("/>
                        <m:endChr m:val=")"/>
                      </m:dPr>
                      <m:e>
                        <m:r>
                          <m:t xml:space="preserve">1</m:t>
                        </m:r>
                        <m:r>
                          <m:t xml:space="preserve">−</m:t>
                        </m:r>
                        <m:f>
                          <m:num>
                            <m:r>
                              <m:t xml:space="preserve">Σ</m:t>
                            </m:r>
                            <m:r>
                              <m:rPr>
                                <m:lit/>
                                <m:nor/>
                              </m:rPr>
                              <m:t xml:space="preserve">Vi</m:t>
                            </m:r>
                          </m:num>
                          <m:den>
                            <m:r>
                              <m:rPr>
                                <m:lit/>
                                <m:nor/>
                              </m:rPr>
                              <m:t xml:space="preserve">Vtest</m:t>
                            </m:r>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0:19:57Z</dcterms:created>
  <dc:creator>Industrial Engineering</dc:creator>
  <dc:description/>
  <dc:language>en-US</dc:language>
  <cp:lastModifiedBy>User</cp:lastModifiedBy>
  <cp:lastPrinted>2015-11-05T06:39:06Z</cp:lastPrinted>
  <dcterms:modified xsi:type="dcterms:W3CDTF">2015-12-13T08:53:26Z</dcterms:modified>
  <cp:revision>48</cp:revision>
  <dc:subject/>
  <dc:title>PowerPoint Presentation</dc:title>
</cp:coreProperties>
</file>