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306E6-12F3-4553-9420-D06C5F918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ACEE4-8A70-475E-98E1-029BF2DFC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51"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2"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D68F77-BFE9-461C-9E69-006A582E01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226B73-0BAB-4A2B-99D8-BEEC8309B2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9F8257-ABC7-494F-8C51-6662F8E418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5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7"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8"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75833E-6DC7-4608-B398-D0552743F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0"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2"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164DC8-844F-4E1D-B8D3-4B7D93C02B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6"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57478-91CE-4FBF-AB29-2B846778AC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8"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9"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A29284-93FF-4E52-803F-B3447AD060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7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3"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4"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E004C8-DA0D-475F-94F9-36FB04E58B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76"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7"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8"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9"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0"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1"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28BD67-F1E9-4918-A3BE-56688F3395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3C65AE-A1B8-41F5-B9F5-2E0395727D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63376-CB64-4F16-A553-1C0B291BD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88"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0840C3-7D26-4940-90D4-7AA66C1DEF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0"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0ACE69-8B08-42E9-B09A-5A85EC815B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3"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C9D2D5-3D26-4F1D-8F5C-C64D3E7DEF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7FD4A8-BAFD-4A57-9F4D-67A3EF93D1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005958-D112-4906-A41B-BEE7FD7E20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8"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9"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AC3248-4F01-440B-A4F5-B98AC9B112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1"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3"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8550CC-3254-450A-883F-427FE70FC4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7"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87C326-1224-4573-BFEA-ADB65C6A4C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9"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0"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BEA3A8-AD3C-45EA-B886-8DBFCD1FAD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1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4"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5"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7EF503-F0B6-4BA5-BD16-EF42F8B4EC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1"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2"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3"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F3B5D-E89B-4BDF-96DA-D9BEB2FF2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17"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8"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9"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0"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1"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2"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59927A-19A3-4202-9DC5-842C35B6F6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7B6AD9-B28C-44AD-B195-3FC885F03A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29"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AC6833-00DA-440B-8C38-4BA3204EEB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1"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899CFB-215E-4B42-93B4-6FE9A2707D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3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DC3641-8161-4A88-AD5D-2B014F5CBA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8827C0-9F6C-476A-810E-CB3716828A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C8E007-9449-4176-B5D7-7F52723788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3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54BA07-F5A6-44F4-A81B-408A457311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4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4"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62BFC4-51DD-4E62-BC3E-5083BC5DCD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4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8"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D8BD5A-44BD-45F0-AF96-42521EFCDF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30F53-DB63-427A-AD21-2C29F8DF5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0"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1"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22479A-CBF4-43CA-93DD-F06F9466B7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6"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4387E2-0ECF-4F5C-BCD7-BB10D81FB0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8"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9"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0"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1"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2"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3"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C5B91A-6EF5-4F59-A771-ECA04E327D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4DB94F-29CF-4F66-AFCB-EA247618FC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0"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EA953F-04E4-4C88-883E-64CC66207C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2"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A979B4-25D5-4817-91D2-7C87026947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7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F6ADA1-1E4D-4F71-B65B-7A20ADC9D1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C62F00-17E7-40C6-A5A0-D4F9619CC9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733FC9-8DB8-45C3-BFD6-7CC8B2B516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103A2A-69F3-4AD8-99E3-CDE7C5EE5F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0"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5E1C1-2810-4A9F-9CFF-C296FADF9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5"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E88251-1485-474A-8EE4-6236A6939F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9"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5665CB-312B-4531-B52A-2AB663A95E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1"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2"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915005-7E8A-4FAD-BE15-A64CA247E7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7"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9ED71C-E90F-4F29-9EC9-B697906DA1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9"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0"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1"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2"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3"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4"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2146D2-A633-43F9-AC17-0E52684A431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2"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5A405-AD20-4D00-A530-0544444DF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46738-9D96-40C5-8597-78E4AF3BC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D3E0B-AFE1-4B15-B8AB-7D1C19CD9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07E09-C843-4638-8397-5376387B0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5336B-9DC9-4182-89A8-454DF6F8C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67CFB-F5A6-454E-A98F-D346125C9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7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5"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A214F-93DA-4075-B45B-06F7D8A64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7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9"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70D73-3EA4-4B3B-A667-FCF79BF97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1"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2"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99B68-9D93-4198-A842-7378F2E8A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7"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C7B0F-E067-4703-A2C8-156EEFF64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9"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0"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1"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2"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3"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4"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D33A6-4B73-40EB-AF9E-BC6404113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89AB67-025E-419D-BE1F-252140C37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1"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5751A-89F1-4E19-80BF-9E6ED4A387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3"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DF59B-87C2-417E-9A51-F1EAE0FE4B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5"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06"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03FA5E-D010-4E8F-BE8B-86E8E2BC0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E023F-0BCC-4839-818F-E5DDAB1C5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1"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6C6E6-07AE-46CF-857D-C659B922A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CA9CA-B7F7-4C62-9D4E-3B6E4A768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1"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2"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A65DA-7CC9-4859-9886-68CB66B56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6"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7D448-ABB6-462C-852C-206795E1D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0"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12536-9760-49FE-8C1F-5BC36746C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22"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3"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53F2C-9D93-4565-AA36-40F9562F7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2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7"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8"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688D39-54E3-424E-9D55-E3AA284C0C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30"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1"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2"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3"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4"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5"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6E0E63-E24C-49FF-B42C-614C8A4723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F05B04-0296-4B87-B789-210DDC7329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2"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52142-BA9A-4BD3-97A0-640F6236DA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4"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245FCA-92AD-43EF-9EF9-00D426BFE8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95924-3D5D-4212-BE1E-2C72CBDFD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6"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47"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61D868-DF74-4F9E-A878-045691875E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2F862-434A-4783-A2AE-932864962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54EFB-0095-4454-AB96-3FC8DA93EF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2"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3"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3981E-5842-407C-8F3A-FEE371CBA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5"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7"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FD76E-536B-4242-9C2F-991F0D9C9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1"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5F18A-BA86-4276-BD62-2D6DC8926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63"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4"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31B6CA-3E2F-42E4-B5D5-B4DBB32C4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6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8"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9"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9D2D60-799F-463F-AEA3-91FA811D07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71"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2"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3"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4"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5"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6"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C2032C-EE8D-4D8A-A955-C48BE4D0A4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7AA0F5-EF59-4EF0-8751-B0A7961AB5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C5D7A-6675-4243-9E96-7A116CDED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3"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3B5A0-C2E6-4D17-9CB8-DB56E0AC00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5"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0FF33F-CC16-44A0-AFEE-C078F98382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7"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88"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A71F8-36BF-42F8-B248-7AD24421E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6FFC2B-C0F6-4FB1-96EA-5D95D2F2C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4AECFD-0A7D-485A-8727-84DE366213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3"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4"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673EE-4394-4F0E-A4BC-659369F05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6"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8"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87126-4128-41F7-B6A7-930FEDB05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2"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4A3EE9-2667-4F51-98B1-3EF65C47A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4"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5"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56308F-8194-434F-ACB6-BAB43348A4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9"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0"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ADDE79-C1EF-4145-A206-7F0560F5AC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BC5BA-3B0B-452D-9C90-C8A7CBF05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12"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3"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4"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5"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6"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7"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120525-49CD-4D76-BA81-69AEE30EEE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538291-DBBC-4E71-9ED7-FBC8D366E3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4"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FAF369-6265-466E-BCF5-253D487B3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6"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F08A98-9662-47C3-B03F-71F93F8D11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8"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2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CC95A-6955-49BD-9E29-FD4B86476D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D0EABA-FC3B-43CF-A7C3-39B252901D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A50BE0-1027-4E86-937F-9FDCD83364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136D39-62F0-4ED6-B97B-8ACDD1EDC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7"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9"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CA235-DB66-4327-A608-E047DFB25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3"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E0C01-4E2A-4041-BCCF-98D46892D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ED4C-535B-47C9-ABA7-7FBDE2F47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5"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6"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DA25E7-8431-41AA-828F-594004D7AF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1"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5AEFD9-FDF2-4582-AC59-856B0DA6EE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53"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4"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5"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6"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7"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8"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7C8FD5-3AAF-49A6-9625-1A51FB5231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697F46-9652-41C9-BACA-06175FB9A8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5"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8E5686-21A8-48E6-9ACB-6FF5D3DB82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7"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3A4F12-1AEC-449A-B466-9C591B981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9"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38582B-FD05-4E0C-95B5-860063EF71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1CB826-D941-4289-B222-40725A31F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936A6A-E143-42DD-ADB8-5F2915CDF6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7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3B957-7107-407A-9A96-20E40E4A5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4"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3537-A9F2-49B8-B61F-9423F3100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78"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0"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FD469-EB8E-46DF-91DE-3342F06F0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4"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2E2C8-CAC5-4235-BEA6-7B928FE073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6"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7"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289CD-F316-4A6D-8E5A-CE31FFE80C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2"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45A6E7-73AE-4377-8695-AA82F0464A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94"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5"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6"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7"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8"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9"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0ED6F4-D24E-4E53-BDF0-704B22F232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A4131B-A85A-4B6C-9544-D83AB9B186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06"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C726DA-2AD5-4CA6-8168-D0159D0C49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08"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4F6A59-9877-4175-9C45-48CE9EF1DC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0"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1"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E75507-CEEE-4B47-B5CF-8DAACEA4FC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4B48A9-6D45-4BDB-81AB-5A56D3A395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1B366-3562-498B-AF4D-EA2F6EE05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46E7FC-724F-4D01-8FEF-C3AD927877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6"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7"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D32B5B-65C0-4776-AC90-811A03839E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9"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1"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8BD01-74DA-457E-AF9F-CD60883526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5"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E7DB8-49E6-40C2-A820-CAD9B3E4D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7"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8"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97508A-B252-435E-91E3-54B1667E06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3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2"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3"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0F3CA7-64C5-4243-8172-6C126EAC45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35"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6"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7"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8"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9"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40"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175CC9-9EAD-4F25-9F61-3C7D87A131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012774-A6AD-4C66-B14D-74EDE6AD08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47"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2820F4-8264-457E-B304-49263B5DA2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49"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D021FA-6205-437C-A95C-60C652A800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F704-65E2-47BE-A6BF-65974D3A6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Group 5"/>
          <p:cNvGrpSpPr/>
          <p:nvPr/>
        </p:nvGrpSpPr>
        <p:grpSpPr>
          <a:xfrm>
            <a:off x="0" y="385920"/>
            <a:ext cx="9134640" cy="6188040"/>
            <a:chOff x="0" y="385920"/>
            <a:chExt cx="9134640" cy="6188040"/>
          </a:xfrm>
        </p:grpSpPr>
        <p:grpSp>
          <p:nvGrpSpPr>
            <p:cNvPr id="4" name="Group 6"/>
            <p:cNvGrpSpPr/>
            <p:nvPr/>
          </p:nvGrpSpPr>
          <p:grpSpPr>
            <a:xfrm>
              <a:off x="0" y="385920"/>
              <a:ext cx="966960" cy="457200"/>
              <a:chOff x="0" y="385920"/>
              <a:chExt cx="966960" cy="457200"/>
            </a:xfrm>
          </p:grpSpPr>
          <p:sp>
            <p:nvSpPr>
              <p:cNvPr id="5" name="Freeform 7"/>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 name="Freeform 8"/>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 name="Freeform 9"/>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 name="Freeform 10"/>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 name="Freeform 11"/>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0" name="Group 12"/>
            <p:cNvGrpSpPr/>
            <p:nvPr/>
          </p:nvGrpSpPr>
          <p:grpSpPr>
            <a:xfrm>
              <a:off x="838080" y="6257880"/>
              <a:ext cx="8296560" cy="316080"/>
              <a:chOff x="838080" y="6257880"/>
              <a:chExt cx="8296560" cy="316080"/>
            </a:xfrm>
          </p:grpSpPr>
          <p:sp>
            <p:nvSpPr>
              <p:cNvPr id="11" name="Freeform 13"/>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12" name="Freeform 14"/>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13" name="Freeform 15"/>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Times New Roman"/>
                </a:endParaRPr>
              </a:p>
            </p:txBody>
          </p:sp>
        </p:grpSp>
      </p:grpSp>
      <p:sp>
        <p:nvSpPr>
          <p:cNvPr id="14" name="PlaceHolder 4"/>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5" name="PlaceHolder 5"/>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6" name="Rectangle 18"/>
          <p:cNvSpPr/>
          <p:nvPr/>
        </p:nvSpPr>
        <p:spPr>
          <a:xfrm>
            <a:off x="887040" y="6600960"/>
            <a:ext cx="4363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of Industrial Engineering - The University of Oklahoma</a:t>
            </a:r>
            <a:endParaRPr b="1" lang="en-US" sz="1200" spc="-1" strike="noStrike">
              <a:solidFill>
                <a:srgbClr val="000000"/>
              </a:solidFill>
              <a:latin typeface="Times New Roman"/>
            </a:endParaRPr>
          </a:p>
        </p:txBody>
      </p:sp>
      <p:pic>
        <p:nvPicPr>
          <p:cNvPr id="17" name="Picture 19" descr=""/>
          <p:cNvPicPr/>
          <p:nvPr/>
        </p:nvPicPr>
        <p:blipFill>
          <a:blip r:embed="rId2"/>
          <a:stretch/>
        </p:blipFill>
        <p:spPr>
          <a:xfrm>
            <a:off x="101520" y="6006960"/>
            <a:ext cx="85104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83"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84"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6"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EC74-DA9F-44E3-9D64-8372423CE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424"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425" name="PlaceHolder 3"/>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7" name="PlaceHolder 5"/>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A305-41B9-4701-AF5F-8047990EC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465"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466" name="PlaceHolder 3"/>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7" name="PlaceHolder 4"/>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5"/>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5317-A797-478A-94C5-6B3EBC1E1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55"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5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D738-9913-4B3D-86F4-9C64B29F8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96"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97"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EBE0-F3FA-4F6B-B7D7-94B5D9656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37"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38"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BF75-479B-408C-B807-BC70F54C7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78"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79"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0"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1517-8EAF-4ACC-BC62-FA4053B3D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219"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220" name="PlaceHolder 3"/>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3C9C-75CA-4388-8085-86AD011AD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260"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261" name="PlaceHolder 3"/>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4"/>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5"/>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0344-7C7B-48DF-8DD9-DB8FF00F8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01"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02"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863C-57D6-451F-810C-6D1794FB52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42"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43" name="PlaceHolder 3"/>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F565-1402-4156-A8F3-2968408F6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26920" y="1294920"/>
            <a:ext cx="7631280" cy="2421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ff"/>
                </a:solidFill>
                <a:latin typeface="Book Antiqua"/>
              </a:rPr>
              <a:t>Reliability Analysis</a:t>
            </a:r>
            <a:br>
              <a:rPr sz="4800"/>
            </a:br>
            <a:r>
              <a:rPr b="0" i="1" lang="en-US" sz="4800" spc="-1" strike="noStrike">
                <a:solidFill>
                  <a:srgbClr val="0000ff"/>
                </a:solidFill>
                <a:latin typeface="Book Antiqua"/>
              </a:rPr>
              <a:t> </a:t>
            </a:r>
            <a:endParaRPr b="0" i="1" lang="en-US" sz="48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lnSpc>
                <a:spcPct val="90000"/>
              </a:lnSpc>
              <a:spcBef>
                <a:spcPts val="6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hat makes a question “Good” or “Bad” in terms of alpha?</a:t>
            </a:r>
            <a:endParaRPr b="0" lang="en-US" sz="26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PSS  will report “alpha if item deleted”, which shows how alpha would change if that one question was not on the test.</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igher “alpha if item deleted” means a question is not so good because deleting that question would improve the overall alpha.</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ff"/>
                </a:solidFill>
                <a:latin typeface="Book Antiqua"/>
              </a:rPr>
              <a:t>Obtaining Reliability of Scale - Example</a:t>
            </a:r>
            <a:endParaRPr b="0" i="1" lang="en-US" sz="4400" spc="-1" strike="noStrike">
              <a:solidFill>
                <a:srgbClr val="0000ff"/>
              </a:solidFill>
              <a:latin typeface="Book Antiqua"/>
            </a:endParaRPr>
          </a:p>
        </p:txBody>
      </p:sp>
      <p:sp>
        <p:nvSpPr>
          <p:cNvPr id="522" name="PlaceHolder 2"/>
          <p:cNvSpPr>
            <a:spLocks noGrp="1"/>
          </p:cNvSpPr>
          <p:nvPr>
            <p:ph/>
          </p:nvPr>
        </p:nvSpPr>
        <p:spPr>
          <a:xfrm>
            <a:off x="755280" y="1371240"/>
            <a:ext cx="8007480" cy="4429080"/>
          </a:xfrm>
          <a:prstGeom prst="rect">
            <a:avLst/>
          </a:prstGeom>
          <a:noFill/>
          <a:ln w="0">
            <a:noFill/>
          </a:ln>
        </p:spPr>
        <p:txBody>
          <a:bodyPr lIns="90360" rIns="90360" tIns="44280" bIns="44280" anchor="t">
            <a:normAutofit fontScale="95000"/>
          </a:bodyPr>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105 members of the community completed a ten-item ‘attitudes-to-help-seeking’ instrument, using a 5-point Likert scale (1=Strongly disagree to 5=Strongly agree). You wish to determine the internal consistency of this scale using Cronbach’s alpha.</a:t>
            </a:r>
            <a:endParaRPr b="0" lang="en-US" sz="3000" spc="-1" strike="noStrike">
              <a:solidFill>
                <a:srgbClr val="000000"/>
              </a:solidFill>
              <a:latin typeface="Book Antiqua"/>
            </a:endParaRPr>
          </a:p>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ea typeface="Arial"/>
              </a:rPr>
              <a:t>The data is given in Attitude_Reliability.sav</a:t>
            </a:r>
            <a:endParaRPr b="0" lang="en-US" sz="3000" spc="-1" strike="noStrike">
              <a:solidFill>
                <a:srgbClr val="000000"/>
              </a:solidFill>
              <a:latin typeface="Book Antiqua"/>
            </a:endParaRPr>
          </a:p>
        </p:txBody>
      </p:sp>
      <p:sp>
        <p:nvSpPr>
          <p:cNvPr id="523" name="Line 4"/>
          <p:cNvSpPr/>
          <p:nvPr/>
        </p:nvSpPr>
        <p:spPr>
          <a:xfrm>
            <a:off x="320040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ff"/>
                </a:solidFill>
                <a:latin typeface="Book Antiqua"/>
              </a:rPr>
              <a:t>Obtaining Reliability of Scale using SPSS - Example</a:t>
            </a:r>
            <a:endParaRPr b="0" i="1" lang="en-US" sz="4400" spc="-1" strike="noStrike">
              <a:solidFill>
                <a:srgbClr val="0000ff"/>
              </a:solidFill>
              <a:latin typeface="Book Antiqua"/>
            </a:endParaRPr>
          </a:p>
        </p:txBody>
      </p:sp>
      <p:sp>
        <p:nvSpPr>
          <p:cNvPr id="525" name="PlaceHolder 2"/>
          <p:cNvSpPr>
            <a:spLocks noGrp="1"/>
          </p:cNvSpPr>
          <p:nvPr>
            <p:ph/>
          </p:nvPr>
        </p:nvSpPr>
        <p:spPr>
          <a:xfrm>
            <a:off x="755280" y="1371240"/>
            <a:ext cx="8007480" cy="4429080"/>
          </a:xfrm>
          <a:prstGeom prst="rect">
            <a:avLst/>
          </a:prstGeom>
          <a:noFill/>
          <a:ln w="0">
            <a:noFill/>
          </a:ln>
        </p:spPr>
        <p:txBody>
          <a:bodyPr lIns="90360" rIns="90360" tIns="44280" bIns="4428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Obtaining Cronbach’s Alpha:</a:t>
            </a: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Analyze </a:t>
            </a:r>
            <a:r>
              <a:rPr b="1" lang="en-AU" sz="3000" spc="-1" strike="noStrike">
                <a:solidFill>
                  <a:srgbClr val="ff0000"/>
                </a:solidFill>
                <a:latin typeface="Book Antiqua"/>
                <a:ea typeface="Arial"/>
              </a:rPr>
              <a:t>→ Scale →Reliability Analysis</a:t>
            </a: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Book Antiqua"/>
              </a:rPr>
              <a:t>Model </a:t>
            </a:r>
            <a:r>
              <a:rPr b="0" lang="en-AU" sz="3000" spc="-1" strike="noStrike">
                <a:solidFill>
                  <a:srgbClr val="ff0000"/>
                </a:solidFill>
                <a:latin typeface="Book Antiqua"/>
                <a:ea typeface="Arial"/>
              </a:rPr>
              <a:t>→</a:t>
            </a:r>
            <a:r>
              <a:rPr b="0" lang="en-US" sz="3000" spc="-1" strike="noStrike">
                <a:solidFill>
                  <a:srgbClr val="ff0000"/>
                </a:solidFill>
                <a:latin typeface="Book Antiqua"/>
              </a:rPr>
              <a:t> Alpha</a:t>
            </a:r>
            <a:endParaRPr b="0" lang="en-US" sz="3000" spc="-1" strike="noStrike">
              <a:solidFill>
                <a:srgbClr val="000000"/>
              </a:solidFill>
              <a:latin typeface="Book Antiqua"/>
            </a:endParaRPr>
          </a:p>
          <a:p>
            <a:pPr marL="609480" indent="-6094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Book Antiqua"/>
              </a:rPr>
              <a:t>Drag items on the left to the right dialog box</a:t>
            </a:r>
            <a:endParaRPr b="0" lang="en-US" sz="30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Book Antiqua"/>
              </a:rPr>
              <a:t>In this case: items hs1 to hs10</a:t>
            </a:r>
            <a:endParaRPr b="0" lang="en-US" sz="28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26" name="Line 4"/>
          <p:cNvSpPr/>
          <p:nvPr/>
        </p:nvSpPr>
        <p:spPr>
          <a:xfrm>
            <a:off x="320040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3300"/>
                </a:solidFill>
                <a:latin typeface="Book Antiqua"/>
              </a:rPr>
              <a:t>Reliability</a:t>
            </a:r>
            <a:endParaRPr b="0" i="1" lang="en-US" sz="4400" spc="-1" strike="noStrike">
              <a:solidFill>
                <a:srgbClr val="0000ff"/>
              </a:solidFill>
              <a:latin typeface="Book Antiqua"/>
            </a:endParaRPr>
          </a:p>
        </p:txBody>
      </p:sp>
      <p:sp>
        <p:nvSpPr>
          <p:cNvPr id="528"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Press “statistics”</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Choose “scale if item deleted”</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Then Press “continue”</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Then “OK”</a:t>
            </a:r>
            <a:endParaRPr b="0" lang="en-US" sz="3000" spc="-1" strike="noStrike">
              <a:solidFill>
                <a:srgbClr val="000000"/>
              </a:solidFill>
              <a:latin typeface="Book Antiqu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Book Antiqua"/>
              </a:rPr>
              <a:t>Reliability</a:t>
            </a:r>
            <a:endParaRPr b="0" i="1" lang="en-US" sz="4400" spc="-1" strike="noStrike">
              <a:solidFill>
                <a:srgbClr val="0000ff"/>
              </a:solidFill>
              <a:latin typeface="Book Antiqua"/>
            </a:endParaRPr>
          </a:p>
        </p:txBody>
      </p:sp>
      <p:sp>
        <p:nvSpPr>
          <p:cNvPr id="530" name="PlaceHolder 2"/>
          <p:cNvSpPr>
            <a:spLocks noGrp="1"/>
          </p:cNvSpPr>
          <p:nvPr>
            <p:ph/>
          </p:nvPr>
        </p:nvSpPr>
        <p:spPr>
          <a:xfrm>
            <a:off x="990720" y="1371240"/>
            <a:ext cx="7772400" cy="76212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Book Antiqua"/>
              </a:rPr>
              <a:t>The SPSS Output</a:t>
            </a:r>
            <a:endParaRPr b="0" lang="en-US" sz="3000" spc="-1" strike="noStrike">
              <a:solidFill>
                <a:srgbClr val="000000"/>
              </a:solidFill>
              <a:latin typeface="Book Antiqua"/>
            </a:endParaRPr>
          </a:p>
        </p:txBody>
      </p:sp>
      <p:graphicFrame>
        <p:nvGraphicFramePr>
          <p:cNvPr id="531" name=""/>
          <p:cNvGraphicFramePr/>
          <p:nvPr/>
        </p:nvGraphicFramePr>
        <p:xfrm>
          <a:off x="1332000" y="2205000"/>
          <a:ext cx="6553080" cy="1933560"/>
        </p:xfrm>
        <a:graphic>
          <a:graphicData uri="http://schemas.openxmlformats.org/drawingml/2006/table">
            <a:tbl>
              <a:tblPr/>
              <a:tblGrid>
                <a:gridCol w="1744560"/>
                <a:gridCol w="1744560"/>
                <a:gridCol w="1532160"/>
                <a:gridCol w="1531800"/>
              </a:tblGrid>
              <a:tr h="276120">
                <a:tc gridSpan="4">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se Processing Summary</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grid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76120">
                <a:tc rowSpan="3">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ses</a:t>
                      </a:r>
                      <a:endParaRPr b="1" lang="en-US" sz="1800" spc="-1" strike="noStrike">
                        <a:solidFill>
                          <a:srgbClr val="000000"/>
                        </a:solidFill>
                        <a:latin typeface="Times New Roman"/>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a:t>
                      </a:r>
                      <a:endParaRPr b="1"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761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cluded</a:t>
                      </a:r>
                      <a:r>
                        <a:rPr b="0" lang="en-US" sz="1800" spc="-1" strike="noStrike" baseline="30000">
                          <a:solidFill>
                            <a:srgbClr val="000000"/>
                          </a:solidFill>
                          <a:latin typeface="Times New Roman"/>
                          <a:ea typeface="Times New Roman"/>
                        </a:rPr>
                        <a:t>a</a:t>
                      </a:r>
                      <a:endParaRPr b="1"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7648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tal</a:t>
                      </a:r>
                      <a:endParaRPr b="1"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552240">
                <a:tc gridSpan="4">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Listwise deletion based on all variables in the procedure</a:t>
                      </a:r>
                      <a:r>
                        <a:rPr b="0" lang="en-U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32" name="Text Box 3"/>
          <p:cNvSpPr/>
          <p:nvPr/>
        </p:nvSpPr>
        <p:spPr>
          <a:xfrm>
            <a:off x="1577520" y="4365720"/>
            <a:ext cx="640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5 cases (observations/respondents) were use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 the calculation of Cronbach’s alpha</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3"/>
          <p:cNvSpPr/>
          <p:nvPr/>
        </p:nvSpPr>
        <p:spPr>
          <a:xfrm>
            <a:off x="378000" y="278136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obtained alpha score is 0.768, which indicates that the scale has high internal consistency (reliabilit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onbach alpha is a reliability coefficient that indicates how well the items are positively correlated to one another. The closer the Cronbach alpha is to 1, the higher the internal consistency.  As a thumb rule, values of below 0.6 are considered to be poor, 0.6 to 0.7 ranges are acceptable and those over 0.7 are good. </a:t>
            </a:r>
            <a:endParaRPr b="1" lang="en-US" sz="2400" spc="-1" strike="noStrike">
              <a:solidFill>
                <a:srgbClr val="000000"/>
              </a:solidFill>
              <a:latin typeface="Times New Roman"/>
            </a:endParaRPr>
          </a:p>
        </p:txBody>
      </p:sp>
      <p:graphicFrame>
        <p:nvGraphicFramePr>
          <p:cNvPr id="534" name=""/>
          <p:cNvGraphicFramePr/>
          <p:nvPr/>
        </p:nvGraphicFramePr>
        <p:xfrm>
          <a:off x="1692360" y="476280"/>
          <a:ext cx="5543640" cy="1944720"/>
        </p:xfrm>
        <a:graphic>
          <a:graphicData uri="http://schemas.openxmlformats.org/drawingml/2006/table">
            <a:tbl>
              <a:tblPr/>
              <a:tblGrid>
                <a:gridCol w="1992240"/>
                <a:gridCol w="1990800"/>
                <a:gridCol w="1560600"/>
              </a:tblGrid>
              <a:tr h="519120">
                <a:tc gridSpan="3">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liability Statistics</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06480">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nbach's Alpha</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nbach's Alpha Based on Standardized Items</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 of Items</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1912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68</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9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826920" y="4581360"/>
            <a:ext cx="7848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 that items 7 and 10 have lowest “corrected item – total correlations”. If these two items were removed from the scale, the “alpha if item deleted” column shows that overall reliability would increase slightly. Hence, deletion of these items may be considered.  </a:t>
            </a:r>
            <a:endParaRPr b="1" lang="en-US" sz="2400" spc="-1" strike="noStrike">
              <a:solidFill>
                <a:srgbClr val="000000"/>
              </a:solidFill>
              <a:latin typeface="Times New Roman"/>
            </a:endParaRPr>
          </a:p>
        </p:txBody>
      </p:sp>
      <p:graphicFrame>
        <p:nvGraphicFramePr>
          <p:cNvPr id="536" name=""/>
          <p:cNvGraphicFramePr/>
          <p:nvPr/>
        </p:nvGraphicFramePr>
        <p:xfrm>
          <a:off x="826920" y="404640"/>
          <a:ext cx="6840720" cy="3718080"/>
        </p:xfrm>
        <a:graphic>
          <a:graphicData uri="http://schemas.openxmlformats.org/drawingml/2006/table">
            <a:tbl>
              <a:tblPr/>
              <a:tblGrid>
                <a:gridCol w="622440"/>
                <a:gridCol w="1244520"/>
                <a:gridCol w="1241640"/>
                <a:gridCol w="1244520"/>
                <a:gridCol w="1244520"/>
                <a:gridCol w="1243080"/>
              </a:tblGrid>
              <a:tr h="282600">
                <a:tc gridSpan="6">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em-Total Statistics</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9840">
                <a:tc>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ale Mean if Item Deleted</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ale Variance if Item Deleted</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rrected Item-Total Correlation</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quared Multiple Correlation</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onbach's Alpha if Item Deleted</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1</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94</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86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2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2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2</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3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0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4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01</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64</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3</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1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9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3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19</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24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4</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72</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83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7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58</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5</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7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977</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4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64</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21</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6</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6</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220</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2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0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49</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7</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3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02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4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772</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8</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4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69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1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3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52</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9</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1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6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2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8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43</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10</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44</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710</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5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9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781</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9640" y="620280"/>
            <a:ext cx="7772400" cy="51022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The </a:t>
            </a:r>
            <a:r>
              <a:rPr b="1" i="1" lang="en-US" sz="4400" spc="-1" strike="noStrike">
                <a:solidFill>
                  <a:srgbClr val="ff0000"/>
                </a:solidFill>
                <a:latin typeface="Book Antiqua"/>
              </a:rPr>
              <a:t>reliability</a:t>
            </a:r>
            <a:r>
              <a:rPr b="0" i="1" lang="en-US" sz="4400" spc="-1" strike="noStrike">
                <a:solidFill>
                  <a:srgbClr val="0000ff"/>
                </a:solidFill>
                <a:latin typeface="Book Antiqua"/>
              </a:rPr>
              <a:t> of a measuring instrument is defined as the ability of the instrument to measure consistently the phenomenon it is designed to assess. Reliability, therefore, refers to test consistency.</a:t>
            </a:r>
            <a:br>
              <a:rPr sz="4400"/>
            </a:br>
            <a:r>
              <a:rPr b="0" i="1" lang="en-US" sz="4400" spc="-1" strike="noStrike">
                <a:solidFill>
                  <a:srgbClr val="0000ff"/>
                </a:solidFill>
                <a:latin typeface="Book Antiqua"/>
              </a:rPr>
              <a:t>  </a:t>
            </a:r>
            <a:endParaRPr b="0" i="1" lang="en-US" sz="44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8EE3-DCAC-4D4A-B793-DDF6AA2547F0}" type="slidenum">
              <a:rPr b="0" lang="en-GB" sz="1400" spc="-1" strike="noStrike">
                <a:solidFill>
                  <a:srgbClr val="000000"/>
                </a:solidFill>
                <a:latin typeface="Arial"/>
                <a:ea typeface="Arial"/>
              </a:rPr>
              <a:t>&lt;number&gt;</a:t>
            </a:fld>
            <a:endParaRPr b="1" lang="en-US" sz="1400" spc="-1" strike="noStrike">
              <a:solidFill>
                <a:srgbClr val="000000"/>
              </a:solidFill>
              <a:latin typeface="Times New Roman"/>
            </a:endParaRPr>
          </a:p>
        </p:txBody>
      </p:sp>
      <p:sp>
        <p:nvSpPr>
          <p:cNvPr id="508" name="PlaceHolder 1"/>
          <p:cNvSpPr>
            <a:spLocks noGrp="1"/>
          </p:cNvSpPr>
          <p:nvPr>
            <p:ph type="title"/>
          </p:nvPr>
        </p:nvSpPr>
        <p:spPr>
          <a:xfrm>
            <a:off x="609480" y="380880"/>
            <a:ext cx="7772400" cy="147024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ff"/>
                </a:solidFill>
                <a:latin typeface="Comic Sans MS"/>
              </a:rPr>
              <a:t>Cronbach’s Alpha</a:t>
            </a:r>
            <a:endParaRPr b="0" i="1" lang="en-US" sz="4400" spc="-1" strike="noStrike">
              <a:solidFill>
                <a:srgbClr val="0000ff"/>
              </a:solidFill>
              <a:latin typeface="Book Antiqua"/>
            </a:endParaRPr>
          </a:p>
        </p:txBody>
      </p:sp>
      <p:sp>
        <p:nvSpPr>
          <p:cNvPr id="509" name="Text Box 4"/>
          <p:cNvSpPr/>
          <p:nvPr/>
        </p:nvSpPr>
        <p:spPr>
          <a:xfrm>
            <a:off x="838080" y="1413000"/>
            <a:ext cx="7391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It is very common in research to collect multiple measures of the same construct. For example, in a questionnaire designed to measure optimism, there are typically many items that collectively measure the construct of optimism. To have confidence in a measure such as this, we need to test its reliability, the degree to which it is error-free. The type of reliability we'll be examining here is called internal consistency reliability, the degree to which multiple measures of the same thing agree with one another.</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826920" y="907920"/>
            <a:ext cx="7772400" cy="44546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Book Antiqua"/>
              </a:rPr>
              <a:t>Cronbach’s alpha</a:t>
            </a:r>
            <a:r>
              <a:rPr b="0" i="1" lang="en-US" sz="3200" spc="-1" strike="noStrike">
                <a:solidFill>
                  <a:srgbClr val="0000ff"/>
                </a:solidFill>
                <a:latin typeface="Book Antiqua"/>
              </a:rPr>
              <a:t>—This is a single correlation coefficient that is an estimate of the average of all the correlation coefficients of the items within a test. If alpha is high (0.80 or higher), then this suggests that all of the items are reliable and the entire test is internally consistent. If alpha is low, then at least one of the items is unreliable, and must be identified via item analysis procedure.</a:t>
            </a:r>
            <a:br>
              <a:rPr sz="3200"/>
            </a:br>
            <a:r>
              <a:rPr b="0" i="1" lang="en-US" sz="4400" spc="-1" strike="noStrike">
                <a:solidFill>
                  <a:srgbClr val="0000ff"/>
                </a:solidFill>
                <a:latin typeface="Book Antiqua"/>
              </a:rPr>
              <a:t>  </a:t>
            </a:r>
            <a:r>
              <a:rPr b="0" lang="en-US" sz="4400" spc="-1" strike="noStrike">
                <a:solidFill>
                  <a:srgbClr val="0000ff"/>
                </a:solidFill>
                <a:latin typeface="Book Antiqua"/>
              </a:rPr>
              <a:t> </a:t>
            </a:r>
            <a:br>
              <a:rPr sz="4400"/>
            </a:br>
            <a:endParaRPr b="0" i="1" lang="en-US" sz="44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D8DC-12E1-4B31-878E-F46515E76E19}" type="slidenum">
              <a:rPr b="0" lang="en-GB" sz="1400" spc="-1" strike="noStrike">
                <a:solidFill>
                  <a:srgbClr val="000000"/>
                </a:solidFill>
                <a:latin typeface="Arial"/>
                <a:ea typeface="Arial"/>
              </a:rPr>
              <a:t>&lt;number&gt;</a:t>
            </a:fld>
            <a:endParaRPr b="1" lang="en-US" sz="1400" spc="-1" strike="noStrike">
              <a:solidFill>
                <a:srgbClr val="000000"/>
              </a:solidFill>
              <a:latin typeface="Times New Roman"/>
            </a:endParaRPr>
          </a:p>
        </p:txBody>
      </p:sp>
      <p:sp>
        <p:nvSpPr>
          <p:cNvPr id="512" name="PlaceHolder 1"/>
          <p:cNvSpPr>
            <a:spLocks noGrp="1"/>
          </p:cNvSpPr>
          <p:nvPr>
            <p:ph type="title"/>
          </p:nvPr>
        </p:nvSpPr>
        <p:spPr>
          <a:xfrm>
            <a:off x="609480" y="380880"/>
            <a:ext cx="7772400" cy="147024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ff"/>
                </a:solidFill>
                <a:latin typeface="Comic Sans MS"/>
              </a:rPr>
              <a:t>Cronbach’s Alpha</a:t>
            </a:r>
            <a:endParaRPr b="0" i="1" lang="en-US" sz="4400" spc="-1" strike="noStrike">
              <a:solidFill>
                <a:srgbClr val="0000ff"/>
              </a:solidFill>
              <a:latin typeface="Book Antiqua"/>
            </a:endParaRPr>
          </a:p>
        </p:txBody>
      </p:sp>
      <p:sp>
        <p:nvSpPr>
          <p:cNvPr id="513" name="Rectangle 1"/>
          <p:cNvSpPr/>
          <p:nvPr/>
        </p:nvSpPr>
        <p:spPr>
          <a:xfrm>
            <a:off x="1042920" y="1268280"/>
            <a:ext cx="7274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xample: </a:t>
            </a:r>
            <a:r>
              <a:rPr b="1" lang="en-US" sz="2400" spc="-1" strike="noStrike">
                <a:solidFill>
                  <a:srgbClr val="000000"/>
                </a:solidFill>
                <a:latin typeface="Times New Roman"/>
              </a:rPr>
              <a:t>Does my questionnaire measure customer satisfaction in a useful way? Using reliability analysis, you can determine the extent to which the items in your questionnaire are related to each other, you can get an overall index of the repeatability or internal consistency of the scale as a whole, and you can identify problem items that should be excluded from the scal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6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hat is alpha and why should we care?</a:t>
            </a:r>
            <a:endParaRPr b="0" lang="en-US" sz="26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ronbach’s alpha is the most commonly used measure of reliability (i.e., internal consistency).</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t was originally derived by Kuder &amp; Richardson (1937) for dichotomously scored data (0 or 1) and later generalized by Cronbach (1951) to account for any scoring method.</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high value of alpha is good, but it is important to have a deeper knowledge to use it properly.  </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Other types of reliability</a:t>
            </a:r>
            <a:endParaRPr b="0" lang="en-US" sz="30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est/Re-Test</a:t>
            </a:r>
            <a:endParaRPr b="0" lang="en-US" sz="28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The same test is taken twice.</a:t>
            </a:r>
            <a:endParaRPr b="0" lang="en-US" sz="23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quivalent Forms</a:t>
            </a:r>
            <a:endParaRPr b="0" lang="en-US" sz="28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Different tests covering the same topics</a:t>
            </a:r>
            <a:endParaRPr b="0" lang="en-US" sz="23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Can be accomplished by splitting a test into halves</a:t>
            </a:r>
            <a:endParaRPr b="0" lang="en-US" sz="23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ronbach’s basic equation for alpha</a:t>
            </a:r>
            <a:endParaRPr b="0" lang="en-US" sz="3000" spc="-1" strike="noStrike">
              <a:solidFill>
                <a:srgbClr val="000000"/>
              </a:solidFill>
              <a:latin typeface="Book Antiqu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lvl="1" marL="743040" indent="-28584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 = number of questions</a:t>
            </a:r>
            <a:endParaRPr b="0" lang="en-US" sz="2800" spc="-1" strike="noStrike">
              <a:solidFill>
                <a:srgbClr val="000000"/>
              </a:solidFill>
              <a:latin typeface="Book Antiqua"/>
            </a:endParaRPr>
          </a:p>
          <a:p>
            <a:pPr lvl="1" marL="743040" indent="-28584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i = variance of scores on each question</a:t>
            </a:r>
            <a:endParaRPr b="0" lang="en-US" sz="2800" spc="-1" strike="noStrike">
              <a:solidFill>
                <a:srgbClr val="000000"/>
              </a:solidFill>
              <a:latin typeface="Book Antiqua"/>
            </a:endParaRPr>
          </a:p>
          <a:p>
            <a:pPr lvl="1" marL="743040" indent="-28584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test = total variance of overall scores on the entire test</a:t>
            </a:r>
            <a:endParaRPr b="0" lang="en-US" sz="2800" spc="-1" strike="noStrike">
              <a:solidFill>
                <a:srgbClr val="000000"/>
              </a:solidFill>
              <a:latin typeface="Book Antiqua"/>
            </a:endParaRPr>
          </a:p>
        </p:txBody>
      </p:sp>
      <mc:AlternateContent>
        <mc:Choice xmlns:a14="http://schemas.microsoft.com/office/drawing/2010/main" Requires="a14">
          <p:sp>
            <p:nvSpPr>
              <p:cNvPr id="517" name="Object 4"/>
              <p:cNvSpPr txBox="1"/>
              <p:nvPr/>
            </p:nvSpPr>
            <p:spPr>
              <a:xfrm>
                <a:off x="2286000" y="2209680"/>
                <a:ext cx="3676680" cy="1262160"/>
              </a:xfrm>
              <a:prstGeom prst="rect">
                <a:avLst/>
              </a:prstGeom>
            </p:spPr>
            <p:txBody>
              <a:bodyPr/>
              <a:p>
                <a14:m>
                  <m:oMath xmlns:m="http://schemas.openxmlformats.org/officeDocument/2006/math">
                    <m:r>
                      <m:t xml:space="preserve">α</m:t>
                    </m:r>
                    <m:r>
                      <m:t xml:space="preserve">=</m:t>
                    </m:r>
                    <m:f>
                      <m:num>
                        <m:r>
                          <m:t xml:space="preserve">n</m:t>
                        </m:r>
                      </m:num>
                      <m:den>
                        <m:r>
                          <m:t xml:space="preserve">n</m:t>
                        </m:r>
                        <m:r>
                          <m:t xml:space="preserve">−</m:t>
                        </m:r>
                        <m:r>
                          <m:t xml:space="preserve">1</m:t>
                        </m:r>
                      </m:den>
                    </m:f>
                    <m:d>
                      <m:dPr>
                        <m:begChr m:val="("/>
                        <m:endChr m:val=")"/>
                      </m:dPr>
                      <m:e>
                        <m:r>
                          <m:t xml:space="preserve">1</m:t>
                        </m:r>
                        <m:r>
                          <m:t xml:space="preserve">−</m:t>
                        </m:r>
                        <m:f>
                          <m:num>
                            <m:r>
                              <m:t xml:space="preserve">Σ</m:t>
                            </m:r>
                            <m:r>
                              <m:rPr>
                                <m:lit/>
                                <m:nor/>
                              </m:rPr>
                              <m:t xml:space="preserve">Vi</m:t>
                            </m:r>
                          </m:num>
                          <m:den>
                            <m:r>
                              <m:rPr>
                                <m:lit/>
                                <m:nor/>
                              </m:rPr>
                              <m:t xml:space="preserve">Vtest</m:t>
                            </m:r>
                          </m:den>
                        </m:f>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fontScale="98000"/>
          </a:bodyPr>
          <a:p>
            <a:pPr marL="335880" indent="-3358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How alpha works</a:t>
            </a:r>
            <a:endParaRPr b="0" lang="en-US" sz="3000" spc="-1" strike="noStrike">
              <a:solidFill>
                <a:srgbClr val="000000"/>
              </a:solidFill>
              <a:latin typeface="Book Antiqua"/>
            </a:endParaRPr>
          </a:p>
          <a:p>
            <a:pPr lvl="1" marL="727920" indent="-28008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test is the most important part of alpha</a:t>
            </a:r>
            <a:endParaRPr b="0" lang="en-US" sz="2800" spc="-1" strike="noStrike">
              <a:solidFill>
                <a:srgbClr val="000000"/>
              </a:solidFill>
              <a:latin typeface="Book Antiqu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27920" indent="-28008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 Vtest is large, it can be seen that alpha will be large also:</a:t>
            </a:r>
            <a:endParaRPr b="0" lang="en-US" sz="2800" spc="-1" strike="noStrike">
              <a:solidFill>
                <a:srgbClr val="000000"/>
              </a:solidFill>
              <a:latin typeface="Book Antiqua"/>
            </a:endParaRPr>
          </a:p>
          <a:p>
            <a:pPr lvl="2" marL="1119960" indent="-22392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Large Vtest </a:t>
            </a:r>
            <a:r>
              <a:rPr b="0" lang="en-US" sz="2300" spc="-1" strike="noStrike">
                <a:solidFill>
                  <a:srgbClr val="000000"/>
                </a:solidFill>
                <a:latin typeface="Wingdings"/>
                <a:ea typeface="Wingdings"/>
              </a:rPr>
              <a:t></a:t>
            </a:r>
            <a:r>
              <a:rPr b="0" lang="en-US" sz="2300" spc="-1" strike="noStrike">
                <a:solidFill>
                  <a:srgbClr val="000000"/>
                </a:solidFill>
                <a:latin typeface="Book Antiqua"/>
              </a:rPr>
              <a:t> Small Ratio </a:t>
            </a:r>
            <a:r>
              <a:rPr b="0" lang="en-US" sz="2300" spc="-1" strike="noStrike">
                <a:solidFill>
                  <a:srgbClr val="000000"/>
                </a:solidFill>
                <a:latin typeface="Book Antiqua"/>
                <a:ea typeface="Times New Roman"/>
              </a:rPr>
              <a:t>ΣVi/Vtest </a:t>
            </a:r>
            <a:r>
              <a:rPr b="0" lang="en-US" sz="2300" spc="-1" strike="noStrike">
                <a:solidFill>
                  <a:srgbClr val="000000"/>
                </a:solidFill>
                <a:latin typeface="Wingdings"/>
                <a:ea typeface="Wingdings"/>
              </a:rPr>
              <a:t></a:t>
            </a:r>
            <a:r>
              <a:rPr b="0" lang="en-US" sz="2300" spc="-1" strike="noStrike">
                <a:solidFill>
                  <a:srgbClr val="000000"/>
                </a:solidFill>
                <a:latin typeface="Book Antiqua"/>
                <a:ea typeface="Times New Roman"/>
              </a:rPr>
              <a:t>      Subtract this small ratio from 1 </a:t>
            </a:r>
            <a:r>
              <a:rPr b="0" lang="en-US" sz="2300" spc="-1" strike="noStrike">
                <a:solidFill>
                  <a:srgbClr val="000000"/>
                </a:solidFill>
                <a:latin typeface="Wingdings"/>
                <a:ea typeface="Wingdings"/>
              </a:rPr>
              <a:t></a:t>
            </a:r>
            <a:r>
              <a:rPr b="0" lang="en-US" sz="2300" spc="-1" strike="noStrike">
                <a:solidFill>
                  <a:srgbClr val="000000"/>
                </a:solidFill>
                <a:latin typeface="Book Antiqua"/>
                <a:ea typeface="Times New Roman"/>
              </a:rPr>
              <a:t> high alpha</a:t>
            </a:r>
            <a:endParaRPr b="0" lang="en-US" sz="2300" spc="-1" strike="noStrike">
              <a:solidFill>
                <a:srgbClr val="000000"/>
              </a:solidFill>
              <a:latin typeface="Book Antiqu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mc:AlternateContent>
        <mc:Choice xmlns:a14="http://schemas.microsoft.com/office/drawing/2010/main" Requires="a14">
          <p:sp>
            <p:nvSpPr>
              <p:cNvPr id="519" name="Object 4"/>
              <p:cNvSpPr txBox="1"/>
              <p:nvPr/>
            </p:nvSpPr>
            <p:spPr>
              <a:xfrm>
                <a:off x="2971800" y="2590920"/>
                <a:ext cx="3676680" cy="1261800"/>
              </a:xfrm>
              <a:prstGeom prst="rect">
                <a:avLst/>
              </a:prstGeom>
            </p:spPr>
            <p:txBody>
              <a:bodyPr/>
              <a:p>
                <a14:m>
                  <m:oMath xmlns:m="http://schemas.openxmlformats.org/officeDocument/2006/math">
                    <m:r>
                      <m:t xml:space="preserve">α</m:t>
                    </m:r>
                    <m:r>
                      <m:t xml:space="preserve">=</m:t>
                    </m:r>
                    <m:f>
                      <m:num>
                        <m:r>
                          <m:t xml:space="preserve">n</m:t>
                        </m:r>
                      </m:num>
                      <m:den>
                        <m:r>
                          <m:t xml:space="preserve">n</m:t>
                        </m:r>
                        <m:r>
                          <m:t xml:space="preserve">−</m:t>
                        </m:r>
                        <m:r>
                          <m:t xml:space="preserve">1</m:t>
                        </m:r>
                      </m:den>
                    </m:f>
                    <m:d>
                      <m:dPr>
                        <m:begChr m:val="("/>
                        <m:endChr m:val=")"/>
                      </m:dPr>
                      <m:e>
                        <m:r>
                          <m:t xml:space="preserve">1</m:t>
                        </m:r>
                        <m:r>
                          <m:t xml:space="preserve">−</m:t>
                        </m:r>
                        <m:f>
                          <m:num>
                            <m:r>
                              <m:t xml:space="preserve">Σ</m:t>
                            </m:r>
                            <m:r>
                              <m:rPr>
                                <m:lit/>
                                <m:nor/>
                              </m:rPr>
                              <m:t xml:space="preserve">Vi</m:t>
                            </m:r>
                          </m:num>
                          <m:den>
                            <m:r>
                              <m:rPr>
                                <m:lit/>
                                <m:nor/>
                              </m:rPr>
                              <m:t xml:space="preserve">Vtest</m:t>
                            </m:r>
                          </m:den>
                        </m:f>
                      </m:e>
                    </m: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0:19:57Z</dcterms:created>
  <dc:creator>Industrial Engineering</dc:creator>
  <dc:description/>
  <dc:language>en-US</dc:language>
  <cp:lastModifiedBy>User</cp:lastModifiedBy>
  <cp:lastPrinted>2015-11-05T06:39:06Z</cp:lastPrinted>
  <dcterms:modified xsi:type="dcterms:W3CDTF">2015-12-13T08:53:26Z</dcterms:modified>
  <cp:revision>48</cp:revision>
  <dc:subject/>
  <dc:title>PowerPoint Presentation</dc:title>
</cp:coreProperties>
</file>