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E322E-74E4-45FA-AF43-62F464434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89F2-0FD2-4499-802B-682250480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5D9D7-D868-485B-B78B-A404492E2C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EA34F7-8F0A-4D83-A6A3-DCC15FA8F2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BD93A-B650-4FDF-BE12-AD0F3A1C45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478B6-CCCA-4337-B05D-3C661D81F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2"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FCCBD-90AA-4E83-83B5-646D6DAB2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6"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03F3D-D4B4-455D-9BF3-808391B06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8"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9"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65C92-5C04-4FA5-B185-840007B6C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4"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C83333-A10E-4EE2-81FA-06B6E328D6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6"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7"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8"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9"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0"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1"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F6D835-B437-4659-83F4-AB76239EDB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9D80D6-40D3-45CF-9626-113641573E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84674-CBF8-4182-A14C-19111CDD5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88"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8A89C0-FDE7-4A24-9C88-871E83142B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0"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E61BB0-E9A5-4532-A17B-1177DA7322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C65C1D-4596-4C9C-BE71-AA58B24FD4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B2CDE5-6DF6-4AEC-A972-9DE5AC91F1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6C2C73-601C-4656-97C8-533F3BB0C1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7CFDCD-35F6-4CF5-A238-471D358806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3"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BBA1F4-91D8-44ED-8D5F-EDA54B2031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7"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69906D-421E-4441-8997-E1C1BC090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9"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0"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893681-7387-4FCF-ACCE-744D1BE8AC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5"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951B09-C830-419A-B6A2-B485F9943E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5054F-DB07-456F-8261-E787EFE05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7"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8"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9"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0"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1"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2"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EEAE5F-C8A2-4670-B660-9BD011167D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AE37AE-C872-4E8C-A77C-2F4CB133BB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2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EB51AE-DB16-437D-8414-28A077340E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B92DF4-888F-4CD7-999F-5A5B23DD47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E64EE4-A2D5-4989-82A5-583E36DACF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89B4EE-91CC-4AE8-A857-1DD4411E5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4B1D9B-525B-4EAB-9545-48F5A68542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7E33A9-6CAF-4A5A-96C8-6D8996DF97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D4011D-5274-4834-9BBF-9779A2932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4384D-AA07-4293-8EDB-1192E70DA5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B02D0-DC21-49DD-A6EC-88CC80F1A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36CD60-D04E-4BF3-8C48-7F34AEEE6F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6EC23A-5CE5-4274-BC13-A2E073B6FE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891915-6B8D-4569-9359-80D222B2D5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44A627-22C3-44FB-B9A9-A565F1A38F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B9A28D-227D-4D1E-B283-1C2CFE5164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B682E0-6ED3-4402-A1F9-A2EA287871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24C065-D812-4B71-8C24-A017DD835D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5FE7D-7431-47F8-A987-D0906054B0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30DB3C-9F0D-4381-A502-9F33470F09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C407BE-975D-4AF2-83E0-258642CABF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94263-2687-4D68-B08D-128EBC36D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E4C170-1A5C-47A7-93DE-F3B317D1B3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77FC6A-1CE9-42DC-8EEC-EC6344C60C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80AF02-D229-4A9B-913F-4F4BC89386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C1FCB1-C7AF-4BD5-B669-B0B2BED774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B3D321-A37C-4A06-8069-0E9324D7C2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36E00-7BEF-475F-883E-DD014888E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4935D-9632-4667-9C44-8E8E2916C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0BA6F-B5E4-4F77-9E69-3FDF71CE3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1AD57-04EC-4954-B609-1982D98DF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82AA0-AC6A-466A-BDC6-F09F558A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3BEB-D430-4F37-A548-F32C943E5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11221-F5F2-4305-B0BE-9998BED74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1AF83-B1B1-4063-A2EA-24B8FCED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13E7-D547-468E-BD1C-CEEF6DE19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92446-9E22-4E27-A4E0-5B5E44B55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E855A-30F4-44CA-BA98-A65574F6E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B6959A-543C-4A4A-9CEE-F90B0A33DB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1"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D56F4-7CBF-4D60-90D9-A9BDF3519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3"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63A6F-54F0-40C8-A4FA-A5F3944D9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0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56C3B-8B43-4BE8-BF24-4893F8B80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6EA93-6A8F-4AD8-AD71-A098C5570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FB681-4C43-44B5-AA29-387FA445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7C679-EC00-4F48-AA38-DF8D487AC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7B075-CE89-4BA4-8417-8BCD76859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6"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2CB10-15CF-4B75-8E1D-9DAFDE7D6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0"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7F99D-3000-4AB7-940E-4852A578F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2"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3"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3627F-60AA-4DA5-8E7B-98CCD159C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8"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18987-8047-4E29-975D-AB23F89A22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30"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1"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2"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3"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4"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5"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AA975-70FB-44B1-BF42-ABFC465F7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803A7-4081-4721-995B-F5196EC34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2"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CB042-9AEB-4C7A-A6B3-A757B6DBA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4"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3851F-B2EA-4A03-8B93-2694789C6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E1DC-A17D-4349-A861-934AABBD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4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2157F-6A02-4578-B379-99521784F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91573-A4D6-422A-9B86-4B0995004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F6A3A-DECF-4407-A958-20FD52976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3D4D1-1CA2-4608-8B5D-2F5EEEC8E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7"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FC53D-40B8-4F29-8693-8D62918B4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1"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0CC9C-25F7-4A54-8D48-4C76DC4B2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3"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4"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7EB04-9AD0-497D-A063-F4A7A73E7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9"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E4335C-40BB-4B4B-8A53-C0F06C327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71"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2"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3"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4"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5"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6"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1EF3FA-1487-43D5-B19C-F0B99913D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8D5FA-97CB-4271-9E50-171F546E8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11B5-C6BC-4AE3-9505-49A88F7F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3"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F2DF6-C0B6-4E15-95F5-6CFFF5AFE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5"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B0CEF-FEA2-40B7-ACDD-2CF7D0E89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8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713C9B-1811-46F7-95EB-7072B24B7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5ACAC3-0CB1-4F89-A8FC-DAF448DF97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C8A31-2D2F-4B4C-A0C1-91B6FB3C7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D3315-81BF-4C6B-B630-1756311BA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8"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1139D-4B82-45DB-9AD3-7722672B0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2"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435A2-BBEC-4B23-9EB0-810185BED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4"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5"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D8BE2-D394-4E5F-BBCF-45A763104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0"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341C09-C68D-48CA-8207-4323FC952B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69F3-C9FF-4810-876C-4332C262E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2"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3"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4"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5"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6"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7"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0CFAF5-D354-4C14-A30C-86D90E4A6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C6A5B-C811-4971-9D1E-6396F0D09A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4"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67E4A-88B8-4A7E-91FA-A5CBC8764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6"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7AF50-723D-44EE-9DA7-2EBEE51EC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BE53E3-5ABD-40AD-910D-BD8263497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1F60B-BC92-4AC0-A3FE-D54A07A4BA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BE0CA2-B30F-4D45-B41F-EA7187B794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0BA11-F04A-4001-9439-5BE403091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9"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3E1F7-DFF1-43CE-AEF1-AC11981C3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3"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57C14-FD41-4E1B-ACDF-C8A14F9F8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04FB-1F55-4C55-936D-D3E9A195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5"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6"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ED9AC-B87D-4CD4-8C59-1FBF973EC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1"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6A0A3E-852B-4524-B179-158EDF26C2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53"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4"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5"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6"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7"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8"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661FF4-27DF-4A70-B63D-C89384E8FB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88D0D7-EFFE-4614-B4C3-BCD5667E0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5"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5FB301-8C8F-415B-AE91-C97A4605C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7"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18767-1996-4652-9354-3867256B7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010E7-F21C-4886-8269-66B875880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36092-924E-424E-A398-BC8CA5588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1C80C-A615-42F1-BC3A-10B845D3CB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08515-211A-4EE6-9703-B6D59A0D8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1D6B-63C3-4B29-A536-C9A72809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0"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D9B06-415A-401C-8F07-915ECD18E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4"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076C6-6F77-4E1A-AF9A-721F67008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6"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7"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DE7C2-787E-4A8B-9788-37F019E11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2"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CF7C0F-DAF9-46C1-9A9D-C6E665135D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94"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5"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6"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7"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8"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9"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1F8ACC-2755-4FCE-A93A-CB7BCDC1F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73E0B2-29C2-492F-BE44-22D65B9406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6"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FB808-C612-42D4-81CE-B1D282BCB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34B44-6BA0-433A-9760-3F8118C09C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F7B43-AF0D-4003-8E5A-59960D4C4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DFEA2-9A4E-4C56-AD21-487C3E925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1C68F-E3D5-42FD-8892-412AA7F12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2FDAC9-160D-45D4-9EA3-1E3CD6CB7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D368F-4DCD-4E9D-8D8D-1A792C54B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1"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0286E-5EDA-487C-A046-4C4C2F18B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5"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9B6E9-8CA8-45AC-B4F7-3C0FC9184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7"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8"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F6886-778B-44E6-8892-120ED7412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3"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D7CA33-AA4B-4376-B82D-388F645E5E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5"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6"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7"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8"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9"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0"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0B0D80-E9D0-4A4E-A24F-278A7AE6D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7B4369-BDCD-45F9-A869-816843D6F6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7"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FFAE13-674E-4350-BDFC-DCAB3FED75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9"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FB628-F481-4F1B-ACF4-5BAFE6FE59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5A75-F125-4379-A728-F63176DE4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5"/>
          <p:cNvGrpSpPr/>
          <p:nvPr/>
        </p:nvGrpSpPr>
        <p:grpSpPr>
          <a:xfrm>
            <a:off x="0" y="385920"/>
            <a:ext cx="9134640" cy="6188040"/>
            <a:chOff x="0" y="385920"/>
            <a:chExt cx="9134640" cy="6188040"/>
          </a:xfrm>
        </p:grpSpPr>
        <p:grpSp>
          <p:nvGrpSpPr>
            <p:cNvPr id="4" name="Group 6"/>
            <p:cNvGrpSpPr/>
            <p:nvPr/>
          </p:nvGrpSpPr>
          <p:grpSpPr>
            <a:xfrm>
              <a:off x="0" y="385920"/>
              <a:ext cx="966960" cy="457200"/>
              <a:chOff x="0" y="385920"/>
              <a:chExt cx="966960" cy="457200"/>
            </a:xfrm>
          </p:grpSpPr>
          <p:sp>
            <p:nvSpPr>
              <p:cNvPr id="5" name="Freeform 7"/>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8"/>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9"/>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0"/>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1"/>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0" name="Group 12"/>
            <p:cNvGrpSpPr/>
            <p:nvPr/>
          </p:nvGrpSpPr>
          <p:grpSpPr>
            <a:xfrm>
              <a:off x="838080" y="6257880"/>
              <a:ext cx="8296560" cy="316080"/>
              <a:chOff x="838080" y="6257880"/>
              <a:chExt cx="8296560" cy="316080"/>
            </a:xfrm>
          </p:grpSpPr>
          <p:sp>
            <p:nvSpPr>
              <p:cNvPr id="11" name="Freeform 13"/>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2" name="Freeform 14"/>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3" name="Freeform 15"/>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Times New Roman"/>
                </a:endParaRPr>
              </a:p>
            </p:txBody>
          </p:sp>
        </p:grpSp>
      </p:grpSp>
      <p:sp>
        <p:nvSpPr>
          <p:cNvPr id="14" name="PlaceHolder 4"/>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5" name="PlaceHolder 5"/>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6" name="Rectangle 18"/>
          <p:cNvSpPr/>
          <p:nvPr/>
        </p:nvSpPr>
        <p:spPr>
          <a:xfrm>
            <a:off x="887040" y="6600960"/>
            <a:ext cx="436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f Industrial Engineering - The University of Oklahoma</a:t>
            </a:r>
            <a:endParaRPr b="1" lang="en-US" sz="1200" spc="-1" strike="noStrike">
              <a:solidFill>
                <a:srgbClr val="000000"/>
              </a:solidFill>
              <a:latin typeface="Times New Roman"/>
            </a:endParaRPr>
          </a:p>
        </p:txBody>
      </p:sp>
      <p:pic>
        <p:nvPicPr>
          <p:cNvPr id="17" name="Picture 19" descr=""/>
          <p:cNvPicPr/>
          <p:nvPr/>
        </p:nvPicPr>
        <p:blipFill>
          <a:blip r:embed="rId2"/>
          <a:stretch/>
        </p:blipFill>
        <p:spPr>
          <a:xfrm>
            <a:off x="101520" y="6006960"/>
            <a:ext cx="85104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83"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84"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E844-0EBC-49DA-8630-78B2282BB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24"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2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C750-300F-4CF6-9CA5-D8B4CB1AE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6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66"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EE03-2F5A-453D-8893-6DD74F727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5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39D8-DA68-46A3-AC63-F0EC9F332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96"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97"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E9AE-57EA-4910-B074-FB014D5AC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37"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38"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806D-9822-473D-81AF-170033CE0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78"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79"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70B9-1B7E-4614-9D67-EA54530E3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19"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20"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ADE4-4A65-4D0D-9435-F9BE33B1E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60"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2525-7A78-45C7-A08B-DC49354B9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01"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02"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0641-0905-4053-87DD-D538DC093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42"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43"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C8D1-24A4-4426-8E1C-463A68D28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26920" y="1294920"/>
            <a:ext cx="7631280" cy="2421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Book Antiqua"/>
              </a:rPr>
              <a:t>Reliability Analysis</a:t>
            </a:r>
            <a:br>
              <a:rPr sz="4800"/>
            </a:br>
            <a:r>
              <a:rPr b="0" i="1" lang="en-US" sz="4800" spc="-1" strike="noStrike">
                <a:solidFill>
                  <a:srgbClr val="0000ff"/>
                </a:solidFill>
                <a:latin typeface="Book Antiqua"/>
              </a:rPr>
              <a:t> </a:t>
            </a:r>
            <a:endParaRPr b="0" i="1" lang="en-US" sz="48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makes a question “Good” or “Bad” in terms of alpha?</a:t>
            </a:r>
            <a:endParaRPr b="0" lang="en-US" sz="26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PSS  will report “alpha if item deleted”, which shows how alpha would change if that one question was not on the test.</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igher “alpha if item deleted” means a question is not so good, because deleting that question would improve the overall alpha.</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 Example</a:t>
            </a:r>
            <a:endParaRPr b="0" i="1" lang="en-US" sz="4400" spc="-1" strike="noStrike">
              <a:solidFill>
                <a:srgbClr val="0000ff"/>
              </a:solidFill>
              <a:latin typeface="Book Antiqua"/>
            </a:endParaRPr>
          </a:p>
        </p:txBody>
      </p:sp>
      <p:sp>
        <p:nvSpPr>
          <p:cNvPr id="522"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fontScale="95000"/>
          </a:bodyPr>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105 members of the community completed a ten-item ‘attitudes-to-help-seeking’ instrument, using a 5-point Likert scale (1=Strongly disagree to 5=Strongly agree). You wish to determine the internal consistency of this scale using Cronbach’s alpha.</a:t>
            </a: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ea typeface="Arial"/>
              </a:rPr>
              <a:t>The data is given in Attitude_Reliability.sav</a:t>
            </a:r>
            <a:endParaRPr b="0" lang="en-US" sz="3000" spc="-1" strike="noStrike">
              <a:solidFill>
                <a:srgbClr val="000000"/>
              </a:solidFill>
              <a:latin typeface="Book Antiqua"/>
            </a:endParaRPr>
          </a:p>
        </p:txBody>
      </p:sp>
      <p:sp>
        <p:nvSpPr>
          <p:cNvPr id="523"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using SPSS - Example</a:t>
            </a:r>
            <a:endParaRPr b="0" i="1" lang="en-US" sz="4400" spc="-1" strike="noStrike">
              <a:solidFill>
                <a:srgbClr val="0000ff"/>
              </a:solidFill>
              <a:latin typeface="Book Antiqua"/>
            </a:endParaRPr>
          </a:p>
        </p:txBody>
      </p:sp>
      <p:sp>
        <p:nvSpPr>
          <p:cNvPr id="525"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Obtaining Cronbach’s Alpha:</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Analyze </a:t>
            </a:r>
            <a:r>
              <a:rPr b="1" lang="en-AU" sz="3000" spc="-1" strike="noStrike">
                <a:solidFill>
                  <a:srgbClr val="ff0000"/>
                </a:solidFill>
                <a:latin typeface="Book Antiqua"/>
                <a:ea typeface="Arial"/>
              </a:rPr>
              <a:t>→ Scale →Reliability Analysis</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Book Antiqua"/>
              </a:rPr>
              <a:t>Model </a:t>
            </a:r>
            <a:r>
              <a:rPr b="0" lang="en-AU" sz="3000" spc="-1" strike="noStrike">
                <a:solidFill>
                  <a:srgbClr val="ff0000"/>
                </a:solidFill>
                <a:latin typeface="Book Antiqua"/>
                <a:ea typeface="Arial"/>
              </a:rPr>
              <a:t>→</a:t>
            </a:r>
            <a:r>
              <a:rPr b="0" lang="en-US" sz="3000" spc="-1" strike="noStrike">
                <a:solidFill>
                  <a:srgbClr val="ff0000"/>
                </a:solidFill>
                <a:latin typeface="Book Antiqua"/>
              </a:rPr>
              <a:t> Alpha</a:t>
            </a:r>
            <a:endParaRPr b="0" lang="en-US" sz="3000" spc="-1" strike="noStrike">
              <a:solidFill>
                <a:srgbClr val="000000"/>
              </a:solidFill>
              <a:latin typeface="Book Antiqua"/>
            </a:endParaRPr>
          </a:p>
          <a:p>
            <a:pPr marL="609480" indent="-6094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Drag items on the left to the right dialog box</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Book Antiqua"/>
              </a:rPr>
              <a:t>In this case: items hs1 to hs10</a:t>
            </a:r>
            <a:endParaRPr b="0" lang="en-US" sz="28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6"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Book Antiqua"/>
              </a:rPr>
              <a:t>Reliability</a:t>
            </a:r>
            <a:endParaRPr b="0" i="1" lang="en-US" sz="4400" spc="-1" strike="noStrike">
              <a:solidFill>
                <a:srgbClr val="0000ff"/>
              </a:solidFill>
              <a:latin typeface="Book Antiqua"/>
            </a:endParaRPr>
          </a:p>
        </p:txBody>
      </p:sp>
      <p:sp>
        <p:nvSpPr>
          <p:cNvPr id="52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Press “statistics”</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Choose “scale if item deleted”</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Press “continue”</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OK”</a:t>
            </a:r>
            <a:endParaRPr b="0" lang="en-US" sz="3000" spc="-1" strike="noStrike">
              <a:solidFill>
                <a:srgbClr val="000000"/>
              </a:solidFill>
              <a:latin typeface="Book Antiqu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Book Antiqua"/>
              </a:rPr>
              <a:t>Reliability</a:t>
            </a:r>
            <a:endParaRPr b="0" i="1" lang="en-US" sz="4400" spc="-1" strike="noStrike">
              <a:solidFill>
                <a:srgbClr val="0000ff"/>
              </a:solidFill>
              <a:latin typeface="Book Antiqua"/>
            </a:endParaRPr>
          </a:p>
        </p:txBody>
      </p:sp>
      <p:sp>
        <p:nvSpPr>
          <p:cNvPr id="530" name="PlaceHolder 2"/>
          <p:cNvSpPr>
            <a:spLocks noGrp="1"/>
          </p:cNvSpPr>
          <p:nvPr>
            <p:ph/>
          </p:nvPr>
        </p:nvSpPr>
        <p:spPr>
          <a:xfrm>
            <a:off x="990720" y="1371240"/>
            <a:ext cx="7772400" cy="76212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The SPSS Output</a:t>
            </a:r>
            <a:endParaRPr b="0" lang="en-US" sz="3000" spc="-1" strike="noStrike">
              <a:solidFill>
                <a:srgbClr val="000000"/>
              </a:solidFill>
              <a:latin typeface="Book Antiqua"/>
            </a:endParaRPr>
          </a:p>
        </p:txBody>
      </p:sp>
      <p:graphicFrame>
        <p:nvGraphicFramePr>
          <p:cNvPr id="531" name=""/>
          <p:cNvGraphicFramePr/>
          <p:nvPr/>
        </p:nvGraphicFramePr>
        <p:xfrm>
          <a:off x="1332000" y="2205000"/>
          <a:ext cx="6553080" cy="1933560"/>
        </p:xfrm>
        <a:graphic>
          <a:graphicData uri="http://schemas.openxmlformats.org/drawingml/2006/table">
            <a:tbl>
              <a:tblPr/>
              <a:tblGrid>
                <a:gridCol w="1744560"/>
                <a:gridCol w="1744560"/>
                <a:gridCol w="1532160"/>
                <a:gridCol w="1531800"/>
              </a:tblGrid>
              <a:tr h="276120">
                <a:tc gridSpan="4">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se Processing Summary</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6120">
                <a:tc rowSpan="3">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ses</a:t>
                      </a:r>
                      <a:endParaRPr b="1"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a:t>
                      </a:r>
                      <a:endParaRPr b="1"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761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luded</a:t>
                      </a:r>
                      <a:r>
                        <a:rPr b="0" lang="en-US" sz="1800" spc="-1" strike="noStrike" baseline="30000">
                          <a:solidFill>
                            <a:srgbClr val="000000"/>
                          </a:solidFill>
                          <a:latin typeface="Times New Roman"/>
                          <a:ea typeface="Times New Roman"/>
                        </a:rPr>
                        <a:t>a</a:t>
                      </a:r>
                      <a:endParaRPr b="1"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764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552240">
                <a:tc gridSpan="4">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istwise deletion based on all variables in the procedure</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2" name="Text Box 3"/>
          <p:cNvSpPr/>
          <p:nvPr/>
        </p:nvSpPr>
        <p:spPr>
          <a:xfrm>
            <a:off x="1577520" y="4365720"/>
            <a:ext cx="640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cases (observations/respondents) were us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 the calculation of Cronbach’s alpha</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378000" y="278136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btained alpha score is 0.768, which indicates that the scale has high internal consistency (reliabilit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onbach alpha is a reliability coefficient that indicates how well the items are positively correlated to one another. The closer the Cronbach alpha is to 1, the higher the internal consistency.  As a thumb rule, values of below 0.6 are considered to be poor, 0.6 to 0.7 ranges are acceptable and those over 0.7 are good. </a:t>
            </a:r>
            <a:endParaRPr b="1" lang="en-US" sz="2400" spc="-1" strike="noStrike">
              <a:solidFill>
                <a:srgbClr val="000000"/>
              </a:solidFill>
              <a:latin typeface="Times New Roman"/>
            </a:endParaRPr>
          </a:p>
        </p:txBody>
      </p:sp>
      <p:graphicFrame>
        <p:nvGraphicFramePr>
          <p:cNvPr id="534" name=""/>
          <p:cNvGraphicFramePr/>
          <p:nvPr/>
        </p:nvGraphicFramePr>
        <p:xfrm>
          <a:off x="1692360" y="476280"/>
          <a:ext cx="5543640" cy="1944720"/>
        </p:xfrm>
        <a:graphic>
          <a:graphicData uri="http://schemas.openxmlformats.org/drawingml/2006/table">
            <a:tbl>
              <a:tblPr/>
              <a:tblGrid>
                <a:gridCol w="1992240"/>
                <a:gridCol w="1990800"/>
                <a:gridCol w="1560600"/>
              </a:tblGrid>
              <a:tr h="51912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6480">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 Based on Standardized Items</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 of Items</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912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68</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826920" y="4581360"/>
            <a:ext cx="7848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at items 7 and 10 have lowest “corrected item – total correlations”. If these two items were removed from the scale, the “alpha if item deleted” column shows that overall reliability would increase slightly. Hence, deletion of these items may be considered.  </a:t>
            </a:r>
            <a:endParaRPr b="1" lang="en-US" sz="2400" spc="-1" strike="noStrike">
              <a:solidFill>
                <a:srgbClr val="000000"/>
              </a:solidFill>
              <a:latin typeface="Times New Roman"/>
            </a:endParaRPr>
          </a:p>
        </p:txBody>
      </p:sp>
      <p:graphicFrame>
        <p:nvGraphicFramePr>
          <p:cNvPr id="536" name=""/>
          <p:cNvGraphicFramePr/>
          <p:nvPr/>
        </p:nvGraphicFramePr>
        <p:xfrm>
          <a:off x="826920" y="404640"/>
          <a:ext cx="6840720" cy="3718080"/>
        </p:xfrm>
        <a:graphic>
          <a:graphicData uri="http://schemas.openxmlformats.org/drawingml/2006/table">
            <a:tbl>
              <a:tblPr/>
              <a:tblGrid>
                <a:gridCol w="622440"/>
                <a:gridCol w="1244520"/>
                <a:gridCol w="1241640"/>
                <a:gridCol w="1244520"/>
                <a:gridCol w="1244520"/>
                <a:gridCol w="1243080"/>
              </a:tblGrid>
              <a:tr h="2826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em-Total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840">
                <a:tc>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Mean if Item Deleted</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Variance if Item Deleted</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rected Item-Total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uared Multiple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onbach's Alpha if Item Deleted</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86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2</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0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01</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64</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3</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3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1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24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4</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2</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83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7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8</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5</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977</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64</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6</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6</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22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2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7</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2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7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8</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6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1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3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9</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6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8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3</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0</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71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5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8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620280"/>
            <a:ext cx="7772400" cy="51022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The </a:t>
            </a:r>
            <a:r>
              <a:rPr b="1" i="1" lang="en-US" sz="4400" spc="-1" strike="noStrike">
                <a:solidFill>
                  <a:srgbClr val="ff0000"/>
                </a:solidFill>
                <a:latin typeface="Book Antiqua"/>
              </a:rPr>
              <a:t>reliability</a:t>
            </a:r>
            <a:r>
              <a:rPr b="0" i="1" lang="en-US" sz="4400" spc="-1" strike="noStrike">
                <a:solidFill>
                  <a:srgbClr val="0000ff"/>
                </a:solidFill>
                <a:latin typeface="Book Antiqua"/>
              </a:rPr>
              <a:t> of a measuring instrument is defined as the ability of the instrument to measure consistently the phenomenon it is designed to assess. Reliability, therefore, refers to test consistency.</a:t>
            </a:r>
            <a:br>
              <a:rPr sz="4400"/>
            </a:br>
            <a:r>
              <a:rPr b="0" i="1" lang="en-US" sz="4400" spc="-1" strike="noStrike">
                <a:solidFill>
                  <a:srgbClr val="0000ff"/>
                </a:solidFill>
                <a:latin typeface="Book Antiqua"/>
              </a:rPr>
              <a:t>  </a:t>
            </a: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EA37-1407-4CB4-8552-B8812414DF7D}"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08"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09" name="Text Box 4"/>
          <p:cNvSpPr/>
          <p:nvPr/>
        </p:nvSpPr>
        <p:spPr>
          <a:xfrm>
            <a:off x="838080" y="141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It is very common in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the degree to which multiple measures of the same thing agree with one anoth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26920" y="907920"/>
            <a:ext cx="7772400" cy="4454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Book Antiqua"/>
              </a:rPr>
              <a:t>Cronbach’s alpha</a:t>
            </a:r>
            <a:r>
              <a:rPr b="0" i="1" lang="en-US" sz="3200" spc="-1" strike="noStrike">
                <a:solidFill>
                  <a:srgbClr val="0000ff"/>
                </a:solidFill>
                <a:latin typeface="Book Antiqua"/>
              </a:rPr>
              <a:t>—This is a single correlation coefficient that is an estimate of the average of all the correlation coefficients of the items within a test. If alpha is high (close to 1), then this suggests that all of the items are reliable and the entire test is internally consistent. If alpha is low, then at least one of the items is unreliable, and must be identified via item analysis procedure.</a:t>
            </a:r>
            <a:br>
              <a:rPr sz="3200"/>
            </a:br>
            <a:r>
              <a:rPr b="0" i="1" lang="en-US" sz="4400" spc="-1" strike="noStrike">
                <a:solidFill>
                  <a:srgbClr val="0000ff"/>
                </a:solidFill>
                <a:latin typeface="Book Antiqua"/>
              </a:rPr>
              <a:t>  </a:t>
            </a:r>
            <a:r>
              <a:rPr b="0" lang="en-US" sz="4400" spc="-1" strike="noStrike">
                <a:solidFill>
                  <a:srgbClr val="0000ff"/>
                </a:solidFill>
                <a:latin typeface="Book Antiqua"/>
              </a:rPr>
              <a:t> </a:t>
            </a:r>
            <a:br>
              <a:rPr sz="4400"/>
            </a:b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FBD5-763F-4B16-A126-885950BC5494}"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12"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13" name="Rectangle 1"/>
          <p:cNvSpPr/>
          <p:nvPr/>
        </p:nvSpPr>
        <p:spPr>
          <a:xfrm>
            <a:off x="1042920" y="1268280"/>
            <a:ext cx="7274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 </a:t>
            </a:r>
            <a:r>
              <a:rPr b="1" lang="en-US" sz="2400" spc="-1" strike="noStrike">
                <a:solidFill>
                  <a:srgbClr val="000000"/>
                </a:solidFill>
                <a:latin typeface="Times New Roman"/>
              </a:rPr>
              <a:t>Does my questionnaire measure customer satisfaction in a useful way? Using reliability analysis, you can determine the extent to which the items in your questionnaire are related to each other, you can get an overall index of the repeatability or internal consistency of the scale as a whole, and you can identify problem items that should be excluded from the sca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is alpha and why should we care?</a:t>
            </a:r>
            <a:endParaRPr b="0" lang="en-US" sz="26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ronbach’s alpha is the most commonly used measure of reliability (i.e., internal consistency).</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was originally derived by Kuder &amp; Richardson (1937) for dichotomously scored data (0 or 1) and later generalized by Cronbach (1951) to account for any scoring method.</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high value of alpha is good, but it is important to have a deeper knowledge to use it properly.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Other types of reliability</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st/Re-Test</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The same test is taken twice.</a:t>
            </a:r>
            <a:endParaRPr b="0" lang="en-US" sz="23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quivalent Forms</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ifferent tests covering the same topics</a:t>
            </a:r>
            <a:endParaRPr b="0" lang="en-US" sz="23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Can be accomplished by splitting a test into halves</a:t>
            </a:r>
            <a:endParaRPr b="0" lang="en-US" sz="23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9000"/>
          </a:bodyPr>
          <a:p>
            <a:pPr marL="339480" indent="-3394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ronbach’s basic equation for alpha</a:t>
            </a: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number of questions</a:t>
            </a:r>
            <a:endParaRPr b="0" lang="en-US" sz="28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i</a:t>
            </a:r>
            <a:r>
              <a:rPr b="0" lang="en-US" sz="2800" spc="-1" strike="noStrike">
                <a:solidFill>
                  <a:srgbClr val="000000"/>
                </a:solidFill>
                <a:latin typeface="Book Antiqua"/>
              </a:rPr>
              <a:t> = variance of scores on each question</a:t>
            </a:r>
            <a:endParaRPr b="0" lang="en-US" sz="28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test</a:t>
            </a:r>
            <a:r>
              <a:rPr b="0" lang="en-US" sz="2800" spc="-1" strike="noStrike">
                <a:solidFill>
                  <a:srgbClr val="000000"/>
                </a:solidFill>
                <a:latin typeface="Book Antiqua"/>
              </a:rPr>
              <a:t> = total variance of overall scores on the entire test</a:t>
            </a:r>
            <a:endParaRPr b="0" lang="en-US" sz="2800" spc="-1" strike="noStrike">
              <a:solidFill>
                <a:srgbClr val="000000"/>
              </a:solidFill>
              <a:latin typeface="Book Antiqua"/>
            </a:endParaRPr>
          </a:p>
        </p:txBody>
      </p:sp>
      <mc:AlternateContent>
        <mc:Choice xmlns:a14="http://schemas.microsoft.com/office/drawing/2010/main" Requires="a14">
          <p:sp>
            <p:nvSpPr>
              <p:cNvPr id="517" name="Object 4"/>
              <p:cNvSpPr txBox="1"/>
              <p:nvPr/>
            </p:nvSpPr>
            <p:spPr>
              <a:xfrm>
                <a:off x="2416320" y="2209680"/>
                <a:ext cx="341604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V</m:t>
                            </m:r>
                            <m:r>
                              <m:t xml:space="preserve">i</m:t>
                            </m:r>
                          </m:num>
                          <m:den>
                            <m:r>
                              <m:t xml:space="preserve">V</m:t>
                            </m:r>
                            <m:r>
                              <m:rPr>
                                <m:lit/>
                                <m:nor/>
                              </m:rPr>
                              <m:t xml:space="preserve">test</m:t>
                            </m:r>
                          </m:den>
                        </m:f>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6000"/>
          </a:bodyPr>
          <a:p>
            <a:pPr marL="329040" indent="-32904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alpha works</a:t>
            </a:r>
            <a:endParaRPr b="0" lang="en-US" sz="3000" spc="-1" strike="noStrike">
              <a:solidFill>
                <a:srgbClr val="000000"/>
              </a:solidFill>
              <a:latin typeface="Book Antiqua"/>
            </a:endParaRPr>
          </a:p>
          <a:p>
            <a:pPr lvl="1" marL="713160" indent="-27432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test</a:t>
            </a:r>
            <a:r>
              <a:rPr b="0" lang="en-US" sz="2800" spc="-1" strike="noStrike">
                <a:solidFill>
                  <a:srgbClr val="000000"/>
                </a:solidFill>
                <a:latin typeface="Book Antiqua"/>
              </a:rPr>
              <a:t> is the most important part of alpha</a:t>
            </a:r>
            <a:endParaRPr b="0" lang="en-US" sz="2800" spc="-1" strike="noStrike">
              <a:solidFill>
                <a:srgbClr val="000000"/>
              </a:solidFill>
              <a:latin typeface="Book Antiqu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27432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V</a:t>
            </a:r>
            <a:r>
              <a:rPr b="0" lang="en-US" sz="2800" spc="-1" strike="noStrike" baseline="-25000">
                <a:solidFill>
                  <a:srgbClr val="000000"/>
                </a:solidFill>
                <a:latin typeface="Book Antiqua"/>
              </a:rPr>
              <a:t>test</a:t>
            </a:r>
            <a:r>
              <a:rPr b="0" lang="en-US" sz="2800" spc="-1" strike="noStrike">
                <a:solidFill>
                  <a:srgbClr val="000000"/>
                </a:solidFill>
                <a:latin typeface="Book Antiqua"/>
              </a:rPr>
              <a:t> is large, it can be seen that alpha will be large also:</a:t>
            </a:r>
            <a:endParaRPr b="0" lang="en-US" sz="2800" spc="-1" strike="noStrike">
              <a:solidFill>
                <a:srgbClr val="000000"/>
              </a:solidFill>
              <a:latin typeface="Book Antiqua"/>
            </a:endParaRPr>
          </a:p>
          <a:p>
            <a:pPr lvl="2" marL="1097280" indent="-21924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Large V</a:t>
            </a:r>
            <a:r>
              <a:rPr b="0" lang="en-US" sz="2300" spc="-1" strike="noStrike" baseline="-25000">
                <a:solidFill>
                  <a:srgbClr val="000000"/>
                </a:solidFill>
                <a:latin typeface="Book Antiqua"/>
              </a:rPr>
              <a:t>test</a:t>
            </a:r>
            <a:r>
              <a:rPr b="0" lang="en-US" sz="2300" spc="-1" strike="noStrike">
                <a:solidFill>
                  <a:srgbClr val="000000"/>
                </a:solidFill>
                <a:latin typeface="Book Antiqua"/>
              </a:rPr>
              <a:t> </a:t>
            </a:r>
            <a:r>
              <a:rPr b="0" lang="en-US" sz="2300" spc="-1" strike="noStrike">
                <a:solidFill>
                  <a:srgbClr val="000000"/>
                </a:solidFill>
                <a:latin typeface="Wingdings"/>
                <a:ea typeface="Wingdings"/>
              </a:rPr>
              <a:t></a:t>
            </a:r>
            <a:r>
              <a:rPr b="0" lang="en-US" sz="2300" spc="-1" strike="noStrike">
                <a:solidFill>
                  <a:srgbClr val="000000"/>
                </a:solidFill>
                <a:latin typeface="Book Antiqua"/>
              </a:rPr>
              <a:t> Small Ratio </a:t>
            </a:r>
            <a:r>
              <a:rPr b="0" lang="en-US" sz="2300" spc="-1" strike="noStrike">
                <a:solidFill>
                  <a:srgbClr val="000000"/>
                </a:solidFill>
                <a:latin typeface="Book Antiqua"/>
                <a:ea typeface="Times New Roman"/>
              </a:rPr>
              <a:t>ΣV</a:t>
            </a:r>
            <a:r>
              <a:rPr b="0" lang="en-US" sz="2300" spc="-1" strike="noStrike" baseline="-25000">
                <a:solidFill>
                  <a:srgbClr val="000000"/>
                </a:solidFill>
                <a:latin typeface="Book Antiqua"/>
                <a:ea typeface="Times New Roman"/>
              </a:rPr>
              <a:t>i</a:t>
            </a:r>
            <a:r>
              <a:rPr b="0" lang="en-US" sz="2300" spc="-1" strike="noStrike">
                <a:solidFill>
                  <a:srgbClr val="000000"/>
                </a:solidFill>
                <a:latin typeface="Book Antiqua"/>
                <a:ea typeface="Times New Roman"/>
              </a:rPr>
              <a:t>/V</a:t>
            </a:r>
            <a:r>
              <a:rPr b="0" lang="en-US" sz="2300" spc="-1" strike="noStrike" baseline="-25000">
                <a:solidFill>
                  <a:srgbClr val="000000"/>
                </a:solidFill>
                <a:latin typeface="Book Antiqua"/>
              </a:rPr>
              <a:t>test</a:t>
            </a:r>
            <a:r>
              <a:rPr b="0" lang="en-US" sz="2300" spc="-1" strike="noStrike">
                <a:solidFill>
                  <a:srgbClr val="000000"/>
                </a:solidFill>
                <a:latin typeface="Book Antiqua"/>
                <a:ea typeface="Times New Roman"/>
              </a:rPr>
              <a:t>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Subtract this small ratio from 1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high alpha</a:t>
            </a:r>
            <a:endParaRPr b="0" lang="en-US" sz="2300" spc="-1" strike="noStrike">
              <a:solidFill>
                <a:srgbClr val="000000"/>
              </a:solidFill>
              <a:latin typeface="Book Antiqu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mc:AlternateContent>
        <mc:Choice xmlns:a14="http://schemas.microsoft.com/office/drawing/2010/main" Requires="a14">
          <p:sp>
            <p:nvSpPr>
              <p:cNvPr id="519" name="Object 1"/>
              <p:cNvSpPr txBox="1"/>
              <p:nvPr/>
            </p:nvSpPr>
            <p:spPr>
              <a:xfrm>
                <a:off x="2700360" y="2492280"/>
                <a:ext cx="341640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V</m:t>
                            </m:r>
                            <m:r>
                              <m:t xml:space="preserve">i</m:t>
                            </m:r>
                          </m:num>
                          <m:den>
                            <m:r>
                              <m:t xml:space="preserve">V</m:t>
                            </m:r>
                            <m:r>
                              <m:rPr>
                                <m:lit/>
                                <m:nor/>
                              </m:rPr>
                              <m:t xml:space="preserve">test</m:t>
                            </m:r>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0:19:57Z</dcterms:created>
  <dc:creator>Industrial Engineering</dc:creator>
  <dc:description/>
  <dc:language>en-US</dc:language>
  <cp:lastModifiedBy>User</cp:lastModifiedBy>
  <cp:lastPrinted>2015-11-05T06:39:06Z</cp:lastPrinted>
  <dcterms:modified xsi:type="dcterms:W3CDTF">2017-01-02T09:12:20Z</dcterms:modified>
  <cp:revision>52</cp:revision>
  <dc:subject/>
  <dc:title>PowerPoint Presentation</dc:title>
</cp:coreProperties>
</file>