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43D4-3778-447E-B8EC-34037BB04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066A-53A9-433E-8283-28082BA49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ECE2-309A-43C7-ABE7-7CEAC1486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8937-FF58-414D-8706-5D2EE06AB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DA97-5692-438C-A64F-5A7613B43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624D-ED1D-468D-ABB1-79D8BB43D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7B74-8440-4A9D-A81B-97889B6FA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6739-7D80-4787-B70D-9D3D00B9F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8316-E55B-4CED-B0B2-B56F2A957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0AAC-EC22-46FE-9E5B-87178361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9C98-D7FC-4321-891E-75211849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D086-B0C7-48EE-85E7-F8024B65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906D4-496B-467A-A6FF-CCF097A4422B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8D83F-397E-442C-B811-85BB983291F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84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ff"/>
                </a:solidFill>
                <a:latin typeface="Baskerville Old Face"/>
              </a:rPr>
              <a:t>DNA </a:t>
            </a:r>
            <a:r>
              <a:rPr b="1" lang="en-US" sz="4800" spc="-1" strike="noStrike">
                <a:solidFill>
                  <a:srgbClr val="0000ff"/>
                </a:solidFill>
                <a:latin typeface="Baskerville Old Face"/>
              </a:rPr>
              <a:t>R</a:t>
            </a:r>
            <a:r>
              <a:rPr b="1" lang="ar-SA" sz="4800" spc="-1" strike="noStrike">
                <a:solidFill>
                  <a:srgbClr val="0000ff"/>
                </a:solidFill>
                <a:latin typeface="Baskerville Old Face"/>
              </a:rPr>
              <a:t>eplication</a:t>
            </a:r>
            <a:r>
              <a:rPr b="1" lang="en-US" sz="4800" spc="-1" strike="noStrike">
                <a:solidFill>
                  <a:srgbClr val="0000ff"/>
                </a:solidFill>
                <a:latin typeface="Baskerville Old Face"/>
              </a:rPr>
              <a:t>-II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A677B-1907-441F-B5E8-C1190136985D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10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0F153-A6C2-4226-B81A-C14BAD39E58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035" descr=""/>
          <p:cNvPicPr/>
          <p:nvPr/>
        </p:nvPicPr>
        <p:blipFill>
          <a:blip r:embed="rId1"/>
          <a:stretch/>
        </p:blipFill>
        <p:spPr>
          <a:xfrm>
            <a:off x="5580000" y="3429000"/>
            <a:ext cx="3060720" cy="2523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68360" y="119664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Perpetua"/>
              </a:rPr>
              <a:t>Pol I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and </a:t>
            </a:r>
            <a:r>
              <a:rPr b="0" lang="en-US" sz="2400" spc="-1" strike="noStrike">
                <a:solidFill>
                  <a:srgbClr val="00b050"/>
                </a:solidFill>
                <a:latin typeface="Perpetua"/>
              </a:rPr>
              <a:t>Ligase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RNA primers must be removed at the end of each Okazaki fragment and replaced with DNA. This is achieved through the nick translation activity of Pol 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nick in the phosphodiester backbone is then sealed by </a:t>
            </a:r>
            <a:r>
              <a:rPr b="0" lang="en-US" sz="2400" spc="-1" strike="noStrike">
                <a:solidFill>
                  <a:srgbClr val="00b050"/>
                </a:solidFill>
                <a:latin typeface="Perpetua"/>
              </a:rPr>
              <a:t>DNA ligase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in a reaction that requires ATP (or NA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Perpetu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in </a:t>
            </a:r>
            <a:r>
              <a:rPr b="0" i="1" lang="en-US" sz="2400" spc="-1" strike="noStrike">
                <a:solidFill>
                  <a:srgbClr val="000000"/>
                </a:solidFill>
                <a:latin typeface="Perpetua"/>
              </a:rPr>
              <a:t>E. coli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Ligase acts only on a 5′ terminus of DNA, not on RN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is specificity ensures that all the RNA at the end of an Okazaki fragment is removed before the nick is seal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317A9-7712-43B9-BA4A-D8DF71A4F6C1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E49EF-9F2B-44D2-B8A8-3806027BBEE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00000"/>
                </a:solidFill>
                <a:latin typeface="Andalus"/>
                <a:ea typeface="Andalus"/>
              </a:rPr>
              <a:t>Continue</a:t>
            </a:r>
            <a:r>
              <a:rPr b="0" i="1" lang="en-US" sz="3600" spc="-1" strike="noStrike">
                <a:solidFill>
                  <a:srgbClr val="c00000"/>
                </a:solidFill>
                <a:latin typeface="Andalus"/>
                <a:ea typeface="Andalus"/>
              </a:rPr>
              <a:t>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755640" y="4508640"/>
            <a:ext cx="7781760" cy="1514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95280" y="1052640"/>
            <a:ext cx="8229600" cy="190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4760" indent="-37476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b050"/>
                </a:solidFill>
                <a:latin typeface="Perpetua"/>
                <a:ea typeface="SimSun"/>
              </a:rPr>
              <a:t>SSB protein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SimSun"/>
              </a:rPr>
              <a:t>maintains the DNA template in the single strand form in order to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95320" indent="-330120" algn="just">
              <a:lnSpc>
                <a:spcPct val="100000"/>
              </a:lnSpc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SimSun"/>
              </a:rPr>
              <a:t>Prevent the dsDNA form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95320" indent="-330120" algn="just">
              <a:lnSpc>
                <a:spcPct val="100000"/>
              </a:lnSpc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SimSun"/>
              </a:rPr>
              <a:t>Protect the vulnerable ssDNA from nuclease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74760" indent="-3747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35455-8DE8-4A7A-823A-D138689B9BE5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A562C-3202-43DB-B5AE-85B2F7CEAB0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00000"/>
                </a:solidFill>
                <a:latin typeface="Andalus"/>
                <a:ea typeface="Andalus"/>
              </a:rPr>
              <a:t>Continue</a:t>
            </a:r>
            <a:r>
              <a:rPr b="0" i="1" lang="en-US" sz="3600" spc="-1" strike="noStrike">
                <a:solidFill>
                  <a:srgbClr val="c00000"/>
                </a:solidFill>
                <a:latin typeface="Andalus"/>
                <a:ea typeface="Andalus"/>
              </a:rPr>
              <a:t>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1332000" y="2725560"/>
            <a:ext cx="6919920" cy="3727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F2A7B-06E6-444C-942D-38800FDDA1A7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275AD-A2C4-498F-A4A9-216CE01A6F1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574040" cy="5411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ndalus"/>
                <a:ea typeface="Andalus"/>
              </a:rPr>
              <a:t>major elements</a:t>
            </a:r>
            <a:r>
              <a:rPr b="1" lang="en-US" sz="2800" spc="-1" strike="noStrike">
                <a:solidFill>
                  <a:srgbClr val="0000ff"/>
                </a:solidFill>
                <a:latin typeface="Andalus"/>
                <a:ea typeface="Andalus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50560" y="1125000"/>
            <a:ext cx="8569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365760" indent="-365760" algn="just">
              <a:lnSpc>
                <a:spcPct val="150000"/>
              </a:lnSpc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egments of single-stranded DNA are called template strand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760" indent="-365760" algn="just">
              <a:lnSpc>
                <a:spcPct val="150000"/>
              </a:lnSpc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Perpetua"/>
              </a:rPr>
              <a:t>Gyrase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(a type of </a:t>
            </a:r>
            <a:r>
              <a:rPr b="0" lang="en-US" sz="2000" spc="-1" strike="noStrike">
                <a:solidFill>
                  <a:srgbClr val="0000ff"/>
                </a:solidFill>
                <a:latin typeface="Perpetua"/>
              </a:rPr>
              <a:t>topoisomerase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) relaxes the supercoiled DN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760" indent="-365760" algn="just">
              <a:lnSpc>
                <a:spcPct val="150000"/>
              </a:lnSpc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Perpetua"/>
              </a:rPr>
              <a:t>Initiator proteins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nd </a:t>
            </a:r>
            <a:r>
              <a:rPr b="0" lang="en-US" sz="2000" spc="-1" strike="noStrike">
                <a:solidFill>
                  <a:srgbClr val="0000ff"/>
                </a:solidFill>
                <a:latin typeface="Perpetua"/>
              </a:rPr>
              <a:t>DNA helicase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binds to the DNA at the replication fork and untwist the DNA using energy derived from AT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760" indent="-365760" algn="just">
              <a:lnSpc>
                <a:spcPct val="150000"/>
              </a:lnSpc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Perpetua"/>
              </a:rPr>
              <a:t>DNA primase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binds to </a:t>
            </a:r>
            <a:r>
              <a:rPr b="0" lang="en-US" sz="2000" spc="-1" strike="noStrike">
                <a:solidFill>
                  <a:srgbClr val="0000ff"/>
                </a:solidFill>
                <a:latin typeface="Perpetua"/>
              </a:rPr>
              <a:t>helicase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producing a complex called a </a:t>
            </a:r>
            <a:r>
              <a:rPr b="0" lang="en-US" sz="2000" spc="-1" strike="noStrike">
                <a:solidFill>
                  <a:srgbClr val="0000ff"/>
                </a:solidFill>
                <a:latin typeface="Perpetua"/>
              </a:rPr>
              <a:t>primoso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760" indent="-365760" algn="just">
              <a:lnSpc>
                <a:spcPct val="150000"/>
              </a:lnSpc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Perpetua"/>
              </a:rPr>
              <a:t>Primase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synthesizes a short RNA primer of 10-12 nucleotide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760" indent="-365760" algn="just">
              <a:lnSpc>
                <a:spcPct val="150000"/>
              </a:lnSpc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Perpetua"/>
              </a:rPr>
              <a:t>Polymerase III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dds nucleotides 5’ to 3’ on both strands beginning at the RNA prim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760" indent="-365760" algn="just">
              <a:lnSpc>
                <a:spcPct val="150000"/>
              </a:lnSpc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he RNA primer is removed and replaced with DNA by </a:t>
            </a:r>
            <a:r>
              <a:rPr b="0" lang="en-US" sz="2000" spc="-1" strike="noStrike">
                <a:solidFill>
                  <a:srgbClr val="0000ff"/>
                </a:solidFill>
                <a:latin typeface="Perpetua"/>
              </a:rPr>
              <a:t>polymerase I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, and the gap is sealed with </a:t>
            </a:r>
            <a:r>
              <a:rPr b="0" lang="en-US" sz="2000" spc="-1" strike="noStrike">
                <a:solidFill>
                  <a:srgbClr val="0000ff"/>
                </a:solidFill>
                <a:latin typeface="Perpetua"/>
              </a:rPr>
              <a:t>DNA ligase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760" indent="-365760" algn="just">
              <a:lnSpc>
                <a:spcPct val="150000"/>
              </a:lnSpc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Perpetua"/>
              </a:rPr>
              <a:t>Single-stranded DNA-binding (SSB)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proteins (&gt;200) stabilize the single-stranded template DNA during the process. 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760" indent="-36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130EA-EA34-4250-BE8C-C73D9E12C84D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73F34-0A05-459F-885E-313BC5A5C65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assembly of bacterial replication forks at the origin occurs in steps, starting with the binding of DnaA initiator protein, which melts an A═T-rich regio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 DnaB helicase is then loaded onto each of the single strands of DNA by the DnaC helicase loade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s DNA is unwound by DnaB, DnaG primase synthesizes RNA primers; this is followed by entry of two Pol III holoenzymes to form a bidirectional repl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Date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BA93B-DA35-4CB1-8E5E-D224492E7F51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0994E-72FB-4058-9661-3BA5D34E3B3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89233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http://us.cdn3.123rf.com/168nwm/hatza/hatza1204/hatza120400210/13165333-summary-word-written-on-chalk-coard.jpg"/>
          <p:cNvPicPr/>
          <p:nvPr/>
        </p:nvPicPr>
        <p:blipFill>
          <a:blip r:embed="rId1"/>
          <a:stretch/>
        </p:blipFill>
        <p:spPr>
          <a:xfrm>
            <a:off x="324000" y="115920"/>
            <a:ext cx="152712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Andalus"/>
                <a:ea typeface="Andalus"/>
              </a:rPr>
              <a:t>Termination of DNA Replic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94920" y="1268280"/>
            <a:ext cx="82090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In </a:t>
            </a:r>
            <a:r>
              <a:rPr b="0" i="1" lang="en-US" sz="2200" spc="-1" strike="noStrike">
                <a:solidFill>
                  <a:srgbClr val="000000"/>
                </a:solidFill>
                <a:latin typeface="Perpetua"/>
              </a:rPr>
              <a:t>E. coli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, a region located halfway around the chromosome from </a:t>
            </a:r>
            <a:r>
              <a:rPr b="0" i="1" lang="en-US" sz="2200" spc="-1" strike="noStrike">
                <a:solidFill>
                  <a:srgbClr val="000000"/>
                </a:solidFill>
                <a:latin typeface="Perpetua"/>
              </a:rPr>
              <a:t>oriC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contains two clusters of 23 bp sequences called </a:t>
            </a:r>
            <a:r>
              <a:rPr b="1" lang="en-US" sz="2200" spc="-1" strike="noStrike">
                <a:solidFill>
                  <a:srgbClr val="00b050"/>
                </a:solidFill>
                <a:latin typeface="Perpetua"/>
              </a:rPr>
              <a:t>Ter site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50"/>
                </a:solidFill>
                <a:latin typeface="Perpetu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e arrangement and orientation of Ter sites is such that bidirectional replication forks from </a:t>
            </a:r>
            <a:r>
              <a:rPr b="0" i="1" lang="en-US" sz="2200" spc="-1" strike="noStrike">
                <a:solidFill>
                  <a:srgbClr val="000000"/>
                </a:solidFill>
                <a:latin typeface="Perpetua"/>
              </a:rPr>
              <a:t>oriC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can pass through the first set of Ter sites that they encounter, but are blocked by the second se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BF8B3-7C87-45CF-B547-74CD2599B036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859D7-8146-4E46-8998-2847954F0AF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1403280" y="3284640"/>
            <a:ext cx="6553440" cy="3147840"/>
          </a:xfrm>
          <a:prstGeom prst="rect">
            <a:avLst/>
          </a:prstGeom>
          <a:ln w="9360">
            <a:solidFill>
              <a:srgbClr val="595959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ndalus"/>
                <a:ea typeface="Andalus"/>
              </a:rPr>
              <a:t>The End Replication Problem in Eukaryo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94920" y="90792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t the end of a chromosome, after the leading strand has been completely extended to the last nucleotide, the lagging strand has a single-strand DNA gap that must be primed and filled i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he problem arises when the RNA primer at the extreme end is removed for replacement with DNA 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here is no 3′ terminus for DNA polymerase to extend from, so this single-strand gap cannot be converted to duplex DN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he genetic in formation in the gap will be lost in the next round of replic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1118E-2055-41FB-8E54-EFA8C5EF3D16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94C61-ABE3-4B0A-A0CB-EB31A9FB940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2484360" y="3645000"/>
            <a:ext cx="5002200" cy="313200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عنصر نائب للتاريخ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55476-6132-40E2-82EE-5BE5B48A19F1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عنصر نائب لرقم الشريحة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7264B-0405-4EEB-80BE-34457D44F4C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324000" y="1341360"/>
            <a:ext cx="8388360" cy="57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SimSun"/>
              </a:rPr>
              <a:t>The eukaryotic cells use </a:t>
            </a:r>
            <a:r>
              <a:rPr b="0" lang="en-US" sz="2400" spc="-1" strike="noStrike">
                <a:solidFill>
                  <a:srgbClr val="00b050"/>
                </a:solidFill>
                <a:latin typeface="Perpetua"/>
                <a:ea typeface="SimSun"/>
              </a:rPr>
              <a:t>telomerase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SimSun"/>
              </a:rPr>
              <a:t>to maintain the integrity of DNA telome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SimSun"/>
              </a:rPr>
              <a:t>The telomerase is composed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SimSu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SimSun"/>
              </a:rPr>
              <a:t>Telomerase </a:t>
            </a:r>
            <a:r>
              <a:rPr b="0" lang="en-US" sz="2400" spc="-1" strike="noStrike">
                <a:solidFill>
                  <a:srgbClr val="00b0f0"/>
                </a:solidFill>
                <a:latin typeface="Perpetua"/>
                <a:ea typeface="SimSun"/>
              </a:rPr>
              <a:t>RNA</a:t>
            </a:r>
            <a:r>
              <a:rPr b="0" lang="en-US" sz="2400" spc="-1" strike="noStrike">
                <a:solidFill>
                  <a:srgbClr val="ff0000"/>
                </a:solidFill>
                <a:latin typeface="Perpetua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SimSu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SimSun"/>
              </a:rPr>
              <a:t>Telomerase association </a:t>
            </a:r>
            <a:r>
              <a:rPr b="0" lang="en-US" sz="2400" spc="-1" strike="noStrike">
                <a:solidFill>
                  <a:srgbClr val="00b0f0"/>
                </a:solidFill>
                <a:latin typeface="Perpetua"/>
                <a:ea typeface="SimSun"/>
              </a:rPr>
              <a:t>protein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SimSu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SimSun"/>
              </a:rPr>
              <a:t>Telomerase </a:t>
            </a:r>
            <a:r>
              <a:rPr b="0" lang="en-US" sz="2400" spc="-1" strike="noStrike">
                <a:solidFill>
                  <a:srgbClr val="00b0f0"/>
                </a:solidFill>
                <a:latin typeface="Perpetua"/>
                <a:ea typeface="SimSun"/>
              </a:rPr>
              <a:t>reverse transcriptase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erpetua"/>
                <a:ea typeface="SimSun"/>
              </a:rPr>
              <a:t>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SimSun"/>
              </a:rPr>
              <a:t>It is able to synthesize DNA using RNA as the templa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SimSun"/>
              </a:rPr>
              <a:t>Telomerase may play important roles is cancer cell biology and in cell ag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SimSu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395280" y="3141720"/>
            <a:ext cx="304920" cy="1219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522"/>
                </a:lnTo>
                <a:cubicBezTo>
                  <a:pt x="10800" y="9422"/>
                  <a:pt x="5400" y="10322"/>
                  <a:pt x="0" y="10322"/>
                </a:cubicBezTo>
                <a:cubicBezTo>
                  <a:pt x="5400" y="10322"/>
                  <a:pt x="10800" y="11222"/>
                  <a:pt x="10800" y="1212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telomerase illustation"/>
          <p:cNvPicPr/>
          <p:nvPr/>
        </p:nvPicPr>
        <p:blipFill>
          <a:blip r:embed="rId1"/>
          <a:stretch/>
        </p:blipFill>
        <p:spPr>
          <a:xfrm>
            <a:off x="4973760" y="1989000"/>
            <a:ext cx="3925800" cy="2519640"/>
          </a:xfrm>
          <a:prstGeom prst="rect">
            <a:avLst/>
          </a:prstGeom>
          <a:ln w="0">
            <a:noFill/>
          </a:ln>
        </p:spPr>
      </p:pic>
      <p:sp>
        <p:nvSpPr>
          <p:cNvPr id="118" name="Title 1"/>
          <p:cNvSpPr/>
          <p:nvPr/>
        </p:nvSpPr>
        <p:spPr>
          <a:xfrm>
            <a:off x="61128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c00000"/>
                </a:solidFill>
                <a:latin typeface="Andalus"/>
                <a:ea typeface="Andalus"/>
              </a:rPr>
              <a:t>  </a:t>
            </a:r>
            <a:r>
              <a:rPr b="0" lang="en-US" sz="3200" spc="-1" strike="noStrike">
                <a:solidFill>
                  <a:srgbClr val="0000ff"/>
                </a:solidFill>
                <a:latin typeface="Andalus"/>
                <a:ea typeface="Andalus"/>
              </a:rPr>
              <a:t>The problem is solved by telomer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00000"/>
                </a:solidFill>
                <a:latin typeface="Andalus"/>
                <a:ea typeface="隶书"/>
              </a:rPr>
              <a:t>C</a:t>
            </a:r>
            <a:r>
              <a:rPr b="0" i="1" lang="ar-SA" sz="3200" spc="-1" strike="noStrike">
                <a:solidFill>
                  <a:srgbClr val="c00000"/>
                </a:solidFill>
                <a:latin typeface="Andalus"/>
                <a:ea typeface="Andalus"/>
              </a:rPr>
              <a:t>ontin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78920" y="981000"/>
            <a:ext cx="482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just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elomerase carries its own template strand in the form of a tightly bound noncoding RN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elomeres at the ends of eukaryotic chromosomes are composed of a repeating unit of a 6-mer DNA sequence (repeating 5′-TTGGGG-3′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elomerase extends the 3′ single-stranded DNA end with dNTPs, using its internal RNA molecule as templat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he extended 3′ single strand of DNA is filled in by RNA priming and DNA synthesis. Removal of the RNA primer for this fill-in reaction still leaves a 3′ single-stranded DNA overhang; this end is sequestered by telomere DNA–binding protein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EF24D-B9D3-4789-8B68-99C4B191DBCA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CC8BE-17E2-4875-A82D-527D97AAE53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5219640" y="907920"/>
            <a:ext cx="3579840" cy="561672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3"/>
          <p:cNvSpPr/>
          <p:nvPr/>
        </p:nvSpPr>
        <p:spPr>
          <a:xfrm>
            <a:off x="250920" y="1197000"/>
            <a:ext cx="8686800" cy="31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Times New Roman"/>
              </a:rPr>
              <a:t>The origin of replication in </a:t>
            </a:r>
            <a:r>
              <a:rPr b="0" i="1" lang="en-US" sz="2400" spc="-1" strike="noStrike">
                <a:solidFill>
                  <a:srgbClr val="000000"/>
                </a:solidFill>
                <a:latin typeface="Perpetua"/>
                <a:ea typeface="Times New Roman"/>
              </a:rPr>
              <a:t>E. coli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Times New Roman"/>
              </a:rPr>
              <a:t> is termed </a:t>
            </a:r>
            <a:r>
              <a:rPr b="1" i="1" lang="en-US" sz="2400" spc="-1" strike="noStrike">
                <a:solidFill>
                  <a:srgbClr val="00b050"/>
                </a:solidFill>
                <a:latin typeface="Perpetua"/>
                <a:ea typeface="Times New Roman"/>
              </a:rPr>
              <a:t>o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70c0"/>
                </a:solidFill>
                <a:uFillTx/>
                <a:latin typeface="Perpetua"/>
                <a:ea typeface="Times New Roman"/>
              </a:rPr>
              <a:t>ori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Times New Roman"/>
              </a:rPr>
              <a:t>gin of </a:t>
            </a:r>
            <a:r>
              <a:rPr b="1" lang="en-US" sz="2400" spc="-1" strike="noStrike" u="sng">
                <a:solidFill>
                  <a:srgbClr val="0070c0"/>
                </a:solidFill>
                <a:uFillTx/>
                <a:latin typeface="Perpetua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Times New Roman"/>
              </a:rPr>
              <a:t>hromosomal re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Times New Roman"/>
              </a:rPr>
              <a:t>Important DNA sequences in </a:t>
            </a:r>
            <a:r>
              <a:rPr b="0" i="1" lang="en-US" sz="2400" spc="-1" strike="noStrike">
                <a:solidFill>
                  <a:srgbClr val="000000"/>
                </a:solidFill>
                <a:latin typeface="Perpetua"/>
                <a:ea typeface="Times New Roman"/>
              </a:rPr>
              <a:t>oriC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70c0"/>
                </a:solidFill>
                <a:latin typeface="Perpetua"/>
                <a:ea typeface="Times New Roman"/>
              </a:rPr>
              <a:t>AT-rich reg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70c0"/>
                </a:solidFill>
                <a:latin typeface="Perpetua"/>
                <a:ea typeface="Times New Roman"/>
              </a:rPr>
              <a:t>DnaA box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240" y="189000"/>
            <a:ext cx="891540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ndalus"/>
                <a:ea typeface="Andalus"/>
              </a:rPr>
              <a:t>Initiation of Replic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2916360" y="2565360"/>
            <a:ext cx="5867280" cy="3962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6518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ndalus"/>
                <a:ea typeface="Andalus"/>
              </a:rPr>
              <a:t>DNA Polymerase III Is the Replicative Polymerase in E. col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24000" y="1052640"/>
            <a:ext cx="475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 algn="just">
              <a:lnSpc>
                <a:spcPct val="100000"/>
              </a:lnSpc>
              <a:spcBef>
                <a:spcPts val="499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Pol III is responsible for replicating the </a:t>
            </a:r>
            <a:r>
              <a:rPr b="0" i="1" lang="en-US" sz="2000" spc="-1" strike="noStrike">
                <a:solidFill>
                  <a:srgbClr val="000000"/>
                </a:solidFill>
                <a:latin typeface="Perpetua"/>
              </a:rPr>
              <a:t>E. coli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chromosom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 algn="just">
              <a:lnSpc>
                <a:spcPct val="100000"/>
              </a:lnSpc>
              <a:spcBef>
                <a:spcPts val="499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</a:rPr>
              <a:t>Pol III core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is a heterotrimer that contains one each of α, ε, and θ subuni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 algn="just">
              <a:lnSpc>
                <a:spcPct val="100000"/>
              </a:lnSpc>
              <a:spcBef>
                <a:spcPts val="499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he </a:t>
            </a:r>
            <a:r>
              <a:rPr b="0" lang="en-US" sz="2000" spc="-1" strike="noStrike">
                <a:solidFill>
                  <a:srgbClr val="c00000"/>
                </a:solidFill>
                <a:latin typeface="Perpetua"/>
              </a:rPr>
              <a:t>DNA polymerase activity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is contained in the </a:t>
            </a:r>
            <a:r>
              <a:rPr b="0" lang="en-US" sz="2000" spc="-1" strike="noStrike">
                <a:solidFill>
                  <a:srgbClr val="c00000"/>
                </a:solidFill>
                <a:latin typeface="Perpetua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subunit; the </a:t>
            </a:r>
            <a:r>
              <a:rPr b="0" lang="en-US" sz="2000" spc="-1" strike="noStrike">
                <a:solidFill>
                  <a:srgbClr val="00b050"/>
                </a:solidFill>
                <a:latin typeface="Perpetua"/>
              </a:rPr>
              <a:t>γ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ubunit contains the </a:t>
            </a:r>
            <a:r>
              <a:rPr b="0" lang="en-US" sz="2000" spc="-1" strike="noStrike">
                <a:solidFill>
                  <a:srgbClr val="00b050"/>
                </a:solidFill>
                <a:latin typeface="Perpetua"/>
              </a:rPr>
              <a:t>proofreading 3′→5′ exonucleas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 algn="just">
              <a:lnSpc>
                <a:spcPct val="100000"/>
              </a:lnSpc>
              <a:spcBef>
                <a:spcPts val="499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Perpetu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he Pol III core is just one part of a much larger protein assembly called the </a:t>
            </a:r>
            <a:r>
              <a:rPr b="0" lang="en-US" sz="2000" spc="-1" strike="noStrike">
                <a:solidFill>
                  <a:srgbClr val="00b050"/>
                </a:solidFill>
                <a:latin typeface="Perpetua"/>
              </a:rPr>
              <a:t>Pol III holoenzyme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, which replicates both leading and lagging strand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 algn="just">
              <a:lnSpc>
                <a:spcPct val="100000"/>
              </a:lnSpc>
              <a:spcBef>
                <a:spcPts val="499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he Pol III holoenzyme includes two Pol III cores, two ring-shaped </a:t>
            </a:r>
            <a:r>
              <a:rPr b="0" lang="en-US" sz="2000" spc="-1" strike="noStrike">
                <a:solidFill>
                  <a:srgbClr val="c00000"/>
                </a:solidFill>
                <a:latin typeface="Perpetua"/>
              </a:rPr>
              <a:t>β sliding clamps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, and one </a:t>
            </a:r>
            <a:r>
              <a:rPr b="0" lang="en-US" sz="2000" spc="-1" strike="noStrike">
                <a:solidFill>
                  <a:srgbClr val="c00000"/>
                </a:solidFill>
                <a:latin typeface="Perpetua"/>
              </a:rPr>
              <a:t>clamp load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 algn="just">
              <a:lnSpc>
                <a:spcPct val="100000"/>
              </a:lnSpc>
              <a:spcBef>
                <a:spcPts val="499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he clamp loader includes two τ subunits with C-terminal domains that protrude from the clamp loader and bind to the Pol III cor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C7B2C-79E0-4423-925C-9C3507059645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4A282-8E1F-41A7-9A17-64E3B892338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http://www.pearsonhighered.com/mathews/greek/beta.gif"/>
          <p:cNvPicPr/>
          <p:nvPr/>
        </p:nvPicPr>
        <p:blipFill>
          <a:blip r:embed="rId1"/>
          <a:stretch/>
        </p:blipFill>
        <p:spPr>
          <a:xfrm>
            <a:off x="6989760" y="-136440"/>
            <a:ext cx="76320" cy="123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http://www.pearsonhighered.com/mathews/greek/beta.gif"/>
          <p:cNvPicPr/>
          <p:nvPr/>
        </p:nvPicPr>
        <p:blipFill>
          <a:blip r:embed="rId2"/>
          <a:stretch/>
        </p:blipFill>
        <p:spPr>
          <a:xfrm>
            <a:off x="6932520" y="-136440"/>
            <a:ext cx="76320" cy="123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"/>
          <p:cNvPicPr/>
          <p:nvPr/>
        </p:nvPicPr>
        <p:blipFill>
          <a:blip r:embed="rId3"/>
          <a:stretch/>
        </p:blipFill>
        <p:spPr>
          <a:xfrm>
            <a:off x="5219640" y="1844640"/>
            <a:ext cx="3633840" cy="3187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4797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mic Sans MS"/>
              </a:rPr>
              <a:t>The Pol III core itself is capable of DNA synthesis at a slow rate, but DNA synthesis by the Pol III holoenzyme is exceedingly rapid, nearly 1 kb/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33634-81ED-4992-9268-DE09DEF1C843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23EF0-E39A-4376-A7C8-BE48A7DBA29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7286400" cy="3200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ACD7C-6E55-472E-B08E-194E2FFC08CD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33773-F527-4BC5-B9DE-E3418FEC835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116000" y="1484280"/>
            <a:ext cx="6981840" cy="4762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ndalus"/>
                <a:ea typeface="Andalus"/>
              </a:rPr>
              <a:t>Many Different Proteins Advance a Replication F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79280" y="1628280"/>
            <a:ext cx="856944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Perpetua"/>
              </a:rPr>
              <a:t>DNA Helicase: 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two strands of the parental DNA duplex are separated by a class of enzymes known as </a:t>
            </a:r>
            <a:r>
              <a:rPr b="0" lang="en-US" sz="2400" spc="-1" strike="noStrike">
                <a:solidFill>
                  <a:srgbClr val="00b050"/>
                </a:solidFill>
                <a:latin typeface="Perpetua"/>
              </a:rPr>
              <a:t>DNA helicases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, which harness the energy of NTP hydrolysis (usually ATP) to drive strand sepa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911B6-52DF-4FBB-988E-69CD9A1CFE5A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0274B-65C3-4AED-8A6E-2F3233F4971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755640" y="3500280"/>
            <a:ext cx="7639200" cy="1990800"/>
          </a:xfrm>
          <a:prstGeom prst="rect">
            <a:avLst/>
          </a:prstGeom>
          <a:ln w="9360">
            <a:solidFill>
              <a:srgbClr val="595959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00000"/>
                </a:solidFill>
                <a:latin typeface="Andalus"/>
                <a:ea typeface="Andalus"/>
              </a:rPr>
              <a:t>Continue</a:t>
            </a:r>
            <a:r>
              <a:rPr b="0" i="1" lang="en-US" sz="3600" spc="-1" strike="noStrike">
                <a:solidFill>
                  <a:srgbClr val="c00000"/>
                </a:solidFill>
                <a:latin typeface="Andalus"/>
                <a:ea typeface="Andalus"/>
              </a:rPr>
              <a:t>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8360" y="141264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Perpetua"/>
              </a:rPr>
              <a:t>Topoisomerase: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As a helicase separates the parental duplex, the strands must be untwist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n </a:t>
            </a:r>
            <a:r>
              <a:rPr b="0" i="1" lang="en-US" sz="2400" spc="-1" strike="noStrike">
                <a:solidFill>
                  <a:srgbClr val="000000"/>
                </a:solidFill>
                <a:latin typeface="Perpetua"/>
              </a:rPr>
              <a:t>E. coli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, gyrase, a type II topoisomerase, is the primary replicative topoisomer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D1B6F-DB16-4D1C-A838-1140679F6B01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657B8-D1A2-465F-9FAA-F4E9D47BB84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755640" y="3429000"/>
            <a:ext cx="7677000" cy="1962000"/>
          </a:xfrm>
          <a:prstGeom prst="rect">
            <a:avLst/>
          </a:prstGeom>
          <a:ln w="9360">
            <a:solidFill>
              <a:srgbClr val="595959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68000" y="1125000"/>
            <a:ext cx="835164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50"/>
                </a:solidFill>
                <a:latin typeface="Perpetua"/>
              </a:rPr>
              <a:t>primases :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synthesize short RNA primers specifically for initiating DNA polymerase action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In </a:t>
            </a:r>
            <a:r>
              <a:rPr b="0" i="1" lang="en-US" sz="2200" spc="-1" strike="noStrike">
                <a:solidFill>
                  <a:srgbClr val="000000"/>
                </a:solidFill>
                <a:latin typeface="Perpetua"/>
              </a:rPr>
              <a:t>E. coli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, an RNA primer of 11 to 13 nucleotides is synthesized by the DnaG primas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RNA primers are needed to initiate each of the thousands of Okazaki fragments on the lagging strand. The leading strand is also initiated by primase at a replication origin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Perpetua"/>
              </a:rPr>
              <a:t>E. coli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DnaG primase must bind the DNA helicase for activity, and this localizes its action to the replication for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36CC2-8604-45EB-8EB7-6F969EE1DCD4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13CB1-2613-4806-A680-958DE4EF95B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00000"/>
                </a:solidFill>
                <a:latin typeface="Andalus"/>
                <a:ea typeface="Andalus"/>
              </a:rPr>
              <a:t>Continue</a:t>
            </a:r>
            <a:r>
              <a:rPr b="0" i="1" lang="en-US" sz="3600" spc="-1" strike="noStrike">
                <a:solidFill>
                  <a:srgbClr val="c00000"/>
                </a:solidFill>
                <a:latin typeface="Andalus"/>
                <a:ea typeface="Andalus"/>
              </a:rPr>
              <a:t>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826920" y="4437000"/>
            <a:ext cx="7753680" cy="2009880"/>
          </a:xfrm>
          <a:prstGeom prst="rect">
            <a:avLst/>
          </a:prstGeom>
          <a:ln w="9360">
            <a:solidFill>
              <a:srgbClr val="595959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716C9-E2F4-492F-98D3-8AB5C4D9724E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EFFD5-5216-40AE-A770-B1D4E03E864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8474040" cy="2143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03440" y="312480"/>
            <a:ext cx="77371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ndalus"/>
                <a:ea typeface="Andalus"/>
              </a:rPr>
              <a:t>DNA Polymerase Cannot Initiate new Stra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2T14:34:35Z</dcterms:created>
  <dc:creator>Sooad</dc:creator>
  <dc:description/>
  <dc:language>en-US</dc:language>
  <cp:lastModifiedBy>Administrator</cp:lastModifiedBy>
  <dcterms:modified xsi:type="dcterms:W3CDTF">2013-05-14T06:15:10Z</dcterms:modified>
  <cp:revision>274</cp:revision>
  <dc:subject/>
  <dc:title>An Introductory Overview of  Cells, Chemical Bonds &amp; Energy</dc:title>
</cp:coreProperties>
</file>