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31B-0D9C-42B5-AE1D-66874A0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033-60CD-4658-AE2F-5A9DF1C8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E43-4C80-4DA7-A276-55C5F34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5AA-5687-4FA3-8B23-7EEB70D7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905-5961-4DC0-B671-BBA55319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DDF8-804D-4488-BB08-99EF1A9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B155-8D57-4367-B6ED-4B368E94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79DE-6ED8-4946-AD83-BA71267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B34-F33A-434A-A4DC-37979E3D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5B42-DB3D-4FD7-8546-41499B7E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CBF-3236-4352-974B-8FC0EC76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1C5-40CC-4D30-B240-860F3E0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012-C46D-415B-A1DE-215FF0E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924C-F74E-4BAB-A893-A9F79D39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C298-DD00-4C74-AC13-5C4FA6B2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5A6-73FC-4D6D-9C19-0993D1EC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274-E9E9-4159-904B-1ECD457C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A2A-4880-4FF7-9986-111B466C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107-F919-49BC-AD4B-1142321E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6A6-DBCF-4F6F-A171-41E73DC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4F5-0B06-4D92-8A8E-9E650938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1BB-B65D-443B-80B4-0C92964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9CE-1B6C-49CC-BDBE-F08A920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7EB-C246-4A20-9CDB-78D6930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ure of the Genetic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contain, in a stable form, information encoding the organism’s structure, function, development and 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replicate accurately so progeny cells have the same genetic make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roperty 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it must be capable of some variation (mutation) to permit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replicating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chromosom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9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30680" cy="655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5000" y="2441520"/>
            <a:ext cx="3956040" cy="3502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257800" y="2209320"/>
            <a:ext cx="3092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s initiate replication at different t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wo DNA polymerases are involved in eukaryotic repl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has no primase activity and is thought to be the polymerase that synthesizes the leading strand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DNA polymerase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has associated primase activity and is thought to be the polymerase that synthesizes the lagging strand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3760" y="68544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NA Synthesis at the Orig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itional facto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CNA (proliferating cell nuclear antig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heli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ication factor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56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plication of Nucleoso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karyotic DNA is packaged with histones in structures called nucleoso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ppens to the nucleosome when the replication fork and the replication machinery pass by and open up the DNA double stra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osomes are found properly spaced on both postreplicative DNA strands immediately after passage of replication for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 model for nucleosome repl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572000" cy="308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0" r="5243" b="0"/>
          <a:stretch/>
        </p:blipFill>
        <p:spPr>
          <a:xfrm>
            <a:off x="0" y="1371600"/>
            <a:ext cx="4692600" cy="4746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lagging strand of telomeres cannot be replicated by the usual mechanis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639040" cy="474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268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omere and Telomer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259380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telomere sequence: tandem repeats of TTAGGG (hum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omerase, a specific enzyme with integrated RNA templ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omere repl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282920" cy="4584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1000" cy="466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ical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28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Griffith discovered a “transforming principle” in heat killed bacteri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Property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4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Avery demonstrated that the transforming principle is sensitive to DN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95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Hershey &amp; Chase used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and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labelling, of bacteriophage T2 DNA and protein respectively, to show only the DNA enters the host cell and can be passed to progeny phag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consistent with Property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00cc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3640" y="1066320"/>
            <a:ext cx="8321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plication of DNA and Chromosom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DNA replicatio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000 nucleotides/min in hum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,000 nucleotides/min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.co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racy of DNA replication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precise (1 error/1,000,000,000 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selson and Stahl (1958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34320" cy="422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1920" y="1603440"/>
            <a:ext cx="891540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4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527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ylor and co-workers (1957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0647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327672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865600" cy="4876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5720" y="6095880"/>
            <a:ext cx="33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-labelled chromos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99760" y="6035760"/>
            <a:ext cx="35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one further re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unlabelled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i-directional replication i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ly One Replication Origin i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Origins in Eukary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karyotes replicate their DNA only in S-ph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karyotes have larger chromosom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plication speed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2,600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pm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st Drosophila chromosome is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6.5 x 10</a:t>
            </a:r>
            <a:r>
              <a:rPr b="0" lang="en-US" sz="3000" spc="-1" strike="noStrike" baseline="30000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ucl., but it can replicate in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3-4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min. From a single origin, bidirectional replication would take 8.5 days. ==&gt;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The chromosome must have some 7,000 origins of replic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01:25:10Z</dcterms:created>
  <dc:creator>Suter</dc:creator>
  <dc:description/>
  <dc:language>en-US</dc:language>
  <cp:lastModifiedBy>Dad</cp:lastModifiedBy>
  <cp:lastPrinted>2002-01-11T18:01:52Z</cp:lastPrinted>
  <dcterms:modified xsi:type="dcterms:W3CDTF">2009-02-01T22:15:03Z</dcterms:modified>
  <cp:revision>95</cp:revision>
  <dc:subject/>
  <dc:title>Replication of DNA and Chromoso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webinpu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