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B2B6-9942-4678-8F7C-67766098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A04-E580-4CAC-878E-26622B8F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536-A994-42C7-8A39-452D4A06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2F8-4D12-4991-81C4-50E0EF51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F81C-E2F8-4A58-B0F9-0F06AC03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6CBF-1BEC-4C62-8701-23457C82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155C-7CB9-45A8-A6D5-9E56A101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1AD5-18BD-4921-B064-F2CCD22E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D999-B45E-4AF3-93CC-7DD484DA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FC0A-4044-486A-9912-3B12629B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E077-1995-4D94-A2E3-AAA935F2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D6F-AAC0-410A-814D-5383AFE9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CE7A-DC6F-4E83-A492-A7138D5F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FBFC-3B72-4E6E-A4DA-0AE665FF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5429-BB85-42B7-87FE-5A0253F3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8F1C-7604-4BA2-8530-A5A0D490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60F9-BE93-4F05-9018-BBE94913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7BC-754A-4646-B602-7A0ADCBD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CB15-A86A-4D80-A0F1-3F7F2BFF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60E7-E575-460E-957E-9C78AFED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E9E-515C-41E7-B30E-47A4919A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F37-1309-4305-9FDD-B812B235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4CA3-7057-4D0A-8A2E-0E50EF07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164-05A4-4DD1-9DBB-BBA4B169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ature of the Genetic Mater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operty 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it must contain, in a stable form, information encoding the organism’s structure, function, development and rep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operty 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it must replicate accurately so progeny cells have the same genetic make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operty 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it must be capable of some variation (mutation) to permit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 replicating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Drosophila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chromosom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99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30680" cy="6553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5000" y="2441520"/>
            <a:ext cx="3956040" cy="35020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257800" y="2209320"/>
            <a:ext cx="309240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gins initiate replication at different tim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wo DNA polymerases are involved in eukaryotic replic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DNA polymerase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has no primase activity and is thought to be the polymerase that synthesizes the leading strand.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DNA polymerase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has associated primase activity and is thought to be the polymerase that synthesizes the lagging strand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63760" y="6854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NA Synthesis at the Orig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22856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ditional facto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CNA (proliferating cell nuclear antig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NA helic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ication factor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86200" y="1752480"/>
            <a:ext cx="5257800" cy="4567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plication of Nucleoso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ukaryotic DNA is packaged with histones in structures called nucleosom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happens to the nucleosome when the replication fork and the replication machinery pass by and open up the DNA double stran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osomes are found properly spaced on both postreplicative DNA strands immediately after passage of replication fork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37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A model for nucleosome replica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572000" cy="3089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0" t="0" r="5243" b="0"/>
          <a:stretch/>
        </p:blipFill>
        <p:spPr>
          <a:xfrm>
            <a:off x="0" y="1371600"/>
            <a:ext cx="4692600" cy="4746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lagging strand of telomeres cannot be replicated by the usual mechanis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639040" cy="4740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72680" y="1218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lomere and Telomer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259380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telomere sequence: tandem repeats of TTAGGG (hum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omerase, a specific enzyme with integrated RNA templ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lomere repl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282920" cy="4584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4491000" cy="466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ical Perspec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928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Griffith discovered a “transforming principle” in heat killed bacteria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(Property 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94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Avery demonstrated that the transforming principle is sensitive to DN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95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Hershey &amp; Chase used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and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labelling, of bacteriophage T2 DNA and protein respectively, to show only the DNA enters the host cell and can be passed to progeny phag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(consistent with Property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cc00cc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00cc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93640" y="1066320"/>
            <a:ext cx="8321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plication of DNA and Chromosom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of DNA replication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000 nucleotides/min in hum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,000 nucleotides/min i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.co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racy of DNA replication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precise (1 error/1,000,000,000 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selson and Stahl (1958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934320" cy="422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1920" y="1603440"/>
            <a:ext cx="891540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42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5279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ylor and co-workers (1957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80647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3276720" cy="4952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865600" cy="4876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5720" y="6095880"/>
            <a:ext cx="33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-labelled chromoso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99760" y="6035760"/>
            <a:ext cx="355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one further re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unlabelled 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i-directional replication in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E. col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469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ly One Replication Origin in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E. col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8754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Origins in Eukary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ukaryotes replicate their DNA only in S-ph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ukaryotes have larger chromosom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plication speed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2,600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pm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rgest Drosophila chromosome is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6.5 x 10</a:t>
            </a:r>
            <a:r>
              <a:rPr b="0" lang="en-US" sz="3000" spc="-1" strike="noStrike" baseline="30000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ucl., but it can replicate in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3-4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min. From a single origin, bidirectional replication would take 8.5 days. ==&gt;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The chromosome must have some 7,000 origins of replicatio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01:25:10Z</dcterms:created>
  <dc:creator>Suter</dc:creator>
  <dc:description/>
  <dc:language>en-US</dc:language>
  <cp:lastModifiedBy>Dad</cp:lastModifiedBy>
  <cp:lastPrinted>2002-01-11T18:01:52Z</cp:lastPrinted>
  <dcterms:modified xsi:type="dcterms:W3CDTF">2009-02-01T22:15:03Z</dcterms:modified>
  <cp:revision>95</cp:revision>
  <dc:subject/>
  <dc:title>Replication of DNA and Chromoso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webinput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