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A552-DDC8-4B42-A472-B2354F6A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3626-8B0E-47CE-8387-3AE7CDB2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2292-E5E0-44A2-9B02-8A1ED75D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8E58-983D-4351-8B3E-18BDDBDD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6053-8D0C-48BA-B7FC-02F30A52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1E87-4B1A-475D-9E33-DC96FAE7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90F-C048-4A4F-B32F-1CDB99D0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2890-6A94-4B97-9CAB-1B90C235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59A-FF87-4E27-98CE-D44D9A9C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32E-FEAC-4A1F-9034-7100F889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AB51-7857-4EED-A48D-88F2D42B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588-1B84-4C9B-9E98-2BF5DCC7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63D7-FE64-4346-AE81-357641EA75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ff"/>
                </a:solidFill>
                <a:latin typeface="Arial"/>
              </a:rPr>
              <a:t>إضافي... للحراش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-1778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four surviv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ders of repti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Chelon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turtles and tortois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ll consists of dermal b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endochondral ribs th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rrounds pectoral and pelv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rd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Rhynchocephal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uata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zard-like animals found on isla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 New Zealand –comple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psid op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quam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lizards and snak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of paired copulatory organs in the 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rocodyl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crocodiles and alliga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63D4-5280-4FB3-91BF-93E0F035C0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734160" y="457200"/>
            <a:ext cx="2409840" cy="1403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24280" y="457200"/>
            <a:ext cx="2057400" cy="1424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343400" y="205740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352680" y="3962520"/>
            <a:ext cx="1106640" cy="117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934320" y="2133720"/>
            <a:ext cx="2209680" cy="1977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362320" y="5494320"/>
            <a:ext cx="243828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6210360" y="4984920"/>
            <a:ext cx="2933640" cy="187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257800" y="3276720"/>
            <a:ext cx="193356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c2d00"/>
                </a:solidFill>
                <a:latin typeface="Arial"/>
              </a:rPr>
              <a:t>الحجرات القلب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42920" y="1352520"/>
            <a:ext cx="68770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09480" y="5334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dominated earth for 250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re distinguished by the number of holes on side of the skull behind eye or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(anapsids), 1 (synapsids), 2 (diapsid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65784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Arial"/>
              </a:rPr>
              <a:t>شكـل الجماج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35640" y="3500280"/>
            <a:ext cx="3097080" cy="3097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http://www.warrenphotographic.co.uk/seeitall/mediums/04256.jpg"/>
          <p:cNvPicPr/>
          <p:nvPr/>
        </p:nvPicPr>
        <p:blipFill>
          <a:blip r:embed="rId2"/>
          <a:stretch/>
        </p:blipFill>
        <p:spPr>
          <a:xfrm>
            <a:off x="684360" y="3516480"/>
            <a:ext cx="4319280" cy="2914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Arial"/>
              </a:rPr>
              <a:t>تكون الحراش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87280" y="1197000"/>
            <a:ext cx="6870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caledev" descr=""/>
          <p:cNvPicPr/>
          <p:nvPr/>
        </p:nvPicPr>
        <p:blipFill>
          <a:blip r:embed="rId1"/>
          <a:stretch/>
        </p:blipFill>
        <p:spPr>
          <a:xfrm>
            <a:off x="2627280" y="322200"/>
            <a:ext cx="4359240" cy="61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8:23:27Z</dcterms:created>
  <dc:creator>خالد</dc:creator>
  <dc:description/>
  <dc:language>en-US</dc:language>
  <cp:lastModifiedBy>خالد</cp:lastModifiedBy>
  <dcterms:modified xsi:type="dcterms:W3CDTF">2014-03-10T06:55:13Z</dcterms:modified>
  <cp:revision>4</cp:revision>
  <dc:subject/>
  <dc:title>Slide 1</dc:title>
</cp:coreProperties>
</file>