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CEC5-B1ED-4336-B1D6-E54AF351D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F89A-6568-43EF-A578-A26F3C59A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C1A8-6098-449B-A5E2-B025CDA7E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5B99-CD5B-4317-A9C0-F67C7198F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52B6-CD66-418D-975B-AD772D7F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82D9-0711-4E29-8D2C-4CA5D7406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C8F1-3165-4678-9154-51804F864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5671-0AA7-404B-AB7F-B0327E0C2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E399-8182-4D67-AA5D-C846C8824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A803-0080-4016-93B1-CA1CB1D4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69BA-4D19-418A-9F45-9337CD0F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D34E-0234-484B-A413-13E62F30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E196B-803B-49B4-BCC6-3766CA58521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ff"/>
                </a:solidFill>
                <a:latin typeface="Arial"/>
              </a:rPr>
              <a:t>إضافي... للحراش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-177840" y="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 are four surviving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orders of repti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Arial"/>
              </a:rPr>
              <a:t>Cheloni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turtles and tortoise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ll consists of dermal b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ver endochondral ribs tha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rrounds pectoral and pelv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ird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Rhynchocephal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tuatar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zard-like animals found on islan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f New Zealand –comple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apsid open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Squamat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lizards and snak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ve of paired copulatory organs in the m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Crocodyl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crocodiles and alligato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829F5-CFC8-4563-B27A-ED4618BC041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734160" y="457200"/>
            <a:ext cx="2409840" cy="1403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724280" y="457200"/>
            <a:ext cx="2057400" cy="1424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343400" y="2057400"/>
            <a:ext cx="1676520" cy="1257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3352680" y="3962520"/>
            <a:ext cx="1106640" cy="1171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6934320" y="2133720"/>
            <a:ext cx="2209680" cy="1977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2362320" y="5494320"/>
            <a:ext cx="2438280" cy="1363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6210360" y="4984920"/>
            <a:ext cx="2933640" cy="1873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5257800" y="3276720"/>
            <a:ext cx="1933560" cy="24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bc2d00"/>
                </a:solidFill>
                <a:latin typeface="Arial"/>
              </a:rPr>
              <a:t>الحجرات القلب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42920" y="1352520"/>
            <a:ext cx="687708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09480" y="53341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tiles dominated earth for 250 million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tiles are distinguished by the number of holes on side of the skull behind eye or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(anapsids), 1 (synapsids), 2 (diapsid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657840" cy="501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987280" y="620280"/>
            <a:ext cx="274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3300"/>
                </a:solidFill>
                <a:latin typeface="Arial"/>
              </a:rPr>
              <a:t>شكـل الجماج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435640" y="3500280"/>
            <a:ext cx="3097080" cy="3097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http://www.warrenphotographic.co.uk/seeitall/mediums/04256.jpg"/>
          <p:cNvPicPr/>
          <p:nvPr/>
        </p:nvPicPr>
        <p:blipFill>
          <a:blip r:embed="rId2"/>
          <a:stretch/>
        </p:blipFill>
        <p:spPr>
          <a:xfrm>
            <a:off x="684360" y="3516480"/>
            <a:ext cx="4319280" cy="29145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3300"/>
                </a:solidFill>
                <a:latin typeface="Arial"/>
              </a:rPr>
              <a:t>تكون الحراش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187280" y="1197000"/>
            <a:ext cx="687096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scaledev" descr=""/>
          <p:cNvPicPr/>
          <p:nvPr/>
        </p:nvPicPr>
        <p:blipFill>
          <a:blip r:embed="rId1"/>
          <a:stretch/>
        </p:blipFill>
        <p:spPr>
          <a:xfrm>
            <a:off x="2627280" y="322200"/>
            <a:ext cx="4359240" cy="613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6T08:23:27Z</dcterms:created>
  <dc:creator>خالد</dc:creator>
  <dc:description/>
  <dc:language>en-US</dc:language>
  <cp:lastModifiedBy>خالد</cp:lastModifiedBy>
  <dcterms:modified xsi:type="dcterms:W3CDTF">2014-03-10T06:55:13Z</dcterms:modified>
  <cp:revision>4</cp:revision>
  <dc:subject/>
  <dc:title>Slide 1</dc:title>
</cp:coreProperties>
</file>