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1FE2-8BE4-4F79-A53D-5A25BE360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D1B3-5F64-483B-9230-A3F5F38CF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FB6B-7D4D-4821-8F91-490D3A7FA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799E-7735-4537-A4ED-66B17D107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713F-6D49-4F05-89E7-D9C051312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9A18-F565-4EA7-9911-1BA837984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E3F9-98BF-41F7-A4BB-CF6017BF4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B259-6FE2-46B2-8244-74CEC003D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74B8-CF7A-4F91-9C92-774F7B2EB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BEE8-1633-412B-8071-F2C166C44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4188-25AF-4389-97C1-FFCC0EBF0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77A9-C2EF-4518-BBEF-DE7D0D13C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64C1-DBBC-4CBD-A1DD-E69757260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DFC8-4EDF-46F5-940F-4AF31190C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B938-57CA-4EF9-83AB-F745C616D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6E6A-250D-422D-9B09-C8C895AE5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EDA8-8FDA-4AF1-9389-D1808E715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1618-635C-4335-A0DB-54CB8A073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C967-7239-417C-BDAD-EA6D3CDCD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E50E-E784-4030-915C-F649A00A4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579F-98A3-4447-9EF8-F50052858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C213-7D01-42DC-B53C-7246991CB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6FC0-5874-4351-9225-175C60312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DE91-143D-455F-B976-C843437AD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1D81-6570-4BA8-B92B-D7592C5AF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498B-9031-42F6-A37A-9F0521C11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000A-CD83-4933-AA73-77DB52103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4DDA-5973-4C7A-BF33-BDA3E9559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4AA8-A97B-4F80-A58A-4863D1AF3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E14C-9B93-4FB1-9753-A6CC390FF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2C07-97C1-4F72-8F62-F35405070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8892-69F9-41EF-9B49-5D4B2E7C0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4A31-C0F2-48B2-A2E6-04B64A705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9E16-DB6A-40EA-9824-3E2A8FEC0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DC15-2B58-4610-8527-8EF1FCF5B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678A-6E34-49BF-A0A5-F23F11BFA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2B96-E2BF-468D-8BA3-937088605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F864-2010-43D4-8920-E7C002A70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AC38-9BCE-4B24-BE09-ECD5C049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64000"/>
            <a:ext cx="822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7FC0-EFEF-4993-8F7E-4023B0B4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0AE-919B-4A5E-9AE0-749EBF93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76212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76212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6400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6400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6400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F50-525E-41BE-A5EB-1FCBB7B1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8229-8C86-4067-BD42-1498F93F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1F9D-726E-4B1F-A3CC-CF659B83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450D-3EFB-433D-A69C-52D32855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F4C0-632A-44C2-95D0-528C321E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0AD6-8176-4AB5-9914-03FBA7A6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9B56-9C82-4A0F-827C-30CAFFB8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12BB-E507-4546-802C-C0BA2121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A8C4-E1B0-41A1-8130-30370B07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DAE0-5BC1-4CDA-8705-378F7CF1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64000"/>
            <a:ext cx="822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9D7F-1DDB-4B2A-AA66-8A33245A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64000"/>
            <a:ext cx="822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65BE-B9C0-4ACC-B0F5-1FC4F87C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920B-BDFC-4223-A60E-69223D9E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76212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76212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6400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6400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6400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49D0-7513-4A6A-BE82-C6F4E325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4F4-77FB-48C0-833E-C0ECC37B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564000"/>
            <a:ext cx="822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564000"/>
            <a:ext cx="822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76212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76212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56400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56400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564000"/>
            <a:ext cx="264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BE2E-6CF4-4805-9BC7-E33BDF97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653-ACB8-4B42-B1A6-CF4D5D12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1538-D88E-48E6-8D28-023D7F75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488E-CE32-4252-A149-3A7C4262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6400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6A4-AC86-4557-8A03-B3CD6789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1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762120"/>
            <a:ext cx="40158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64000"/>
            <a:ext cx="8229600" cy="25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A03-A716-4044-AD7D-AA6755B6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31B4-9B6B-4596-9A8E-26EE09CB1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7132-A0DC-4CBA-9E3D-B81E62EC7C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VMware_PwrPoint_Temp_1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0" y="3505320"/>
            <a:ext cx="9144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mmhassan@ksu.edu.sa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2502000" y="5975280"/>
            <a:ext cx="6642000" cy="8827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600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to Read &amp;Write Good Technical Papers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743200" y="2362320"/>
            <a:ext cx="601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Dr. Mohammad Mehedi Has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Assistant 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Information Systems Department, CC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King Saud University, Riyadh, 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Email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mmhassan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Phone</a:t>
            </a:r>
            <a:r>
              <a:rPr b="0" lang="en-US" sz="2400" spc="-1" strike="noStrike">
                <a:solidFill>
                  <a:srgbClr val="254061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46952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Conveying the Id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Here is a probl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It’s an interesting probl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It’s an unsolved probl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Comic Sans MS"/>
                <a:ea typeface="Arial"/>
              </a:rPr>
              <a:t>Here is my ide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My idea works (details, dat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Here’s how my idea compares to other people’s approach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1F5E-6C4E-4379-AFC1-DD56FB3531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Getting ready to write a pa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What type of paper am I writ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0253f"/>
                </a:solidFill>
                <a:latin typeface="Comic Sans MS"/>
                <a:ea typeface="Arial"/>
              </a:rPr>
              <a:t>conference, journal etc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What do I wish to st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Have I got all the background work with 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Have I organized the pap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What electronic format will I u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0253f"/>
                </a:solidFill>
                <a:latin typeface="Comic Sans MS"/>
                <a:ea typeface="Arial"/>
              </a:rPr>
              <a:t>LaTeX, MS Word, 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2023-3687-4F7E-902B-50F9C8474D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Contents of a pa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Title of the pap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Authors, designations, and address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Abstract (150 to 250 word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Keywor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Sections describing the wor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0253f"/>
                </a:solidFill>
                <a:latin typeface="Comic Sans MS"/>
                <a:ea typeface="Arial"/>
              </a:rPr>
              <a:t>Introduction (Background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0253f"/>
                </a:solidFill>
                <a:latin typeface="Comic Sans MS"/>
                <a:ea typeface="Arial"/>
              </a:rPr>
              <a:t>Previous Work (Literature Survey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0253f"/>
                </a:solidFill>
                <a:latin typeface="Comic Sans MS"/>
                <a:ea typeface="Arial"/>
              </a:rPr>
              <a:t>Proposed Work (Algorithm, Design, Methodology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0253f"/>
                </a:solidFill>
                <a:latin typeface="Comic Sans MS"/>
                <a:ea typeface="Arial"/>
              </a:rPr>
              <a:t>Analysis (Complexity Analysis, Quantitative Analysis, Statistical Analysis, …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0253f"/>
                </a:solidFill>
                <a:latin typeface="Comic Sans MS"/>
                <a:ea typeface="Arial"/>
              </a:rPr>
              <a:t>Implementation and Resul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0253f"/>
                </a:solidFill>
                <a:latin typeface="Comic Sans MS"/>
                <a:ea typeface="Arial"/>
              </a:rPr>
              <a:t>Conclus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5504-6A8F-4E25-BBB3-F3FBCF3D8E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Should not be too lo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“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Short and Sweet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No Abbreviations or Acrony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(Unless well established terms like PID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Well reflective of your Main Contribu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It should reflect the novel part of your resear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Try to “coin” an attractive (or catchy) tit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Should be followed by Names and Affili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According to the Journal’s or Conference’s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D761-C7B5-448F-92EE-5C131CE63E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Abstr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Usually 1 paragraph, generally between 100-250 word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Major points to inclu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253f"/>
                </a:solidFill>
                <a:latin typeface="Comic Sans MS"/>
                <a:ea typeface="Arial"/>
              </a:rPr>
              <a:t>Problem statement/Overview of current research situation/Moti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253f"/>
                </a:solidFill>
                <a:latin typeface="Comic Sans MS"/>
                <a:ea typeface="Arial"/>
              </a:rPr>
              <a:t>Proposed technique (the main contribution of your pap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253f"/>
                </a:solidFill>
                <a:latin typeface="Comic Sans MS"/>
                <a:ea typeface="Arial"/>
              </a:rPr>
              <a:t>The solution (you should describe the results brief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253f"/>
                </a:solidFill>
                <a:latin typeface="Comic Sans MS"/>
                <a:ea typeface="Arial"/>
              </a:rPr>
              <a:t>A brief co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  <a:ea typeface="Arial"/>
              </a:rPr>
              <a:t>Should Not Includ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void “general motivation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sentences in the abstract should not be repeated later in the paper “word-for-word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void equations and m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5322-8DDA-4D74-B33F-1E589D4219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2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7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0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3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Define the probl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omic Sans MS"/>
                <a:ea typeface="Arial"/>
              </a:rPr>
              <a:t>Why is it worth solv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omic Sans MS"/>
                <a:ea typeface="Arial"/>
              </a:rPr>
              <a:t>What did others d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omic Sans MS"/>
                <a:ea typeface="Arial"/>
              </a:rPr>
              <a:t>Why did they not succe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omic Sans MS"/>
                <a:ea typeface="Arial"/>
              </a:rPr>
              <a:t>Why do I believe I did bett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Contribution of the pap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omic Sans MS"/>
                <a:ea typeface="Arial"/>
              </a:rPr>
              <a:t>Is there anything new in the pap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omic Sans MS"/>
                <a:ea typeface="Arial"/>
              </a:rPr>
              <a:t>How good are our resul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omic Sans MS"/>
                <a:ea typeface="Arial"/>
              </a:rPr>
              <a:t>Summary of our approach/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CFD6-F0B9-41DF-B116-AB0F1D6C3F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6228"/>
                </a:solidFill>
                <a:latin typeface="Arial (heading)"/>
                <a:ea typeface="Arial"/>
              </a:rPr>
              <a:t>Stanford InfoLab’s Patented </a:t>
            </a:r>
            <a:r>
              <a:rPr b="1" lang="en-US" sz="2000" spc="-1" strike="noStrike">
                <a:solidFill>
                  <a:srgbClr val="c00000"/>
                </a:solidFill>
                <a:latin typeface="Arial (heading)"/>
                <a:ea typeface="Arial"/>
              </a:rPr>
              <a:t>5-Point Structure </a:t>
            </a:r>
            <a:r>
              <a:rPr b="1" lang="en-US" sz="2000" spc="-1" strike="noStrike">
                <a:solidFill>
                  <a:srgbClr val="4f6228"/>
                </a:solidFill>
                <a:latin typeface="Arial (heading)"/>
                <a:ea typeface="Arial"/>
              </a:rPr>
              <a:t>for Introd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54061"/>
                </a:solidFill>
                <a:latin typeface="Comic Sans MS"/>
                <a:ea typeface="Arial"/>
              </a:rPr>
              <a:t>What is the problem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6228"/>
                </a:solidFill>
                <a:latin typeface="Comic Sans MS"/>
                <a:ea typeface="Arial"/>
              </a:rPr>
              <a:t>Why is it interesting and important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84807"/>
                </a:solidFill>
                <a:latin typeface="Comic Sans MS"/>
                <a:ea typeface="Arial"/>
              </a:rPr>
              <a:t>Why is it hard? (E.g. why do naive approaches fail?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Comic Sans MS"/>
                <a:ea typeface="Arial"/>
              </a:rPr>
              <a:t>Why hasn’t it been solved before? (Or what’s wrong with previous proposed solutions? How does mine differ?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What are the key components of my approach and results? Also include any specific limit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CC80-8436-4216-8C36-89A682C8A1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5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State Clearly the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A815-ACA2-4FF2-9C7D-E47CC9483D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5076720" cy="4724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3286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Related 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Brief description of the existing body of wor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Citations to published wor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In [2], Rosetti and Longfellow described the meaning of life. Wordsworth presented a different view point in [3]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Bring out the specific advantage of your work w.r.t. published work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However, the Rosetti-Longfellow formula [2] fails for technologies below 0.2 micron. In this paper, we extend their formula to the deep submicron domain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5CFA-56A4-40AC-AC95-1D51F16A28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990720" y="838080"/>
            <a:ext cx="7010280" cy="825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Comic Sans MS"/>
              </a:rPr>
              <a:t>Fallacy: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o make my work look good, I have t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ke other people’s work look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9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4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9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Related 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Point out both advantages and disadvantages of related wor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2060"/>
                </a:solidFill>
                <a:latin typeface="Comic Sans MS"/>
                <a:ea typeface="Arial"/>
              </a:rPr>
              <a:t>(provides context; defuses objections; be honest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Discuss all references that you ci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  <a:ea typeface="Arial"/>
              </a:rPr>
              <a:t>DO NO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Comic Sans MS"/>
                <a:ea typeface="Arial"/>
              </a:rPr>
              <a:t>Write a laundry lis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Comic Sans MS"/>
                <a:ea typeface="Arial"/>
              </a:rPr>
              <a:t>Bash the referenc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Comic Sans MS"/>
                <a:ea typeface="Arial"/>
              </a:rPr>
              <a:t>Include irrelevant referenc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Comic Sans MS"/>
                <a:ea typeface="Arial"/>
              </a:rPr>
              <a:t>Write a paragraph about a very peripheral work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F7BE-1DDC-4EEF-BB4D-1A345900BB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Arial (heading)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Comic Sans MS"/>
                <a:ea typeface="Arial"/>
              </a:rPr>
              <a:t>What is a technical pape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Comic Sans MS"/>
                <a:ea typeface="Arial"/>
              </a:rPr>
              <a:t>How to read a technical pape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Comic Sans MS"/>
                <a:ea typeface="Arial"/>
              </a:rPr>
              <a:t>Factors affecting writing a Good Pape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Comic Sans MS"/>
                <a:ea typeface="Arial"/>
              </a:rPr>
              <a:t>Contents of a Technical Pap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Comic Sans MS"/>
                <a:ea typeface="Arial"/>
              </a:rPr>
              <a:t>Writing Sty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Comic Sans MS"/>
                <a:ea typeface="Arial"/>
              </a:rPr>
              <a:t>Strategies in Writing a “Good” Pap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54061"/>
                </a:solidFill>
                <a:latin typeface="Comic Sans MS"/>
                <a:ea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AD55-685B-4ECF-9D42-6CB68A9C80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Sections and Subs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rganize each section into subsections and (possibly) sub-subs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omic Sans MS"/>
                <a:ea typeface="Arial"/>
              </a:rPr>
              <a:t>1. 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omic Sans MS"/>
                <a:ea typeface="Arial"/>
              </a:rPr>
              <a:t>1.1 Problem Descri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omic Sans MS"/>
                <a:ea typeface="Arial"/>
              </a:rPr>
              <a:t>1.1.1 Inductance Ext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omic Sans MS"/>
                <a:ea typeface="Arial"/>
              </a:rPr>
              <a:t>1.1.2 Transmission Line Mod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EA0B-D441-45B6-83AC-F372DF51FB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The proposed Techn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Can be divided into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several sub-sec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Provide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a general description of the technique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or method you proposed (use block diagrams where appropriat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In another section,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start with the general theory firs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 then followed by your own formul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Write down your algorithms (equations)/strategy and provide explanation on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Figures may be required where necess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9343-A1B2-4155-8569-93485FE2E2B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6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(heading)"/>
                <a:ea typeface="Arial"/>
              </a:rPr>
              <a:t>Hardware/Software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Provide a description of how the software is develope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Computer specs, Programming Languages used, Flowcharts, Block diagrams, etc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Provide sufficient description of the hardware setup/ designed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technical specifications, block diagrams, sensor limitations, components used, photos of the hardware, etc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Highlight the uniqueness of your hardware compared to similar products (if an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DC32-85A1-42E1-91D7-BD6542316C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Application of Proposed Techn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Usually new techniques/algorithms are tested using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simul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Provide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a write-up on how the simulation is carried up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including all assumptions used, how important parameters are chosen/selected, etc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Similarly for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hardware application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, describe how the experiments have been carried ou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Only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discuss experiments which are relevant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to show the effectiveness or superiority of the proposed techniqu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7755-8C0C-4166-AD66-A1D7A025B9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Results and Discu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Results can be tabulated in several form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use graphical form where applicabl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Comparison with existing techniqu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Provide discussio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correct analyses of experimental results show the quality of the paper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Always provide answers to why the experiments went such a wa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Every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figure shown in the paper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must be addressed in the tex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What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conclusion can you draw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from your experiment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188D-5393-41AB-9C25-6957FED627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Figures and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Number all the figures and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Graphs are also shown as fig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Provide captions for all figures and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omic Sans MS"/>
                <a:ea typeface="Arial"/>
              </a:rPr>
              <a:t>Fig. 3. Floorplan of the SONAR C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Refer to each figure and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omic Sans MS"/>
                <a:ea typeface="Arial"/>
              </a:rPr>
              <a:t>In Figure 3, we show the floorplan of the SONAR Chip as obtained using the MASON softwa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F927-4295-459A-960D-52AFC08923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Highlight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  <a:ea typeface="Arial"/>
              </a:rPr>
              <a:t>the major advantages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of the technique/method proposed when compared with </a:t>
            </a:r>
            <a:r>
              <a:rPr b="0" lang="fr-FR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other techniqu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  <a:ea typeface="Arial"/>
              </a:rPr>
              <a:t>Don’t just repeat the introduction/abstr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Re-emphasize the novelty of the research wo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Write down the limitations of your research work if any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  <a:ea typeface="Arial"/>
              </a:rPr>
              <a:t>such that reviewers cannot ‘attack’ the weaknesses of the techniq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Write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  <a:ea typeface="Arial"/>
              </a:rPr>
              <a:t>suggestions to improve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the problems or limitations of the proposed technique (such as in future wo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FE2C-68D4-42FA-8519-73F56732D1E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Refer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References are important in a technical pap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With adequate references, they reflect that you have made a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substantial study/survey of the existing or current techniques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understand their limitations and disadvantages, in short it means you understand the problem statem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All references must be cited in the text of your pap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4332-F382-4C37-881F-2D49A8F0D1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0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Arial (heading)"/>
                <a:ea typeface="Arial"/>
              </a:rPr>
              <a:t>Language and Style: </a:t>
            </a:r>
            <a:r>
              <a:rPr b="1" lang="en-US" sz="2800" spc="-1" strike="noStrike">
                <a:solidFill>
                  <a:srgbClr val="ffc000"/>
                </a:solidFill>
                <a:latin typeface="Arial (heading)"/>
                <a:ea typeface="Arial"/>
              </a:rPr>
              <a:t>T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Text can be written in either the 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  <a:ea typeface="Arial"/>
              </a:rPr>
              <a:t>past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or 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  <a:ea typeface="Arial"/>
              </a:rPr>
              <a:t>present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ten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Past tense is 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  <a:ea typeface="Arial"/>
              </a:rPr>
              <a:t>OK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for describing results of an experiment but 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  <a:ea typeface="Arial"/>
              </a:rPr>
              <a:t>use present tense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for a general conclu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We observed that the expression of Bmp4 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WAS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increased. This suggests that the gene 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IS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 regulated by Shh.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Present tense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is more immediate and indicates that a process  is ongo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C81B-790A-449A-9E19-70073C4513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143000" y="5029200"/>
            <a:ext cx="6858000" cy="916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60a"/>
                </a:solidFill>
                <a:latin typeface="Comic Sans MS"/>
              </a:rPr>
              <a:t>WHATEVER TENSE IS USED, BE CONSISTEN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omic Sans MS"/>
              </a:rPr>
              <a:t>DON’T SWITCH BACK AND FORTH IN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omic Sans MS"/>
              </a:rPr>
              <a:t>PARAGRAPH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Visual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Give strong visual structure to your paper us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sections and sub-sec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Bulle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Italic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laid-out cod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Find out how to draw pictures, and use the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Paragraph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 are important to break the text up into readable uni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The first and last sentence of a paragraph is most import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2B28-04F1-4916-8FCB-A4227C2934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What is a technical pap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A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brief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 and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to-the-poin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 document which describes a body of technical wor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There are many types of technical pap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54061"/>
                </a:solidFill>
                <a:latin typeface="Comic Sans MS"/>
                <a:ea typeface="Arial"/>
              </a:rPr>
              <a:t>Survey pap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54061"/>
                </a:solidFill>
                <a:latin typeface="Comic Sans MS"/>
                <a:ea typeface="Arial"/>
              </a:rPr>
              <a:t>Journal pap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54061"/>
                </a:solidFill>
                <a:latin typeface="Comic Sans MS"/>
                <a:ea typeface="Arial"/>
              </a:rPr>
              <a:t>Conference pap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54061"/>
                </a:solidFill>
                <a:latin typeface="Comic Sans MS"/>
                <a:ea typeface="Arial"/>
              </a:rPr>
              <a:t>Lett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903D-0045-41B2-86BF-486FC5E073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Visual Structure-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9B12-E0B2-442A-8333-9717F808CD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365040" y="749160"/>
            <a:ext cx="821232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Use the Active V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The passive voice is “respectable” but it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  <a:ea typeface="Arial"/>
              </a:rPr>
              <a:t>DEADEN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 your paper.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  <a:ea typeface="Arial"/>
              </a:rPr>
              <a:t>Avoid it at all co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FECE-6394-4C9D-901E-4A488B6F43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401320" cy="36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Use Simple, Direct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6308-66EA-4721-B13E-23309060B7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127160" y="974880"/>
            <a:ext cx="739440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0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Frequent Errors Writing a Pa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Avoid excessive use of </a:t>
            </a:r>
            <a:r>
              <a:rPr b="0" lang="en-US" sz="2500" spc="-1" strike="noStrike">
                <a:solidFill>
                  <a:srgbClr val="c0504d"/>
                </a:solidFill>
                <a:latin typeface="Comic Sans MS"/>
                <a:ea typeface="Arial"/>
              </a:rPr>
              <a:t>boring verbs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such as “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  <a:ea typeface="Arial"/>
              </a:rPr>
              <a:t>show, observe, occur, exhibit…..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Avoid </a:t>
            </a:r>
            <a:r>
              <a:rPr b="0" lang="en-US" sz="2500" spc="-1" strike="noStrike">
                <a:solidFill>
                  <a:srgbClr val="c0504d"/>
                </a:solidFill>
                <a:latin typeface="Comic Sans MS"/>
                <a:ea typeface="Arial"/>
              </a:rPr>
              <a:t>complex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ways of saying a </a:t>
            </a:r>
            <a:r>
              <a:rPr b="0" lang="en-US" sz="2500" spc="-1" strike="noStrike">
                <a:solidFill>
                  <a:srgbClr val="c0504d"/>
                </a:solidFill>
                <a:latin typeface="Comic Sans MS"/>
                <a:ea typeface="Arial"/>
              </a:rPr>
              <a:t>simple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 th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“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The results showed that dog weight increased” versus “The dogs weighed more”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0d0d"/>
                </a:solidFill>
                <a:latin typeface="Comic Sans MS"/>
                <a:ea typeface="Arial"/>
              </a:rPr>
              <a:t>Use of “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  <a:ea typeface="Arial"/>
              </a:rPr>
              <a:t>suggest that </a:t>
            </a:r>
            <a:r>
              <a:rPr b="0" lang="en-US" sz="2500" spc="-1" strike="noStrike">
                <a:solidFill>
                  <a:srgbClr val="0d0d0d"/>
                </a:solidFill>
                <a:latin typeface="Comic Sans MS"/>
                <a:ea typeface="Arial"/>
              </a:rPr>
              <a:t>….” ; “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  <a:ea typeface="Arial"/>
              </a:rPr>
              <a:t>hypothesize that</a:t>
            </a:r>
            <a:r>
              <a:rPr b="0" lang="en-US" sz="2500" spc="-1" strike="noStrike">
                <a:solidFill>
                  <a:srgbClr val="0d0d0d"/>
                </a:solidFill>
                <a:latin typeface="Comic Sans MS"/>
                <a:ea typeface="Arial"/>
              </a:rPr>
              <a:t>….” “</a:t>
            </a:r>
            <a:r>
              <a:rPr b="0" lang="en-US" sz="2500" spc="-1" strike="noStrike">
                <a:solidFill>
                  <a:srgbClr val="ff0000"/>
                </a:solidFill>
                <a:latin typeface="Comic Sans MS"/>
                <a:ea typeface="Arial"/>
              </a:rPr>
              <a:t>possible that</a:t>
            </a:r>
            <a:r>
              <a:rPr b="0" lang="en-US" sz="2500" spc="-1" strike="noStrike">
                <a:solidFill>
                  <a:srgbClr val="0d0d0d"/>
                </a:solidFill>
                <a:latin typeface="Comic Sans MS"/>
                <a:ea typeface="Arial"/>
              </a:rPr>
              <a:t>….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These phrases do not need “may”, “might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e.g. “Our results suggest that Hoxa3 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may be involved 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in thymus development”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(not correct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Our results suggest that 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Hoxa3 is involved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n thymus development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  <a:ea typeface="Arial"/>
              </a:rPr>
              <a:t>” (</a:t>
            </a:r>
            <a:r>
              <a:rPr b="0" lang="en-US" sz="2300" spc="-1" strike="noStrike">
                <a:solidFill>
                  <a:srgbClr val="ffc000"/>
                </a:solidFill>
                <a:latin typeface="Comic Sans MS"/>
                <a:ea typeface="Arial"/>
              </a:rPr>
              <a:t>correct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F986-894C-44F5-97FA-368522F25F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1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0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3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6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Before Sending to the Jour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Have the paper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read by several peop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Listen to what they say, especially if same criticism comes up several tim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Check and recheck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spelling, figures, references,  legends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 etc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Reviewers can be really annoyed by careless editing and mistakes reflect badly on your scienc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Make sure you have followed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all the requirements of the  journal about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 electronic submission et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B76F-DAC7-4C15-B179-C17796FBF8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0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9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2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5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32523"/>
                </a:solidFill>
                <a:latin typeface="Arial (heading)"/>
                <a:ea typeface="Arial"/>
              </a:rPr>
              <a:t>Some Strategies in Writing a “Good” Paper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Identify the novelty of the research wor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Study related works and 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compare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 your approa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Identify the 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current problems and limita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Find how 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to overcome 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the limita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List down the strengths and weaknesses of the proposed techniqu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Do not allow 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reviewers to attack 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your weakness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Provide a good analysis on the research resul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Do not just 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write down what has been observed 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from your experiment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Explain 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why these observations 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are ‘so and so’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Provide a 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summary of results </a:t>
            </a: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and how results led to the conclusio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AA98-D230-4A60-B697-F2BBF466633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0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5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1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4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7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0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3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6" dur="5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9" dur="5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32523"/>
                </a:solidFill>
                <a:latin typeface="Arial (heading)"/>
                <a:ea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If you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remember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 nothing els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Identify your key ide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Make your contributions explici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Use examples to describe the ide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4058-7A11-4F13-BE5F-7BF54B2948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writer.jpg"/>
          <p:cNvPicPr/>
          <p:nvPr/>
        </p:nvPicPr>
        <p:blipFill>
          <a:blip r:embed="rId1"/>
          <a:stretch/>
        </p:blipFill>
        <p:spPr>
          <a:xfrm>
            <a:off x="2041560" y="2670120"/>
            <a:ext cx="453060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0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4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8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51B9-D205-4869-A9A5-5683182F46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338120" y="762120"/>
            <a:ext cx="590076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How to read technical pap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Should not read everyth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Know what’s going on (e.g., scanning proceeding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title, authors, abstrac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Papers in your broad research are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introduction, motivation, solution description, summary, conclus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sometimes reading more details useful, but not alway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  <a:ea typeface="Arial"/>
              </a:rPr>
              <a:t>Papers you may want to improve 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54061"/>
                </a:solidFill>
                <a:latin typeface="Comic Sans MS"/>
                <a:ea typeface="Arial"/>
              </a:rPr>
              <a:t>read entire paper carefull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FA89-11DC-4FF2-8164-9FC67F7337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What to note after read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Authors and research grou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Comic Sans MS"/>
                <a:ea typeface="Arial"/>
              </a:rPr>
              <a:t>Need to know where to look for a paper on particular topic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Theme of  the solu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2060"/>
                </a:solidFill>
                <a:latin typeface="Comic Sans MS"/>
                <a:ea typeface="Arial"/>
              </a:rPr>
              <a:t>Should be able to go back to the paper if you need more inf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Approach to performance evalu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Note any shortcoming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EBE2-B699-4859-8734-4563B02BC79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Papers Communicate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000"/>
                </a:solidFill>
                <a:latin typeface="Comic Sans MS"/>
                <a:ea typeface="Arial"/>
              </a:rPr>
              <a:t>Our goal: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to infect the mind of our reader with </a:t>
            </a:r>
            <a:r>
              <a:rPr b="1" lang="en-US" sz="2700" spc="-1" strike="noStrike">
                <a:solidFill>
                  <a:srgbClr val="ff0000"/>
                </a:solidFill>
                <a:latin typeface="Comic Sans MS"/>
                <a:ea typeface="Arial"/>
              </a:rPr>
              <a:t>our idea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, like a viru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Papers are far more durable than progra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E7C9-68BA-4A91-8883-E1662E703C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990720" y="3429000"/>
            <a:ext cx="7010280" cy="76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Comic Sans MS"/>
              </a:rPr>
              <a:t>Fallacy: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The greatest ideas are (literally) worthless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 if you keep them to your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Factors affecting writing a Good Pap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omic Sans MS"/>
                <a:ea typeface="Arial"/>
              </a:rPr>
              <a:t>Good Research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omic Sans MS"/>
                <a:ea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omic Sans MS"/>
                <a:ea typeface="Arial"/>
              </a:rPr>
              <a:t>Need to be ‘focus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omic Sans MS"/>
                <a:ea typeface="Arial"/>
              </a:rPr>
              <a:t>Careful Planning and Need to be‘Creative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omic Sans MS"/>
                <a:ea typeface="Arial"/>
              </a:rPr>
              <a:t>Organization of the Pa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omic Sans MS"/>
                <a:ea typeface="Arial"/>
              </a:rPr>
              <a:t>Writing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omic Sans MS"/>
                <a:ea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5E45-A1A1-4263-9002-08FA6E8C07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Writing Papers Model: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59FC-09A0-473D-A46C-53703DA9FD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33520" y="990720"/>
            <a:ext cx="137160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Ide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2819520" y="990720"/>
            <a:ext cx="2361960" cy="7617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Do Re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6134040" y="990720"/>
            <a:ext cx="2362320" cy="7617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Write Pap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ight Arrow 8"/>
          <p:cNvSpPr/>
          <p:nvPr/>
        </p:nvSpPr>
        <p:spPr>
          <a:xfrm>
            <a:off x="1905120" y="12193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ight Arrow 9"/>
          <p:cNvSpPr/>
          <p:nvPr/>
        </p:nvSpPr>
        <p:spPr>
          <a:xfrm>
            <a:off x="5181480" y="12193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Arial (heading)"/>
                <a:ea typeface="Arial"/>
              </a:rPr>
              <a:t>Writing Papers Model: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6858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Forces us to be clear, focus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Crystallizes what we don’t underst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  <a:ea typeface="Arial"/>
              </a:rPr>
              <a:t>The purpose of our research i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  <a:ea typeface="Arial"/>
              </a:rPr>
              <a:t>To convey OUR ID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C77A-1D6F-4915-8A76-65E67B0769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533520" y="990720"/>
            <a:ext cx="137160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Ide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2819520" y="990720"/>
            <a:ext cx="2361960" cy="7617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Do Re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6134040" y="990720"/>
            <a:ext cx="2362320" cy="7617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Write Pap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ight Arrow 8"/>
          <p:cNvSpPr/>
          <p:nvPr/>
        </p:nvSpPr>
        <p:spPr>
          <a:xfrm>
            <a:off x="1905120" y="12193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ight Arrow 9"/>
          <p:cNvSpPr/>
          <p:nvPr/>
        </p:nvSpPr>
        <p:spPr>
          <a:xfrm>
            <a:off x="5181480" y="12193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533520" y="2209680"/>
            <a:ext cx="13716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Ide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2819520" y="2209680"/>
            <a:ext cx="2361960" cy="76212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Write Pap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6134040" y="2209680"/>
            <a:ext cx="2362320" cy="7621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Do Re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ight Arrow 13"/>
          <p:cNvSpPr/>
          <p:nvPr/>
        </p:nvSpPr>
        <p:spPr>
          <a:xfrm>
            <a:off x="1905120" y="243828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ight Arrow 14"/>
          <p:cNvSpPr/>
          <p:nvPr/>
        </p:nvSpPr>
        <p:spPr>
          <a:xfrm>
            <a:off x="5181480" y="243828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6"/>
          <p:cNvSpPr/>
          <p:nvPr/>
        </p:nvSpPr>
        <p:spPr>
          <a:xfrm>
            <a:off x="838080" y="838080"/>
            <a:ext cx="7086600" cy="1219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9"/>
          <p:cNvSpPr/>
          <p:nvPr/>
        </p:nvSpPr>
        <p:spPr>
          <a:xfrm flipV="1">
            <a:off x="533520" y="837720"/>
            <a:ext cx="7772400" cy="11430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5:26:29Z</dcterms:created>
  <dc:creator>shilu</dc:creator>
  <dc:description/>
  <dc:language>en-US</dc:language>
  <cp:lastModifiedBy>Hassan Mehedi</cp:lastModifiedBy>
  <dcterms:modified xsi:type="dcterms:W3CDTF">2013-11-12T04:55:35Z</dcterms:modified>
  <cp:revision>588</cp:revision>
  <dc:subject/>
  <dc:title>Slide 1</dc:title>
</cp:coreProperties>
</file>