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26BA-085A-45EB-BE3D-0EFBA95CE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15CC-1966-4CCA-8D0C-5222F8DD0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FBBD-83F3-46C7-80BE-92025BD1B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0480-D901-4575-AC8D-29DE0100F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17C1-D7C8-484E-991B-004EA5E63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AC5E-1350-439B-A477-936AD858F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D017-5DBE-4DB4-93A0-CFE41C9EC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FC19-60A3-4E5B-8772-E728CE74C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4119-D355-41B0-9FF5-77F6D4A35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95E7-1ED8-4632-94EC-A49D78858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2AF2-BDEF-4BE3-B544-EDF1EF0D2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13C8-7061-4939-BD17-0E0E53FD0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971C-500D-4938-B3D9-D66B30C39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2890-5A63-47BB-AB05-3C499577A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6E2A-A1AF-4582-984B-1FDA776AF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6D03-7512-44C1-94E1-9B006CD2F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65CF-6D8B-41E4-A4E5-22AECBF32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4B03-22E7-47E1-A326-6D9F7F70F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BA09-D19C-4E6B-ADA1-4090C704C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D46C-FD42-4907-A97F-BBE14FD4F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6B80-CA46-41C1-B1C8-0F8DE84C4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FC66-EDDD-47F5-831D-DAC3E071C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6FE8-3407-4B8E-ABDC-69843C449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7D6F-4052-4B56-8DC4-0F3BC72EE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1D8F-941B-4485-9969-0E1A4073C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8002-DC72-4E04-9A0D-2ACC30323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231E-E2FF-4D90-8816-0C7F0AA2A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D9A3-3014-47D4-A7B9-4306596D7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3B13-3E5F-4FA0-B9D5-9F92392BE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8BEE-B05D-4128-B694-8BEBE89AD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2858-E223-4965-A768-EEA387D91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5D7B-4559-4205-9CF8-67BF3A3AC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1AD0-D988-43AD-8C48-D09BA26B7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D0C3-B3C8-47B1-AB65-3A4982759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E193-619A-4A2E-AEAE-652D71BCA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9409-4B71-4D03-897F-865389A53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099D-0FB5-4BFC-9F3B-B12BB95E9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8A60-BDD8-4CE6-882E-EFCCDB394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6D8-E52D-41A8-944A-4179196A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64000"/>
            <a:ext cx="822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0B1-C7D0-4143-80C0-B924F12B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5FC-2BE1-47A9-BEC7-9831ED55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76212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76212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6400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6400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6400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789-83C5-4CC0-AC96-39ADA146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460D-D1B0-459C-BE49-A94A0979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A219-2595-41C5-9085-78B3365B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74BA-B58F-4AE8-BA55-FD8E9910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EF09-4D17-4605-A5A4-6B4A9A55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DEED-9E37-4B85-99C8-2A737BAE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72E2-24B4-43B1-BE35-6CACDD4F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A7C2-7915-4EE5-8754-059D3764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7ED-5C71-43A5-A902-BF5EB927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BC5B-23FA-4D00-8BC7-1A4A75D1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64000"/>
            <a:ext cx="822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DC27-03B7-405A-8063-164D4857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64000"/>
            <a:ext cx="822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6675-1FE7-4D55-BEC9-4224C48B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6517-4094-4B19-937B-32B874F0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76212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76212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6400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6400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6400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3944-0E36-4747-8872-5338CDD1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E75-C513-4330-B698-B47CB509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564000"/>
            <a:ext cx="822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564000"/>
            <a:ext cx="822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76212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76212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56400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56400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56400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E34-06D2-48AF-8904-46BDE820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431F-7C65-48FB-B9C2-B228EC42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4B18-A154-43EB-A77E-A31CBE2E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D66-09F6-49DF-B206-C5F5C810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78D3-EDD4-4F61-9DD8-B021C88B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64000"/>
            <a:ext cx="822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5C6E-2814-461D-BFDA-2FD7FDB3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6D26-2CD5-4030-B752-0F1E7CA5C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96AF-D9FC-46CF-A284-DA6A79D24D2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VMware_PwrPoint_Temp_1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mmhassan@ksu.edu.sa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2502000" y="5975280"/>
            <a:ext cx="6642000" cy="8827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600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to Read &amp;Write Good Technical Papers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743200" y="2362320"/>
            <a:ext cx="601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Dr. Mohammad Mehedi Has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Assistant 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Information Systems Department, CC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King Saud University, Riyadh, 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Email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mmhassan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Phone</a:t>
            </a:r>
            <a:r>
              <a:rPr b="0" lang="en-US" sz="2400" spc="-1" strike="noStrike">
                <a:solidFill>
                  <a:srgbClr val="254061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46952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Conveying the Id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Here is a probl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It’s an interesting probl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It’s an unsolved probl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Comic Sans MS"/>
                <a:ea typeface="Arial"/>
              </a:rPr>
              <a:t>Here is my ide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My idea works (details, dat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Here’s how my idea compares to other people’s approach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AE4D-07B5-4852-8B85-5177D731F2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Getting ready to write a pa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What type of paper am I writ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0253f"/>
                </a:solidFill>
                <a:latin typeface="Comic Sans MS"/>
                <a:ea typeface="Arial"/>
              </a:rPr>
              <a:t>conference, journal etc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What do I wish to st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Have I got all the background work with 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Have I organized the pap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What electronic format will I u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0253f"/>
                </a:solidFill>
                <a:latin typeface="Comic Sans MS"/>
                <a:ea typeface="Arial"/>
              </a:rPr>
              <a:t>LaTeX, MS Word, 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AFF0-CB58-4EA0-90F2-8FFC910601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Contents of a pa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Title of the pap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Authors, designations, and address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Abstract (150 to 250 word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Keywor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Sections describing the wor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0253f"/>
                </a:solidFill>
                <a:latin typeface="Comic Sans MS"/>
                <a:ea typeface="Arial"/>
              </a:rPr>
              <a:t>Introduction (Background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0253f"/>
                </a:solidFill>
                <a:latin typeface="Comic Sans MS"/>
                <a:ea typeface="Arial"/>
              </a:rPr>
              <a:t>Previous Work (Literature Survey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0253f"/>
                </a:solidFill>
                <a:latin typeface="Comic Sans MS"/>
                <a:ea typeface="Arial"/>
              </a:rPr>
              <a:t>Proposed Work (Algorithm, Design, Methodology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0253f"/>
                </a:solidFill>
                <a:latin typeface="Comic Sans MS"/>
                <a:ea typeface="Arial"/>
              </a:rPr>
              <a:t>Analysis (Complexity Analysis, Quantitative Analysis, Statistical Analysis, …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0253f"/>
                </a:solidFill>
                <a:latin typeface="Comic Sans MS"/>
                <a:ea typeface="Arial"/>
              </a:rPr>
              <a:t>Implementation and Resul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0253f"/>
                </a:solidFill>
                <a:latin typeface="Comic Sans MS"/>
                <a:ea typeface="Arial"/>
              </a:rPr>
              <a:t>Conclus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A5EE-5236-4BF2-A832-BF26952E27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Should not be too lo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“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Short and Sweet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No Abbreviations or Acrony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(Unless well established terms like PID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Well reflective of your Main Contribu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It should reflect the novel part of your resear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Try to “coin” an attractive (or catchy) tit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Should be followed by Names and Affili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According to the Journal’s or Conference’s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1C33-DF6D-48AC-B2B9-037797DA6AB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Abstr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Usually 1 paragraph, generally between 100-250 word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Major points to inclu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253f"/>
                </a:solidFill>
                <a:latin typeface="Comic Sans MS"/>
                <a:ea typeface="Arial"/>
              </a:rPr>
              <a:t>Problem statement/Overview of current research situation/Moti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253f"/>
                </a:solidFill>
                <a:latin typeface="Comic Sans MS"/>
                <a:ea typeface="Arial"/>
              </a:rPr>
              <a:t>Proposed technique (the main contribution of your pap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253f"/>
                </a:solidFill>
                <a:latin typeface="Comic Sans MS"/>
                <a:ea typeface="Arial"/>
              </a:rPr>
              <a:t>The solution (you should describe the results brief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253f"/>
                </a:solidFill>
                <a:latin typeface="Comic Sans MS"/>
                <a:ea typeface="Arial"/>
              </a:rPr>
              <a:t>A brief co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  <a:ea typeface="Arial"/>
              </a:rPr>
              <a:t>Should Not Includ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void “general motivation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sentences in the abstract should not be repeated later in the paper “word-for-word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void equations and m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CCD3-9E47-492F-BAB0-8A68D16C32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2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7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0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3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Define the probl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omic Sans MS"/>
                <a:ea typeface="Arial"/>
              </a:rPr>
              <a:t>Why is it worth solv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omic Sans MS"/>
                <a:ea typeface="Arial"/>
              </a:rPr>
              <a:t>What did others d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omic Sans MS"/>
                <a:ea typeface="Arial"/>
              </a:rPr>
              <a:t>Why did they not succe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omic Sans MS"/>
                <a:ea typeface="Arial"/>
              </a:rPr>
              <a:t>Why do I believe I did bett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Contribution of the pap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omic Sans MS"/>
                <a:ea typeface="Arial"/>
              </a:rPr>
              <a:t>Is there anything new in the pap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omic Sans MS"/>
                <a:ea typeface="Arial"/>
              </a:rPr>
              <a:t>How good are our resul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omic Sans MS"/>
                <a:ea typeface="Arial"/>
              </a:rPr>
              <a:t>Summary of our approach/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8AA0-7814-47ED-ADB7-062FC5D3E9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6228"/>
                </a:solidFill>
                <a:latin typeface="Arial (heading)"/>
                <a:ea typeface="Arial"/>
              </a:rPr>
              <a:t>Stanford InfoLab’s Patented </a:t>
            </a:r>
            <a:r>
              <a:rPr b="1" lang="en-US" sz="2000" spc="-1" strike="noStrike">
                <a:solidFill>
                  <a:srgbClr val="c00000"/>
                </a:solidFill>
                <a:latin typeface="Arial (heading)"/>
                <a:ea typeface="Arial"/>
              </a:rPr>
              <a:t>5-Point Structure </a:t>
            </a:r>
            <a:r>
              <a:rPr b="1" lang="en-US" sz="2000" spc="-1" strike="noStrike">
                <a:solidFill>
                  <a:srgbClr val="4f6228"/>
                </a:solidFill>
                <a:latin typeface="Arial (heading)"/>
                <a:ea typeface="Arial"/>
              </a:rPr>
              <a:t>for Introd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54061"/>
                </a:solidFill>
                <a:latin typeface="Comic Sans MS"/>
                <a:ea typeface="Arial"/>
              </a:rPr>
              <a:t>What is the problem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6228"/>
                </a:solidFill>
                <a:latin typeface="Comic Sans MS"/>
                <a:ea typeface="Arial"/>
              </a:rPr>
              <a:t>Why is it interesting and important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84807"/>
                </a:solidFill>
                <a:latin typeface="Comic Sans MS"/>
                <a:ea typeface="Arial"/>
              </a:rPr>
              <a:t>Why is it hard? (E.g. why do naive approaches fail?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Comic Sans MS"/>
                <a:ea typeface="Arial"/>
              </a:rPr>
              <a:t>Why hasn’t it been solved before? (Or what’s wrong with previous proposed solutions? How does mine differ?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What are the key components of my approach and results? Also include any specific limit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B1D8-3ECD-4AF2-91B7-E8BDB48D90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5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State Clearly the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1418-C61D-48E5-97A9-D8095B160E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5076720" cy="4724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3286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Related 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Brief description of the existing body of wor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Citations to published wor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In [2], Rosetti and Longfellow described the meaning of life. Wordsworth presented a different view point in [3]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Bring out the specific advantage of your work w.r.t. published work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However, the Rosetti-Longfellow formula [2] fails for technologies below 0.2 micron. In this paper, we extend their formula to the deep submicron domain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42FD-FB1C-4F5A-A9A8-1AF23CDFA81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990720" y="838080"/>
            <a:ext cx="7010280" cy="825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Comic Sans MS"/>
              </a:rPr>
              <a:t>Fallacy: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o make my work look good, I have t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ke other people’s work look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9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4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9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Related 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Point out both advantages and disadvantages of related wor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2060"/>
                </a:solidFill>
                <a:latin typeface="Comic Sans MS"/>
                <a:ea typeface="Arial"/>
              </a:rPr>
              <a:t>(provides context; defuses objections; be honest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Discuss all references that you ci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  <a:ea typeface="Arial"/>
              </a:rPr>
              <a:t>DO NO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Comic Sans MS"/>
                <a:ea typeface="Arial"/>
              </a:rPr>
              <a:t>Write a laundry lis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Comic Sans MS"/>
                <a:ea typeface="Arial"/>
              </a:rPr>
              <a:t>Bash the referenc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Comic Sans MS"/>
                <a:ea typeface="Arial"/>
              </a:rPr>
              <a:t>Include irrelevant referenc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Comic Sans MS"/>
                <a:ea typeface="Arial"/>
              </a:rPr>
              <a:t>Write a paragraph about a very peripheral work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BBDF-AF6F-499D-8439-28B5401854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Arial (heading)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Comic Sans MS"/>
                <a:ea typeface="Arial"/>
              </a:rPr>
              <a:t>What is a technical pape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Comic Sans MS"/>
                <a:ea typeface="Arial"/>
              </a:rPr>
              <a:t>How to read a technical pape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Comic Sans MS"/>
                <a:ea typeface="Arial"/>
              </a:rPr>
              <a:t>Factors affecting writing a Good Pape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Comic Sans MS"/>
                <a:ea typeface="Arial"/>
              </a:rPr>
              <a:t>Contents of a Technical Pap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Comic Sans MS"/>
                <a:ea typeface="Arial"/>
              </a:rPr>
              <a:t>Writing Sty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Comic Sans MS"/>
                <a:ea typeface="Arial"/>
              </a:rPr>
              <a:t>Strategies in Writing a “Good” Pap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Comic Sans MS"/>
                <a:ea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9F56-C931-4578-B0B5-C34DE75B15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Sections and Subs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rganize each section into subsections and (possibly) sub-subs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omic Sans MS"/>
                <a:ea typeface="Arial"/>
              </a:rPr>
              <a:t>1. 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omic Sans MS"/>
                <a:ea typeface="Arial"/>
              </a:rPr>
              <a:t>1.1 Problem Descri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omic Sans MS"/>
                <a:ea typeface="Arial"/>
              </a:rPr>
              <a:t>1.1.1 Inductance Ext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omic Sans MS"/>
                <a:ea typeface="Arial"/>
              </a:rPr>
              <a:t>1.1.2 Transmission Line Mod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9707-DD30-4C91-AAE2-E40C857ED8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The proposed Techn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Can be divided into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several sub-sec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Provide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a general description of the technique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or method you proposed (use block diagrams where appropriat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In another section,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start with the general theory firs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 then followed by your own formul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Write down your algorithms (equations)/strategy and provide explanation on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Figures may be required where necess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BFC5-FA95-400A-B7FE-B2FD2227F9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6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(heading)"/>
                <a:ea typeface="Arial"/>
              </a:rPr>
              <a:t>Hardware/Software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Provide a description of how the software is develope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Computer specs, Programming Languages used, Flowcharts, Block diagrams, etc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Provide sufficient description of the hardware setup/ designe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technical specifications, block diagrams, sensor limitations, components used, photos of the hardware, etc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Highlight the uniqueness of your hardware compared to similar products (if an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358A-914A-4287-88A7-1ABDBFC200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Application of Proposed Techn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Usually new techniques/algorithms are tested using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simul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Provide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a write-up on how the simulation is carried up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including all assumptions used, how important parameters are chosen/selected, etc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Similarly for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hardware application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, describe how the experiments have been carried ou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Only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discuss experiments which are relevant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to show the effectiveness or superiority of the proposed techniqu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2597-2146-4AE5-8A4F-B0E63648E1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Results and Discu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Results can be tabulated in several form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use graphical form where applicabl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Comparison with existing techniqu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Provide discussio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correct analyses of experimental results show the quality of the paper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Always provide answers to why the experiments went such a wa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Every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figure shown in the paper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must be addressed in the tex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What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conclusion can you draw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from your experiment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0957-7D01-4FA0-960D-933A900FAB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Figures and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Number all the figures and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Graphs are also shown as fig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Provide captions for all figures and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omic Sans MS"/>
                <a:ea typeface="Arial"/>
              </a:rPr>
              <a:t>Fig. 3. Floorplan of the SONAR C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Refer to each figure and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omic Sans MS"/>
                <a:ea typeface="Arial"/>
              </a:rPr>
              <a:t>In Figure 3, we show the floorplan of the SONAR Chip as obtained using the MASON softwa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1EA7-80DC-4875-A598-440A925015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Highlight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  <a:ea typeface="Arial"/>
              </a:rPr>
              <a:t>the major advantages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of the technique/method proposed when compared with </a:t>
            </a:r>
            <a:r>
              <a:rPr b="0" lang="fr-FR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other techniqu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  <a:ea typeface="Arial"/>
              </a:rPr>
              <a:t>Don’t just repeat the introduction/abstr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Re-emphasize the novelty of the research wo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Write down the limitations of your research work if any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  <a:ea typeface="Arial"/>
              </a:rPr>
              <a:t>such that reviewers cannot ‘attack’ the weaknesses of the techniq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Write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  <a:ea typeface="Arial"/>
              </a:rPr>
              <a:t>suggestions to improve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the problems or limitations of the proposed technique (such as in future wo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A1DA-C3A5-4B45-AA0D-B79DB05E2D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Refer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References are important in a technical pap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With adequate references, they reflect that you have made a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substantial study/survey of the existing or current techniques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understand their limitations and disadvantages, in short it means you understand the problem statem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All references must be cited in the text of your pap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2ADD-1DB3-446C-B565-8874191033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0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Arial (heading)"/>
                <a:ea typeface="Arial"/>
              </a:rPr>
              <a:t>Language and Style: </a:t>
            </a:r>
            <a:r>
              <a:rPr b="1" lang="en-US" sz="2800" spc="-1" strike="noStrike">
                <a:solidFill>
                  <a:srgbClr val="ffc000"/>
                </a:solidFill>
                <a:latin typeface="Arial (heading)"/>
                <a:ea typeface="Arial"/>
              </a:rPr>
              <a:t>T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Text can be written in either the 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  <a:ea typeface="Arial"/>
              </a:rPr>
              <a:t>past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or 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  <a:ea typeface="Arial"/>
              </a:rPr>
              <a:t>presen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ten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Past tense is 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  <a:ea typeface="Arial"/>
              </a:rPr>
              <a:t>OK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for describing results of an experiment but 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  <a:ea typeface="Arial"/>
              </a:rPr>
              <a:t>use present tense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for a general conclu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We observed that the expression of Bmp4 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WAS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increased. This suggests that the gene 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IS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 regulated by Shh.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Present tense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is more immediate and indicates that a process  is ongo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B3F3-F6B0-45AA-BA2C-8FAA8DAC89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143000" y="5029200"/>
            <a:ext cx="6858000" cy="916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60a"/>
                </a:solidFill>
                <a:latin typeface="Comic Sans MS"/>
              </a:rPr>
              <a:t>WHATEVER TENSE IS USED, BE CONSISTEN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omic Sans MS"/>
              </a:rPr>
              <a:t>DON’T SWITCH BACK AND FORTH IN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omic Sans MS"/>
              </a:rPr>
              <a:t>PARAGRAPH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Visual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Give strong visual structure to your paper us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sections and sub-sec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Bulle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Italic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laid-out cod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Find out how to draw pictures, and use the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Paragraph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 are important to break the text up into readable uni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The first and last sentence of a paragraph is most import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B9E6-229B-4F6D-A705-1B0087A112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What is a technical pap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A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brief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 and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to-the-poin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 document which describes a body of technical wor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There are many types of technical pap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54061"/>
                </a:solidFill>
                <a:latin typeface="Comic Sans MS"/>
                <a:ea typeface="Arial"/>
              </a:rPr>
              <a:t>Survey pap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54061"/>
                </a:solidFill>
                <a:latin typeface="Comic Sans MS"/>
                <a:ea typeface="Arial"/>
              </a:rPr>
              <a:t>Journal pap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54061"/>
                </a:solidFill>
                <a:latin typeface="Comic Sans MS"/>
                <a:ea typeface="Arial"/>
              </a:rPr>
              <a:t>Conference pap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54061"/>
                </a:solidFill>
                <a:latin typeface="Comic Sans MS"/>
                <a:ea typeface="Arial"/>
              </a:rPr>
              <a:t>Lett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6F5C-50D7-4DB0-A6E3-1F4DD07BEB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Visual Structure-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88F8-3992-4952-AE14-6231D73F56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365040" y="749160"/>
            <a:ext cx="821232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Use the Active V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The passive voice is “respectable” but it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  <a:ea typeface="Arial"/>
              </a:rPr>
              <a:t>DEADEN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 your paper.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  <a:ea typeface="Arial"/>
              </a:rPr>
              <a:t>Avoid it at all co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9C6C-90CC-401F-8CDD-034FCF24FE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401320" cy="36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Use Simple, Direct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65C3-4A19-4B4C-9C7B-7CB1B88484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127160" y="974880"/>
            <a:ext cx="739440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0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Frequent Errors Writing a Pa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Avoid excessive use of </a:t>
            </a:r>
            <a:r>
              <a:rPr b="0" lang="en-US" sz="2500" spc="-1" strike="noStrike">
                <a:solidFill>
                  <a:srgbClr val="c0504d"/>
                </a:solidFill>
                <a:latin typeface="Comic Sans MS"/>
                <a:ea typeface="Arial"/>
              </a:rPr>
              <a:t>boring verb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such as “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  <a:ea typeface="Arial"/>
              </a:rPr>
              <a:t>show, observe, occur, exhibit…..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Avoid </a:t>
            </a:r>
            <a:r>
              <a:rPr b="0" lang="en-US" sz="2500" spc="-1" strike="noStrike">
                <a:solidFill>
                  <a:srgbClr val="c0504d"/>
                </a:solidFill>
                <a:latin typeface="Comic Sans MS"/>
                <a:ea typeface="Arial"/>
              </a:rPr>
              <a:t>complex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ways of saying a </a:t>
            </a:r>
            <a:r>
              <a:rPr b="0" lang="en-US" sz="2500" spc="-1" strike="noStrike">
                <a:solidFill>
                  <a:srgbClr val="c0504d"/>
                </a:solidFill>
                <a:latin typeface="Comic Sans MS"/>
                <a:ea typeface="Arial"/>
              </a:rPr>
              <a:t>simpl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th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“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The results showed that dog weight increased” versus “The dogs weighed more”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0d0d"/>
                </a:solidFill>
                <a:latin typeface="Comic Sans MS"/>
                <a:ea typeface="Arial"/>
              </a:rPr>
              <a:t>Use of “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  <a:ea typeface="Arial"/>
              </a:rPr>
              <a:t>suggest that </a:t>
            </a:r>
            <a:r>
              <a:rPr b="0" lang="en-US" sz="2500" spc="-1" strike="noStrike">
                <a:solidFill>
                  <a:srgbClr val="0d0d0d"/>
                </a:solidFill>
                <a:latin typeface="Comic Sans MS"/>
                <a:ea typeface="Arial"/>
              </a:rPr>
              <a:t>….” ; “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  <a:ea typeface="Arial"/>
              </a:rPr>
              <a:t>hypothesize that</a:t>
            </a:r>
            <a:r>
              <a:rPr b="0" lang="en-US" sz="2500" spc="-1" strike="noStrike">
                <a:solidFill>
                  <a:srgbClr val="0d0d0d"/>
                </a:solidFill>
                <a:latin typeface="Comic Sans MS"/>
                <a:ea typeface="Arial"/>
              </a:rPr>
              <a:t>….” “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  <a:ea typeface="Arial"/>
              </a:rPr>
              <a:t>possible that</a:t>
            </a:r>
            <a:r>
              <a:rPr b="0" lang="en-US" sz="2500" spc="-1" strike="noStrike">
                <a:solidFill>
                  <a:srgbClr val="0d0d0d"/>
                </a:solidFill>
                <a:latin typeface="Comic Sans MS"/>
                <a:ea typeface="Arial"/>
              </a:rPr>
              <a:t>….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These phrases do not need “may”, “might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e.g. “Our results suggest that Hoxa3 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may be involved 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in thymus development”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(not correct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Our results suggest that 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Hoxa3 is involved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n thymus development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” (</a:t>
            </a:r>
            <a:r>
              <a:rPr b="0" lang="en-US" sz="2300" spc="-1" strike="noStrike">
                <a:solidFill>
                  <a:srgbClr val="ffc000"/>
                </a:solidFill>
                <a:latin typeface="Comic Sans MS"/>
                <a:ea typeface="Arial"/>
              </a:rPr>
              <a:t>correct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A65E-48E2-436D-B587-A5B8A1E76C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1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0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3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6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Before Sending to the Jour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Have the paper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read by several peop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Listen to what they say, especially if same criticism comes up several tim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Check and recheck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spelling, figures, references,  legend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 etc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Reviewers can be really annoyed by careless editing and mistakes reflect badly on your scienc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Make sure you have followed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all the requirements of the  journal abou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 electronic submission et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C669-BCA5-41B9-B5F8-4324C3A114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0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9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2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5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32523"/>
                </a:solidFill>
                <a:latin typeface="Arial (heading)"/>
                <a:ea typeface="Arial"/>
              </a:rPr>
              <a:t>Some Strategies in Writing a “Good” Paper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Identify the novelty of the research wor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Study related works and 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compare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 your approa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Identify the 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current problems and limita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Find how 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to overcome 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the limita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List down the strengths and weaknesses of the proposed techniqu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Do not allow 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reviewers to attack 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your weakness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Provide a good analysis on the research resul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Do not just 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write down what has been observed 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from your experimen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Explain 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why these observations 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are ‘so and so’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Provide a 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summary of results 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and how results led to the conclusio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B3ED-7614-4DC9-B7AB-1708B30315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0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5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1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4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7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0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3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6" dur="5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9" dur="5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Arial (heading)"/>
                <a:ea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If you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remember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 nothing els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Identify your key ide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Make your contributions explici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Use examples to describe the ide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4D0E-AF41-4B7D-9DB9-1CA97C81FB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writer.jpg"/>
          <p:cNvPicPr/>
          <p:nvPr/>
        </p:nvPicPr>
        <p:blipFill>
          <a:blip r:embed="rId1"/>
          <a:stretch/>
        </p:blipFill>
        <p:spPr>
          <a:xfrm>
            <a:off x="2041560" y="2670120"/>
            <a:ext cx="453060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0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4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8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524E-CEED-4579-A77A-518CB308C0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338120" y="762120"/>
            <a:ext cx="590076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How to read technical pap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Should not read everyth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Know what’s going on (e.g., scanning proceeding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title, authors, abstrac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Papers in your broad research are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introduction, motivation, solution description, summary, conclus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sometimes reading more details useful, but not alway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Papers you may want to improve 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read entire paper carefull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8E23-79EC-4A89-AEB0-B50969EE6D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What to note after read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Authors and research grou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Comic Sans MS"/>
                <a:ea typeface="Arial"/>
              </a:rPr>
              <a:t>Need to know where to look for a paper on particular topic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Theme of  the solu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Comic Sans MS"/>
                <a:ea typeface="Arial"/>
              </a:rPr>
              <a:t>Should be able to go back to the paper if you need more inf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Approach to performance evalu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Note any shortcoming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6EDF-EF96-4602-878F-C582C066CFE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Papers Communicate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000"/>
                </a:solidFill>
                <a:latin typeface="Comic Sans MS"/>
                <a:ea typeface="Arial"/>
              </a:rPr>
              <a:t>Our goal: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to infect the mind of our reader with </a:t>
            </a:r>
            <a:r>
              <a:rPr b="1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our idea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, like a viru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Papers are far more durable than progra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6120-FA6C-4624-8D78-CA0016516BB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990720" y="3429000"/>
            <a:ext cx="7010280" cy="76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Comic Sans MS"/>
              </a:rPr>
              <a:t>Fallacy: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The greatest ideas are (literally) worthless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 if you keep them to your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Factors affecting writing a Good Pap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omic Sans MS"/>
                <a:ea typeface="Arial"/>
              </a:rPr>
              <a:t>Good Research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omic Sans MS"/>
                <a:ea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omic Sans MS"/>
                <a:ea typeface="Arial"/>
              </a:rPr>
              <a:t>Need to be ‘focus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omic Sans MS"/>
                <a:ea typeface="Arial"/>
              </a:rPr>
              <a:t>Careful Planning and Need to be‘Creative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omic Sans MS"/>
                <a:ea typeface="Arial"/>
              </a:rPr>
              <a:t>Organization of the Pa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omic Sans MS"/>
                <a:ea typeface="Arial"/>
              </a:rPr>
              <a:t>Writing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omic Sans MS"/>
                <a:ea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07CF-8EA1-4E98-B3F0-20B19999F2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Writing Papers Model: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C85A-FC10-4E15-B17F-B9F575F217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33520" y="990720"/>
            <a:ext cx="137160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Ide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2819520" y="990720"/>
            <a:ext cx="2361960" cy="7617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Do Re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6134040" y="990720"/>
            <a:ext cx="2362320" cy="7617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Write Pap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ight Arrow 8"/>
          <p:cNvSpPr/>
          <p:nvPr/>
        </p:nvSpPr>
        <p:spPr>
          <a:xfrm>
            <a:off x="1905120" y="12193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ight Arrow 9"/>
          <p:cNvSpPr/>
          <p:nvPr/>
        </p:nvSpPr>
        <p:spPr>
          <a:xfrm>
            <a:off x="5181480" y="12193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Writing Papers Model: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Forces us to be clear, focus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Crystallizes what we don’t underst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The purpose of our research i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  <a:ea typeface="Arial"/>
              </a:rPr>
              <a:t>To convey OUR ID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15FB-4CD6-4FCC-833A-AB15124F9E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533520" y="990720"/>
            <a:ext cx="137160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Ide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2819520" y="990720"/>
            <a:ext cx="2361960" cy="7617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Do Re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6134040" y="990720"/>
            <a:ext cx="2362320" cy="7617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Write Pap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ight Arrow 8"/>
          <p:cNvSpPr/>
          <p:nvPr/>
        </p:nvSpPr>
        <p:spPr>
          <a:xfrm>
            <a:off x="1905120" y="12193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ight Arrow 9"/>
          <p:cNvSpPr/>
          <p:nvPr/>
        </p:nvSpPr>
        <p:spPr>
          <a:xfrm>
            <a:off x="5181480" y="12193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533520" y="2209680"/>
            <a:ext cx="13716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Ide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2819520" y="2209680"/>
            <a:ext cx="2361960" cy="7621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Write Pap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6134040" y="2209680"/>
            <a:ext cx="2362320" cy="7621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Do Re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ight Arrow 13"/>
          <p:cNvSpPr/>
          <p:nvPr/>
        </p:nvSpPr>
        <p:spPr>
          <a:xfrm>
            <a:off x="1905120" y="243828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ight Arrow 14"/>
          <p:cNvSpPr/>
          <p:nvPr/>
        </p:nvSpPr>
        <p:spPr>
          <a:xfrm>
            <a:off x="5181480" y="243828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6"/>
          <p:cNvSpPr/>
          <p:nvPr/>
        </p:nvSpPr>
        <p:spPr>
          <a:xfrm>
            <a:off x="838080" y="838080"/>
            <a:ext cx="7086600" cy="1219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9"/>
          <p:cNvSpPr/>
          <p:nvPr/>
        </p:nvSpPr>
        <p:spPr>
          <a:xfrm flipV="1">
            <a:off x="533520" y="837720"/>
            <a:ext cx="7772400" cy="11430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5:26:29Z</dcterms:created>
  <dc:creator>shilu</dc:creator>
  <dc:description/>
  <dc:language>en-US</dc:language>
  <cp:lastModifiedBy>Hassan Mehedi</cp:lastModifiedBy>
  <dcterms:modified xsi:type="dcterms:W3CDTF">2013-11-12T04:55:35Z</dcterms:modified>
  <cp:revision>588</cp:revision>
  <dc:subject/>
  <dc:title>Slide 1</dc:title>
</cp:coreProperties>
</file>