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7812-98C0-4627-B26F-E8289F7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62B0-0B8E-4999-8423-8F60344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6358-CBB4-48BE-81B9-804B4F6B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DC57-CC90-40F2-BD27-FA2769CE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7A2-2A8C-4E48-8806-50D99E4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9872-1560-4E03-949F-648D9E0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BAA2-B417-4F17-BA67-DDC7E9C0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0F3-C477-4C67-817D-4028592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99A-99E9-4CFF-B685-298102A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1C01-81F5-4C58-B62D-2825396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4FB6-80BF-4CCC-A9CE-3469DA30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B3B1-CF2F-4F72-A033-AF2CFAE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7D55-9F7C-4DE1-8CB1-5A289D7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3031-8F4E-4E06-83BA-687C28F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898-8E5A-4EF5-B00B-D600A51C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357-2918-4954-A0C7-954C55AA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E7C-D2F2-461D-9689-5606FACB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0CCF-6BD7-4004-9523-F43AF6EF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EC57-2E14-469F-B1F7-4DF5845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10F5-9929-4BEE-B648-925F40B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475F-815B-4A0E-96D2-C51657B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6972-6184-495C-BE79-0A9C7CD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D9CC-7D3E-4ECC-B192-12060B0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BC48-EC97-4DA7-B1D2-2FE5D5A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B57-1D2B-4679-9F95-767389A2D560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610480" y="6143760"/>
            <a:ext cx="497160" cy="68580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9"/>
          <p:cNvSpPr/>
          <p:nvPr/>
        </p:nvSpPr>
        <p:spPr>
          <a:xfrm>
            <a:off x="8534520" y="7632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994D-4BE2-4B5E-B322-0AAFC5FD1520}" type="slidenum">
              <a:rPr b="0" lang="zh-CN" sz="1800" spc="-1" strike="noStrike">
                <a:solidFill>
                  <a:srgbClr val="00cc99"/>
                </a:solidFill>
                <a:latin typeface="Arial Black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21"/>
          <p:cNvGrpSpPr/>
          <p:nvPr/>
        </p:nvGrpSpPr>
        <p:grpSpPr>
          <a:xfrm>
            <a:off x="152280" y="243000"/>
            <a:ext cx="8516880" cy="1128600"/>
            <a:chOff x="152280" y="243000"/>
            <a:chExt cx="8516880" cy="1128600"/>
          </a:xfrm>
        </p:grpSpPr>
        <p:sp>
          <p:nvSpPr>
            <p:cNvPr id="68" name="Rectangle 22"/>
            <p:cNvSpPr/>
            <p:nvPr/>
          </p:nvSpPr>
          <p:spPr>
            <a:xfrm>
              <a:off x="417600" y="544680"/>
              <a:ext cx="438120" cy="47448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800280" y="571680"/>
              <a:ext cx="326880" cy="474480"/>
            </a:xfrm>
            <a:prstGeom prst="rect">
              <a:avLst/>
            </a:prstGeom>
            <a:gradFill rotWithShape="0">
              <a:gsLst>
                <a:gs pos="0">
                  <a:srgbClr val="9dc2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>
              <a:off x="533520" y="896760"/>
              <a:ext cx="422280" cy="474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>
              <a:off x="909720" y="896760"/>
              <a:ext cx="369720" cy="474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152280" y="7207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762120" y="243000"/>
              <a:ext cx="31680" cy="10522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442800" y="11113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0" descr=""/>
          <p:cNvPicPr/>
          <p:nvPr/>
        </p:nvPicPr>
        <p:blipFill>
          <a:blip r:embed="rId2"/>
          <a:stretch/>
        </p:blipFill>
        <p:spPr>
          <a:xfrm>
            <a:off x="8610480" y="6143760"/>
            <a:ext cx="49716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2EF7-BCC8-4120-8396-241C220A9D2A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72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istance and Tractive Effor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8" descr="Amtrak_Main.gif"/>
          <p:cNvPicPr/>
          <p:nvPr/>
        </p:nvPicPr>
        <p:blipFill>
          <a:blip r:embed="rId1"/>
          <a:stretch/>
        </p:blipFill>
        <p:spPr>
          <a:xfrm>
            <a:off x="609480" y="1905120"/>
            <a:ext cx="775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354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34920" y="954000"/>
            <a:ext cx="880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00"/>
                </a:solidFill>
                <a:latin typeface="Arial"/>
                <a:ea typeface="Arial"/>
              </a:rPr>
              <a:t>Resistan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How much work is required to mov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6"/>
          <p:cNvSpPr/>
          <p:nvPr/>
        </p:nvSpPr>
        <p:spPr>
          <a:xfrm rot="16200000">
            <a:off x="2476440" y="7999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90520" y="2967120"/>
            <a:ext cx="32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Train Re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3505320"/>
            <a:ext cx="7521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Rolling Resistance (On Level Tangent Tr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iction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el, track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erodynamics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Grade &amp; Curv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k Pro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ignment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43200" y="129528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av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 equation (Total Res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62040" y="2028960"/>
            <a:ext cx="41040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1.3 W + 29N + bWV + CAV</a:t>
            </a:r>
            <a:r>
              <a:rPr b="1" i="1" lang="en-US" sz="1800" spc="-1" strike="noStrike" baseline="46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3520" y="2790720"/>
            <a:ext cx="77724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= Resistance i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 = Weight, 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Number of ax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= velocity mi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= an experimental friction co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= cross-sectional area of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 drag coefficient based on the shape of the front of the train and other features affecting air turbulenc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52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asurement of train res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2720" y="6858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commended values for “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avi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”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676520"/>
          <a:ext cx="7848720" cy="3581280"/>
        </p:xfrm>
        <a:graphic>
          <a:graphicData uri="http://schemas.openxmlformats.org/drawingml/2006/table">
            <a:tbl>
              <a:tblPr/>
              <a:tblGrid>
                <a:gridCol w="3687840"/>
                <a:gridCol w="1544400"/>
                <a:gridCol w="1300320"/>
                <a:gridCol w="1316160"/>
              </a:tblGrid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ment 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q.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ives -50 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s and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ight c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38200" y="9478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ctive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33520" y="1295280"/>
            <a:ext cx="8153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ve Effort or Tractive Force, is the amount of force at the wheels available for moving a tr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2975040" y="2908440"/>
            <a:ext cx="2712960" cy="792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116000" y="39625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tive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wer h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velocity in mi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543600" y="4572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3520" y="10666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5,000 horsepower locomotives at 85% efficiency will it take to provide the pull of the 77,450 lb. if the resistance of each engine is 1,200 lb. At a speed 90 mi/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09760" y="19810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7" descr=""/>
          <p:cNvPicPr/>
          <p:nvPr/>
        </p:nvPicPr>
        <p:blipFill>
          <a:blip r:embed="rId1"/>
          <a:stretch/>
        </p:blipFill>
        <p:spPr>
          <a:xfrm>
            <a:off x="3213000" y="2511360"/>
            <a:ext cx="2718000" cy="7923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8" descr=""/>
          <p:cNvPicPr/>
          <p:nvPr/>
        </p:nvPicPr>
        <p:blipFill>
          <a:blip r:embed="rId2"/>
          <a:stretch/>
        </p:blipFill>
        <p:spPr>
          <a:xfrm>
            <a:off x="1359000" y="4803840"/>
            <a:ext cx="6127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9" descr=""/>
          <p:cNvPicPr/>
          <p:nvPr/>
        </p:nvPicPr>
        <p:blipFill>
          <a:blip r:embed="rId3"/>
          <a:stretch/>
        </p:blipFill>
        <p:spPr>
          <a:xfrm>
            <a:off x="1474920" y="4114800"/>
            <a:ext cx="6121440" cy="463680"/>
          </a:xfrm>
          <a:prstGeom prst="rect">
            <a:avLst/>
          </a:prstGeom>
          <a:ln w="0">
            <a:noFill/>
          </a:ln>
        </p:spPr>
      </p:pic>
      <p:pic>
        <p:nvPicPr>
          <p:cNvPr id="141" name="Rectangle 10" descr=""/>
          <p:cNvPicPr/>
          <p:nvPr/>
        </p:nvPicPr>
        <p:blipFill>
          <a:blip r:embed="rId4"/>
          <a:stretch/>
        </p:blipFill>
        <p:spPr>
          <a:xfrm>
            <a:off x="1663560" y="3279600"/>
            <a:ext cx="6121440" cy="804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872440" y="5715000"/>
            <a:ext cx="26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Locomo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llas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28600" y="131436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ayer of broken stones, gravel or any granular material placed and packed below and around sleepers mainly to distribute load from sleeper to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562720" y="1152360"/>
            <a:ext cx="3171600" cy="2724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228600" y="2782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everal types are used around the world but mainly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rushed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04920" y="4038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n KSA: crushed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meston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is used for most of the track lines especially in the central region (Riyadh are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77880" y="5562720"/>
            <a:ext cx="7543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The limestone ballast stone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hemically bond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to each other resulting in the track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osing its elas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loud Callout 8"/>
          <p:cNvSpPr/>
          <p:nvPr/>
        </p:nvSpPr>
        <p:spPr>
          <a:xfrm>
            <a:off x="4329000" y="4684680"/>
            <a:ext cx="3519720" cy="649440"/>
          </a:xfrm>
          <a:prstGeom prst="cloudCallout">
            <a:avLst>
              <a:gd name="adj1" fmla="val -71050"/>
              <a:gd name="adj2" fmla="val -5711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ut the problem  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898360" y="685800"/>
            <a:ext cx="308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ahoma"/>
              </a:rPr>
              <a:t>Functions of Ball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0880" y="1295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vides level and hard bed for the sleep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Holds the sleeper in position during passage of train (lateral and longitudinal stability of the trac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transfers and distribute the load from sleepers to larger  area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provides resilience and elasticity to the track  (leads to comfort and riding qua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provides proper and effective drainage to the tr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438280" y="3371760"/>
            <a:ext cx="4572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il Sleep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33520" y="1600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leepers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re members generally laid transverse to the rails on which the rails are supported and fix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67344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533520" y="2914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main purpose/ Fun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sleepers is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h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of the train to the ball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ction as well as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tain gau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1721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imber or wooden sleepers {hardwood, softwoo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etal sleepers {cast iron or steel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crete Sleepers {Reinforced, Pre-stresse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2120" y="44956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Arial"/>
              </a:rPr>
              <a:t>Sleepers typ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0:08:18Z</dcterms:created>
  <dc:creator>MACTEC Employee</dc:creator>
  <dc:description/>
  <dc:language>en-US</dc:language>
  <cp:lastModifiedBy>Eng-Helmi</cp:lastModifiedBy>
  <dcterms:modified xsi:type="dcterms:W3CDTF">2016-02-23T21:16:56Z</dcterms:modified>
  <cp:revision>293</cp:revision>
  <dc:subject/>
  <dc:title>Slide 1</dc:title>
</cp:coreProperties>
</file>