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3B6C-097D-42DF-8D80-A1A59742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5FFAA-A309-49B6-BA54-7407C35A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09D1-9A5C-47B8-B649-03C6DD48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CAE0-FFC1-4E83-B3BE-F8693226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FF80-B730-4760-A369-3E70EB19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9CED-5CE2-481E-8821-48124E3A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1E52-BA84-43FD-8AAB-7664E655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6F96-499F-4741-ACD2-189BC111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14FC-AF4B-48E6-A993-E1CCDA01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7BEE-4946-4137-B1F3-F9F7DDAB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B65E-2802-4194-BBE9-8BDF3E17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A783-4D18-4C75-92CA-B02C1FE1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533A-9A4B-4768-A75B-089174EB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114C-5013-4AA2-B2CE-20B7829C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DA12-9C16-455B-AB1E-A70C1029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CAD8-615C-4F3F-BDD2-C4E52835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9F73-5602-4AFA-843E-012A0C1F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A669-FC6B-41B2-BEA3-EA26ECE3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47FC-CFBB-43DA-936F-28E3991E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1CAA-D28B-4823-A203-2FBF107A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87EE-3953-4500-8268-5E14EE82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DE1B-80BE-4D80-B5F8-6A0B3A31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22F4-1F76-4460-BF61-FC2824FD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5C31-ED35-420C-A223-61A45F49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5040-3655-47FB-8CB9-1A63414FC86A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8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8610480" y="6143760"/>
            <a:ext cx="497160" cy="68580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9"/>
          <p:cNvSpPr/>
          <p:nvPr/>
        </p:nvSpPr>
        <p:spPr>
          <a:xfrm>
            <a:off x="8534520" y="76320"/>
            <a:ext cx="533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E63C-4DAA-419F-AEC8-DE526670B7DD}" type="slidenum">
              <a:rPr b="0" lang="zh-CN" sz="1800" spc="-1" strike="noStrike">
                <a:solidFill>
                  <a:srgbClr val="00cc99"/>
                </a:solidFill>
                <a:latin typeface="Arial Black"/>
                <a:ea typeface="SimSu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Group 21"/>
          <p:cNvGrpSpPr/>
          <p:nvPr/>
        </p:nvGrpSpPr>
        <p:grpSpPr>
          <a:xfrm>
            <a:off x="152280" y="243000"/>
            <a:ext cx="8516880" cy="1128600"/>
            <a:chOff x="152280" y="243000"/>
            <a:chExt cx="8516880" cy="1128600"/>
          </a:xfrm>
        </p:grpSpPr>
        <p:sp>
          <p:nvSpPr>
            <p:cNvPr id="68" name="Rectangle 22"/>
            <p:cNvSpPr/>
            <p:nvPr/>
          </p:nvSpPr>
          <p:spPr>
            <a:xfrm>
              <a:off x="417600" y="544680"/>
              <a:ext cx="438120" cy="47448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3"/>
            <p:cNvSpPr/>
            <p:nvPr/>
          </p:nvSpPr>
          <p:spPr>
            <a:xfrm>
              <a:off x="800280" y="571680"/>
              <a:ext cx="326880" cy="474480"/>
            </a:xfrm>
            <a:prstGeom prst="rect">
              <a:avLst/>
            </a:prstGeom>
            <a:gradFill rotWithShape="0">
              <a:gsLst>
                <a:gs pos="0">
                  <a:srgbClr val="9dc2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4"/>
            <p:cNvSpPr/>
            <p:nvPr/>
          </p:nvSpPr>
          <p:spPr>
            <a:xfrm>
              <a:off x="533520" y="896760"/>
              <a:ext cx="422280" cy="474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5"/>
            <p:cNvSpPr/>
            <p:nvPr/>
          </p:nvSpPr>
          <p:spPr>
            <a:xfrm>
              <a:off x="909720" y="896760"/>
              <a:ext cx="369720" cy="4748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6"/>
            <p:cNvSpPr/>
            <p:nvPr/>
          </p:nvSpPr>
          <p:spPr>
            <a:xfrm>
              <a:off x="152280" y="72072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762120" y="243000"/>
              <a:ext cx="31680" cy="10522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442800" y="11113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98560"/>
                  <a:tab algn="l" pos="1797120"/>
                  <a:tab algn="l" pos="2695680"/>
                  <a:tab algn="l" pos="3594240"/>
                  <a:tab algn="l" pos="4492800"/>
                  <a:tab algn="l" pos="5391000"/>
                  <a:tab algn="l" pos="6289560"/>
                  <a:tab algn="l" pos="7188120"/>
                  <a:tab algn="l" pos="8086680"/>
                  <a:tab algn="l" pos="8985240"/>
                  <a:tab algn="l" pos="988380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30" descr=""/>
          <p:cNvPicPr/>
          <p:nvPr/>
        </p:nvPicPr>
        <p:blipFill>
          <a:blip r:embed="rId2"/>
          <a:stretch/>
        </p:blipFill>
        <p:spPr>
          <a:xfrm>
            <a:off x="8610480" y="6143760"/>
            <a:ext cx="497160" cy="685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8873-2A24-4EA1-9E0C-B9B162AEA615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72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istance and Tractive Effort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8" descr="Amtrak_Main.gif"/>
          <p:cNvPicPr/>
          <p:nvPr/>
        </p:nvPicPr>
        <p:blipFill>
          <a:blip r:embed="rId1"/>
          <a:stretch/>
        </p:blipFill>
        <p:spPr>
          <a:xfrm>
            <a:off x="609480" y="1905120"/>
            <a:ext cx="775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35480" cy="1447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34920" y="954000"/>
            <a:ext cx="880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00"/>
                </a:solidFill>
                <a:latin typeface="Arial"/>
                <a:ea typeface="Arial"/>
              </a:rPr>
              <a:t>Resistan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How much work is required to move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6"/>
          <p:cNvSpPr/>
          <p:nvPr/>
        </p:nvSpPr>
        <p:spPr>
          <a:xfrm rot="16200000">
            <a:off x="2476440" y="7999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290520" y="2967120"/>
            <a:ext cx="32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Train Res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3505320"/>
            <a:ext cx="7521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l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Arial"/>
              </a:rPr>
              <a:t>Rolling Resistance (On Level Tangent Tr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iction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el, track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erodynamics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Arial"/>
              </a:rPr>
              <a:t>Grade &amp; Curve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k Pro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ignment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943200" y="1295280"/>
            <a:ext cx="49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avi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” equation (Total Res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62040" y="2028960"/>
            <a:ext cx="41040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1.3 W + 29N + bWV + CAV</a:t>
            </a:r>
            <a:r>
              <a:rPr b="1" i="1" lang="en-US" sz="1800" spc="-1" strike="noStrike" baseline="46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3520" y="2790720"/>
            <a:ext cx="77724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 = Resistance in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 = Weight, 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Number of ax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= velocity mi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 = an experimental friction co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= cross-sectional area of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= drag coefficient based on the shape of the front of the train and other features affecting air turbulenc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39996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52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easurement of train resi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62720" y="6858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commended values for “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avi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”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676520"/>
          <a:ext cx="7848720" cy="3581280"/>
        </p:xfrm>
        <a:graphic>
          <a:graphicData uri="http://schemas.openxmlformats.org/drawingml/2006/table">
            <a:tbl>
              <a:tblPr/>
              <a:tblGrid>
                <a:gridCol w="3687840"/>
                <a:gridCol w="1544400"/>
                <a:gridCol w="1300320"/>
                <a:gridCol w="1316160"/>
              </a:tblGrid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ipment 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d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q.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d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d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de2e2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omotives -50 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s and 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ight c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538200" y="94788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active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533520" y="1295280"/>
            <a:ext cx="8153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ive Effort or Tractive Force, is the amount of force at the wheels available for moving a tr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Rectangle 2" descr=""/>
          <p:cNvPicPr/>
          <p:nvPr/>
        </p:nvPicPr>
        <p:blipFill>
          <a:blip r:embed="rId1"/>
          <a:stretch/>
        </p:blipFill>
        <p:spPr>
          <a:xfrm>
            <a:off x="2975040" y="2908440"/>
            <a:ext cx="2712960" cy="792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1116000" y="39625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tive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ower h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velocity in mi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543600" y="4572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33520" y="106668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5,000 horsepower locomotives at 85% efficiency will it take to provide the pull of the 77,450 lb. if the resistance of each engine is 1,200 lb. At a speed 90 mi/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09760" y="198108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ctangle 7" descr=""/>
          <p:cNvPicPr/>
          <p:nvPr/>
        </p:nvPicPr>
        <p:blipFill>
          <a:blip r:embed="rId1"/>
          <a:stretch/>
        </p:blipFill>
        <p:spPr>
          <a:xfrm>
            <a:off x="3213000" y="2511360"/>
            <a:ext cx="2718000" cy="79236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8" descr=""/>
          <p:cNvPicPr/>
          <p:nvPr/>
        </p:nvPicPr>
        <p:blipFill>
          <a:blip r:embed="rId2"/>
          <a:stretch/>
        </p:blipFill>
        <p:spPr>
          <a:xfrm>
            <a:off x="1359000" y="4803840"/>
            <a:ext cx="612756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9" descr=""/>
          <p:cNvPicPr/>
          <p:nvPr/>
        </p:nvPicPr>
        <p:blipFill>
          <a:blip r:embed="rId3"/>
          <a:stretch/>
        </p:blipFill>
        <p:spPr>
          <a:xfrm>
            <a:off x="1474920" y="4114800"/>
            <a:ext cx="6121440" cy="463680"/>
          </a:xfrm>
          <a:prstGeom prst="rect">
            <a:avLst/>
          </a:prstGeom>
          <a:ln w="0">
            <a:noFill/>
          </a:ln>
        </p:spPr>
      </p:pic>
      <p:pic>
        <p:nvPicPr>
          <p:cNvPr id="141" name="Rectangle 10" descr=""/>
          <p:cNvPicPr/>
          <p:nvPr/>
        </p:nvPicPr>
        <p:blipFill>
          <a:blip r:embed="rId4"/>
          <a:stretch/>
        </p:blipFill>
        <p:spPr>
          <a:xfrm>
            <a:off x="1663560" y="3279600"/>
            <a:ext cx="6121440" cy="804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2872440" y="5715000"/>
            <a:ext cx="26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ke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Locomo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llas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28600" y="131436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ayer of broken stones, gravel or any granular material placed and packed below and around sleepers mainly to distribute load from sleeper to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562720" y="1152360"/>
            <a:ext cx="3171600" cy="27244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228600" y="27828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Several types are used around the world but mainly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rushed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04920" y="40384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In KSA: crushed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meston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is used for most of the track lines especially in the central region (Riyadh are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77880" y="5562720"/>
            <a:ext cx="7543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The limestone ballast stone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hemically bond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to each other resulting in the track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osing its elast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loud Callout 8"/>
          <p:cNvSpPr/>
          <p:nvPr/>
        </p:nvSpPr>
        <p:spPr>
          <a:xfrm>
            <a:off x="4329000" y="4684680"/>
            <a:ext cx="3519720" cy="649440"/>
          </a:xfrm>
          <a:prstGeom prst="cloudCallout">
            <a:avLst>
              <a:gd name="adj1" fmla="val -71050"/>
              <a:gd name="adj2" fmla="val -5711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ut the problem  i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898360" y="685800"/>
            <a:ext cx="308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  <a:ea typeface="Tahoma"/>
              </a:rPr>
              <a:t>Functions of Balla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80880" y="12952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vides level and hard bed for the sleepe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Holds the sleeper in position during passage of train (lateral and longitudinal stability of the trac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It transfers and distribute the load from sleepers to larger  area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It provides resilience and elasticity to the track  (leads to comfort and riding qualit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It provides proper and effective drainage to the tr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438280" y="3371760"/>
            <a:ext cx="4572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il Sleep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533520" y="1600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Sleepers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re members generally laid transverse to the rails on which the rails are supported and fixe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673440" cy="3048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533520" y="2914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main purpose/ Fun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sleepers is t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h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d of the train to the balla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ection as well as t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tain gau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1721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imber or wooden sleepers {hardwood, softwood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etal sleepers {cast iron or steel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oncrete Sleepers {Reinforced, Pre-stressed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62120" y="44956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ff0000"/>
                </a:solidFill>
                <a:latin typeface="Arial"/>
              </a:rPr>
              <a:t>Sleepers typ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20:08:18Z</dcterms:created>
  <dc:creator>MACTEC Employee</dc:creator>
  <dc:description/>
  <dc:language>en-US</dc:language>
  <cp:lastModifiedBy>Eng-Helmi</cp:lastModifiedBy>
  <dcterms:modified xsi:type="dcterms:W3CDTF">2016-02-23T21:16:56Z</dcterms:modified>
  <cp:revision>293</cp:revision>
  <dc:subject/>
  <dc:title>Slide 1</dc:title>
</cp:coreProperties>
</file>