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6DD-7BAA-46A4-ABD7-B39DE685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51B-9467-4996-A7BC-7E5DAB4B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707-3305-4773-8D22-2F5F0F87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3F1-0016-4C6F-8BEC-A35BC59C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00F6-FACA-4C05-AE9F-C3D6FCD7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C374-8046-46E6-8467-89547C08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1168-E5CB-4E0B-935B-4D764F71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7B56-D1F5-4A50-9767-1FF4B180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D436-706F-4CC6-9CBA-B7584578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2C1E-495C-438E-876B-56F8BC3C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A2CC-48EC-482D-B2BF-C5B6868F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67E-88C6-42C4-B7BF-9D6596D3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229E-7451-482F-BADC-FF425FA5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F257-2E3D-491D-B039-D41B2623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E19E-365B-4815-A296-F964F87D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6BF1-43CF-4536-9FC4-B2ADCE77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6B87-C155-43FA-B2E5-D067E1F5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70E5-8420-48F5-9A9C-A11F3450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AD4B0-65B4-44F8-8403-BA17025B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CC43D-7059-49AA-BDFD-3FD96C50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CB8F3-F70D-44EC-830D-5CAA67C9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1EC7-AC79-4D4B-A5BE-9849C0D6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845-C72F-4CA2-98EB-EFF78161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3C20-6192-4492-978D-B3CD12D3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7F988-0990-44F7-8D33-04BD875A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8332F-FBE6-4299-8B60-8C53F5CE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80F76-3005-4CA1-BCBC-91B3683B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9788F-9E61-4148-8DD9-9CB5BB8F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93B9-A812-4FF9-B47B-201A58DB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08ABC-F2C7-4B49-A41A-D05DB342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21C75-AE3D-4BAB-ACA1-9DFD318B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F1FFB-3506-4B70-99EF-B4FF342C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14D4A-9E52-44C5-A217-481607D3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526-2C27-4A89-AD5E-833F98E5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73068-93E0-4C20-8D4D-680DF2FA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169DC-BE18-4B4D-9429-28A6343E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78471-B08D-447B-AD88-E3CD5632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6A511-FB2E-4ADA-924A-A6885544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D514C-1181-44D1-908A-CF441F85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11261-F834-441A-B9D6-793C4999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B5BAF-3D89-447F-BCA2-7689F97D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14EC6-5681-4304-B579-08534CAE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08515-F166-4027-932E-3BB62B7F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596F-3F4B-473C-B1D9-5968CF12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DFB-5F7D-4215-B983-D8FCD277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8D8-8DB0-4813-82C5-3692EE4B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CFD-66CF-47E4-B3D7-40F5F6C0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DE8-C713-4B51-ADA4-4D8E0EA9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DCFD-F772-40A1-8ECD-04CC8698E02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02B7-B45C-46DE-B4E8-057F3588AD1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3ED9-27B7-41A8-B99B-CDCC1481115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992D-361C-4933-8CDB-C629B9F5824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5960" y="2143080"/>
            <a:ext cx="58579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Highway Engineering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E 431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1714680" y="2928960"/>
            <a:ext cx="5857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Resistanc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1857240" y="4572000"/>
            <a:ext cx="58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617b"/>
                </a:solidFill>
                <a:latin typeface="Times New Roman"/>
              </a:rPr>
              <a:t>Eng. Ali Mohammed Babalgha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571680" y="121428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714240" y="22860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 Inertial resistance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Users\TOSHIBA\Desktop\٢٠١٦١١٠١_٢١٥٣٤٧.jpg"/>
          <p:cNvPicPr/>
          <p:nvPr/>
        </p:nvPicPr>
        <p:blipFill>
          <a:blip r:embed="rId1">
            <a:lum bright="20000"/>
          </a:blip>
          <a:srcRect l="24165" t="44985" r="16681" b="26655"/>
          <a:stretch/>
        </p:blipFill>
        <p:spPr>
          <a:xfrm>
            <a:off x="1785960" y="2786040"/>
            <a:ext cx="5643720" cy="1522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1428840" y="4500720"/>
            <a:ext cx="607212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571680" y="121428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714240" y="178596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 Grade resistance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359000" y="4071960"/>
            <a:ext cx="5784840" cy="1306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Users\TOSHIBA\Desktop\٢٠١٦١١٠١_٢١٥٤٣٦.jpg"/>
          <p:cNvPicPr/>
          <p:nvPr/>
        </p:nvPicPr>
        <p:blipFill>
          <a:blip r:embed="rId2">
            <a:lum bright="20000"/>
          </a:blip>
          <a:srcRect l="23457" t="56030" r="17245" b="22139"/>
          <a:stretch/>
        </p:blipFill>
        <p:spPr>
          <a:xfrm>
            <a:off x="1357200" y="2214720"/>
            <a:ext cx="5786640" cy="1198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3"/>
          <a:stretch/>
        </p:blipFill>
        <p:spPr>
          <a:xfrm>
            <a:off x="1071720" y="3429000"/>
            <a:ext cx="6381720" cy="757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4"/>
          <a:stretch/>
        </p:blipFill>
        <p:spPr>
          <a:xfrm>
            <a:off x="1928880" y="5418000"/>
            <a:ext cx="4143240" cy="8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571680" y="121428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714240" y="22860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 Rolling resistance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143000" y="3857760"/>
            <a:ext cx="6086520" cy="1485720"/>
          </a:xfrm>
          <a:prstGeom prst="rect">
            <a:avLst/>
          </a:prstGeom>
          <a:ln w="0">
            <a:noFill/>
          </a:ln>
        </p:spPr>
      </p:pic>
      <p:cxnSp>
        <p:nvCxnSpPr>
          <p:cNvPr id="257" name="Curved Connector 7"/>
          <p:cNvCxnSpPr/>
          <p:nvPr/>
        </p:nvCxnSpPr>
        <p:spPr>
          <a:xfrm rot="5400000">
            <a:off x="2713680" y="3500280"/>
            <a:ext cx="501120" cy="50076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8" name="Rectangle 11"/>
          <p:cNvSpPr/>
          <p:nvPr/>
        </p:nvSpPr>
        <p:spPr>
          <a:xfrm>
            <a:off x="3149640" y="314316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5395"/>
                </a:solidFill>
                <a:latin typeface="Arial"/>
              </a:rPr>
              <a:t>From table page 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571680" y="121428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714240" y="22860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- Curve resistance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1803600" y="5072040"/>
            <a:ext cx="28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Horizontal cu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5599440" y="5072040"/>
            <a:ext cx="129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0.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C:\Users\TOSHIBA\Desktop\٢٠١٦١١٠١_٢١٥٤٥٨.jpg"/>
          <p:cNvPicPr/>
          <p:nvPr/>
        </p:nvPicPr>
        <p:blipFill>
          <a:blip r:embed="rId1">
            <a:lum bright="20000"/>
          </a:blip>
          <a:srcRect l="21875" t="37503" r="20584" b="31948"/>
          <a:stretch/>
        </p:blipFill>
        <p:spPr>
          <a:xfrm>
            <a:off x="1571760" y="2714760"/>
            <a:ext cx="5500440" cy="164304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17"/>
          <p:cNvCxnSpPr>
            <a:stCxn id="261" idx="3"/>
          </p:cNvCxnSpPr>
          <p:nvPr/>
        </p:nvCxnSpPr>
        <p:spPr>
          <a:xfrm flipV="1">
            <a:off x="4640040" y="5285520"/>
            <a:ext cx="7894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Rectangle 19"/>
          <p:cNvSpPr/>
          <p:nvPr/>
        </p:nvSpPr>
        <p:spPr>
          <a:xfrm>
            <a:off x="785880" y="428292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 Resistance is not needed (value of zero) since the road is stra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571680" y="121428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714240" y="22860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- Air resistance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C:\Users\TOSHIBA\Desktop\٢٠١٦١١٠١_٢١٥٥٢٣.jpg"/>
          <p:cNvPicPr/>
          <p:nvPr/>
        </p:nvPicPr>
        <p:blipFill>
          <a:blip r:embed="rId1">
            <a:lum bright="20000"/>
          </a:blip>
          <a:srcRect l="23437" t="37502" r="21874" b="33336"/>
          <a:stretch/>
        </p:blipFill>
        <p:spPr>
          <a:xfrm>
            <a:off x="2071800" y="2928960"/>
            <a:ext cx="5000400" cy="1500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2"/>
          <a:stretch/>
        </p:blipFill>
        <p:spPr>
          <a:xfrm>
            <a:off x="357120" y="4703760"/>
            <a:ext cx="8358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571680" y="121428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642960" y="200016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Requirements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428760" y="4500720"/>
            <a:ext cx="8286480" cy="1838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C:\Users\TOSHIBA\Desktop\٢٠١٦١١٠١_٢١٥٥٣٠.jpg"/>
          <p:cNvPicPr/>
          <p:nvPr/>
        </p:nvPicPr>
        <p:blipFill>
          <a:blip r:embed="rId2">
            <a:lum bright="20000"/>
          </a:blip>
          <a:srcRect l="11720" t="44448" r="14063" b="20835"/>
          <a:stretch/>
        </p:blipFill>
        <p:spPr>
          <a:xfrm>
            <a:off x="1143000" y="2500200"/>
            <a:ext cx="67867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571680" y="1214280"/>
            <a:ext cx="80722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resista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rtial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ling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ve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71680" y="1214280"/>
            <a:ext cx="8072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Inertial resistance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Users\TOSHIBA\Desktop\٢٠١٦١١٠١_٢١٥٣٤٧.jpg"/>
          <p:cNvPicPr/>
          <p:nvPr/>
        </p:nvPicPr>
        <p:blipFill>
          <a:blip r:embed="rId1">
            <a:lum bright="20000"/>
          </a:blip>
          <a:srcRect l="24162" t="44981" r="16680" b="26657"/>
          <a:stretch/>
        </p:blipFill>
        <p:spPr>
          <a:xfrm>
            <a:off x="714240" y="2143080"/>
            <a:ext cx="7151760" cy="19288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0"/>
          <p:cNvSpPr/>
          <p:nvPr/>
        </p:nvSpPr>
        <p:spPr>
          <a:xfrm>
            <a:off x="7860600" y="307188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1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http://www.asawicki.info/Mirror/Car%20Physics%20for%20Games/Car%20Physics%20for%20Games_files/ctwd.jpg"/>
          <p:cNvPicPr/>
          <p:nvPr/>
        </p:nvPicPr>
        <p:blipFill>
          <a:blip r:embed="rId2"/>
          <a:stretch/>
        </p:blipFill>
        <p:spPr>
          <a:xfrm>
            <a:off x="2643120" y="4214880"/>
            <a:ext cx="3810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571680" y="1214280"/>
            <a:ext cx="8072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Grade resistance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نتيجة بحث الصور عن ‪Inertial resistance car‬‏"/>
          <p:cNvPicPr/>
          <p:nvPr/>
        </p:nvPicPr>
        <p:blipFill>
          <a:blip r:embed="rId1"/>
          <a:stretch/>
        </p:blipFill>
        <p:spPr>
          <a:xfrm>
            <a:off x="5735520" y="2428920"/>
            <a:ext cx="3408480" cy="1861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142920" y="4357800"/>
            <a:ext cx="5784840" cy="1306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Users\TOSHIBA\Desktop\٢٠١٦١١٠١_٢١٥٤٣٦.jpg"/>
          <p:cNvPicPr/>
          <p:nvPr/>
        </p:nvPicPr>
        <p:blipFill>
          <a:blip r:embed="rId3">
            <a:lum bright="20000"/>
          </a:blip>
          <a:srcRect l="23457" t="56030" r="17245" b="22139"/>
          <a:stretch/>
        </p:blipFill>
        <p:spPr>
          <a:xfrm>
            <a:off x="142920" y="2500200"/>
            <a:ext cx="5786280" cy="11988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0"/>
          <p:cNvSpPr/>
          <p:nvPr/>
        </p:nvSpPr>
        <p:spPr>
          <a:xfrm>
            <a:off x="2216880" y="571500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2214000" y="371484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1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ight Triangle 8"/>
          <p:cNvSpPr/>
          <p:nvPr/>
        </p:nvSpPr>
        <p:spPr>
          <a:xfrm flipH="1">
            <a:off x="6000840" y="4500720"/>
            <a:ext cx="3000240" cy="1000080"/>
          </a:xfrm>
          <a:prstGeom prst="rtTriangl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 rot="20322600">
            <a:off x="6612840" y="455292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ade +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7432920" y="55008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8717400" y="4857840"/>
            <a:ext cx="3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571680" y="1214280"/>
            <a:ext cx="8072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Rolling resistance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499320" y="507204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Users\TOSHIBA\Desktop\٢٠١٦١١٠١_٢١٥٤٤٤.jpg"/>
          <p:cNvPicPr/>
          <p:nvPr/>
        </p:nvPicPr>
        <p:blipFill>
          <a:blip r:embed="rId1">
            <a:lum bright="20000"/>
          </a:blip>
          <a:srcRect l="17971" t="30557" r="14844" b="27784"/>
          <a:stretch/>
        </p:blipFill>
        <p:spPr>
          <a:xfrm>
            <a:off x="0" y="2637000"/>
            <a:ext cx="5786280" cy="2292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http://www.maxxisgreen.com/images/Technology_RollinResistance.jpg"/>
          <p:cNvPicPr/>
          <p:nvPr/>
        </p:nvPicPr>
        <p:blipFill>
          <a:blip r:embed="rId2"/>
          <a:stretch/>
        </p:blipFill>
        <p:spPr>
          <a:xfrm>
            <a:off x="5797440" y="2571840"/>
            <a:ext cx="3346560" cy="29192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9"/>
          <p:cNvSpPr/>
          <p:nvPr/>
        </p:nvSpPr>
        <p:spPr>
          <a:xfrm>
            <a:off x="2714760" y="3429000"/>
            <a:ext cx="3071520" cy="214200"/>
          </a:xfrm>
          <a:prstGeom prst="rect">
            <a:avLst/>
          </a:prstGeom>
          <a:noFill/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0" y="3786120"/>
            <a:ext cx="2786040" cy="857160"/>
          </a:xfrm>
          <a:prstGeom prst="rect">
            <a:avLst/>
          </a:prstGeom>
          <a:noFill/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0" y="3714840"/>
            <a:ext cx="4572000" cy="285840"/>
          </a:xfrm>
          <a:prstGeom prst="rect">
            <a:avLst/>
          </a:prstGeom>
          <a:noFill/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4214880" y="3429000"/>
            <a:ext cx="357120" cy="571680"/>
          </a:xfrm>
          <a:prstGeom prst="rect">
            <a:avLst/>
          </a:prstGeom>
          <a:noFill/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4214880" y="3714840"/>
            <a:ext cx="357120" cy="285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571680" y="1214280"/>
            <a:ext cx="8072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Curve resistance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785160" y="47433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نتيجة بحث الصور عن ‪horizontal curve‬‏"/>
          <p:cNvPicPr/>
          <p:nvPr/>
        </p:nvPicPr>
        <p:blipFill>
          <a:blip r:embed="rId1"/>
          <a:srcRect l="7977" t="0" r="12232" b="0"/>
          <a:stretch/>
        </p:blipFill>
        <p:spPr>
          <a:xfrm>
            <a:off x="5572080" y="2500200"/>
            <a:ext cx="3571920" cy="2762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TOSHIBA\Desktop\٢٠١٦١١٠١_٢١٥٤٥٨.jpg"/>
          <p:cNvPicPr/>
          <p:nvPr/>
        </p:nvPicPr>
        <p:blipFill>
          <a:blip r:embed="rId2">
            <a:lum bright="20000"/>
          </a:blip>
          <a:srcRect l="21875" t="37503" r="20584" b="31948"/>
          <a:stretch/>
        </p:blipFill>
        <p:spPr>
          <a:xfrm>
            <a:off x="71280" y="3000240"/>
            <a:ext cx="5500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571680" y="1214280"/>
            <a:ext cx="8072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- Air resistance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792360" y="507204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http://d2i6c6y1xqgf7t.cloudfront.net/media/buyersguide/36_06.jpg"/>
          <p:cNvPicPr/>
          <p:nvPr/>
        </p:nvPicPr>
        <p:blipFill>
          <a:blip r:embed="rId1"/>
          <a:srcRect l="1663" t="13334" r="0" b="0"/>
          <a:stretch/>
        </p:blipFill>
        <p:spPr>
          <a:xfrm>
            <a:off x="5037120" y="2786040"/>
            <a:ext cx="4106880" cy="2714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Users\TOSHIBA\Desktop\٢٠١٦١١٠١_٢١٥٥٢٣.jpg"/>
          <p:cNvPicPr/>
          <p:nvPr/>
        </p:nvPicPr>
        <p:blipFill>
          <a:blip r:embed="rId2">
            <a:lum bright="20000"/>
          </a:blip>
          <a:srcRect l="23437" t="37502" r="21874" b="33336"/>
          <a:stretch/>
        </p:blipFill>
        <p:spPr>
          <a:xfrm>
            <a:off x="0" y="3357720"/>
            <a:ext cx="50007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571680" y="1214280"/>
            <a:ext cx="8072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Requirement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7435800" y="321480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TOSHIBA\Desktop\٢٠١٦١١٠١_٢١٥٥٣٠.jpg"/>
          <p:cNvPicPr/>
          <p:nvPr/>
        </p:nvPicPr>
        <p:blipFill>
          <a:blip r:embed="rId1">
            <a:lum bright="20000"/>
          </a:blip>
          <a:srcRect l="11720" t="44448" r="14063" b="20835"/>
          <a:stretch/>
        </p:blipFill>
        <p:spPr>
          <a:xfrm>
            <a:off x="428760" y="2786040"/>
            <a:ext cx="6786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571680" y="1214280"/>
            <a:ext cx="8072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 5.6 :-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ge 1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571680" y="178596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imate the horsepower required to accelerate a 2,500-lb vehicle traveling 30 mph up a 5.0 percent grade at a rate of 6 ft/sec2. The vehicle has a frontal cross-section area of 20 ft2. The roadway has straight alignment and a badly broken and patched asphalt surface. Assume the drag coefficient = 0.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723960" y="390528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2756520" y="435780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hicle weight = 2500 l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55920" y="43578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sepower =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5439600" y="434484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30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7366320" y="43578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= +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691200" y="5000760"/>
            <a:ext cx="29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ion rate = 6 ft/s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3736080" y="500076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al cross-sectional area = 20 f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653760" y="57150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oefficient = 0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3682440" y="571500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orizontal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6:17Z</dcterms:created>
  <dc:creator>Abdulrahman</dc:creator>
  <dc:description/>
  <dc:language>en-US</dc:language>
  <cp:lastModifiedBy>TOSHIBA</cp:lastModifiedBy>
  <dcterms:modified xsi:type="dcterms:W3CDTF">2016-11-01T21:18:42Z</dcterms:modified>
  <cp:revision>160</cp:revision>
  <dc:subject/>
  <dc:title>CHAPTER 16</dc:title>
</cp:coreProperties>
</file>