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23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6.jpeg" ContentType="image/jpeg"/>
  <Override PartName="/ppt/media/image24.png" ContentType="image/png"/>
  <Override PartName="/ppt/media/image18.jpeg" ContentType="image/jpe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DF1F-C9D3-45A2-963A-40B277484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4C82-7B2E-4A67-9B19-037CBA15A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0E12-4FCD-4299-9891-762A5C7C3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77A9-2B8D-4158-AF9F-BE7405462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4B996-0F90-43D3-919B-65F652723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6EA85-3FF9-413A-BD2D-42B60074D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69710-BD0E-44FC-8707-D252A7FCF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FD680-C6CE-4EAF-AFBB-C8E434EE7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B0EE5-EC7C-415C-8995-01BB1F392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58462-26A9-44A5-83EE-0B5AB68E9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0A7A8-B9C5-4D46-BA75-D9473CCB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2539-9EFD-4D86-B228-209750D49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8F20D-E365-4C35-9549-6D6B02A1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63466-397B-48C3-BE71-E273617A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90203-AFC5-4695-946F-C289BA5AE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8022C-6EDA-4A40-B716-5604334D0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7652B-B824-431A-9F3C-D3C848703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0FD37-2697-480B-B032-DDE6CD92D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D9701-D68F-446F-854A-B98306F67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C9B47-97E3-415C-804E-74954F5CC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7FBB2-68CE-486B-92AC-8BA139260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4A66B-C231-4B61-95A9-899EC3EA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029E-CBCF-47D7-9515-53F24B426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870F8-0E96-45AD-8ED0-8DBEC186C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C6CA8-9E88-403D-8A08-7221B6B1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772E7-1DC7-4242-9D7C-15384246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491E3-A004-46C7-8392-F60EBEFD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B018D-61E1-4FF3-8611-759661A9A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E673E-0FEC-4E9B-8519-D0E2F1943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E4A21-46FE-40B6-98D1-1BEBFF562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93096-DFFE-40B6-A22B-753C533B2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38626-51FA-4B9A-B72A-964569162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07016-4142-4C0C-ABD8-7AB05BC23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3C8B-2522-44B5-A47F-A5899C606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0D4F8-A670-4A2C-9CA1-0C898AFB5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4C132-CA73-46DA-8CE8-697E14807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67663-EA6D-417C-9FDE-1C51C7BD1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F7D0A-91DE-4973-8B9F-1218DB2F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0AE6B-7A4F-48EB-B1C2-C2ECFCAB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F3BBC-245E-442C-B16B-E8686FDE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067A8-E158-4EC6-B28D-415467FB3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89ADC-B39F-4B40-9333-06FC2EE15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67844-8F77-423F-977F-8C14215AC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7351-AC54-4CA7-8965-73D7F2A54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E681-FB67-4EBD-88D5-EAB9464AE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6305-9A63-4475-892E-206AA4CB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100A-9755-4E7F-9EFA-37A0543A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15EE-8B7B-41EF-9EF5-D3CC4A57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0560C-010F-4833-AF6D-E08602F6A45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045CA-C9C0-4A4A-94F6-6E87F11197F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ECA49-E6A1-4736-89E2-7710D4BF20B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F96A1-F50D-4123-97F0-44C30EBC54D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85960" y="2143080"/>
            <a:ext cx="58579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Times New Roman"/>
              </a:rPr>
              <a:t>Highway Engineering</a:t>
            </a:r>
            <a:br>
              <a:rPr sz="5000"/>
            </a:br>
            <a:r>
              <a:rPr b="0" lang="en-US" sz="5000" spc="-1" strike="noStrike">
                <a:solidFill>
                  <a:srgbClr val="04617b"/>
                </a:solidFill>
                <a:latin typeface="Times New Roman"/>
              </a:rPr>
              <a:t>CE 431</a:t>
            </a: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96" name="Title 1"/>
          <p:cNvSpPr/>
          <p:nvPr/>
        </p:nvSpPr>
        <p:spPr>
          <a:xfrm>
            <a:off x="1714680" y="2928960"/>
            <a:ext cx="58575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Times New Roman"/>
              </a:rPr>
              <a:t>Resistanc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itle 1"/>
          <p:cNvSpPr/>
          <p:nvPr/>
        </p:nvSpPr>
        <p:spPr>
          <a:xfrm>
            <a:off x="1857240" y="4572000"/>
            <a:ext cx="58579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4617b"/>
                </a:solidFill>
                <a:latin typeface="Times New Roman"/>
              </a:rPr>
              <a:t>Eng. Ali Mohammed Babalghait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571680" y="1214280"/>
            <a:ext cx="8072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lution: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714240" y="2286000"/>
            <a:ext cx="314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- Inertial resistance 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Users\TOSHIBA\Desktop\٢٠١٦١١٠١_٢١٥٣٤٧.jpg"/>
          <p:cNvPicPr/>
          <p:nvPr/>
        </p:nvPicPr>
        <p:blipFill>
          <a:blip r:embed="rId1">
            <a:lum bright="20000"/>
          </a:blip>
          <a:srcRect l="24165" t="44985" r="16681" b="26655"/>
          <a:stretch/>
        </p:blipFill>
        <p:spPr>
          <a:xfrm>
            <a:off x="1785960" y="2786040"/>
            <a:ext cx="5643720" cy="15224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" descr=""/>
          <p:cNvPicPr/>
          <p:nvPr/>
        </p:nvPicPr>
        <p:blipFill>
          <a:blip r:embed="rId2"/>
          <a:stretch/>
        </p:blipFill>
        <p:spPr>
          <a:xfrm>
            <a:off x="1428840" y="4500720"/>
            <a:ext cx="6072120" cy="12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4"/>
          <p:cNvSpPr/>
          <p:nvPr/>
        </p:nvSpPr>
        <p:spPr>
          <a:xfrm>
            <a:off x="571680" y="1214280"/>
            <a:ext cx="8072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lution: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714240" y="1785960"/>
            <a:ext cx="314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- Grade resistance 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3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1359000" y="4071960"/>
            <a:ext cx="5784840" cy="13064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" descr="C:\Users\TOSHIBA\Desktop\٢٠١٦١١٠١_٢١٥٤٣٦.jpg"/>
          <p:cNvPicPr/>
          <p:nvPr/>
        </p:nvPicPr>
        <p:blipFill>
          <a:blip r:embed="rId2">
            <a:lum bright="20000"/>
          </a:blip>
          <a:srcRect l="23457" t="56030" r="17245" b="22139"/>
          <a:stretch/>
        </p:blipFill>
        <p:spPr>
          <a:xfrm>
            <a:off x="1357200" y="2214720"/>
            <a:ext cx="5786640" cy="11984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" descr=""/>
          <p:cNvPicPr/>
          <p:nvPr/>
        </p:nvPicPr>
        <p:blipFill>
          <a:blip r:embed="rId3"/>
          <a:stretch/>
        </p:blipFill>
        <p:spPr>
          <a:xfrm>
            <a:off x="1071720" y="3429000"/>
            <a:ext cx="6381720" cy="7570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" descr=""/>
          <p:cNvPicPr/>
          <p:nvPr/>
        </p:nvPicPr>
        <p:blipFill>
          <a:blip r:embed="rId4"/>
          <a:stretch/>
        </p:blipFill>
        <p:spPr>
          <a:xfrm>
            <a:off x="1928880" y="5418000"/>
            <a:ext cx="4143240" cy="8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4"/>
          <p:cNvSpPr/>
          <p:nvPr/>
        </p:nvSpPr>
        <p:spPr>
          <a:xfrm>
            <a:off x="571680" y="1214280"/>
            <a:ext cx="8072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lution: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714240" y="2286000"/>
            <a:ext cx="314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- Rolling resistance 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1143000" y="3857760"/>
            <a:ext cx="6086520" cy="1485720"/>
          </a:xfrm>
          <a:prstGeom prst="rect">
            <a:avLst/>
          </a:prstGeom>
          <a:ln w="0">
            <a:noFill/>
          </a:ln>
        </p:spPr>
      </p:pic>
      <p:cxnSp>
        <p:nvCxnSpPr>
          <p:cNvPr id="257" name="Curved Connector 7"/>
          <p:cNvCxnSpPr/>
          <p:nvPr/>
        </p:nvCxnSpPr>
        <p:spPr>
          <a:xfrm rot="5400000">
            <a:off x="2713680" y="3500280"/>
            <a:ext cx="501120" cy="500760"/>
          </a:xfrm>
          <a:prstGeom prst="curvedConnector5">
            <a:avLst>
              <a:gd name="adj1" fmla="val 49964"/>
              <a:gd name="adj2" fmla="val 50000"/>
              <a:gd name="adj3" fmla="val 49964"/>
            </a:avLst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58" name="Rectangle 11"/>
          <p:cNvSpPr/>
          <p:nvPr/>
        </p:nvSpPr>
        <p:spPr>
          <a:xfrm>
            <a:off x="3149640" y="3143160"/>
            <a:ext cx="23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b5395"/>
                </a:solidFill>
                <a:latin typeface="Arial"/>
              </a:rPr>
              <a:t>From table page 1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4"/>
          <p:cNvSpPr/>
          <p:nvPr/>
        </p:nvSpPr>
        <p:spPr>
          <a:xfrm>
            <a:off x="571680" y="1214280"/>
            <a:ext cx="8072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lution: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714240" y="2286000"/>
            <a:ext cx="314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- Curve resistance 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3"/>
          <p:cNvSpPr/>
          <p:nvPr/>
        </p:nvSpPr>
        <p:spPr>
          <a:xfrm>
            <a:off x="1803600" y="5072040"/>
            <a:ext cx="28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 Horizontal cur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4"/>
          <p:cNvSpPr/>
          <p:nvPr/>
        </p:nvSpPr>
        <p:spPr>
          <a:xfrm>
            <a:off x="5599440" y="5072040"/>
            <a:ext cx="1294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= 0.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3" descr="C:\Users\TOSHIBA\Desktop\٢٠١٦١١٠١_٢١٥٤٥٨.jpg"/>
          <p:cNvPicPr/>
          <p:nvPr/>
        </p:nvPicPr>
        <p:blipFill>
          <a:blip r:embed="rId1">
            <a:lum bright="20000"/>
          </a:blip>
          <a:srcRect l="21875" t="37503" r="20584" b="31948"/>
          <a:stretch/>
        </p:blipFill>
        <p:spPr>
          <a:xfrm>
            <a:off x="1571760" y="2714760"/>
            <a:ext cx="5500440" cy="1643040"/>
          </a:xfrm>
          <a:prstGeom prst="rect">
            <a:avLst/>
          </a:prstGeom>
          <a:ln w="0">
            <a:noFill/>
          </a:ln>
        </p:spPr>
      </p:pic>
      <p:cxnSp>
        <p:nvCxnSpPr>
          <p:cNvPr id="264" name="Straight Arrow Connector 17"/>
          <p:cNvCxnSpPr>
            <a:stCxn id="261" idx="3"/>
          </p:cNvCxnSpPr>
          <p:nvPr/>
        </p:nvCxnSpPr>
        <p:spPr>
          <a:xfrm flipV="1">
            <a:off x="4640040" y="5285520"/>
            <a:ext cx="78948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Rectangle 19"/>
          <p:cNvSpPr/>
          <p:nvPr/>
        </p:nvSpPr>
        <p:spPr>
          <a:xfrm>
            <a:off x="785880" y="4282920"/>
            <a:ext cx="77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ve Resistance is not needed (value of zero) since the road is stra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4"/>
          <p:cNvSpPr/>
          <p:nvPr/>
        </p:nvSpPr>
        <p:spPr>
          <a:xfrm>
            <a:off x="571680" y="1214280"/>
            <a:ext cx="8072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lution: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714240" y="2286000"/>
            <a:ext cx="314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- Air resistance 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2" descr="C:\Users\TOSHIBA\Desktop\٢٠١٦١١٠١_٢١٥٥٢٣.jpg"/>
          <p:cNvPicPr/>
          <p:nvPr/>
        </p:nvPicPr>
        <p:blipFill>
          <a:blip r:embed="rId1">
            <a:lum bright="20000"/>
          </a:blip>
          <a:srcRect l="23437" t="37502" r="21874" b="33336"/>
          <a:stretch/>
        </p:blipFill>
        <p:spPr>
          <a:xfrm>
            <a:off x="2071800" y="2928960"/>
            <a:ext cx="5000400" cy="15001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" descr=""/>
          <p:cNvPicPr/>
          <p:nvPr/>
        </p:nvPicPr>
        <p:blipFill>
          <a:blip r:embed="rId2"/>
          <a:stretch/>
        </p:blipFill>
        <p:spPr>
          <a:xfrm>
            <a:off x="357120" y="4703760"/>
            <a:ext cx="835812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4"/>
          <p:cNvSpPr/>
          <p:nvPr/>
        </p:nvSpPr>
        <p:spPr>
          <a:xfrm>
            <a:off x="571680" y="1214280"/>
            <a:ext cx="8072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lution: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642960" y="2000160"/>
            <a:ext cx="314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wer Requirements 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428760" y="4500720"/>
            <a:ext cx="8286480" cy="18381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" descr="C:\Users\TOSHIBA\Desktop\٢٠١٦١١٠١_٢١٥٥٣٠.jpg"/>
          <p:cNvPicPr/>
          <p:nvPr/>
        </p:nvPicPr>
        <p:blipFill>
          <a:blip r:embed="rId2">
            <a:lum bright="20000"/>
          </a:blip>
          <a:srcRect l="11720" t="44448" r="14063" b="20835"/>
          <a:stretch/>
        </p:blipFill>
        <p:spPr>
          <a:xfrm>
            <a:off x="1143000" y="2500200"/>
            <a:ext cx="67867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4"/>
          <p:cNvSpPr/>
          <p:nvPr/>
        </p:nvSpPr>
        <p:spPr>
          <a:xfrm>
            <a:off x="571680" y="1214280"/>
            <a:ext cx="807228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ypes of resistanc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rtial re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de re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lling re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ve re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ir re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4"/>
          <p:cNvSpPr/>
          <p:nvPr/>
        </p:nvSpPr>
        <p:spPr>
          <a:xfrm>
            <a:off x="571680" y="1214280"/>
            <a:ext cx="80722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- Inertial resistance :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C:\Users\TOSHIBA\Desktop\٢٠١٦١١٠١_٢١٥٣٤٧.jpg"/>
          <p:cNvPicPr/>
          <p:nvPr/>
        </p:nvPicPr>
        <p:blipFill>
          <a:blip r:embed="rId1">
            <a:lum bright="20000"/>
          </a:blip>
          <a:srcRect l="24162" t="44981" r="16680" b="26657"/>
          <a:stretch/>
        </p:blipFill>
        <p:spPr>
          <a:xfrm>
            <a:off x="714240" y="2143080"/>
            <a:ext cx="7151760" cy="192888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20"/>
          <p:cNvSpPr/>
          <p:nvPr/>
        </p:nvSpPr>
        <p:spPr>
          <a:xfrm>
            <a:off x="7860600" y="3071880"/>
            <a:ext cx="12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age 1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http://www.asawicki.info/Mirror/Car%20Physics%20for%20Games/Car%20Physics%20for%20Games_files/ctwd.jpg"/>
          <p:cNvPicPr/>
          <p:nvPr/>
        </p:nvPicPr>
        <p:blipFill>
          <a:blip r:embed="rId2"/>
          <a:stretch/>
        </p:blipFill>
        <p:spPr>
          <a:xfrm>
            <a:off x="2643120" y="4214880"/>
            <a:ext cx="381024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571680" y="1214280"/>
            <a:ext cx="80722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- Grade resistance: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نتيجة بحث الصور عن ‪Inertial resistance car‬‏"/>
          <p:cNvPicPr/>
          <p:nvPr/>
        </p:nvPicPr>
        <p:blipFill>
          <a:blip r:embed="rId1"/>
          <a:stretch/>
        </p:blipFill>
        <p:spPr>
          <a:xfrm>
            <a:off x="5735520" y="2428920"/>
            <a:ext cx="3408480" cy="18619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142920" y="4357800"/>
            <a:ext cx="5784840" cy="13064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" descr="C:\Users\TOSHIBA\Desktop\٢٠١٦١١٠١_٢١٥٤٣٦.jpg"/>
          <p:cNvPicPr/>
          <p:nvPr/>
        </p:nvPicPr>
        <p:blipFill>
          <a:blip r:embed="rId3">
            <a:lum bright="20000"/>
          </a:blip>
          <a:srcRect l="23457" t="56030" r="17245" b="22139"/>
          <a:stretch/>
        </p:blipFill>
        <p:spPr>
          <a:xfrm>
            <a:off x="142920" y="2500200"/>
            <a:ext cx="5786280" cy="119880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20"/>
          <p:cNvSpPr/>
          <p:nvPr/>
        </p:nvSpPr>
        <p:spPr>
          <a:xfrm>
            <a:off x="2216880" y="5715000"/>
            <a:ext cx="12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age 1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0"/>
          <p:cNvSpPr/>
          <p:nvPr/>
        </p:nvSpPr>
        <p:spPr>
          <a:xfrm>
            <a:off x="2214000" y="3714840"/>
            <a:ext cx="12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age 1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ight Triangle 8"/>
          <p:cNvSpPr/>
          <p:nvPr/>
        </p:nvSpPr>
        <p:spPr>
          <a:xfrm flipH="1">
            <a:off x="6000840" y="4500720"/>
            <a:ext cx="3000240" cy="1000080"/>
          </a:xfrm>
          <a:prstGeom prst="rtTriangle">
            <a:avLst/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0"/>
          <p:cNvSpPr/>
          <p:nvPr/>
        </p:nvSpPr>
        <p:spPr>
          <a:xfrm rot="20322600">
            <a:off x="6612840" y="4552920"/>
            <a:ext cx="150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rade +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0"/>
          <p:cNvSpPr/>
          <p:nvPr/>
        </p:nvSpPr>
        <p:spPr>
          <a:xfrm>
            <a:off x="7432920" y="55008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0"/>
          <p:cNvSpPr/>
          <p:nvPr/>
        </p:nvSpPr>
        <p:spPr>
          <a:xfrm>
            <a:off x="8717400" y="4857840"/>
            <a:ext cx="32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4"/>
          <p:cNvSpPr/>
          <p:nvPr/>
        </p:nvSpPr>
        <p:spPr>
          <a:xfrm>
            <a:off x="571680" y="1214280"/>
            <a:ext cx="80722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- Rolling resistance: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0"/>
          <p:cNvSpPr/>
          <p:nvPr/>
        </p:nvSpPr>
        <p:spPr>
          <a:xfrm>
            <a:off x="499320" y="5072040"/>
            <a:ext cx="12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age 1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" descr="C:\Users\TOSHIBA\Desktop\٢٠١٦١١٠١_٢١٥٤٤٤.jpg"/>
          <p:cNvPicPr/>
          <p:nvPr/>
        </p:nvPicPr>
        <p:blipFill>
          <a:blip r:embed="rId1">
            <a:lum bright="20000"/>
          </a:blip>
          <a:srcRect l="17971" t="30557" r="14844" b="27784"/>
          <a:stretch/>
        </p:blipFill>
        <p:spPr>
          <a:xfrm>
            <a:off x="0" y="2637000"/>
            <a:ext cx="5786280" cy="22921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http://www.maxxisgreen.com/images/Technology_RollinResistance.jpg"/>
          <p:cNvPicPr/>
          <p:nvPr/>
        </p:nvPicPr>
        <p:blipFill>
          <a:blip r:embed="rId2"/>
          <a:stretch/>
        </p:blipFill>
        <p:spPr>
          <a:xfrm>
            <a:off x="5797440" y="2571840"/>
            <a:ext cx="3346560" cy="291924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9"/>
          <p:cNvSpPr/>
          <p:nvPr/>
        </p:nvSpPr>
        <p:spPr>
          <a:xfrm>
            <a:off x="2714760" y="3429000"/>
            <a:ext cx="3071520" cy="214200"/>
          </a:xfrm>
          <a:prstGeom prst="rect">
            <a:avLst/>
          </a:prstGeom>
          <a:noFill/>
          <a:ln w="381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0" y="3786120"/>
            <a:ext cx="2786040" cy="857160"/>
          </a:xfrm>
          <a:prstGeom prst="rect">
            <a:avLst/>
          </a:prstGeom>
          <a:noFill/>
          <a:ln w="381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0" y="3714840"/>
            <a:ext cx="4572000" cy="285840"/>
          </a:xfrm>
          <a:prstGeom prst="rect">
            <a:avLst/>
          </a:prstGeom>
          <a:noFill/>
          <a:ln w="381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4214880" y="3429000"/>
            <a:ext cx="357120" cy="571680"/>
          </a:xfrm>
          <a:prstGeom prst="rect">
            <a:avLst/>
          </a:prstGeom>
          <a:noFill/>
          <a:ln w="381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4214880" y="3714840"/>
            <a:ext cx="357120" cy="2858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4"/>
          <p:cNvSpPr/>
          <p:nvPr/>
        </p:nvSpPr>
        <p:spPr>
          <a:xfrm>
            <a:off x="571680" y="1214280"/>
            <a:ext cx="80722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- Curve resistance: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0"/>
          <p:cNvSpPr/>
          <p:nvPr/>
        </p:nvSpPr>
        <p:spPr>
          <a:xfrm>
            <a:off x="785160" y="4743360"/>
            <a:ext cx="12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age 1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5" descr="نتيجة بحث الصور عن ‪horizontal curve‬‏"/>
          <p:cNvPicPr/>
          <p:nvPr/>
        </p:nvPicPr>
        <p:blipFill>
          <a:blip r:embed="rId1"/>
          <a:srcRect l="7977" t="0" r="12232" b="0"/>
          <a:stretch/>
        </p:blipFill>
        <p:spPr>
          <a:xfrm>
            <a:off x="5572080" y="2500200"/>
            <a:ext cx="3571920" cy="27622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C:\Users\TOSHIBA\Desktop\٢٠١٦١١٠١_٢١٥٤٥٨.jpg"/>
          <p:cNvPicPr/>
          <p:nvPr/>
        </p:nvPicPr>
        <p:blipFill>
          <a:blip r:embed="rId2">
            <a:lum bright="20000"/>
          </a:blip>
          <a:srcRect l="21875" t="37503" r="20584" b="31948"/>
          <a:stretch/>
        </p:blipFill>
        <p:spPr>
          <a:xfrm>
            <a:off x="71280" y="3000240"/>
            <a:ext cx="55008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4"/>
          <p:cNvSpPr/>
          <p:nvPr/>
        </p:nvSpPr>
        <p:spPr>
          <a:xfrm>
            <a:off x="571680" y="1214280"/>
            <a:ext cx="80722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- Air resistance: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0"/>
          <p:cNvSpPr/>
          <p:nvPr/>
        </p:nvSpPr>
        <p:spPr>
          <a:xfrm>
            <a:off x="792360" y="5072040"/>
            <a:ext cx="12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age 1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4" descr="http://d2i6c6y1xqgf7t.cloudfront.net/media/buyersguide/36_06.jpg"/>
          <p:cNvPicPr/>
          <p:nvPr/>
        </p:nvPicPr>
        <p:blipFill>
          <a:blip r:embed="rId1"/>
          <a:srcRect l="1663" t="13334" r="0" b="0"/>
          <a:stretch/>
        </p:blipFill>
        <p:spPr>
          <a:xfrm>
            <a:off x="5037120" y="2786040"/>
            <a:ext cx="4106880" cy="27147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C:\Users\TOSHIBA\Desktop\٢٠١٦١١٠١_٢١٥٥٢٣.jpg"/>
          <p:cNvPicPr/>
          <p:nvPr/>
        </p:nvPicPr>
        <p:blipFill>
          <a:blip r:embed="rId2">
            <a:lum bright="20000"/>
          </a:blip>
          <a:srcRect l="23437" t="37502" r="21874" b="33336"/>
          <a:stretch/>
        </p:blipFill>
        <p:spPr>
          <a:xfrm>
            <a:off x="0" y="3357720"/>
            <a:ext cx="500076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4"/>
          <p:cNvSpPr/>
          <p:nvPr/>
        </p:nvSpPr>
        <p:spPr>
          <a:xfrm>
            <a:off x="571680" y="1214280"/>
            <a:ext cx="80722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Requirement: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0"/>
          <p:cNvSpPr/>
          <p:nvPr/>
        </p:nvSpPr>
        <p:spPr>
          <a:xfrm>
            <a:off x="7435800" y="3214800"/>
            <a:ext cx="12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age 1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C:\Users\TOSHIBA\Desktop\٢٠١٦١١٠١_٢١٥٥٣٠.jpg"/>
          <p:cNvPicPr/>
          <p:nvPr/>
        </p:nvPicPr>
        <p:blipFill>
          <a:blip r:embed="rId1">
            <a:lum bright="20000"/>
          </a:blip>
          <a:srcRect l="11720" t="44448" r="14063" b="20835"/>
          <a:stretch/>
        </p:blipFill>
        <p:spPr>
          <a:xfrm>
            <a:off x="428760" y="2786040"/>
            <a:ext cx="6786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4"/>
          <p:cNvSpPr/>
          <p:nvPr/>
        </p:nvSpPr>
        <p:spPr>
          <a:xfrm>
            <a:off x="571680" y="1214280"/>
            <a:ext cx="80722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 5.6 :-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ge 1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571680" y="1785960"/>
            <a:ext cx="82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stimate the horsepower required to accelerate a 2,500-lb vehicle traveling 30 mph up a 5.0 percent grade at a rate of 6 ft/sec2. The vehicle has a frontal cross-section area of 20 ft2. The roadway has straight alignment and a badly broken and patched asphalt surface. Assume the drag coefficient = 0.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723960" y="3905280"/>
            <a:ext cx="807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iven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2756520" y="4357800"/>
            <a:ext cx="27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hicle weight = 2500 l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655920" y="4357800"/>
            <a:ext cx="205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rsepower = 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9"/>
          <p:cNvSpPr/>
          <p:nvPr/>
        </p:nvSpPr>
        <p:spPr>
          <a:xfrm>
            <a:off x="5439600" y="4344840"/>
            <a:ext cx="18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 = 30 m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3"/>
          <p:cNvSpPr/>
          <p:nvPr/>
        </p:nvSpPr>
        <p:spPr>
          <a:xfrm>
            <a:off x="7366320" y="4357800"/>
            <a:ext cx="14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e = +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4"/>
          <p:cNvSpPr/>
          <p:nvPr/>
        </p:nvSpPr>
        <p:spPr>
          <a:xfrm>
            <a:off x="691200" y="5000760"/>
            <a:ext cx="29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leration rate = 6 ft/se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5"/>
          <p:cNvSpPr/>
          <p:nvPr/>
        </p:nvSpPr>
        <p:spPr>
          <a:xfrm>
            <a:off x="3736080" y="5000760"/>
            <a:ext cx="38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al cross-sectional area = 20 f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6"/>
          <p:cNvSpPr/>
          <p:nvPr/>
        </p:nvSpPr>
        <p:spPr>
          <a:xfrm>
            <a:off x="653760" y="5715000"/>
            <a:ext cx="237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g coefficient = 0.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7"/>
          <p:cNvSpPr/>
          <p:nvPr/>
        </p:nvSpPr>
        <p:spPr>
          <a:xfrm>
            <a:off x="3682440" y="5715000"/>
            <a:ext cx="21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Horizontal 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1T10:26:17Z</dcterms:created>
  <dc:creator>Abdulrahman</dc:creator>
  <dc:description/>
  <dc:language>en-US</dc:language>
  <cp:lastModifiedBy>TOSHIBA</cp:lastModifiedBy>
  <dcterms:modified xsi:type="dcterms:W3CDTF">2016-11-01T21:18:42Z</dcterms:modified>
  <cp:revision>160</cp:revision>
  <dc:subject/>
  <dc:title>CHAPTER 16</dc:title>
</cp:coreProperties>
</file>