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9EE1-0FC3-477A-AD09-EFF36CCF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10D7-2BAD-4225-BAC9-B8981681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1BA5-0D6D-4A3E-84CC-4F82F506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439B-AF38-43B0-9A3D-70DB61BC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A13DF-D9F0-459B-9F68-110FAFFB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80BA-C679-40B1-9724-132A2513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CA9C-8BF5-463F-8518-3128BC56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2696-1ECF-4FAD-BE6E-0050B269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38FF-9033-4BBB-B0E1-ABA3FAD8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82CE5-F6FA-4E7B-9028-18ACA835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78FB-994D-4AF2-8640-445A5222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A163B-325B-4D5D-A5E8-FEC4C0D0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0E81-C6DD-46A1-8B99-B6276FDDD2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66DC-A6E8-4F3D-B9D7-23FCC050EFF1}" type="datetime">
              <a:rPr b="0" lang="en-US" sz="1200" spc="-1" strike="noStrike">
                <a:solidFill>
                  <a:srgbClr val="dfdcb7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omeaddress.com/full/url/" TargetMode="External"/><Relationship Id="rId2" Type="http://schemas.openxmlformats.org/officeDocument/2006/relationships/hyperlink" Target="http://www.someaddress.com/full/url/" TargetMode="External"/><Relationship Id="rId3" Type="http://schemas.openxmlformats.org/officeDocument/2006/relationships/hyperlink" Target="http://www.someaddress.com/full/url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Resources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APA Styl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89c9a"/>
                </a:solidFill>
                <a:latin typeface="Cambria"/>
              </a:rPr>
              <a:t>c. From an E-boo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uthor, A. A., &amp; Author, B. B. (Date of publication). Title of article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Title of Online Periodical, volume numb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(issue number if available). Retrieved from </a:t>
            </a:r>
            <a:r>
              <a:rPr b="0" lang="en-US" sz="22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http</a:t>
            </a:r>
            <a:r>
              <a:rPr b="0" lang="en-US" sz="2200" spc="-1" strike="noStrike" u="sng">
                <a:solidFill>
                  <a:srgbClr val="d25814"/>
                </a:solidFill>
                <a:uFillTx/>
                <a:latin typeface="Calibri"/>
                <a:hlinkClick r:id="rId2"/>
              </a:rPr>
              <a:t>://www.someaddress.com/full/url</a:t>
            </a:r>
            <a:r>
              <a:rPr b="0" lang="en-US" sz="2200" spc="-1" strike="noStrike" u="sng">
                <a:solidFill>
                  <a:srgbClr val="d25814"/>
                </a:solidFill>
                <a:uFillTx/>
                <a:latin typeface="Calibri"/>
                <a:hlinkClick r:id="rId3"/>
              </a:rPr>
              <a:t>/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ernstein, M. (2002). 10 tips on writing the living Web. </a:t>
            </a:r>
            <a:r>
              <a:rPr b="0" i="1" lang="en-US" sz="2200" spc="-1" strike="noStrike">
                <a:solidFill>
                  <a:srgbClr val="2f2b20"/>
                </a:solidFill>
                <a:latin typeface="Calibri"/>
              </a:rPr>
              <a:t>A List Apart: For People Who Make Websites, 149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 Retrieved from http://www.alistapart.com/articles/writeliv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89c9a"/>
                </a:solidFill>
                <a:latin typeface="Cambria"/>
              </a:rPr>
              <a:t>c. From an online fil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417320"/>
            <a:ext cx="7620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hen citing online files, be sure to provide the file format in brackets after title (e.g. PowerPoint slides, Word document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With Author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Hallam, A.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Duality in consumer theory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 [PDF document]. Retrieved from Lecture Notes Online Web site: http://www.econ.iastate.edu/classes/econ501/Hallam/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index.htm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Roberts, K. F. (1998).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Federal regulations of chemicals in the environment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 [PowerPoint slides]. Retrieved from http://siri.uvm.edu/ppt/40hrenv/index.htm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193680" y="174456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Without author: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Psychology Video Blog #3 [Video file]. Retrieved from http://www.youtube.com/watch?v=lqM90eQi5-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479680" y="27367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click he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03120" y="2459160"/>
            <a:ext cx="72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l information in these slides was retrieved frow OwlPurdue.co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For more information,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1. In-text Citatio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646200" y="1711440"/>
            <a:ext cx="4572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the author's last name and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Calibri"/>
              </a:rPr>
              <a:t>the year of publication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c9a"/>
                </a:solidFill>
                <a:latin typeface="Calibri"/>
              </a:rPr>
              <a:t>should appear in the tex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Exampl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(Jones, 1998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466560" y="1074600"/>
            <a:ext cx="63914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89c9a"/>
                </a:solidFill>
                <a:latin typeface="Calibri"/>
              </a:rPr>
              <a:t>If you are directly quoting from a work, you will need to include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he author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year of publication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nd the page number for the reference (preceded by "p.")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1752480" cy="58514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75e47"/>
                </a:solidFill>
                <a:latin typeface="Cambria"/>
              </a:rPr>
              <a:t>QUOTES</a:t>
            </a:r>
            <a:endParaRPr b="0" lang="en-US" sz="80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72880" y="1287360"/>
            <a:ext cx="63565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ntroduce with a </a:t>
            </a:r>
            <a:r>
              <a:rPr b="1" lang="en-US" sz="2800" spc="-1" strike="noStrike" u="sng">
                <a:solidFill>
                  <a:srgbClr val="2f2b20"/>
                </a:solidFill>
                <a:uFillTx/>
                <a:latin typeface="Calibri"/>
              </a:rPr>
              <a:t>signal phrase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that includes </a:t>
            </a:r>
            <a:r>
              <a:rPr b="0" i="1" lang="en-US" sz="2800" spc="-1" strike="noStrike">
                <a:solidFill>
                  <a:srgbClr val="689c9a"/>
                </a:solidFill>
                <a:latin typeface="Calibri"/>
              </a:rPr>
              <a:t>the author's last name</a:t>
            </a:r>
            <a:r>
              <a:rPr b="0" lang="en-US" sz="2800" spc="-1" strike="noStrike">
                <a:solidFill>
                  <a:srgbClr val="689c9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followed by </a:t>
            </a:r>
            <a:r>
              <a:rPr b="0" i="1" lang="en-US" sz="2800" spc="-1" strike="noStrike">
                <a:solidFill>
                  <a:srgbClr val="689c9a"/>
                </a:solidFill>
                <a:latin typeface="Calibri"/>
              </a:rPr>
              <a:t>the date of publication</a:t>
            </a:r>
            <a:r>
              <a:rPr b="0" lang="en-US" sz="2800" spc="-1" strike="noStrike">
                <a:solidFill>
                  <a:srgbClr val="689c9a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n parentheses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cording to Jones (1998), "Students often had difficulty using APA style, especially when it was their first time" (p. 199)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Jones (1998) found "students often had difficulty using APA style" (p. 199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1752480" cy="58514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75e47"/>
                </a:solidFill>
                <a:latin typeface="Cambria"/>
              </a:rPr>
              <a:t>QUOTES</a:t>
            </a:r>
            <a:endParaRPr b="0" lang="en-US" sz="80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1752480" cy="5851440"/>
          </a:xfrm>
          <a:prstGeom prst="rect">
            <a:avLst/>
          </a:prstGeom>
          <a:noFill/>
          <a:ln w="0">
            <a:noFill/>
          </a:ln>
        </p:spPr>
        <p:txBody>
          <a:bodyPr anchor="b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75e47"/>
                </a:solidFill>
                <a:latin typeface="Cambria"/>
              </a:rPr>
              <a:t>QUOTES</a:t>
            </a:r>
            <a:endParaRPr b="0" lang="en-US" sz="8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76040" y="1479600"/>
            <a:ext cx="611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89c9a"/>
                </a:solidFill>
                <a:latin typeface="Calibri"/>
              </a:rPr>
              <a:t>If the author is not named in a signal phrase, place the author's last name, the year of publication, and the page number in parentheses after the quotatio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he stated, "Students often had difficulty using APA style" (Jones, 1998, p. 199), but she did not offer an explanation as to why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2. Reference List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57200" y="23670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uthor, A. A., Author, B. B., &amp; Author, C. C. (Year). Title of article.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Title of Periodical, volume number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issue number), pages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‪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Johnson, J. S., &amp; Newport, E. L. (1989). Critical period effects in second language learning.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Cognitive psychology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d16349"/>
                </a:solidFill>
                <a:latin typeface="Calibri"/>
              </a:rPr>
              <a:t>21</a:t>
            </a:r>
            <a:r>
              <a:rPr b="0" lang="en-US" sz="2400" spc="-1" strike="noStrike">
                <a:solidFill>
                  <a:srgbClr val="d16349"/>
                </a:solidFill>
                <a:latin typeface="Calibri"/>
              </a:rPr>
              <a:t>(1), 60-99‬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89c9a"/>
                </a:solidFill>
                <a:latin typeface="Cambria"/>
              </a:rPr>
              <a:t>a. From an article in a journal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76040" y="1681200"/>
            <a:ext cx="790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uthor, A. A. (Year of publication).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Title of work: Capital letter also for subtitle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. Location: Publish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76040" y="2957400"/>
            <a:ext cx="790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Calfee, R. C., &amp; Valencia, R. R. (1991). </a:t>
            </a:r>
            <a:r>
              <a:rPr b="1" i="1" lang="en-US" sz="2400" spc="-1" strike="noStrike">
                <a:solidFill>
                  <a:srgbClr val="2f2b20"/>
                </a:solidFill>
                <a:latin typeface="Calibri"/>
              </a:rPr>
              <a:t>APA guide to preparing manuscripts for journal publication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. Washington, DC: American Psychological Association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89c9a"/>
                </a:solidFill>
                <a:latin typeface="Cambria"/>
              </a:rPr>
              <a:t>b. From a boo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0T19:05:42Z</dcterms:created>
  <dc:creator>Hanouf Al-Muhaizaa</dc:creator>
  <dc:description/>
  <dc:language>en-US</dc:language>
  <cp:lastModifiedBy>Hanouf Al-Muhaizaa</cp:lastModifiedBy>
  <dcterms:modified xsi:type="dcterms:W3CDTF">2015-05-22T18:03:14Z</dcterms:modified>
  <cp:revision>9</cp:revision>
  <dc:subject/>
  <dc:title>PowerPoint Presentation</dc:title>
</cp:coreProperties>
</file>