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D4DC-F820-432C-A731-ABE692E9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A62B-42F2-4ADA-BEE8-DCBCF0DF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AD9A-533D-4D12-A7A9-5F471B78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B5E3-9BD9-4159-8181-7AA0CDAF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B393-9FF5-422D-B165-5EDD0639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D566-8CD1-4557-9B5C-2CC9394C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F97B-DF55-4FEE-B9AC-B5D32FC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7485-86C3-421D-AFC7-17895B45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D3AD-84C3-4E98-B15D-7C4F3169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FFDE-211A-4A71-BE64-FCD31439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F4F2-7474-4D67-8C4B-AF70C8D7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5A6D-4ED0-4836-8136-74403450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342C-E6D4-4B18-A233-D6302BAAA2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8703-A92D-41F6-86DA-B6660F66160F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omeaddress.com/full/url/" TargetMode="External"/><Relationship Id="rId2" Type="http://schemas.openxmlformats.org/officeDocument/2006/relationships/hyperlink" Target="http://www.someaddress.com/full/url/" TargetMode="External"/><Relationship Id="rId3" Type="http://schemas.openxmlformats.org/officeDocument/2006/relationships/hyperlink" Target="http://www.someaddress.com/full/url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Resource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APA Styl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89c9a"/>
                </a:solidFill>
                <a:latin typeface="Cambria"/>
              </a:rPr>
              <a:t>c. From an E-boo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uthor, A. A., &amp; Author, B. B. (Date of publication). Title of article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Title of Online Periodical, volume numb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issue number if available). Retrieved from </a:t>
            </a:r>
            <a:r>
              <a:rPr b="0" lang="en-US" sz="22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http</a:t>
            </a:r>
            <a:r>
              <a:rPr b="0" lang="en-US" sz="22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://www.someaddress.com/full/url</a:t>
            </a:r>
            <a:r>
              <a:rPr b="0" lang="en-US" sz="2200" spc="-1" strike="noStrike" u="sng">
                <a:solidFill>
                  <a:srgbClr val="d25814"/>
                </a:solidFill>
                <a:uFillTx/>
                <a:latin typeface="Calibri"/>
                <a:hlinkClick r:id="rId3"/>
              </a:rPr>
              <a:t>/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rnstein, M. (2002). 10 tips on writing the living Web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A List Apart: For People Who Make Websites, 149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 Retrieved from http://www.alistapart.com/articles/writeliv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89c9a"/>
                </a:solidFill>
                <a:latin typeface="Cambria"/>
              </a:rPr>
              <a:t>c. From an online fi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417320"/>
            <a:ext cx="7620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en citing online files, be sure to provide the file format in brackets after title (e.g. PowerPoint slides, Word document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ith Author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Hallam, A.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Duality in consumer theory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 [PDF document]. Retrieved from Lecture Notes Online Web site: http://www.econ.iastate.edu/classes/econ501/Hallam/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index.htm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Roberts, K. F. (1998).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Federal regulations of chemicals in the environment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 [PowerPoint slides]. Retrieved from http://siri.uvm.edu/ppt/40hrenv/index.htm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193680" y="174456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Without author: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Psychology Video Blog #3 [Video file]. Retrieved from http://www.youtube.com/watch?v=lqM90eQi5-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479680" y="2736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click he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03120" y="2459160"/>
            <a:ext cx="72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l information in these slides was retrieved frow OwlPurdue.co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For more information,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1. In-text Citatio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646200" y="1711440"/>
            <a:ext cx="4572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the author's last name and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the year of publicatio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c9a"/>
                </a:solidFill>
                <a:latin typeface="Calibri"/>
              </a:rPr>
              <a:t>should appear in the tex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Examp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(Jones, 1998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466560" y="1074600"/>
            <a:ext cx="63914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c9a"/>
                </a:solidFill>
                <a:latin typeface="Calibri"/>
              </a:rPr>
              <a:t>If you are directly quoting from a work, you will need to include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he author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year of publication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nd the page number for the reference (preceded by "p.")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1752480" cy="58514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75e47"/>
                </a:solidFill>
                <a:latin typeface="Cambria"/>
              </a:rPr>
              <a:t>QUOTES</a:t>
            </a:r>
            <a:endParaRPr b="0" lang="en-US" sz="80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2880" y="1287360"/>
            <a:ext cx="63565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ntroduce with a </a:t>
            </a:r>
            <a:r>
              <a:rPr b="1" lang="en-US" sz="2800" spc="-1" strike="noStrike" u="sng">
                <a:solidFill>
                  <a:srgbClr val="2f2b20"/>
                </a:solidFill>
                <a:uFillTx/>
                <a:latin typeface="Calibri"/>
              </a:rPr>
              <a:t>signal phrase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at includes </a:t>
            </a:r>
            <a:r>
              <a:rPr b="0" i="1" lang="en-US" sz="2800" spc="-1" strike="noStrike">
                <a:solidFill>
                  <a:srgbClr val="689c9a"/>
                </a:solidFill>
                <a:latin typeface="Calibri"/>
              </a:rPr>
              <a:t>the author's last name</a:t>
            </a:r>
            <a:r>
              <a:rPr b="0" lang="en-US" sz="2800" spc="-1" strike="noStrike">
                <a:solidFill>
                  <a:srgbClr val="689c9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ollowed by </a:t>
            </a:r>
            <a:r>
              <a:rPr b="0" i="1" lang="en-US" sz="2800" spc="-1" strike="noStrike">
                <a:solidFill>
                  <a:srgbClr val="689c9a"/>
                </a:solidFill>
                <a:latin typeface="Calibri"/>
              </a:rPr>
              <a:t>the date of publication</a:t>
            </a:r>
            <a:r>
              <a:rPr b="0" lang="en-US" sz="2800" spc="-1" strike="noStrike">
                <a:solidFill>
                  <a:srgbClr val="689c9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n parentheses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cording to Jones (1998), "Students often had difficulty using APA style, especially when it was their first time" (p. 199)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ones (1998) found "students often had difficulty using APA style" (p. 199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1752480" cy="58514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75e47"/>
                </a:solidFill>
                <a:latin typeface="Cambria"/>
              </a:rPr>
              <a:t>QUOTES</a:t>
            </a:r>
            <a:endParaRPr b="0" lang="en-US" sz="80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1752480" cy="58514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75e47"/>
                </a:solidFill>
                <a:latin typeface="Cambria"/>
              </a:rPr>
              <a:t>QUOTES</a:t>
            </a:r>
            <a:endParaRPr b="0" lang="en-US" sz="8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6040" y="1479600"/>
            <a:ext cx="61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9c9a"/>
                </a:solidFill>
                <a:latin typeface="Calibri"/>
              </a:rPr>
              <a:t>If the author is not named in a signal phrase, place the author's last name, the year of publication, and the page number in parentheses after the quotatio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he stated, "Students often had difficulty using APA style" (Jones, 1998, p. 199), but she did not offer an explanation as to wh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2. Reference List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57200" y="23670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uthor, A. A., Author, B. B., &amp; Author, C. C. (Year). Title of article.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Title of Periodical, volume number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issue number), page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‪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Johnson, J. S., &amp; Newport, E. L. (1989). Critical period effects in second language learning.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Cognitive psychology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21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(1), 60-99‬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89c9a"/>
                </a:solidFill>
                <a:latin typeface="Cambria"/>
              </a:rPr>
              <a:t>a. From an article in a journa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6040" y="1681200"/>
            <a:ext cx="790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uthor, A. A. (Year of publication).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Title of work: Capital letter also for subtitle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. Location: Publish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76040" y="2957400"/>
            <a:ext cx="790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alfee, R. C., &amp; Valencia, R. R. (1991).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APA guide to preparing manuscripts for journal publication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. Washington, DC: American Psychological Associatio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89c9a"/>
                </a:solidFill>
                <a:latin typeface="Cambria"/>
              </a:rPr>
              <a:t>b. From a boo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19:05:42Z</dcterms:created>
  <dc:creator>Hanouf Al-Muhaizaa</dc:creator>
  <dc:description/>
  <dc:language>en-US</dc:language>
  <cp:lastModifiedBy>Hanouf Al-Muhaizaa</cp:lastModifiedBy>
  <dcterms:modified xsi:type="dcterms:W3CDTF">2015-05-22T18:03:14Z</dcterms:modified>
  <cp:revision>9</cp:revision>
  <dc:subject/>
  <dc:title>PowerPoint Presentation</dc:title>
</cp:coreProperties>
</file>