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.png" ContentType="image/png"/>
  <Override PartName="/ppt/media/image2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81F-4044-4F2A-BBFC-58EC3A26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498-26ED-459C-AE18-3EF75341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885-BCA7-4576-91A8-7C92C801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AA3-AABE-4ED9-8368-CF20D0B4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4D31-8B8E-4EB7-BAAB-3ED73CED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2223-DE7B-41A9-A209-1C6C8118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F98B-780B-402D-9D59-97CD30CF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24E0-49A9-496B-B3D4-FF7FFE44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F00B-B399-44F9-A8B2-E36FD80F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38E9-E7D2-4284-B8CD-3852E744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AF82-A7F5-4C8E-8001-5EC1922B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224-3D3F-4686-B0C2-D9C9D0C0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ED19-FF4C-4A5F-976F-CB13C1B6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9065-5094-4210-880D-0BBB6780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3D9F-306A-48DE-813B-8522E078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4A8C-F275-4AD0-A8FD-16E22DEE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93E9-6548-4E46-A887-3F12F7CB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2C6-B4F0-4154-B333-D0BDA79D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5F0-2E19-4338-A012-8C0B1E06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E4A-A156-4792-8523-6710F779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494-62C0-448C-9D83-A255837A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75F-C1E5-439D-ABE8-FC9493A1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286-B776-4732-97DA-1D70B8D0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76D-31CD-4A71-A3B8-B366F97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9DC4-70AB-4EC0-A90C-21A5326F06EC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E9E3-0AE8-4C7D-AE6B-410B1D2C27C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Use of O</a:t>
            </a:r>
            <a:r>
              <a:rPr b="1" lang="en-US" sz="36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from the environment and the disposal of CO</a:t>
            </a:r>
            <a:r>
              <a:rPr b="1" lang="en-US" sz="36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Physiological challeng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Aquatic vs Terrestria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181480" y="2133720"/>
            <a:ext cx="3962520" cy="4724280"/>
            <a:chOff x="5181480" y="2133720"/>
            <a:chExt cx="3962520" cy="4724280"/>
          </a:xfrm>
        </p:grpSpPr>
        <p:sp>
          <p:nvSpPr>
            <p:cNvPr id="126" name=""/>
            <p:cNvSpPr/>
            <p:nvPr/>
          </p:nvSpPr>
          <p:spPr>
            <a:xfrm>
              <a:off x="5181480" y="2133720"/>
              <a:ext cx="3962520" cy="472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5257800" y="2133720"/>
              <a:ext cx="3673440" cy="47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cheae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419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iracles – holes on side of 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cheae system – internal plumb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usion – directly into cells – no circulatory system necessa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219640" y="1371600"/>
            <a:ext cx="3924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piration in Amphibians and Repti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790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 pressure brea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&gt; pressure outside lu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CHANISM -Into pharynx – close entrance – lungs expel C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- elevate floor of oral cavity and open glott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gative pressure brea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ung expansion – pulling accordian – rib cage expan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398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2114640" cy="31431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mmal Lu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152280" y="914040"/>
            <a:ext cx="5333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reased O2 demand/higher metabolic rate  = more efficient syst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uc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strils – Hair Fil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liated cells of R.T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ryn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rach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ronchi/Bronch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ronchio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veolar sa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veol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aphrag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172200" y="0"/>
            <a:ext cx="3200040" cy="4343400"/>
            <a:chOff x="6172200" y="0"/>
            <a:chExt cx="3200040" cy="4343400"/>
          </a:xfrm>
        </p:grpSpPr>
        <p:sp>
          <p:nvSpPr>
            <p:cNvPr id="197" name=""/>
            <p:cNvSpPr/>
            <p:nvPr/>
          </p:nvSpPr>
          <p:spPr>
            <a:xfrm>
              <a:off x="6172200" y="0"/>
              <a:ext cx="3134880" cy="434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6173640" y="0"/>
              <a:ext cx="3198600" cy="427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4000680" y="3711600"/>
            <a:ext cx="5981040" cy="3222720"/>
            <a:chOff x="4000680" y="3711600"/>
            <a:chExt cx="5981040" cy="3222720"/>
          </a:xfrm>
        </p:grpSpPr>
        <p:grpSp>
          <p:nvGrpSpPr>
            <p:cNvPr id="200" name=""/>
            <p:cNvGrpSpPr/>
            <p:nvPr/>
          </p:nvGrpSpPr>
          <p:grpSpPr>
            <a:xfrm>
              <a:off x="5159160" y="3711600"/>
              <a:ext cx="4822560" cy="3222720"/>
              <a:chOff x="5159160" y="3711600"/>
              <a:chExt cx="4822560" cy="3222720"/>
            </a:xfrm>
          </p:grpSpPr>
          <p:pic>
            <p:nvPicPr>
              <p:cNvPr id="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59160" y="3711600"/>
                <a:ext cx="2628720" cy="322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2" name=""/>
              <p:cNvGrpSpPr/>
              <p:nvPr/>
            </p:nvGrpSpPr>
            <p:grpSpPr>
              <a:xfrm>
                <a:off x="7673040" y="5181480"/>
                <a:ext cx="2308680" cy="882360"/>
                <a:chOff x="7673040" y="5181480"/>
                <a:chExt cx="2308680" cy="882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8266320" y="5604120"/>
                  <a:ext cx="1715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Alveolar sac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7825320" y="5867640"/>
                  <a:ext cx="380520" cy="15228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7673040" y="5181480"/>
                  <a:ext cx="533160" cy="609480"/>
                </a:xfrm>
                <a:prstGeom prst="line">
                  <a:avLst/>
                </a:prstGeom>
                <a:ln w="9360">
                  <a:solidFill>
                    <a:srgbClr val="eaeaea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"/>
            <p:cNvSpPr/>
            <p:nvPr/>
          </p:nvSpPr>
          <p:spPr>
            <a:xfrm>
              <a:off x="4000680" y="62899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Alveoli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083200" y="6553080"/>
              <a:ext cx="1828440" cy="75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083200" y="6096240"/>
              <a:ext cx="15998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228600" y="-15264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ucture &amp; Mechanisms of Breath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ute = trachea, bronchi, bronchioles, alveoli – capillar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yle’s la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olume increases pressure decrea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cles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ternal Interco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aphrag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nspiration – Diaphragm and Intercostals contract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Expiration – muscle relaxation and elastic recoi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257800" y="1295280"/>
            <a:ext cx="3886200" cy="4724640"/>
            <a:chOff x="5257800" y="1295280"/>
            <a:chExt cx="3886200" cy="4724640"/>
          </a:xfrm>
        </p:grpSpPr>
        <p:sp>
          <p:nvSpPr>
            <p:cNvPr id="212" name=""/>
            <p:cNvSpPr/>
            <p:nvPr/>
          </p:nvSpPr>
          <p:spPr>
            <a:xfrm>
              <a:off x="5257800" y="1295280"/>
              <a:ext cx="3886200" cy="472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5318280" y="1295280"/>
              <a:ext cx="3673440" cy="472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eathing Measurement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dal Volu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tal amount of air moved with each breath at rest = ~ 500 m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tal Capac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ximum amount that can be expired after a forceful maximum inspiration = ~ 4.6 L in males and 3.1 L in fem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ad Air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mount of air contained in areas of no gas exchange = ~ 150 ml of Tidal Volu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76920" y="4070520"/>
            <a:ext cx="38098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rd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piratory System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idirectional flo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dead air sp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352680" y="1433520"/>
            <a:ext cx="57913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1600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kin – Cut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653000" y="0"/>
            <a:ext cx="4491000" cy="6858000"/>
            <a:chOff x="4653000" y="0"/>
            <a:chExt cx="4491000" cy="685800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rcRect l="0" t="0" r="21355" b="0"/>
            <a:stretch/>
          </p:blipFill>
          <p:spPr>
            <a:xfrm>
              <a:off x="4653000" y="0"/>
              <a:ext cx="4491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467840" y="0"/>
              <a:ext cx="16002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3809880" cy="2968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04920" y="228600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xygen – whi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rbon Dioxide - bl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6934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Terrestr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mospheric condi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78% N, 21% 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1% others, .03% CO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 liter of air = 210 ml 0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Aquat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5-10ml O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/liter H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Environmental Cond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Anox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Hypox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Normox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Hyperox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52880" y="327672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rganismal Categor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Obligate Aerob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Facultative Anaerob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Obligate Anaerob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would you build a gas exchang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ose it to the source of gas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ease of exchange not a lot of energy need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ghly vasculariz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ease of movement into body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n membra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easy transfer – not too thin - lack durabilit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rge surface area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too large lose H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2063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Respiratory orga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05280" y="1142640"/>
            <a:ext cx="533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85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Times New Roman"/>
              </a:rPr>
              <a:t>Aquatic vs Terrestrial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cheae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u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29200" y="10098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2604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ill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ternal gil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agin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nal gil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vaginations (covered by flap - operculum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17912" t="23325" r="1492" b="0"/>
          <a:stretch/>
        </p:blipFill>
        <p:spPr>
          <a:xfrm>
            <a:off x="4572000" y="1219320"/>
            <a:ext cx="4114800" cy="25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3814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ll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3048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ll 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ll Fila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ll Lamella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rectional – countercurr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sh Coug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24320" y="1981080"/>
            <a:ext cx="3996000" cy="4876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18999" t="32815" r="39001" b="10940"/>
          <a:stretch/>
        </p:blipFill>
        <p:spPr>
          <a:xfrm>
            <a:off x="304920" y="30492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42640" y="5331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y is countercurrent more efficien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1981080"/>
            <a:ext cx="7848720" cy="1600200"/>
            <a:chOff x="380880" y="1981080"/>
            <a:chExt cx="7848720" cy="1600200"/>
          </a:xfrm>
        </p:grpSpPr>
        <p:grpSp>
          <p:nvGrpSpPr>
            <p:cNvPr id="150" name=""/>
            <p:cNvGrpSpPr/>
            <p:nvPr/>
          </p:nvGrpSpPr>
          <p:grpSpPr>
            <a:xfrm>
              <a:off x="914400" y="2819160"/>
              <a:ext cx="7315200" cy="762120"/>
              <a:chOff x="914400" y="2819160"/>
              <a:chExt cx="7315200" cy="762120"/>
            </a:xfrm>
          </p:grpSpPr>
          <p:sp>
            <p:nvSpPr>
              <p:cNvPr id="151" name=""/>
              <p:cNvSpPr/>
              <p:nvPr/>
            </p:nvSpPr>
            <p:spPr>
              <a:xfrm>
                <a:off x="914400" y="2895480"/>
                <a:ext cx="7315200" cy="685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14400" y="281916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Blood 0ml Oxygen/liter   0ml       to        5 m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914400" y="1981080"/>
              <a:ext cx="7315200" cy="1066680"/>
              <a:chOff x="914400" y="1981080"/>
              <a:chExt cx="7315200" cy="1066680"/>
            </a:xfrm>
          </p:grpSpPr>
          <p:sp>
            <p:nvSpPr>
              <p:cNvPr id="154" name=""/>
              <p:cNvSpPr/>
              <p:nvPr/>
            </p:nvSpPr>
            <p:spPr>
              <a:xfrm>
                <a:off x="914400" y="2057400"/>
                <a:ext cx="7315200" cy="6858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14400" y="19810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Water 10ml Oxygen/liter   10ml       to        5 m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96080" y="2666880"/>
                <a:ext cx="152640" cy="380880"/>
              </a:xfrm>
              <a:prstGeom prst="downArrow">
                <a:avLst>
                  <a:gd name="adj1" fmla="val 50000"/>
                  <a:gd name="adj2" fmla="val 62382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934320" y="2666880"/>
                <a:ext cx="152280" cy="380880"/>
              </a:xfrm>
              <a:prstGeom prst="downArrow">
                <a:avLst>
                  <a:gd name="adj1" fmla="val 50000"/>
                  <a:gd name="adj2" fmla="val 62530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95880" y="2666880"/>
                <a:ext cx="152640" cy="380880"/>
              </a:xfrm>
              <a:prstGeom prst="downArrow">
                <a:avLst>
                  <a:gd name="adj1" fmla="val 50000"/>
                  <a:gd name="adj2" fmla="val 62382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666880"/>
                <a:ext cx="152280" cy="380880"/>
              </a:xfrm>
              <a:prstGeom prst="downArrow">
                <a:avLst>
                  <a:gd name="adj1" fmla="val 50000"/>
                  <a:gd name="adj2" fmla="val 62530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95680" y="2666880"/>
                <a:ext cx="152640" cy="380880"/>
              </a:xfrm>
              <a:prstGeom prst="downArrow">
                <a:avLst>
                  <a:gd name="adj1" fmla="val 50000"/>
                  <a:gd name="adj2" fmla="val 62382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80880" y="2286000"/>
              <a:ext cx="838440" cy="380880"/>
            </a:xfrm>
            <a:prstGeom prst="rightArrow">
              <a:avLst>
                <a:gd name="adj1" fmla="val 50000"/>
                <a:gd name="adj2" fmla="val 55033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880" y="3124080"/>
              <a:ext cx="838440" cy="380880"/>
            </a:xfrm>
            <a:prstGeom prst="rightArrow">
              <a:avLst>
                <a:gd name="adj1" fmla="val 50000"/>
                <a:gd name="adj2" fmla="val 55033"/>
              </a:avLst>
            </a:prstGeom>
            <a:solidFill>
              <a:srgbClr val="ff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4920" y="4952880"/>
            <a:ext cx="8229600" cy="1752480"/>
            <a:chOff x="304920" y="4952880"/>
            <a:chExt cx="8229600" cy="1752480"/>
          </a:xfrm>
        </p:grpSpPr>
        <p:grpSp>
          <p:nvGrpSpPr>
            <p:cNvPr id="164" name=""/>
            <p:cNvGrpSpPr/>
            <p:nvPr/>
          </p:nvGrpSpPr>
          <p:grpSpPr>
            <a:xfrm>
              <a:off x="762120" y="5943240"/>
              <a:ext cx="7315200" cy="762120"/>
              <a:chOff x="762120" y="5943240"/>
              <a:chExt cx="7315200" cy="762120"/>
            </a:xfrm>
          </p:grpSpPr>
          <p:sp>
            <p:nvSpPr>
              <p:cNvPr id="165" name=""/>
              <p:cNvSpPr/>
              <p:nvPr/>
            </p:nvSpPr>
            <p:spPr>
              <a:xfrm>
                <a:off x="762120" y="6019560"/>
                <a:ext cx="7315200" cy="685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2120" y="59432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Blood 0ml Oxygen/liter   0ml       to        10 m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62120" y="4952880"/>
              <a:ext cx="7315200" cy="1066680"/>
              <a:chOff x="762120" y="4952880"/>
              <a:chExt cx="7315200" cy="1066680"/>
            </a:xfrm>
          </p:grpSpPr>
          <p:sp>
            <p:nvSpPr>
              <p:cNvPr id="168" name=""/>
              <p:cNvSpPr/>
              <p:nvPr/>
            </p:nvSpPr>
            <p:spPr>
              <a:xfrm>
                <a:off x="762120" y="5029200"/>
                <a:ext cx="7315200" cy="6858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62120" y="4952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Water 10ml Oxygen/liter   10ml       to        0 m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543800" y="5638680"/>
                <a:ext cx="152640" cy="380880"/>
              </a:xfrm>
              <a:prstGeom prst="downArrow">
                <a:avLst>
                  <a:gd name="adj1" fmla="val 50000"/>
                  <a:gd name="adj2" fmla="val 62382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82040" y="5638680"/>
                <a:ext cx="152280" cy="380880"/>
              </a:xfrm>
              <a:prstGeom prst="downArrow">
                <a:avLst>
                  <a:gd name="adj1" fmla="val 50000"/>
                  <a:gd name="adj2" fmla="val 62530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43600" y="5638680"/>
                <a:ext cx="152640" cy="380880"/>
              </a:xfrm>
              <a:prstGeom prst="downArrow">
                <a:avLst>
                  <a:gd name="adj1" fmla="val 50000"/>
                  <a:gd name="adj2" fmla="val 62382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05520" y="5638680"/>
                <a:ext cx="152280" cy="380880"/>
              </a:xfrm>
              <a:prstGeom prst="downArrow">
                <a:avLst>
                  <a:gd name="adj1" fmla="val 50000"/>
                  <a:gd name="adj2" fmla="val 62530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43400" y="5638680"/>
                <a:ext cx="152640" cy="380880"/>
              </a:xfrm>
              <a:prstGeom prst="downArrow">
                <a:avLst>
                  <a:gd name="adj1" fmla="val 50000"/>
                  <a:gd name="adj2" fmla="val 62382"/>
                </a:avLst>
              </a:prstGeom>
              <a:solidFill>
                <a:srgbClr val="003399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809880" y="563868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6720" y="563868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6000" y="563868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95480" y="563868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563868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920" y="533376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0033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0120" y="6248160"/>
              <a:ext cx="914400" cy="380880"/>
            </a:xfrm>
            <a:prstGeom prst="leftArrow">
              <a:avLst>
                <a:gd name="adj1" fmla="val 50000"/>
                <a:gd name="adj2" fmla="val 60019"/>
              </a:avLst>
            </a:prstGeom>
            <a:solidFill>
              <a:srgbClr val="ff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85800" y="1219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arallel blood and oxygen flow – equilibrium is reached when each has 5 ml oxygen – 50% efficien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4191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untercurrent blood and oxygen flow – equilibrium is seldom reached, so diffusion continues – 100% efficien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 ways Fish get H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 across t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tract O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m Jet venti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rcular pu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19640" y="76320"/>
            <a:ext cx="346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02:32:04Z</dcterms:created>
  <dc:creator>COE User</dc:creator>
  <dc:description/>
  <dc:language>en-US</dc:language>
  <cp:lastModifiedBy>ZonaNet</cp:lastModifiedBy>
  <dcterms:modified xsi:type="dcterms:W3CDTF">2008-05-02T20:03:38Z</dcterms:modified>
  <cp:revision>19</cp:revision>
  <dc:subject/>
  <dc:title>Respiration</dc:title>
</cp:coreProperties>
</file>