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.png" ContentType="image/png"/>
  <Override PartName="/ppt/media/image2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9E31-28A3-44A0-8EBA-59C95DD79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5EC8-7CE3-4BA5-8929-7FC05B4A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C655-312E-447B-95D5-765883DFF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552B-F004-4996-8588-5EA11B043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C430-3E4B-4527-83CD-1F864070E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FF88-0B3D-4CA7-84B6-005441BC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5A71-A383-41A0-8CAA-DD587905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3A64-C9FB-4105-9A19-5DBA8586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46B7-F466-4D78-9BAA-57F4E59C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B379-14A8-4C95-A4FE-DDEFBAD5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8E29-097C-44FE-853E-F284ED23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14C1-7289-4FF9-98C7-FB71E464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899D-9CC8-47B0-AC7C-0D3EDEB8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8E3F-4860-42CD-BDAC-2039409D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77CB-39EE-4870-B047-9D51B2AF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A1ED-91DD-4020-BDD3-73C377737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BCEA-4CAD-4534-BE60-0846C6387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1998-4129-442B-9037-7DAC17FB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9F45-898E-4943-8A5F-0BC71C9C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BD3C-9711-4812-9807-49067EFF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0BD6-9088-43C5-8C8D-BD0FBA6D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82C9-E4E7-43F4-9DFE-5B9D53A9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CFC7-BB17-4592-8FF8-756C5F2F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4CB2-3992-4FE5-8FD4-A136640E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F2DA-F657-476C-B145-B85FC70A0ED6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0356-6B68-4C8D-A01D-0B852E49611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Respira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960" y="76212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Use of O</a:t>
            </a:r>
            <a:r>
              <a:rPr b="1" lang="en-US" sz="36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 from the environment and the disposal of CO</a:t>
            </a:r>
            <a:r>
              <a:rPr b="1" lang="en-US" sz="36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Physiological challenge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Aquatic vs Terrestrial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181480" y="2133720"/>
            <a:ext cx="3962520" cy="4724280"/>
            <a:chOff x="5181480" y="2133720"/>
            <a:chExt cx="3962520" cy="4724280"/>
          </a:xfrm>
        </p:grpSpPr>
        <p:sp>
          <p:nvSpPr>
            <p:cNvPr id="126" name=""/>
            <p:cNvSpPr/>
            <p:nvPr/>
          </p:nvSpPr>
          <p:spPr>
            <a:xfrm>
              <a:off x="5181480" y="2133720"/>
              <a:ext cx="3962520" cy="472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5257800" y="2133720"/>
              <a:ext cx="3673440" cy="4724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cheae Syste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4419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piracles – holes on side of bod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racheae system – internal plumb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ffusion – directly into cells – no circulatory system necessa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219640" y="1371600"/>
            <a:ext cx="3924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piration in Amphibians and Repti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5790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sitive pressure breath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&gt; pressure outside lu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CHANISM -Into pharynx – close entrance – lungs expel CO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- elevate floor of oral cavity and open glott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gative pressure breath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ung expansion – pulling accordian – rib cage expans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172200" y="228600"/>
            <a:ext cx="23986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429000" y="2057400"/>
            <a:ext cx="2114640" cy="31431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9907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mmal Lung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-152280" y="914040"/>
            <a:ext cx="53337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creased O2 demand/higher metabolic rate  = more efficient syste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ructur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strils – Hair Fil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iliated cells of R.T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aryn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rache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ronchi/Bronchu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ronchio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veolar sa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veol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iaphrag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172200" y="0"/>
            <a:ext cx="3200040" cy="4343400"/>
            <a:chOff x="6172200" y="0"/>
            <a:chExt cx="3200040" cy="4343400"/>
          </a:xfrm>
        </p:grpSpPr>
        <p:sp>
          <p:nvSpPr>
            <p:cNvPr id="197" name=""/>
            <p:cNvSpPr/>
            <p:nvPr/>
          </p:nvSpPr>
          <p:spPr>
            <a:xfrm>
              <a:off x="6172200" y="0"/>
              <a:ext cx="3134880" cy="434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98" name="" descr=""/>
            <p:cNvPicPr/>
            <p:nvPr/>
          </p:nvPicPr>
          <p:blipFill>
            <a:blip r:embed="rId2"/>
            <a:stretch/>
          </p:blipFill>
          <p:spPr>
            <a:xfrm>
              <a:off x="6173640" y="0"/>
              <a:ext cx="3198600" cy="427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9" name=""/>
          <p:cNvGrpSpPr/>
          <p:nvPr/>
        </p:nvGrpSpPr>
        <p:grpSpPr>
          <a:xfrm>
            <a:off x="4000680" y="3711600"/>
            <a:ext cx="5981040" cy="3222720"/>
            <a:chOff x="4000680" y="3711600"/>
            <a:chExt cx="5981040" cy="3222720"/>
          </a:xfrm>
        </p:grpSpPr>
        <p:grpSp>
          <p:nvGrpSpPr>
            <p:cNvPr id="200" name=""/>
            <p:cNvGrpSpPr/>
            <p:nvPr/>
          </p:nvGrpSpPr>
          <p:grpSpPr>
            <a:xfrm>
              <a:off x="5159160" y="3711600"/>
              <a:ext cx="4822560" cy="3222720"/>
              <a:chOff x="5159160" y="3711600"/>
              <a:chExt cx="4822560" cy="3222720"/>
            </a:xfrm>
          </p:grpSpPr>
          <p:pic>
            <p:nvPicPr>
              <p:cNvPr id="20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59160" y="3711600"/>
                <a:ext cx="2628720" cy="3222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2" name=""/>
              <p:cNvGrpSpPr/>
              <p:nvPr/>
            </p:nvGrpSpPr>
            <p:grpSpPr>
              <a:xfrm>
                <a:off x="7673040" y="5181480"/>
                <a:ext cx="2308680" cy="882360"/>
                <a:chOff x="7673040" y="5181480"/>
                <a:chExt cx="2308680" cy="8823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8266320" y="5604120"/>
                  <a:ext cx="1715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eaeaea"/>
                      </a:solidFill>
                      <a:latin typeface="Times New Roman"/>
                    </a:rPr>
                    <a:t>Alveolar sac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>
                  <a:off x="7825320" y="5867640"/>
                  <a:ext cx="380520" cy="152280"/>
                </a:xfrm>
                <a:prstGeom prst="line">
                  <a:avLst/>
                </a:prstGeom>
                <a:ln w="9360">
                  <a:solidFill>
                    <a:srgbClr val="eaeaea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 flipV="1">
                  <a:off x="7673040" y="5181480"/>
                  <a:ext cx="533160" cy="609480"/>
                </a:xfrm>
                <a:prstGeom prst="line">
                  <a:avLst/>
                </a:prstGeom>
                <a:ln w="9360">
                  <a:solidFill>
                    <a:srgbClr val="eaeaea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6" name=""/>
            <p:cNvSpPr/>
            <p:nvPr/>
          </p:nvSpPr>
          <p:spPr>
            <a:xfrm>
              <a:off x="4000680" y="628992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Alveoli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5083200" y="6553080"/>
              <a:ext cx="1828440" cy="759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5083200" y="6096240"/>
              <a:ext cx="1599840" cy="3808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228600" y="-15264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ructure &amp; Mechanisms of Breath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5105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oute = trachea, bronchi, bronchioles, alveoli – capillar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yle’s law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olume increases pressure decreas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scles involv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ternal Intercosta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iaphrag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Inspiration – Diaphragm and Intercostals contract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Expiration – muscle relaxation and elastic recoi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5257800" y="1295280"/>
            <a:ext cx="3886200" cy="4724640"/>
            <a:chOff x="5257800" y="1295280"/>
            <a:chExt cx="3886200" cy="4724640"/>
          </a:xfrm>
        </p:grpSpPr>
        <p:sp>
          <p:nvSpPr>
            <p:cNvPr id="212" name=""/>
            <p:cNvSpPr/>
            <p:nvPr/>
          </p:nvSpPr>
          <p:spPr>
            <a:xfrm>
              <a:off x="5257800" y="1295280"/>
              <a:ext cx="3886200" cy="472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13" name="" descr=""/>
            <p:cNvPicPr/>
            <p:nvPr/>
          </p:nvPicPr>
          <p:blipFill>
            <a:blip r:embed="rId1"/>
            <a:stretch/>
          </p:blipFill>
          <p:spPr>
            <a:xfrm>
              <a:off x="5318280" y="1295280"/>
              <a:ext cx="3673440" cy="472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eathing Measurement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idal Volum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otal amount of air moved with each breath at rest = ~ 500 m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ital Capac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ximum amount that can be expired after a forceful maximum inspiration = ~ 4.6 L in males and 3.1 L in fema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ad Air Spa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mount of air contained in areas of no gas exchange = ~ 150 ml of Tidal Volum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876920" y="1371600"/>
            <a:ext cx="3809880" cy="25527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876920" y="4070520"/>
            <a:ext cx="380988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ird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spiratory System Struct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chanis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idirectional flow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 dead air spa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fficienc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352680" y="1433520"/>
            <a:ext cx="579132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1600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kin – Cutaneou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pi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653000" y="0"/>
            <a:ext cx="4491000" cy="6858000"/>
            <a:chOff x="4653000" y="0"/>
            <a:chExt cx="4491000" cy="6858000"/>
          </a:xfrm>
        </p:grpSpPr>
        <p:pic>
          <p:nvPicPr>
            <p:cNvPr id="223" name="" descr=""/>
            <p:cNvPicPr/>
            <p:nvPr/>
          </p:nvPicPr>
          <p:blipFill>
            <a:blip r:embed="rId1"/>
            <a:srcRect l="0" t="0" r="21355" b="0"/>
            <a:stretch/>
          </p:blipFill>
          <p:spPr>
            <a:xfrm>
              <a:off x="4653000" y="0"/>
              <a:ext cx="4491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7467840" y="0"/>
              <a:ext cx="1600200" cy="182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304920" y="3352680"/>
            <a:ext cx="3809880" cy="2968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304920" y="2286000"/>
            <a:ext cx="3809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xygen – whi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rbon Dioxide - blac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vironm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69343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Terrestri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tmospheric condi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78% N, 21% O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1% others, .03% CO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 liter of air = 210 ml 0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Aquati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5-10ml O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/liter H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Environmental Condi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Anoxi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Hypoxi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Normoxi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Hyperoxi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952880" y="3276720"/>
            <a:ext cx="419112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rganismal Categori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Obligate Aerobe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Facultative Anaerobe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Obligate Anaerobe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would you build a gas exchang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pose it to the source of gas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ease of exchange not a lot of energy needed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ighly vasculariz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ease of movement into body)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n membra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easy transfer – not too thin - lack durability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arge surface area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 too large lose H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629400" y="1143000"/>
            <a:ext cx="2063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Respiratory organ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305280" y="1142640"/>
            <a:ext cx="5334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85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aeaea"/>
                </a:solidFill>
                <a:latin typeface="Times New Roman"/>
              </a:rPr>
              <a:t>Aquatic vs Terrestrial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acheae Syst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l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ung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ki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029200" y="100980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3326040" cy="22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Gill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ternal gil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vagina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ternal gil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vaginations (covered by flap - operculum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17912" t="23325" r="1492" b="0"/>
          <a:stretch/>
        </p:blipFill>
        <p:spPr>
          <a:xfrm>
            <a:off x="4572000" y="1219320"/>
            <a:ext cx="4114800" cy="25048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724280" y="3962520"/>
            <a:ext cx="38149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ill Struc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304812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ll Arc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ll Fila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ll Lamella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rectional – countercurr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sh Coug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224320" y="1981080"/>
            <a:ext cx="3996000" cy="4876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rcRect l="18999" t="32815" r="39001" b="10940"/>
          <a:stretch/>
        </p:blipFill>
        <p:spPr>
          <a:xfrm>
            <a:off x="304920" y="304920"/>
            <a:ext cx="3200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142640" y="5331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y is countercurrent more efficient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80880" y="1981080"/>
            <a:ext cx="7848720" cy="1600200"/>
            <a:chOff x="380880" y="1981080"/>
            <a:chExt cx="7848720" cy="1600200"/>
          </a:xfrm>
        </p:grpSpPr>
        <p:grpSp>
          <p:nvGrpSpPr>
            <p:cNvPr id="150" name=""/>
            <p:cNvGrpSpPr/>
            <p:nvPr/>
          </p:nvGrpSpPr>
          <p:grpSpPr>
            <a:xfrm>
              <a:off x="914400" y="2819160"/>
              <a:ext cx="7315200" cy="762120"/>
              <a:chOff x="914400" y="2819160"/>
              <a:chExt cx="7315200" cy="762120"/>
            </a:xfrm>
          </p:grpSpPr>
          <p:sp>
            <p:nvSpPr>
              <p:cNvPr id="151" name=""/>
              <p:cNvSpPr/>
              <p:nvPr/>
            </p:nvSpPr>
            <p:spPr>
              <a:xfrm>
                <a:off x="914400" y="2895480"/>
                <a:ext cx="7315200" cy="6858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914400" y="281916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Blood 0ml Oxygen/liter   0ml       to        5 ml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914400" y="1981080"/>
              <a:ext cx="7315200" cy="1066680"/>
              <a:chOff x="914400" y="1981080"/>
              <a:chExt cx="7315200" cy="1066680"/>
            </a:xfrm>
          </p:grpSpPr>
          <p:sp>
            <p:nvSpPr>
              <p:cNvPr id="154" name=""/>
              <p:cNvSpPr/>
              <p:nvPr/>
            </p:nvSpPr>
            <p:spPr>
              <a:xfrm>
                <a:off x="914400" y="2057400"/>
                <a:ext cx="7315200" cy="68580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914400" y="198108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Water 10ml Oxygen/liter   10ml       to        5 ml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96080" y="2666880"/>
                <a:ext cx="152640" cy="380880"/>
              </a:xfrm>
              <a:prstGeom prst="downArrow">
                <a:avLst>
                  <a:gd name="adj1" fmla="val 50000"/>
                  <a:gd name="adj2" fmla="val 62382"/>
                </a:avLst>
              </a:prstGeom>
              <a:solidFill>
                <a:srgbClr val="003399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934320" y="2666880"/>
                <a:ext cx="152280" cy="380880"/>
              </a:xfrm>
              <a:prstGeom prst="downArrow">
                <a:avLst>
                  <a:gd name="adj1" fmla="val 50000"/>
                  <a:gd name="adj2" fmla="val 62530"/>
                </a:avLst>
              </a:prstGeom>
              <a:solidFill>
                <a:srgbClr val="003399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095880" y="2666880"/>
                <a:ext cx="152640" cy="380880"/>
              </a:xfrm>
              <a:prstGeom prst="downArrow">
                <a:avLst>
                  <a:gd name="adj1" fmla="val 50000"/>
                  <a:gd name="adj2" fmla="val 62382"/>
                </a:avLst>
              </a:prstGeom>
              <a:solidFill>
                <a:srgbClr val="003399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257800" y="2666880"/>
                <a:ext cx="152280" cy="380880"/>
              </a:xfrm>
              <a:prstGeom prst="downArrow">
                <a:avLst>
                  <a:gd name="adj1" fmla="val 50000"/>
                  <a:gd name="adj2" fmla="val 62530"/>
                </a:avLst>
              </a:prstGeom>
              <a:solidFill>
                <a:srgbClr val="003399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495680" y="2666880"/>
                <a:ext cx="152640" cy="380880"/>
              </a:xfrm>
              <a:prstGeom prst="downArrow">
                <a:avLst>
                  <a:gd name="adj1" fmla="val 50000"/>
                  <a:gd name="adj2" fmla="val 62382"/>
                </a:avLst>
              </a:prstGeom>
              <a:solidFill>
                <a:srgbClr val="003399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380880" y="2286000"/>
              <a:ext cx="838440" cy="380880"/>
            </a:xfrm>
            <a:prstGeom prst="rightArrow">
              <a:avLst>
                <a:gd name="adj1" fmla="val 50000"/>
                <a:gd name="adj2" fmla="val 55033"/>
              </a:avLst>
            </a:prstGeom>
            <a:solidFill>
              <a:srgbClr val="0033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0880" y="3124080"/>
              <a:ext cx="838440" cy="380880"/>
            </a:xfrm>
            <a:prstGeom prst="rightArrow">
              <a:avLst>
                <a:gd name="adj1" fmla="val 50000"/>
                <a:gd name="adj2" fmla="val 55033"/>
              </a:avLst>
            </a:prstGeom>
            <a:solidFill>
              <a:srgbClr val="ff00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04920" y="4952880"/>
            <a:ext cx="8229600" cy="1752480"/>
            <a:chOff x="304920" y="4952880"/>
            <a:chExt cx="8229600" cy="1752480"/>
          </a:xfrm>
        </p:grpSpPr>
        <p:grpSp>
          <p:nvGrpSpPr>
            <p:cNvPr id="164" name=""/>
            <p:cNvGrpSpPr/>
            <p:nvPr/>
          </p:nvGrpSpPr>
          <p:grpSpPr>
            <a:xfrm>
              <a:off x="762120" y="5943240"/>
              <a:ext cx="7315200" cy="762120"/>
              <a:chOff x="762120" y="5943240"/>
              <a:chExt cx="7315200" cy="762120"/>
            </a:xfrm>
          </p:grpSpPr>
          <p:sp>
            <p:nvSpPr>
              <p:cNvPr id="165" name=""/>
              <p:cNvSpPr/>
              <p:nvPr/>
            </p:nvSpPr>
            <p:spPr>
              <a:xfrm>
                <a:off x="762120" y="6019560"/>
                <a:ext cx="7315200" cy="6858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62120" y="594324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Blood 0ml Oxygen/liter   0ml       to        10 ml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762120" y="4952880"/>
              <a:ext cx="7315200" cy="1066680"/>
              <a:chOff x="762120" y="4952880"/>
              <a:chExt cx="7315200" cy="1066680"/>
            </a:xfrm>
          </p:grpSpPr>
          <p:sp>
            <p:nvSpPr>
              <p:cNvPr id="168" name=""/>
              <p:cNvSpPr/>
              <p:nvPr/>
            </p:nvSpPr>
            <p:spPr>
              <a:xfrm>
                <a:off x="762120" y="5029200"/>
                <a:ext cx="7315200" cy="68580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62120" y="495288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Water 10ml Oxygen/liter   10ml       to        0 ml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543800" y="5638680"/>
                <a:ext cx="152640" cy="380880"/>
              </a:xfrm>
              <a:prstGeom prst="downArrow">
                <a:avLst>
                  <a:gd name="adj1" fmla="val 50000"/>
                  <a:gd name="adj2" fmla="val 62382"/>
                </a:avLst>
              </a:prstGeom>
              <a:solidFill>
                <a:srgbClr val="003399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782040" y="5638680"/>
                <a:ext cx="152280" cy="380880"/>
              </a:xfrm>
              <a:prstGeom prst="downArrow">
                <a:avLst>
                  <a:gd name="adj1" fmla="val 50000"/>
                  <a:gd name="adj2" fmla="val 62530"/>
                </a:avLst>
              </a:prstGeom>
              <a:solidFill>
                <a:srgbClr val="003399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943600" y="5638680"/>
                <a:ext cx="152640" cy="380880"/>
              </a:xfrm>
              <a:prstGeom prst="downArrow">
                <a:avLst>
                  <a:gd name="adj1" fmla="val 50000"/>
                  <a:gd name="adj2" fmla="val 62382"/>
                </a:avLst>
              </a:prstGeom>
              <a:solidFill>
                <a:srgbClr val="003399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105520" y="5638680"/>
                <a:ext cx="152280" cy="380880"/>
              </a:xfrm>
              <a:prstGeom prst="downArrow">
                <a:avLst>
                  <a:gd name="adj1" fmla="val 50000"/>
                  <a:gd name="adj2" fmla="val 62530"/>
                </a:avLst>
              </a:prstGeom>
              <a:solidFill>
                <a:srgbClr val="003399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343400" y="5638680"/>
                <a:ext cx="152640" cy="380880"/>
              </a:xfrm>
              <a:prstGeom prst="downArrow">
                <a:avLst>
                  <a:gd name="adj1" fmla="val 50000"/>
                  <a:gd name="adj2" fmla="val 62382"/>
                </a:avLst>
              </a:prstGeom>
              <a:solidFill>
                <a:srgbClr val="003399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3809880" y="5638680"/>
              <a:ext cx="152640" cy="380880"/>
            </a:xfrm>
            <a:prstGeom prst="downArrow">
              <a:avLst>
                <a:gd name="adj1" fmla="val 50000"/>
                <a:gd name="adj2" fmla="val 62382"/>
              </a:avLst>
            </a:prstGeom>
            <a:solidFill>
              <a:srgbClr val="0033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6720" y="563868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0033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86000" y="563868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0033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95480" y="5638680"/>
              <a:ext cx="152640" cy="380880"/>
            </a:xfrm>
            <a:prstGeom prst="downArrow">
              <a:avLst>
                <a:gd name="adj1" fmla="val 50000"/>
                <a:gd name="adj2" fmla="val 62382"/>
              </a:avLst>
            </a:prstGeom>
            <a:solidFill>
              <a:srgbClr val="0033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52480" y="5638680"/>
              <a:ext cx="152640" cy="380880"/>
            </a:xfrm>
            <a:prstGeom prst="downArrow">
              <a:avLst>
                <a:gd name="adj1" fmla="val 50000"/>
                <a:gd name="adj2" fmla="val 62382"/>
              </a:avLst>
            </a:prstGeom>
            <a:solidFill>
              <a:srgbClr val="0033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4920" y="5333760"/>
              <a:ext cx="838080" cy="380880"/>
            </a:xfrm>
            <a:prstGeom prst="rightArrow">
              <a:avLst>
                <a:gd name="adj1" fmla="val 50000"/>
                <a:gd name="adj2" fmla="val 55009"/>
              </a:avLst>
            </a:prstGeom>
            <a:solidFill>
              <a:srgbClr val="0033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20120" y="6248160"/>
              <a:ext cx="914400" cy="380880"/>
            </a:xfrm>
            <a:prstGeom prst="leftArrow">
              <a:avLst>
                <a:gd name="adj1" fmla="val 50000"/>
                <a:gd name="adj2" fmla="val 60019"/>
              </a:avLst>
            </a:prstGeom>
            <a:solidFill>
              <a:srgbClr val="ff00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685800" y="12193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Parallel blood and oxygen flow – equilibrium is reached when each has 5 ml oxygen – 50% efficienc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41911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untercurrent blood and oxygen flow – equilibrium is seldom reached, so diffusion continues – 100% efficienc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 ways Fish get H</a:t>
            </a:r>
            <a:r>
              <a:rPr b="1" lang="en-US" sz="4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O across t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xtract O</a:t>
            </a:r>
            <a:r>
              <a:rPr b="1" lang="en-US" sz="44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am Jet ventil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percular pum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219640" y="76320"/>
            <a:ext cx="3467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1T02:32:04Z</dcterms:created>
  <dc:creator>COE User</dc:creator>
  <dc:description/>
  <dc:language>en-US</dc:language>
  <cp:lastModifiedBy>ZonaNet</cp:lastModifiedBy>
  <dcterms:modified xsi:type="dcterms:W3CDTF">2008-05-02T20:03:38Z</dcterms:modified>
  <cp:revision>19</cp:revision>
  <dc:subject/>
  <dc:title>Respiration</dc:title>
</cp:coreProperties>
</file>