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419040" y="146160"/>
          <a:ext cx="952560" cy="103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040" y="146160"/>
                    <a:ext cx="9525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4087800" y="6442200"/>
            <a:ext cx="1176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9.T</a:t>
            </a:r>
            <a:fld id="{3D8A6A89-8E44-4F66-B8CC-C7BF67967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88720" y="6235560"/>
            <a:ext cx="2740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l Agricultural Core Curriculum: Sup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iversity of California, Dav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32080" y="441360"/>
            <a:ext cx="25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32080" y="441360"/>
            <a:ext cx="109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430640" y="512640"/>
            <a:ext cx="158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Respiration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iration is the process by which an organism provides its cells with oxygen for metabolism, and removes carbon dioxide which is produced as  a waste g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Happens During Respirati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22093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+ 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----&gt;  C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+ 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equation for respiration is the exact opposite of photosynth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tors Affecting Respir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different factors affect respiration.  They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i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4-05T16:48:35Z</dcterms:created>
  <dc:creator>E. Zilbert</dc:creator>
  <dc:description/>
  <dc:language>en-US</dc:language>
  <cp:lastModifiedBy>Fredrickson</cp:lastModifiedBy>
  <cp:lastPrinted>1995-08-04T09:31:01Z</cp:lastPrinted>
  <dcterms:modified xsi:type="dcterms:W3CDTF">2000-06-29T18:08:42Z</dcterms:modified>
  <cp:revision>12</cp:revision>
  <dc:subject>Respiration</dc:subject>
  <dc:title>319 Respiration</dc:title>
</cp:coreProperties>
</file>