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419040" y="146160"/>
          <a:ext cx="952560" cy="103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146160"/>
                    <a:ext cx="95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087800" y="6442200"/>
            <a:ext cx="1176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9.T</a:t>
            </a:r>
            <a:fld id="{9F8058F1-DA12-4FDC-807E-DB90EDA58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8720" y="6235560"/>
            <a:ext cx="274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 Agricultural Core Curriculum: Sup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versity of California, Dav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432080" y="441360"/>
            <a:ext cx="25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32080" y="441360"/>
            <a:ext cx="109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30640" y="51264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iration is the process by which an organism provides its cells with oxygen for metabolism, and removes carbon dioxide which is produced as  a waste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Happens During Respir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&gt;  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+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quation for respiration is the exact opposite of photosyn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s Affecting Respi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ifferent factors affect respiration.  They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05T16:48:35Z</dcterms:created>
  <dc:creator>E. Zilbert</dc:creator>
  <dc:description/>
  <dc:language>en-US</dc:language>
  <cp:lastModifiedBy>Fredrickson</cp:lastModifiedBy>
  <cp:lastPrinted>1995-08-04T09:31:01Z</cp:lastPrinted>
  <dcterms:modified xsi:type="dcterms:W3CDTF">2000-06-29T18:08:42Z</dcterms:modified>
  <cp:revision>12</cp:revision>
  <dc:subject>Respiration</dc:subject>
  <dc:title>319 Respiration</dc:title>
</cp:coreProperties>
</file>