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4D9A-1DFA-43AA-8BFF-7A99AC22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7DE2-09E5-4832-B096-1922015B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41A6-C53F-48ED-9AE5-743D3AA7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0437-F353-4831-9A86-3B7C61A5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576F-D492-4846-BF40-5FF6CB2E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6BB6-2144-4EB5-A0EA-338607B1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6183-AC98-4421-9B84-060BA30D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0C70-5E45-4087-8934-AC9EF23E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59D7-1AC5-42DC-A825-E3233C70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F7C4-702B-4538-A39D-848FFDC7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7CF4-A2E6-48D5-83A8-FF672E64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B199-4CAF-4941-8510-628F42EF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AE0F-656E-491E-92FE-AB5EC0369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0"/>
            <a:ext cx="58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Rockwell Extra Bold"/>
              </a:rPr>
              <a:t>RESPI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124080"/>
          </a:xfrm>
          <a:prstGeom prst="flowChartProcess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152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CYTOPLASM</a:t>
            </a:r>
            <a:r>
              <a:rPr b="1" lang="en-US" sz="1200" spc="-1" strike="noStrike">
                <a:solidFill>
                  <a:srgbClr val="000000"/>
                </a:solidFill>
                <a:latin typeface="Rockwell Extra Bold"/>
              </a:rPr>
              <a:t>GLYCOLOSIS HAPPENS HE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124080"/>
            <a:ext cx="9144000" cy="3733920"/>
          </a:xfrm>
          <a:prstGeom prst="flowChartAlternateProcess">
            <a:avLst/>
          </a:prstGeom>
          <a:gradFill rotWithShape="0">
            <a:gsLst>
              <a:gs pos="0">
                <a:srgbClr val="fecbdc"/>
              </a:gs>
              <a:gs pos="50000">
                <a:srgbClr val="ff6699"/>
              </a:gs>
              <a:gs pos="100000">
                <a:srgbClr val="fecbd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6004080"/>
            <a:ext cx="26668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MITOCHONDRIA</a:t>
            </a:r>
            <a:r>
              <a:rPr b="1" lang="en-US" sz="1200" spc="-1" strike="noStrike">
                <a:solidFill>
                  <a:srgbClr val="000000"/>
                </a:solidFill>
                <a:latin typeface="Rockwell Extra Bold"/>
              </a:rPr>
              <a:t>RESPIRATION HAPPENS IN THIS ORGANEL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762120"/>
            <a:ext cx="914400" cy="609480"/>
          </a:xfrm>
          <a:prstGeom prst="flowChartProcess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PROTE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762120"/>
            <a:ext cx="914400" cy="609480"/>
          </a:xfrm>
          <a:prstGeom prst="flowChartProcess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CARBO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(SUGAR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1905120"/>
            <a:ext cx="914400" cy="609480"/>
          </a:xfrm>
          <a:prstGeom prst="flowChartProcess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AMI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1295280"/>
            <a:ext cx="914400" cy="609840"/>
          </a:xfrm>
          <a:prstGeom prst="flowChartProcess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FA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(LIPI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1600200"/>
            <a:ext cx="914400" cy="609480"/>
          </a:xfrm>
          <a:prstGeom prst="flowChartProcess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GLUCO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C</a:t>
            </a:r>
            <a:r>
              <a:rPr b="1" lang="en-US" sz="1000" spc="-1" strike="noStrike" baseline="-25000">
                <a:solidFill>
                  <a:srgbClr val="ffffff"/>
                </a:solidFill>
                <a:latin typeface="Rockwell Extra Bold"/>
              </a:rPr>
              <a:t>6</a:t>
            </a: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H</a:t>
            </a:r>
            <a:r>
              <a:rPr b="1" lang="en-US" sz="1000" spc="-1" strike="noStrike" baseline="-25000">
                <a:solidFill>
                  <a:srgbClr val="ffffff"/>
                </a:solidFill>
                <a:latin typeface="Rockwell Extra Bold"/>
              </a:rPr>
              <a:t>12</a:t>
            </a: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O</a:t>
            </a:r>
            <a:r>
              <a:rPr b="1" lang="en-US" sz="1000" spc="-1" strike="noStrike" baseline="-25000">
                <a:solidFill>
                  <a:srgbClr val="ffffff"/>
                </a:solidFill>
                <a:latin typeface="Rockwell Extra Bold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4343400"/>
            <a:ext cx="1066680" cy="60948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ACETYL-Co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3429000"/>
            <a:ext cx="914400" cy="609480"/>
          </a:xfrm>
          <a:prstGeom prst="flowChartProcess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PYRUV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2362320"/>
            <a:ext cx="1371600" cy="6094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Rockwell Extra Bold"/>
              </a:rPr>
              <a:t>GLYCOLO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 Extra Bold"/>
              </a:rPr>
              <a:t>IN CYTOPLAS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 Extra Bold"/>
              </a:rPr>
              <a:t>NO OXYGEN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5181480"/>
            <a:ext cx="1295280" cy="12193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KREBS CY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A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ELECT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TANS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5334120"/>
            <a:ext cx="1218960" cy="914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MA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34 AT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2286000"/>
            <a:ext cx="106668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 Extra Bold"/>
              </a:rPr>
              <a:t>MA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 Extra Bold"/>
              </a:rPr>
              <a:t>2 AT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13716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1371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26668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2971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4038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4952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57913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2514600"/>
            <a:ext cx="220968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2514600"/>
            <a:ext cx="2133360" cy="297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105160" y="1752480"/>
            <a:ext cx="205740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952520" y="1905120"/>
            <a:ext cx="2590920" cy="2819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4800600"/>
            <a:ext cx="1828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Rockwell Extra Bold"/>
              </a:rPr>
              <a:t>O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Rockwell Extra Bold"/>
              </a:rPr>
              <a:t>2 </a:t>
            </a:r>
            <a:r>
              <a:rPr b="1" lang="en-US" sz="2000" spc="-1" strike="noStrike">
                <a:solidFill>
                  <a:srgbClr val="000099"/>
                </a:solidFill>
                <a:latin typeface="Rockwell Extra Bold"/>
              </a:rPr>
              <a:t>ENTERS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4114800"/>
            <a:ext cx="17524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Rockwell Extra Bold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 IS RELE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5257800"/>
            <a:ext cx="13716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952880" y="4723920"/>
            <a:ext cx="152424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429000"/>
            <a:ext cx="21337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ckwell Extra Bold"/>
              </a:rPr>
              <a:t>ATP TO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ckwell Extra Bold"/>
              </a:rPr>
              <a:t>GLYCOLOSIS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ckwell Extra Bold"/>
              </a:rPr>
              <a:t>RESPIRATION=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ckwell Extra Bold"/>
              </a:rPr>
              <a:t>BOTH=36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0120" y="19810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209680" y="762120"/>
            <a:ext cx="1032120" cy="1218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952880" y="7621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3T22:58:50Z</dcterms:created>
  <dc:creator>Valued Gateway Client</dc:creator>
  <dc:description/>
  <dc:language>en-US</dc:language>
  <cp:lastModifiedBy>John Tripp</cp:lastModifiedBy>
  <dcterms:modified xsi:type="dcterms:W3CDTF">2006-11-01T19:28:19Z</dcterms:modified>
  <cp:revision>3</cp:revision>
  <dc:subject/>
  <dc:title>RESPIRATION</dc:title>
</cp:coreProperties>
</file>