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C93-6DCB-44FE-974A-25F79055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3A1-7B9D-4056-AA7D-AC4C68A7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40E-60A5-4618-A4FF-3A9F68E8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032E-A27C-4704-8E56-B9AF8ECF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810-8243-4DED-A758-A3EEE837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DD4-59B7-4BE8-B1B6-FAE0D599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F9F1-45EA-4E3B-A48A-81F9C2D0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D03-5401-416D-B24C-B535F28B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CBD-425B-49F2-A051-AAB8A63C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E98-5543-408D-B232-54F0A7D0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514-B338-4E6A-9AD5-69ED8AE3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D1D-522D-4270-9AF7-13F8EC37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F25D-6AC1-42E1-AC68-1053CFCD6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58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Rockwell Extra Bold"/>
              </a:rPr>
              <a:t>RE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124080"/>
          </a:xfrm>
          <a:prstGeom prst="flowChartProcess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152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CYTOPLASM</a:t>
            </a:r>
            <a:r>
              <a:rPr b="1" lang="en-US" sz="1200" spc="-1" strike="noStrike">
                <a:solidFill>
                  <a:srgbClr val="000000"/>
                </a:solidFill>
                <a:latin typeface="Rockwell Extra Bold"/>
              </a:rPr>
              <a:t>GLYCOLOSIS HAPPENS 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124080"/>
            <a:ext cx="9144000" cy="3733920"/>
          </a:xfrm>
          <a:prstGeom prst="flowChartAlternateProcess">
            <a:avLst/>
          </a:prstGeom>
          <a:gradFill rotWithShape="0">
            <a:gsLst>
              <a:gs pos="0">
                <a:srgbClr val="fecbdc"/>
              </a:gs>
              <a:gs pos="50000">
                <a:srgbClr val="ff6699"/>
              </a:gs>
              <a:gs pos="100000">
                <a:srgbClr val="fecbd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004080"/>
            <a:ext cx="2666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MITOCHONDRIA</a:t>
            </a:r>
            <a:r>
              <a:rPr b="1" lang="en-US" sz="1200" spc="-1" strike="noStrike">
                <a:solidFill>
                  <a:srgbClr val="000000"/>
                </a:solidFill>
                <a:latin typeface="Rockwell Extra Bold"/>
              </a:rPr>
              <a:t>RESPIRATION HAPPENS IN THIS ORGANEL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762120"/>
            <a:ext cx="914400" cy="609480"/>
          </a:xfrm>
          <a:prstGeom prst="flowChartProcess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PROTE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762120"/>
            <a:ext cx="914400" cy="609480"/>
          </a:xfrm>
          <a:prstGeom prst="flowChartProcess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CARBO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(SUGAR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905120"/>
            <a:ext cx="914400" cy="609480"/>
          </a:xfrm>
          <a:prstGeom prst="flowChartProcess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AMI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1295280"/>
            <a:ext cx="914400" cy="609840"/>
          </a:xfrm>
          <a:prstGeom prst="flowChartProcess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F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(LIPID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1600200"/>
            <a:ext cx="914400" cy="609480"/>
          </a:xfrm>
          <a:prstGeom prst="flowChartProcess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GLUCO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C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Rockwell Extra Bold"/>
              </a:rPr>
              <a:t>6</a:t>
            </a: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H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Rockwell Extra Bold"/>
              </a:rPr>
              <a:t>12</a:t>
            </a: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O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Rockwell Extra Bold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4343400"/>
            <a:ext cx="1066680" cy="60948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ACETYL-Co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429000"/>
            <a:ext cx="914400" cy="60948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PYRUV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2362320"/>
            <a:ext cx="1371600" cy="6094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Rockwell Extra Bold"/>
              </a:rPr>
              <a:t>GLYCOLO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 Extra Bold"/>
              </a:rPr>
              <a:t>IN CYTOPLAS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 Extra Bold"/>
              </a:rPr>
              <a:t>NO OXYGEN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181480"/>
            <a:ext cx="1295280" cy="12193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KREBS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ELECT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T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5334120"/>
            <a:ext cx="1218960" cy="914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MA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ckwell Extra Bold"/>
              </a:rPr>
              <a:t>34 AT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2286000"/>
            <a:ext cx="106668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 Extra Bold"/>
              </a:rPr>
              <a:t>MA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Rockwell Extra Bold"/>
              </a:rPr>
              <a:t>2 AT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13716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1371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2666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2971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4952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5791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2514600"/>
            <a:ext cx="220968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2514600"/>
            <a:ext cx="2133360" cy="297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105160" y="1752480"/>
            <a:ext cx="20574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952520" y="1905120"/>
            <a:ext cx="2590920" cy="2819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4800600"/>
            <a:ext cx="1828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Rockwell Extra Bold"/>
              </a:rPr>
              <a:t>O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Rockwell Extra Bold"/>
              </a:rPr>
              <a:t>2 </a:t>
            </a:r>
            <a:r>
              <a:rPr b="1" lang="en-US" sz="2000" spc="-1" strike="noStrike">
                <a:solidFill>
                  <a:srgbClr val="000099"/>
                </a:solidFill>
                <a:latin typeface="Rockwell Extra Bold"/>
              </a:rPr>
              <a:t>ENTER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4114800"/>
            <a:ext cx="1752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Rockwell Extra Bold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IS REL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5257800"/>
            <a:ext cx="1371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952880" y="4723920"/>
            <a:ext cx="152424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21337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 Extra Bold"/>
              </a:rPr>
              <a:t>ATP TO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 Extra Bold"/>
              </a:rPr>
              <a:t>GLYCOLOSIS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 Extra Bold"/>
              </a:rPr>
              <a:t>RESPIRATION=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 Extra Bold"/>
              </a:rPr>
              <a:t>BOTH=36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0120" y="19810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1032120" cy="1218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952880" y="7621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3T22:58:50Z</dcterms:created>
  <dc:creator>Valued Gateway Client</dc:creator>
  <dc:description/>
  <dc:language>en-US</dc:language>
  <cp:lastModifiedBy>John Tripp</cp:lastModifiedBy>
  <dcterms:modified xsi:type="dcterms:W3CDTF">2006-11-01T19:28:19Z</dcterms:modified>
  <cp:revision>3</cp:revision>
  <dc:subject/>
  <dc:title>RESPIRATION</dc:title>
</cp:coreProperties>
</file>