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C04-64BC-45A8-A526-FAA7CD66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A16-C317-4E1C-A2D5-E544388F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F0D-B48C-4C2B-9666-9F6B02EA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F8F-64BD-4327-B0A4-926CBD59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4866-A603-47F2-9CAC-0F3948DB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CE13-2DD8-4DDE-8F82-2C094098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0866-8248-4C6A-8A43-93B73051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AEFE-4CD4-4EFF-B54C-956C0FBA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0DCE-7EEB-4D45-8DB6-A1C6CC35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E829-EE7A-486A-87FA-08078C0C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ED24-356E-4020-AF4B-B745BB58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09E-621F-42AA-94B8-42E20299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71E4-7868-4EC1-A106-9A3D7DB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664E-3A20-4346-88BC-66C6590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88D9-C923-41D2-8699-70EE56F7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F74F-2C5B-4302-AEC9-E50029B0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3D44-5730-4203-84B6-BD075827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441-1CF8-435A-93D7-09F396B7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B3E-70F9-48CB-8FCD-7F376EF3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688-BFCF-4278-98C1-A6647A76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4CB-7648-4467-8DA8-43352032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BEB-AAF0-4F6E-9610-639D67F8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CD9-95E9-499E-AA50-D2F7CC01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69E-66AE-4C9F-AFD1-D54BE728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59CD-17B4-45E4-9B96-C6973E1B8B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F569-3092-42C4-8EE1-E4D70B28EA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3" name="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35" name="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37" name="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44" name="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US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65" name="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67" name="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0" name="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89" name=""/>
            <p:cNvGrpSpPr/>
            <p:nvPr/>
          </p:nvGrpSpPr>
          <p:grpSpPr>
            <a:xfrm>
              <a:off x="2415600" y="2565360"/>
              <a:ext cx="4048560" cy="2950920"/>
              <a:chOff x="2415600" y="2565360"/>
              <a:chExt cx="4048560" cy="2950920"/>
            </a:xfrm>
          </p:grpSpPr>
          <p:sp>
            <p:nvSpPr>
              <p:cNvPr id="490" name=""/>
              <p:cNvSpPr/>
              <p:nvPr/>
            </p:nvSpPr>
            <p:spPr>
              <a:xfrm flipH="1" flipV="1">
                <a:off x="3607200" y="2755080"/>
                <a:ext cx="1712520" cy="21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426" y="3153"/>
                    </a:moveTo>
                    <a:arcTo wR="10800" hR="10800" stAng="-2704825" swAng="55472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426" y="3153"/>
                    </a:moveTo>
                    <a:arcTo wR="10800" hR="10800" stAng="-2704825" swAng="5547297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322440" y="2836080"/>
                <a:ext cx="1712520" cy="210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42" y="707"/>
                    </a:moveTo>
                    <a:arcTo wR="10800" hR="10800" stAng="-4149562" swAng="6887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42" y="707"/>
                    </a:moveTo>
                    <a:arcTo wR="10800" hR="10800" stAng="-4149562" swAng="6887696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4750560" y="2565360"/>
                <a:ext cx="1713240" cy="107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8605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860525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2415600" y="3265560"/>
                <a:ext cx="1243440" cy="74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992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992453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3" name=""/>
            <p:cNvGrpSpPr/>
            <p:nvPr/>
          </p:nvGrpSpPr>
          <p:grpSpPr>
            <a:xfrm>
              <a:off x="2415600" y="2565360"/>
              <a:ext cx="4048560" cy="2950920"/>
              <a:chOff x="2415600" y="2565360"/>
              <a:chExt cx="4048560" cy="2950920"/>
            </a:xfrm>
          </p:grpSpPr>
          <p:sp>
            <p:nvSpPr>
              <p:cNvPr id="504" name=""/>
              <p:cNvSpPr/>
              <p:nvPr/>
            </p:nvSpPr>
            <p:spPr>
              <a:xfrm flipH="1" flipV="1">
                <a:off x="3607200" y="2755080"/>
                <a:ext cx="1712520" cy="21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426" y="3153"/>
                    </a:moveTo>
                    <a:arcTo wR="10800" hR="10800" stAng="-2704825" swAng="55472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426" y="3153"/>
                    </a:moveTo>
                    <a:arcTo wR="10800" hR="10800" stAng="-2704825" swAng="5547297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322440" y="2836080"/>
                <a:ext cx="1712520" cy="210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42" y="707"/>
                    </a:moveTo>
                    <a:arcTo wR="10800" hR="10800" stAng="-4149562" swAng="6887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42" y="707"/>
                    </a:moveTo>
                    <a:arcTo wR="10800" hR="10800" stAng="-4149562" swAng="6887696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4750560" y="2565360"/>
                <a:ext cx="1713240" cy="107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8605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860525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2415600" y="3265560"/>
                <a:ext cx="1243440" cy="74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992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992453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157840" y="894600"/>
            <a:ext cx="2862720" cy="3712320"/>
            <a:chOff x="2157840" y="894600"/>
            <a:chExt cx="2862720" cy="3712320"/>
          </a:xfrm>
        </p:grpSpPr>
        <p:sp>
          <p:nvSpPr>
            <p:cNvPr id="527" name="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 rot="17146200">
              <a:off x="2490840" y="1093680"/>
              <a:ext cx="2196000" cy="23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49" y="439"/>
                  </a:moveTo>
                  <a:arcTo wR="10800" hR="10800" stAng="-4416040" swAng="4066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49" y="439"/>
                  </a:moveTo>
                  <a:arcTo wR="10800" hR="10800" stAng="-4416040" swAng="4066065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US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US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US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583080" y="91440"/>
            <a:ext cx="3560400" cy="5305680"/>
            <a:chOff x="3583080" y="91440"/>
            <a:chExt cx="3560400" cy="5305680"/>
          </a:xfrm>
        </p:grpSpPr>
        <p:sp>
          <p:nvSpPr>
            <p:cNvPr id="541" name="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4453800">
              <a:off x="3753720" y="623160"/>
              <a:ext cx="3218760" cy="279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49" y="439"/>
                  </a:moveTo>
                  <a:arcTo wR="10800" hR="10800" stAng="-4416040" swAng="4066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49" y="439"/>
                  </a:moveTo>
                  <a:arcTo wR="10800" hR="10800" stAng="-4416040" swAng="4066065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804840" y="4005360"/>
            <a:ext cx="2712600" cy="1871640"/>
            <a:chOff x="3804840" y="4005360"/>
            <a:chExt cx="2712600" cy="1871640"/>
          </a:xfrm>
        </p:grpSpPr>
        <p:sp>
          <p:nvSpPr>
            <p:cNvPr id="545" name=""/>
            <p:cNvSpPr/>
            <p:nvPr/>
          </p:nvSpPr>
          <p:spPr>
            <a:xfrm flipH="1" rot="10263000">
              <a:off x="3847680" y="4605480"/>
              <a:ext cx="262620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9383b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823560" y="2133720"/>
            <a:ext cx="2676240" cy="1295280"/>
            <a:chOff x="3823560" y="2133720"/>
            <a:chExt cx="2676240" cy="1295280"/>
          </a:xfrm>
        </p:grpSpPr>
        <p:sp>
          <p:nvSpPr>
            <p:cNvPr id="553" name=""/>
            <p:cNvSpPr/>
            <p:nvPr/>
          </p:nvSpPr>
          <p:spPr>
            <a:xfrm flipH="1" rot="10263000">
              <a:off x="3848400" y="2520720"/>
              <a:ext cx="262620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9383b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US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US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US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US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928320" y="907920"/>
            <a:ext cx="4565520" cy="2308320"/>
            <a:chOff x="3928320" y="907920"/>
            <a:chExt cx="4565520" cy="2308320"/>
          </a:xfrm>
        </p:grpSpPr>
        <p:sp>
          <p:nvSpPr>
            <p:cNvPr id="563" name=""/>
            <p:cNvSpPr/>
            <p:nvPr/>
          </p:nvSpPr>
          <p:spPr>
            <a:xfrm flipH="1" rot="10263000">
              <a:off x="3990600" y="1282320"/>
              <a:ext cx="4440960" cy="11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US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425120" y="836640"/>
            <a:ext cx="4604040" cy="2521080"/>
            <a:chOff x="4425120" y="836640"/>
            <a:chExt cx="4604040" cy="2521080"/>
          </a:xfrm>
        </p:grpSpPr>
        <p:sp>
          <p:nvSpPr>
            <p:cNvPr id="588" name=""/>
            <p:cNvSpPr/>
            <p:nvPr/>
          </p:nvSpPr>
          <p:spPr>
            <a:xfrm flipH="1" rot="10263000">
              <a:off x="4494960" y="1259640"/>
              <a:ext cx="4463280" cy="12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680"/>
                <a:gridCol w="203184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US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gg</cp:lastModifiedBy>
  <dcterms:modified xsi:type="dcterms:W3CDTF">2006-09-27T20:14:11Z</dcterms:modified>
  <cp:revision>27</cp:revision>
  <dc:subject/>
  <dc:title>Respiration</dc:title>
</cp:coreProperties>
</file>