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49E-2FA8-41FE-A511-3EE859DB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5784-8D6C-4E22-BD4D-34CEBDC0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D36-2E55-4453-8709-2306E396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119-11EF-4F89-B4C0-0C03A5CF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A890-41B1-4DDA-B737-45417870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85B2-7CD2-4E52-B370-7149EF4A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B986-2E37-49E9-9EE3-5B4F2BDE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FB01-2A76-42EC-869F-347AC593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F279-EFC6-4F7B-A6DC-74569769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663E-842A-45AE-ACE7-AF98FF32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42EC-1A2D-4066-859F-FBDD5501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B86E-8EFB-4497-B72B-48826919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56CC-B932-484A-84A5-5DD8DF22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C3FB-4AB3-4710-B951-950A02DF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15E6-1FCC-4AEA-8CCB-69342A23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D073-883E-4CB7-A13A-353ADCC9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848D-4C44-4B44-91D6-76956CD3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F7E-3A69-438C-991F-9DF0A85D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D261-651F-479A-948B-D9C0FE3F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A285-7C74-4599-8A4D-13E6A601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75C-A4E1-48E7-AB65-B295BF90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BFC-5BE6-4294-81DC-9516B914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6160-645A-49FA-B29D-A4B7225F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A7E-FD69-43B7-8C7E-F48981B5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29B5-57DA-491D-B160-0D4CCCC16D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9A93-8048-4817-A442-DCFE90EBE42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lgfl.skoool.co.uk/keystage4.aspx?id=315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eachersdomain.org/9-12/sci/life/cell/mitochondria/index.html" TargetMode="Externa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sbri.org/HumanPhysSpace/indexb.html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cc"/>
                </a:solidFill>
                <a:latin typeface="Comic Sans MS"/>
              </a:rPr>
              <a:t>Respiratio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492360" y="2924280"/>
            <a:ext cx="2217960" cy="25351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-11880" y="654192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More free powerpoints at www.worldofteaching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 other organisms respir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250920" y="1461960"/>
            <a:ext cx="8569080" cy="4761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05280" y="6384960"/>
            <a:ext cx="4469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breathing and respi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Which type of energy does food contai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What is this energy converted to by other organisms? Give at least 3 exampl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i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What name is given to the process by which organisms release energ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What kind of energy is always released in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Chemistry of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153720" y="6021360"/>
            <a:ext cx="29772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energy and mitochondria cl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Adenosine triphosph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energy released during respiration is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used directly by ce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stead it is used to make a molecule calle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ATP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which stores the energy until it is nee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 =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A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denosin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t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ri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p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hosph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does ATP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P supplies energy for all the processes that need 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example: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ow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294480" y="5811840"/>
            <a:ext cx="3591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low twitch/fast twitch investig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Structure of ATP 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116000" y="3141720"/>
            <a:ext cx="7024320" cy="1294920"/>
            <a:chOff x="1116000" y="3141720"/>
            <a:chExt cx="7024320" cy="1294920"/>
          </a:xfrm>
        </p:grpSpPr>
        <p:sp>
          <p:nvSpPr>
            <p:cNvPr id="423" name=""/>
            <p:cNvSpPr/>
            <p:nvPr/>
          </p:nvSpPr>
          <p:spPr>
            <a:xfrm>
              <a:off x="1116000" y="3141720"/>
              <a:ext cx="2664360" cy="129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64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1824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71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80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33680" y="3789360"/>
              <a:ext cx="48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87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Formation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is made when another molecule called adenosin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di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hosphate (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DP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) is bonded to a third inorganic phosphate (Pi) using the energy released from gluco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539640" y="1197000"/>
            <a:ext cx="8353080" cy="1223640"/>
            <a:chOff x="539640" y="1197000"/>
            <a:chExt cx="8353080" cy="1223640"/>
          </a:xfrm>
        </p:grpSpPr>
        <p:sp>
          <p:nvSpPr>
            <p:cNvPr id="435" name=""/>
            <p:cNvSpPr/>
            <p:nvPr/>
          </p:nvSpPr>
          <p:spPr>
            <a:xfrm>
              <a:off x="7879320" y="1203480"/>
              <a:ext cx="1013400" cy="121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539640" y="1197000"/>
              <a:ext cx="5820120" cy="1216800"/>
              <a:chOff x="539640" y="1197000"/>
              <a:chExt cx="5820120" cy="1216800"/>
            </a:xfrm>
          </p:grpSpPr>
          <p:sp>
            <p:nvSpPr>
              <p:cNvPr id="437" name=""/>
              <p:cNvSpPr/>
              <p:nvPr/>
            </p:nvSpPr>
            <p:spPr>
              <a:xfrm>
                <a:off x="539640" y="1197000"/>
                <a:ext cx="2784960" cy="1216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830040" y="1197000"/>
                <a:ext cx="101088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348520" y="1197000"/>
                <a:ext cx="101124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324600" y="180576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840920" y="180576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6778440" y="1203480"/>
              <a:ext cx="733680" cy="12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755640" y="4149720"/>
            <a:ext cx="7200720" cy="1296720"/>
            <a:chOff x="755640" y="4149720"/>
            <a:chExt cx="7200720" cy="1296720"/>
          </a:xfrm>
        </p:grpSpPr>
        <p:sp>
          <p:nvSpPr>
            <p:cNvPr id="444" name=""/>
            <p:cNvSpPr/>
            <p:nvPr/>
          </p:nvSpPr>
          <p:spPr>
            <a:xfrm>
              <a:off x="755640" y="41497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8412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7416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62760" y="41497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88040" y="47977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76280" y="47977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66320" y="47977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292720" y="2421000"/>
            <a:ext cx="0" cy="172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435640" y="2997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58000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48360" y="692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03640" y="6237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292720" y="566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6732720" y="47973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mmarised a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1619280" y="2204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TP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708360" y="2565360"/>
            <a:ext cx="1584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8760" y="3788280"/>
            <a:ext cx="76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Arial"/>
              </a:rPr>
              <a:t>The whole process is under the control of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nzymes</a:t>
            </a:r>
            <a:r>
              <a:rPr b="0" lang="en-US" sz="1800" spc="-1" strike="noStrike">
                <a:solidFill>
                  <a:srgbClr val="9383b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The role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P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tore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he energy in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ond of the molec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nergy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release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when that bond is broken to release the third inorganic phosphate (Pi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ustard powder experi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395280" y="2131920"/>
            <a:ext cx="4968720" cy="35290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5508720" y="1955160"/>
            <a:ext cx="36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611280" y="4005360"/>
            <a:ext cx="8353080" cy="1296000"/>
            <a:chOff x="611280" y="4005360"/>
            <a:chExt cx="8353080" cy="1296000"/>
          </a:xfrm>
        </p:grpSpPr>
        <p:sp>
          <p:nvSpPr>
            <p:cNvPr id="465" name=""/>
            <p:cNvSpPr/>
            <p:nvPr/>
          </p:nvSpPr>
          <p:spPr>
            <a:xfrm>
              <a:off x="7950960" y="4012200"/>
              <a:ext cx="1013400" cy="12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611280" y="4005360"/>
              <a:ext cx="5820120" cy="1288800"/>
              <a:chOff x="611280" y="4005360"/>
              <a:chExt cx="5820120" cy="1288800"/>
            </a:xfrm>
          </p:grpSpPr>
          <p:sp>
            <p:nvSpPr>
              <p:cNvPr id="467" name=""/>
              <p:cNvSpPr/>
              <p:nvPr/>
            </p:nvSpPr>
            <p:spPr>
              <a:xfrm>
                <a:off x="611280" y="4005360"/>
                <a:ext cx="2784960" cy="1288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901680" y="4005360"/>
                <a:ext cx="101088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20160" y="4005360"/>
                <a:ext cx="101124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96240" y="465012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912560" y="465012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>
              <a:off x="6850080" y="4012200"/>
              <a:ext cx="733680" cy="12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6516720" y="5516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6000" y="4724280"/>
            <a:ext cx="0" cy="64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211640" y="234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995640" y="5516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364000" y="2565360"/>
            <a:ext cx="0" cy="1440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508720" y="2997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826920" y="907920"/>
            <a:ext cx="7200720" cy="1296720"/>
            <a:chOff x="826920" y="907920"/>
            <a:chExt cx="7200720" cy="1296720"/>
          </a:xfrm>
        </p:grpSpPr>
        <p:sp>
          <p:nvSpPr>
            <p:cNvPr id="480" name=""/>
            <p:cNvSpPr/>
            <p:nvPr/>
          </p:nvSpPr>
          <p:spPr>
            <a:xfrm>
              <a:off x="826920" y="9079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05540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4544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34040" y="9079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59320" y="15559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47560" y="15559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37600" y="15559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489" name=""/>
            <p:cNvGrpSpPr/>
            <p:nvPr/>
          </p:nvGrpSpPr>
          <p:grpSpPr>
            <a:xfrm>
              <a:off x="2415600" y="2565360"/>
              <a:ext cx="4048560" cy="2950920"/>
              <a:chOff x="2415600" y="2565360"/>
              <a:chExt cx="4048560" cy="2950920"/>
            </a:xfrm>
          </p:grpSpPr>
          <p:sp>
            <p:nvSpPr>
              <p:cNvPr id="490" name=""/>
              <p:cNvSpPr/>
              <p:nvPr/>
            </p:nvSpPr>
            <p:spPr>
              <a:xfrm flipH="1" flipV="1">
                <a:off x="3607200" y="2755080"/>
                <a:ext cx="1712520" cy="219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426" y="3153"/>
                    </a:moveTo>
                    <a:arcTo wR="10800" hR="10800" stAng="-2704825" swAng="55472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426" y="3153"/>
                    </a:moveTo>
                    <a:arcTo wR="10800" hR="10800" stAng="-2704825" swAng="5547297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322440" y="2836080"/>
                <a:ext cx="1712520" cy="2104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642" y="707"/>
                    </a:moveTo>
                    <a:arcTo wR="10800" hR="10800" stAng="-4149562" swAng="68876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642" y="707"/>
                    </a:moveTo>
                    <a:arcTo wR="10800" hR="10800" stAng="-4149562" swAng="6887696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4750560" y="2565360"/>
                <a:ext cx="1713240" cy="1072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8605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860525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2415600" y="3265560"/>
                <a:ext cx="1243440" cy="74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39924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3992453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Comic Sans MS"/>
                  </a:rPr>
                  <a:t>AT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8000"/>
                    </a:solidFill>
                    <a:latin typeface="Comic Sans MS"/>
                  </a:rPr>
                  <a:t>ADP + P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(out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(in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cellular respi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cell activiti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503" name=""/>
            <p:cNvGrpSpPr/>
            <p:nvPr/>
          </p:nvGrpSpPr>
          <p:grpSpPr>
            <a:xfrm>
              <a:off x="2415600" y="2565360"/>
              <a:ext cx="4048560" cy="2950920"/>
              <a:chOff x="2415600" y="2565360"/>
              <a:chExt cx="4048560" cy="2950920"/>
            </a:xfrm>
          </p:grpSpPr>
          <p:sp>
            <p:nvSpPr>
              <p:cNvPr id="504" name=""/>
              <p:cNvSpPr/>
              <p:nvPr/>
            </p:nvSpPr>
            <p:spPr>
              <a:xfrm flipH="1" flipV="1">
                <a:off x="3607200" y="2755080"/>
                <a:ext cx="1712520" cy="219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426" y="3153"/>
                    </a:moveTo>
                    <a:arcTo wR="10800" hR="10800" stAng="-2704825" swAng="55472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426" y="3153"/>
                    </a:moveTo>
                    <a:arcTo wR="10800" hR="10800" stAng="-2704825" swAng="5547297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322440" y="2836080"/>
                <a:ext cx="1712520" cy="2104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642" y="707"/>
                    </a:moveTo>
                    <a:arcTo wR="10800" hR="10800" stAng="-4149562" swAng="68876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642" y="707"/>
                    </a:moveTo>
                    <a:arcTo wR="10800" hR="10800" stAng="-4149562" swAng="6887696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 flipV="1">
                <a:off x="4750560" y="2565360"/>
                <a:ext cx="1713240" cy="1072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8605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860525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2415600" y="3265560"/>
                <a:ext cx="1243440" cy="74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39924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3992453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Comic Sans MS"/>
                  </a:rPr>
                  <a:t>AT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mic Sans MS"/>
                </a:rPr>
                <a:t>energ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r>
                <a:rPr b="1" lang="en-US" sz="2000" spc="-1" strike="noStrike">
                  <a:solidFill>
                    <a:srgbClr val="006600"/>
                  </a:solidFill>
                  <a:latin typeface="Comic Sans MS"/>
                </a:rPr>
                <a:t>(out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Comic Sans MS"/>
                </a:rPr>
                <a:t>cellular respir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6600"/>
                  </a:solidFill>
                  <a:latin typeface="Comic Sans MS"/>
                </a:rPr>
                <a:t>cell activit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1186200" y="5520240"/>
            <a:ext cx="655560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 whole process is an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enzyme controlled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re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cc"/>
                </a:solidFill>
                <a:uFillTx/>
                <a:latin typeface="Comic Sans MS"/>
              </a:rPr>
              <a:t>Aerobic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68360" y="227664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erobic respiratio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= respiration with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xyge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0920" y="21333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glucose + </a:t>
            </a: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OXYGEN    </a:t>
            </a: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energy + carbon dioxide + water</a:t>
            </a:r>
            <a:br>
              <a:rPr sz="2400"/>
            </a:b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(to make ATP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3276720" y="2565360"/>
            <a:ext cx="790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Aerobic respiration happens in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 stage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tage 1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Glyco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glyc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cose         split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4356000" y="3860640"/>
            <a:ext cx="647640" cy="122400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410920" y="3860640"/>
            <a:ext cx="505080" cy="129708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95280" y="696960"/>
            <a:ext cx="85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 glycolysis, a glucose molecule is broken down in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pyruvic aci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157840" y="894600"/>
            <a:ext cx="2862720" cy="3712320"/>
            <a:chOff x="2157840" y="894600"/>
            <a:chExt cx="2862720" cy="3712320"/>
          </a:xfrm>
        </p:grpSpPr>
        <p:sp>
          <p:nvSpPr>
            <p:cNvPr id="527" name=""/>
            <p:cNvSpPr/>
            <p:nvPr/>
          </p:nvSpPr>
          <p:spPr>
            <a:xfrm>
              <a:off x="4595400" y="2133720"/>
              <a:ext cx="0" cy="24732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 flipV="1" rot="17146200">
              <a:off x="2490840" y="1093680"/>
              <a:ext cx="2196000" cy="235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49" y="439"/>
                  </a:moveTo>
                  <a:arcTo wR="10800" hR="10800" stAng="-4416040" swAng="4066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49" y="439"/>
                  </a:moveTo>
                  <a:arcTo wR="10800" hR="10800" stAng="-4416040" swAng="4066065"/>
                </a:path>
              </a:pathLst>
            </a:custGeom>
            <a:noFill/>
            <a:ln w="57240">
              <a:solidFill>
                <a:srgbClr val="cc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24000" y="2781360"/>
            <a:ext cx="302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small quantity of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2 molecu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356000" y="2131920"/>
            <a:ext cx="32972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ries of enzy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ntrolled re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564000" y="47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7440" y="16286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32000" y="5589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83b3"/>
                </a:solidFill>
                <a:latin typeface="Arial"/>
              </a:rPr>
              <a:t>Glycolysis </a:t>
            </a:r>
            <a:r>
              <a:rPr b="1" lang="en-US" sz="2800" spc="-1" strike="noStrike" u="sng">
                <a:solidFill>
                  <a:srgbClr val="9383b3"/>
                </a:solidFill>
                <a:uFillTx/>
                <a:latin typeface="Arial"/>
              </a:rPr>
              <a:t>does not</a:t>
            </a:r>
            <a:r>
              <a:rPr b="1" lang="en-US" sz="2800" spc="-1" strike="noStrike">
                <a:solidFill>
                  <a:srgbClr val="9383b3"/>
                </a:solidFill>
                <a:latin typeface="Arial"/>
              </a:rPr>
              <a:t> require oxyg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Stage 2 –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Breakdown of pyruvic acid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pyruvic acid made in glycolysis </a:t>
            </a:r>
            <a:r>
              <a:rPr b="1" lang="en-US" sz="3200" spc="-1" strike="noStrike">
                <a:solidFill>
                  <a:srgbClr val="9383b3"/>
                </a:solidFill>
                <a:latin typeface="Comic Sans MS"/>
              </a:rPr>
              <a:t>(stage1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till contains a lo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t can only be broken down to release the rest of the energy in the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presence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of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5724360" y="2781360"/>
            <a:ext cx="303372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quantity of A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36 molecu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9640" y="2924280"/>
            <a:ext cx="316728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series of enzyme controlled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203640" y="1051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40000" y="5228640"/>
            <a:ext cx="431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3583080" y="91440"/>
            <a:ext cx="3560400" cy="5305680"/>
            <a:chOff x="3583080" y="91440"/>
            <a:chExt cx="3560400" cy="5305680"/>
          </a:xfrm>
        </p:grpSpPr>
        <p:sp>
          <p:nvSpPr>
            <p:cNvPr id="541" name=""/>
            <p:cNvSpPr/>
            <p:nvPr/>
          </p:nvSpPr>
          <p:spPr>
            <a:xfrm>
              <a:off x="4212000" y="1773360"/>
              <a:ext cx="0" cy="36237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 rot="4453800">
              <a:off x="3753720" y="623160"/>
              <a:ext cx="3218760" cy="279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49" y="439"/>
                  </a:moveTo>
                  <a:arcTo wR="10800" hR="10800" stAng="-4416040" swAng="4066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49" y="439"/>
                  </a:moveTo>
                  <a:arcTo wR="10800" hR="10800" stAng="-4416040" swAng="4066065"/>
                </a:path>
              </a:pathLst>
            </a:custGeom>
            <a:noFill/>
            <a:ln w="57240">
              <a:solidFill>
                <a:srgbClr val="cc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ATP production</a:t>
            </a: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 – </a:t>
            </a: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804840" y="4005360"/>
            <a:ext cx="2712600" cy="1871640"/>
            <a:chOff x="3804840" y="4005360"/>
            <a:chExt cx="2712600" cy="1871640"/>
          </a:xfrm>
        </p:grpSpPr>
        <p:sp>
          <p:nvSpPr>
            <p:cNvPr id="545" name=""/>
            <p:cNvSpPr/>
            <p:nvPr/>
          </p:nvSpPr>
          <p:spPr>
            <a:xfrm flipH="1" rot="10263000">
              <a:off x="3847680" y="4605480"/>
              <a:ext cx="2626200" cy="76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05" y="21553"/>
                  </a:moveTo>
                  <a:arcTo wR="10800" hR="10800" stAng="5079516" swAng="109675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05" y="21553"/>
                  </a:moveTo>
                  <a:arcTo wR="10800" hR="10800" stAng="5079516" swAng="10967584"/>
                </a:path>
              </a:pathLst>
            </a:custGeom>
            <a:noFill/>
            <a:ln w="57240">
              <a:solidFill>
                <a:srgbClr val="9383b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51280" y="4005360"/>
              <a:ext cx="0" cy="187164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5292720" y="4653000"/>
            <a:ext cx="309564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DP + 36 Pi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059280" y="1557000"/>
            <a:ext cx="18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843280" y="3067920"/>
            <a:ext cx="23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484880" y="307224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835280" y="6021360"/>
            <a:ext cx="4248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Comic Sans MS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3823560" y="2133720"/>
            <a:ext cx="2676240" cy="1295280"/>
            <a:chOff x="3823560" y="2133720"/>
            <a:chExt cx="2676240" cy="1295280"/>
          </a:xfrm>
        </p:grpSpPr>
        <p:sp>
          <p:nvSpPr>
            <p:cNvPr id="553" name=""/>
            <p:cNvSpPr/>
            <p:nvPr/>
          </p:nvSpPr>
          <p:spPr>
            <a:xfrm flipH="1" rot="10263000">
              <a:off x="3848400" y="2520720"/>
              <a:ext cx="2626200" cy="52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05" y="21553"/>
                  </a:moveTo>
                  <a:arcTo wR="10800" hR="10800" stAng="5079516" swAng="109675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05" y="21553"/>
                  </a:moveTo>
                  <a:arcTo wR="10800" hR="10800" stAng="5079516" swAng="10967584"/>
                </a:path>
              </a:pathLst>
            </a:custGeom>
            <a:noFill/>
            <a:ln w="57240">
              <a:solidFill>
                <a:srgbClr val="9383b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51280" y="2133720"/>
              <a:ext cx="0" cy="129528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5292720" y="2421000"/>
            <a:ext cx="251928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</a:rPr>
              <a:t>2 ADP + 2 Pi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</a:rPr>
              <a:t>2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Summary of ATP p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age 1 and 2 release all the chemical energy in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n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molecule of glucose to make a total of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38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molecu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glucose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pyruvic ac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36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 pyruvic acid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carbon-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ioxide +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Total 38 molecules A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396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000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</a:t>
            </a:r>
            <a:br>
              <a:rPr sz="4800"/>
            </a:br>
            <a:r>
              <a:rPr b="1" lang="en-US" sz="4800" spc="-1" strike="noStrike" u="sng">
                <a:solidFill>
                  <a:srgbClr val="ffffcc"/>
                </a:solidFill>
                <a:uFillTx/>
                <a:latin typeface="Comic Sans MS"/>
              </a:rPr>
              <a:t>(in animals)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68360" y="270828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naerobic = in the absence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383b3"/>
                </a:solidFill>
                <a:latin typeface="Comic Sans MS"/>
              </a:rPr>
              <a:t>In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low</a:t>
            </a:r>
            <a:r>
              <a:rPr b="0" lang="en-US" sz="4000" spc="-1" strike="noStrike">
                <a:solidFill>
                  <a:srgbClr val="9383b3"/>
                </a:solidFill>
                <a:latin typeface="Comic Sans MS"/>
              </a:rPr>
              <a:t> oxygen conditions or during </a:t>
            </a:r>
            <a:r>
              <a:rPr b="1" lang="en-US" sz="4000" spc="-1" strike="noStrike">
                <a:solidFill>
                  <a:srgbClr val="9383b3"/>
                </a:solidFill>
                <a:latin typeface="Comic Sans MS"/>
              </a:rPr>
              <a:t>heavy exercise</a:t>
            </a:r>
            <a:r>
              <a:rPr b="0" lang="en-US" sz="4000" spc="-1" strike="noStrike">
                <a:solidFill>
                  <a:srgbClr val="9383b3"/>
                </a:solidFill>
                <a:latin typeface="Comic Sans MS"/>
              </a:rPr>
              <a:t>, when not enough oxygen can be supplied, muscle cells swap to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Comic Sans MS"/>
              </a:rPr>
              <a:t>anaerobic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Comic Sans MS"/>
              </a:rPr>
              <a:t>respiration</a:t>
            </a: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539640" y="1052640"/>
            <a:ext cx="320832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b5d6b"/>
                </a:solidFill>
                <a:uFillTx/>
                <a:latin typeface="Comic Sans MS"/>
                <a:ea typeface="Times New Roman"/>
              </a:rPr>
              <a:t>glycolysis</a:t>
            </a: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 still happens as it does not require 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3928320" y="907920"/>
            <a:ext cx="4565520" cy="2308320"/>
            <a:chOff x="3928320" y="907920"/>
            <a:chExt cx="4565520" cy="2308320"/>
          </a:xfrm>
        </p:grpSpPr>
        <p:sp>
          <p:nvSpPr>
            <p:cNvPr id="563" name=""/>
            <p:cNvSpPr/>
            <p:nvPr/>
          </p:nvSpPr>
          <p:spPr>
            <a:xfrm flipH="1" rot="10263000">
              <a:off x="3990600" y="1282320"/>
              <a:ext cx="4440960" cy="114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05" y="21553"/>
                  </a:moveTo>
                  <a:arcTo wR="10800" hR="10800" stAng="5079516" swAng="109675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05" y="21553"/>
                  </a:moveTo>
                  <a:arcTo wR="10800" hR="10800" stAng="5079516" swAng="10967584"/>
                </a:path>
              </a:pathLst>
            </a:custGeom>
            <a:noFill/>
            <a:ln w="57240">
              <a:solidFill>
                <a:srgbClr val="cc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995640" y="907920"/>
              <a:ext cx="0" cy="2308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3995640" y="364500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50920" y="3716280"/>
            <a:ext cx="33652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in absence of oxygen pyruvic acid is turned into lactic ac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20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81640" y="2081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203640" y="2708280"/>
            <a:ext cx="360036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132000" y="5516280"/>
            <a:ext cx="195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348000" y="47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227640" y="1197000"/>
            <a:ext cx="27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 build up of lactic acid produc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muscle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fatigue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uscle fatigue makes muscles ache and contract less powerfully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 recovery period is needed.  During this time more 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oxygen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is taken in to convert the lactic acid back into pyruvic acid again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he volume of oxygen needed is called the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debt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"/>
          <p:cNvSpPr/>
          <p:nvPr/>
        </p:nvSpPr>
        <p:spPr>
          <a:xfrm>
            <a:off x="4500720" y="4437000"/>
            <a:ext cx="0" cy="1152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788000" y="206064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003640" y="4436640"/>
            <a:ext cx="0" cy="11588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26920" y="4437000"/>
            <a:ext cx="280836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.g. during hard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156360" y="4437000"/>
            <a:ext cx="23032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repaid during recovery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067280" y="907560"/>
            <a:ext cx="28350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263400" y="3639600"/>
            <a:ext cx="2775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456000" y="5589360"/>
            <a:ext cx="24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 </a:t>
            </a:r>
            <a:br>
              <a:rPr sz="4800"/>
            </a:br>
            <a:r>
              <a:rPr b="1" lang="en-US" sz="4800" spc="-1" strike="noStrike" u="sng">
                <a:solidFill>
                  <a:srgbClr val="ffffcc"/>
                </a:solidFill>
                <a:uFillTx/>
                <a:latin typeface="Comic Sans MS"/>
              </a:rPr>
              <a:t>in plants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same process occurs in plants and yeast in low oxygen conditions, e.g. muddy, flooded soi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611280" y="1341360"/>
            <a:ext cx="302400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glycolysis still happens, produc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2 ATP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4425120" y="836640"/>
            <a:ext cx="4604040" cy="2521080"/>
            <a:chOff x="4425120" y="836640"/>
            <a:chExt cx="4604040" cy="2521080"/>
          </a:xfrm>
        </p:grpSpPr>
        <p:sp>
          <p:nvSpPr>
            <p:cNvPr id="588" name=""/>
            <p:cNvSpPr/>
            <p:nvPr/>
          </p:nvSpPr>
          <p:spPr>
            <a:xfrm flipH="1" rot="10263000">
              <a:off x="4494960" y="1259640"/>
              <a:ext cx="4463280" cy="125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05" y="21553"/>
                  </a:moveTo>
                  <a:arcTo wR="10800" hR="10800" stAng="5079516" swAng="109675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05" y="21553"/>
                  </a:moveTo>
                  <a:arcTo wR="10800" hR="10800" stAng="5079516" swAng="10967584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500720" y="836640"/>
              <a:ext cx="0" cy="252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4500720" y="378936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4000" y="3860640"/>
            <a:ext cx="3809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This time in absence of oxygen, pyruvic acid is turned into carbon dioxide and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481640" y="2148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89520" y="-71280"/>
            <a:ext cx="1935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484360" y="58348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thanol + carbon diox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003640" y="4365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This is irrever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804000" y="1197000"/>
            <a:ext cx="27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Comparison of aerobic and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24000" y="1716120"/>
          <a:ext cx="8540640" cy="5141880"/>
        </p:xfrm>
        <a:graphic>
          <a:graphicData uri="http://schemas.openxmlformats.org/drawingml/2006/table">
            <a:tbl>
              <a:tblPr/>
              <a:tblGrid>
                <a:gridCol w="2446200"/>
                <a:gridCol w="1822680"/>
                <a:gridCol w="2031840"/>
                <a:gridCol w="2239920"/>
              </a:tblGrid>
              <a:tr h="360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anim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plants and yea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xygen required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ycolysis occu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TP yie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ucose completely broke dow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nd produ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dioxide and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ct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anol and carbon diox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Tas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e a series of PowerPoint slides which show the importance of </a:t>
            </a:r>
            <a:r>
              <a:rPr b="1" lang="en-US" sz="2800" spc="-1" strike="noStrike">
                <a:solidFill>
                  <a:srgbClr val="9383b3"/>
                </a:solidFill>
                <a:latin typeface="Tahoma"/>
              </a:rPr>
              <a:t>anaerobic respir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the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brew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bread-mak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ce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e a couple of slides to show the role of anaerobic respiration in the production of cheese and yogu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[Pages 4 -14 of your textbook will help you with these tasks if you are finding it difficult to find information on the internet]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Comic Sans MS"/>
              </a:rPr>
              <a:t>Comparing energy in carbohydrates,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proteins and fa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87360" y="1843200"/>
            <a:ext cx="4334040" cy="32162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148360" y="259704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se different types of food to calculate which will give the most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Result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0" y="1700280"/>
          <a:ext cx="9144000" cy="4367160"/>
        </p:xfrm>
        <a:graphic>
          <a:graphicData uri="http://schemas.openxmlformats.org/drawingml/2006/table">
            <a:tbl>
              <a:tblPr/>
              <a:tblGrid>
                <a:gridCol w="1692360"/>
                <a:gridCol w="1511280"/>
                <a:gridCol w="1947960"/>
                <a:gridCol w="2269800"/>
                <a:gridCol w="17226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ood Mater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Mass of f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rting temperature of water (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nishing temperature of wa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Temperature rise (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Calculating energy in f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given amount of any substance always requires the same amount of energy to produce a particular increase in temper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g of water needs………………..4.2 kJ to make its temperature rise by 1 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cc"/>
                </a:solidFill>
                <a:uFillTx/>
                <a:latin typeface="Comic Sans MS"/>
              </a:rPr>
              <a:t>Calculating the energy content of foo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formula to calculate the energy release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4.2 x M x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w calculate the energy content of your f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684360" y="328464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55640" y="342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35280" y="270828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 = mass of water (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659640" y="2781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=rise in temperature ( °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rcRect l="0" t="19567" r="0" b="19567"/>
          <a:stretch/>
        </p:blipFill>
        <p:spPr>
          <a:xfrm>
            <a:off x="911160" y="1341360"/>
            <a:ext cx="6829560" cy="41752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Calori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Gases and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: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Living Pea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: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ad P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urn a lighted splint in each gas j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1460520" cy="32637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14605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30:53Z</dcterms:created>
  <dc:creator>IMADMartindale</dc:creator>
  <dc:description/>
  <dc:language>en-US</dc:language>
  <cp:lastModifiedBy>gg</cp:lastModifiedBy>
  <dcterms:modified xsi:type="dcterms:W3CDTF">2006-09-27T20:14:11Z</dcterms:modified>
  <cp:revision>27</cp:revision>
  <dc:subject/>
  <dc:title>Respiration</dc:title>
</cp:coreProperties>
</file>