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ACF-46E0-4538-A45B-B8A6481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05A-5DC6-478C-8F95-4831DDA8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CDA-0926-42BD-BF0A-D2E9A296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1EF-C0A1-4C45-B126-36D33540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44D-D92A-402C-BA37-8BB37D75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67A-84F9-483D-A5BF-7B12A00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DAA-B24B-42B7-9EB0-306CB996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F1D-DA9F-471F-BEC2-A4A16B92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FB9-2227-4B19-8622-04D40C7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5D3-806F-4263-9DB2-F69AA33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610-E876-4688-B6E3-7A8CD70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2A9-2E9C-4DF0-A65B-1256E88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1FD-E800-4D59-8581-7BA9FDF4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486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glycoge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orage form of glucose made by joining glucose subunits into chains that is used by animal cells to store glucose for long-term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 cycl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other name for the Kreb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03848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fermen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by which cells release energy in the absence of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pyruvic aci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(OR pyruvate)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86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carbon molecule formed when glucose split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TP syntha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2096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zyme that spins as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 through and produces AT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4382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forms when Acetyl-CoA adds its acetyl group to a 4 carbon molecule during the first step of the 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lactic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4382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builds up in muscles during intense exercise that forms when cells run out of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 NAD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FA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that act as high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n carriers during cellular respi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648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alcoholic ferment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09680"/>
            <a:ext cx="88390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is pathw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uvic + NAD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alcohol +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D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  </a:t>
            </a:r>
            <a:br>
              <a:rPr sz="3600"/>
            </a:b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i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419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 glycolysis, Krebs cycle, and Electron Transport Chai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743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3 stages that make up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886200"/>
            <a:ext cx="914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6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→ 6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 + 6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ENERG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133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e the chemical equation for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2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mber of ATP’s that must be added to get glycolysis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572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it reacts with CoA and enters Krebs cycle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next step pyruvic acid follows if oxygen is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glycolys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13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 step in the breakdown of gluc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36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umber of ATP’s produced from 1 molecule of glucos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pletes aerobic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886200"/>
            <a:ext cx="754380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y end up in C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are released into the atm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9840" y="2286000"/>
            <a:ext cx="68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te of the carbons in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181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oxyge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4382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lecule that is the final electron  acceptor at the end of the Electron Transport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876920"/>
            <a:ext cx="8534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they combine with oxygen to make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362320"/>
            <a:ext cx="84582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e of the high energy electrons and Hydrogens in NADH and FAD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590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D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2928" t="0" r="9495" b="0"/>
          <a:stretch/>
        </p:blipFill>
        <p:spPr>
          <a:xfrm>
            <a:off x="4876920" y="1752480"/>
            <a:ext cx="3657600" cy="334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640" y="6400800"/>
            <a:ext cx="56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modified from: Pearson Education Inc; publishing as Pearson Prenctice Hal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ner membrane (crista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337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the Electron Transport Chain is loc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membrane spa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B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13374" t="0" r="10483" b="0"/>
          <a:stretch/>
        </p:blipFill>
        <p:spPr>
          <a:xfrm>
            <a:off x="4876920" y="1752480"/>
            <a:ext cx="40384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the 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 where the Krebs cycle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B (intermembrane spac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ce where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ons build up as electrons move down the Electron Transport Ch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3374" t="0" r="11448" b="0"/>
          <a:stretch/>
        </p:blipFill>
        <p:spPr>
          <a:xfrm>
            <a:off x="4724280" y="1905120"/>
            <a:ext cx="4191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aerobi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2286000"/>
            <a:ext cx="84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 means “not in air” 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ss that happens without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a Calorie (capitalized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t used by scientists to measure the energy stored in foo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ZonaNet</cp:lastModifiedBy>
  <dcterms:modified xsi:type="dcterms:W3CDTF">2008-05-02T21:56:30Z</dcterms:modified>
  <cp:revision>103</cp:revision>
  <dc:subject/>
  <dc:title>Semester 2</dc:title>
</cp:coreProperties>
</file>