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006-ABA9-471A-BD01-B22F1094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3CC-AF39-4EB9-A206-03A81920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FCC-A0FA-41C7-9056-C16EF984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840-DF54-4CC0-9EC5-36C4E811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D3C-2DB4-4165-A21C-74FBC220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ED3-5A7A-42F1-B54E-FC73237B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0D9-6BCE-411F-8A71-127DF7DB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11A-DC1C-4291-A546-2D5FC0BB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837-6A11-47CF-ABBA-67EACDF3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695-1D9C-41B9-9DCF-264E2A40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5EF-0136-4D4B-8794-EE9F5A0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F2A-E0AF-486A-8D0E-176D8B3D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ACB8-641C-49EA-A6EB-6C74F975F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17528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SPI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JEOPARDY #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5486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 glycoge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09680"/>
            <a:ext cx="883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orage form of glucose made by joining glucose subunits into chains that is used by animal cells to store glucose for long-term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4956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itric acid cycl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666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other name for the Krebs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03848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fermentation 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 by which cells release energy in the absence of 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8769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pyruvic aci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  (OR pyruvate)?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0" y="297180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2860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carbon molecule formed when glucose splits in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4648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TP syntha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2096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nzyme that spins as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o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ss through and produces AT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562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citric ac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4382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 that forms when Acetyl-CoA adds its acetyl group to a 4 carbon molecule during the first step of the Krebs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562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lactic aci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438280"/>
            <a:ext cx="73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 that builds up in muscles during intense exercise that forms when cells run out of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4724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are  NAD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and FA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43828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lecules that act as high energ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ron carriers during cellular respir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648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 alcoholic fermentatio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0574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209680"/>
            <a:ext cx="883908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this pathw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yruvic + NAD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alcohol + 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D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   </a:t>
            </a:r>
            <a:br>
              <a:rPr sz="3600"/>
            </a:b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i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419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are  glycolysis, Krebs cycle, and Electron Transport Chai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74320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3 stages that make up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1523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2590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657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4724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57913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192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25858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65292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719600"/>
            <a:ext cx="1828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1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5" action="ppaction://hlinksldjump"/>
          </p:cNvPr>
          <p:cNvSpPr/>
          <p:nvPr/>
        </p:nvSpPr>
        <p:spPr>
          <a:xfrm>
            <a:off x="7315200" y="5786280"/>
            <a:ext cx="1828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886200"/>
            <a:ext cx="914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 i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+ 6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→ 6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 + 6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+ ENERGY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1337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rite the chemical equation for cellular respi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267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2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362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umber of ATP’s that must be added to get glycolysis sta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572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What is it reacts with CoA and enters Krebs cycle?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0574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he next step pyruvic acid follows if oxygen is pres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4114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glycolysi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133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rst step in the breakdown of gluc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3680" y="2422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240" y="151560"/>
            <a:ext cx="543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mage from: http://io.uwinnipeg.ca/~simmons/16cm05/1116/16anim3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4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36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umber of ATP’s produced from 1 molecule of glucose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mpletes aerobic cellular respi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886200"/>
            <a:ext cx="754380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they end up in CO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 are released into the atmosp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5909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9840" y="2286000"/>
            <a:ext cx="68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te of the carbons in gluc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1814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oxyge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243828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lecule that is the final electron  acceptor at the end of the Electron Transport Ch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cellaneo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876920"/>
            <a:ext cx="85341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: What is they combine with oxygen to make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2362320"/>
            <a:ext cx="84582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ate of the high energy electrons and Hydrogens in NADH and FAD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29600" y="0"/>
            <a:ext cx="45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http://www.zo.utexas.edu/faculty/sjasper/images/so28_04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5909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is D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105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matri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12928" t="0" r="9495" b="0"/>
          <a:stretch/>
        </p:blipFill>
        <p:spPr>
          <a:xfrm>
            <a:off x="4876920" y="1752480"/>
            <a:ext cx="3657600" cy="334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640" y="6400800"/>
            <a:ext cx="56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modified from: Pearson Education Inc; publishing as Pearson Prenctice Hall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495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inner membrane (crista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3372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place in the mitochondr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the Electron Transport Chain is loca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429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ermembrane spac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133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is B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13374" t="0" r="10483" b="0"/>
          <a:stretch/>
        </p:blipFill>
        <p:spPr>
          <a:xfrm>
            <a:off x="4876920" y="1752480"/>
            <a:ext cx="40384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495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the  matrix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590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place in the mitochondria where the Krebs cycle happ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380440" y="62434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7493"/>
                </a:moveTo>
                <a:lnTo>
                  <a:pt x="9996" y="7493"/>
                </a:lnTo>
                <a:lnTo>
                  <a:pt x="9996" y="12828"/>
                </a:lnTo>
                <a:cubicBezTo>
                  <a:pt x="9996" y="13751"/>
                  <a:pt x="10797" y="14482"/>
                  <a:pt x="11833" y="14482"/>
                </a:cubicBezTo>
                <a:lnTo>
                  <a:pt x="13495" y="14482"/>
                </a:lnTo>
                <a:cubicBezTo>
                  <a:pt x="14531" y="14482"/>
                  <a:pt x="15332" y="13751"/>
                  <a:pt x="15332" y="12828"/>
                </a:cubicBezTo>
                <a:lnTo>
                  <a:pt x="15332" y="7493"/>
                </a:lnTo>
                <a:lnTo>
                  <a:pt x="13495" y="7493"/>
                </a:lnTo>
                <a:lnTo>
                  <a:pt x="17003" y="3985"/>
                </a:lnTo>
                <a:lnTo>
                  <a:pt x="20676" y="7493"/>
                </a:lnTo>
                <a:lnTo>
                  <a:pt x="18839" y="7493"/>
                </a:lnTo>
                <a:lnTo>
                  <a:pt x="18839" y="12828"/>
                </a:lnTo>
                <a:cubicBezTo>
                  <a:pt x="18839" y="15596"/>
                  <a:pt x="16263" y="18155"/>
                  <a:pt x="13495" y="18155"/>
                </a:cubicBezTo>
                <a:lnTo>
                  <a:pt x="11833" y="18155"/>
                </a:lnTo>
                <a:cubicBezTo>
                  <a:pt x="9065" y="18155"/>
                  <a:pt x="6489" y="15596"/>
                  <a:pt x="6489" y="12828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86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: What is B (intermembrane space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0968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ace where H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ons build up as electrons move down the Electron Transport Ch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3374" t="0" r="11448" b="0"/>
          <a:stretch/>
        </p:blipFill>
        <p:spPr>
          <a:xfrm>
            <a:off x="4724280" y="1905120"/>
            <a:ext cx="4191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: What is anaerobic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514600"/>
            <a:ext cx="601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2286000"/>
            <a:ext cx="845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t means “not in air” 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cess that happens without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267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: What is a Calorie (capitalized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2096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it used by scientists to measure the energy stored in foo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880" y="646128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2C06 Jeopardy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5851440"/>
            <a:ext cx="1028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Ken Martin</dc:creator>
  <dc:description/>
  <dc:language>en-US</dc:language>
  <cp:lastModifiedBy>ZonaNet</cp:lastModifiedBy>
  <dcterms:modified xsi:type="dcterms:W3CDTF">2008-05-02T21:56:30Z</dcterms:modified>
  <cp:revision>103</cp:revision>
  <dc:subject/>
  <dc:title>Semester 2</dc:title>
</cp:coreProperties>
</file>