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1EF-23E7-4257-8B25-E7365B51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788-7A91-40C7-BE8C-3EACA11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384-8145-489F-9250-5EBBB0D9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B1F-8B73-4B61-9265-6C89AA77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7313-0008-4147-8040-146DBA46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AB20-E926-4B98-9F3C-84E0374A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DF0B-CA25-42CB-ACB7-55C1771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3E20-2472-4C97-B9D5-21DEAF1A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E880-8518-4931-944E-9488848F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3646-65BA-402B-9E74-6A98AC28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BE64-E51D-4188-9D83-307A46C4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51A-2097-44AB-9D00-653B42B0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F3D0-1E21-40CF-9C51-F80E91A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2C12-BED1-4D69-8A62-B867529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EDBA-2584-4364-BB4A-F15DE54D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762A-2E44-43B7-8AF5-2C64ECDB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BC08-6904-45E4-BF67-43FA110D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BE5-AB1E-4BD7-B3F4-C5F8202D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691-B954-43A4-B52C-9742869B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988-ABD8-47C9-A4AE-9495F9DB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FED-DDE6-48CA-9C3F-70D280C8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2C3-8D40-407A-AA5A-AE86BF4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69D-379A-42A8-97FC-2927744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C08-D230-487E-9FCB-44C60F2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DDD8-C736-444F-BB09-36377EF35CA4}" type="datetime">
              <a:rPr b="0" lang="en-US" sz="8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DAEA-926D-47CA-80E7-140A70484FE0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-19080" y="1371600"/>
            <a:ext cx="9163080" cy="1440"/>
          </a:xfrm>
          <a:prstGeom prst="line">
            <a:avLst/>
          </a:prstGeom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4F71-AAD7-482A-A097-84DC5FAC594C}" type="datetime">
              <a:rPr b="0" lang="en-US" sz="8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C4D-025B-4411-9D67-562CC509A0DC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0" y="6404040"/>
            <a:ext cx="9153360" cy="457200"/>
          </a:xfrm>
          <a:prstGeom prst="rect">
            <a:avLst/>
          </a:prstGeom>
          <a:solidFill>
            <a:srgbClr val="f25822"/>
          </a:solidFill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404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404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Medical-Surgical Nursing Car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Fourth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Karen M. Burke | Elaine L. Mohn-Brown | Linda E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2286000" y="2951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piratory System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1-2.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wer respiratory system, showing the lungs, the mediastinum, and layers of the visceral and parietal pleura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trick Watson, Pearson Education.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9" name="Picture 3" descr="AAGQUSX0"/>
          <p:cNvPicPr/>
          <p:nvPr/>
        </p:nvPicPr>
        <p:blipFill>
          <a:blip r:embed="rId1"/>
          <a:stretch/>
        </p:blipFill>
        <p:spPr>
          <a:xfrm>
            <a:off x="1828800" y="1066680"/>
            <a:ext cx="5486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d by mediastinu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ed of elastic connective tiss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d into lobes which are further divided into seg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 and Alveoli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hea divides into right and left mainstem bronch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 continue to branch and get smaller (bronchioles) and end as alveol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moves through passageways to alveoli where gas exchange occu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1-3.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al tissue of the lungs, including the respiratory bronchioles and alveoli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arson Education.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5" name="Picture 3" descr="AAGQUSZ0"/>
          <p:cNvPicPr/>
          <p:nvPr/>
        </p:nvPicPr>
        <p:blipFill>
          <a:blip r:embed="rId1"/>
          <a:stretch/>
        </p:blipFill>
        <p:spPr>
          <a:xfrm>
            <a:off x="2076480" y="1143000"/>
            <a:ext cx="493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Circ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rom body tissues, via right heart, to lu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vei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ated blood to left 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capillary networ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ur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layered membrane that covers lung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c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 lungs out to chest wal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 Cage and Intercostal Mus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lung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pairs rib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stal muscles are between rib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with process of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s of Respi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i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d into inspiration and ex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is 12–20 breaths per min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s 1–1.5 sec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phragm contracts and flatt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stal muscles contr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size of chest cav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s of Respi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s stretch and volume incre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in lungs slightly less than atmospher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air to rush 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s 2 to 3 sec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s rel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s of Respi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phragm ri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s desc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s rec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in chest cavity increases, compressing alveol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in lungs higher than atmospheric causes gases to flow out of the lung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Outcome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structure and functions of the respiratory trac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mechanics of respira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 and appropriately document a focused assessment of the upper and lower respiratory systems, demonstrating sensitivity and respect for individual concerns, values, and preferenc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s Affecting Respi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center of the br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receptors in the brain, aortic arch, and carotid arte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fa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way resi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tension of alveo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Changes Associated with A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tilage that connects ribs to sternum and spinal cord calcif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-posterior diameter of chest increa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muscles weak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 and laryngeal reflexes less effecti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Changes Associated with A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of lungs decrea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oli less elast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er patient at greater risk for developing respiratory infec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ive da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omplaint or existing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et or duration of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to maintain A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l congestion, nosebl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e throat, difficulty swallo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voice q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y breathing, orthopn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 on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ive da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cough frequency, duration, productive or unprodu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tum amount, color, and consist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to inf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s or influenz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chronic lung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al exposure to chemicals, smoke, asbes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ive da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previous respiratory probl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es to medication or environmental allerg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tobacco, chewing tobacco, marijuana, cocaine, injected drugs, or alco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 state of 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respiratory rate and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nasal fla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ccessory muscles for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for hoarseness in patient's spe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 mucosa of nose, mouth, and oropharyn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 neck, position of trach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 anterior/posterior diameter of ch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e lips for nodules, chest for tenderness or swel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e breath sounds, note absence or presence and q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adventitious breath sou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 or crack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tum and tissue specime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at or nose swa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tum speci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 and sensi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 s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-fast s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Outcome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ppropriate nursing care and teaching for patients undergoing diagnostic tests and procedures related to the respiratory syste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diagnostic test results, recognizing and communicating abnormal or unexpected findings within the interprofessional tea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1-1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Laboratory Tests and Studi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6243480" y="6095880"/>
            <a:ext cx="29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ontinued on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Table 21-1a.jpg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1-1 (continued)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Laboratory Tests and Studi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2" name="Picture 2" descr="Table 21-1b.jpg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g techniq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 sc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ilation–perfusion sc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patient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contrast used remember to ask about allergies, especially iodine and seafoo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1-2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g Studi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6243480" y="6095880"/>
            <a:ext cx="29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ontinued on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Table 21-2a.jpg"/>
          <p:cNvPicPr/>
          <p:nvPr/>
        </p:nvPicPr>
        <p:blipFill>
          <a:blip r:embed="rId1"/>
          <a:stretch/>
        </p:blipFill>
        <p:spPr>
          <a:xfrm>
            <a:off x="457200" y="2084400"/>
            <a:ext cx="82296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1-2 (continued)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g Studi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9" name="Picture 3" descr="Table 21-2b.jpg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function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lung volume and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, caffeine, and bronchodilators interfere with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patient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 patient to stop bronchodilators 4–6 hours prior to 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 patient not to smoke or drink caffeinated drinks prior to 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1-9.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ship of lung volumes and capacities. Volumes shown are for an average adult male.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3" name="Picture 3" descr="AAHBXUO0"/>
          <p:cNvPicPr/>
          <p:nvPr/>
        </p:nvPicPr>
        <p:blipFill>
          <a:blip r:embed="rId1"/>
          <a:stretch/>
        </p:blipFill>
        <p:spPr>
          <a:xfrm>
            <a:off x="457200" y="1057320"/>
            <a:ext cx="82296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visualiz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or indirect laryngosco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identify and evaluate laryngeal tum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patient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consent form has been sign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dentures, partial plates, bridges prior to procedur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O before procedur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visualiz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patient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O after procedure until gag reflex retur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optic bronchosco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ze trachea, bronchi and bronchio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ors and structural disorder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visualiz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optic bronchosco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tissue biops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sputum specim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foreign bod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teach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and Function of the Upper Respiratory Trac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moves into lung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dioxide moves out of body through upper respiratory trac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airw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s, humidifies, warms 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open for effective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1-1.  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ructures of the upper respiratory system. (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e sinuses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9" name="Picture 4" descr="AAHBXUK0"/>
          <p:cNvPicPr/>
          <p:nvPr/>
        </p:nvPicPr>
        <p:blipFill>
          <a:blip r:embed="rId1"/>
          <a:stretch/>
        </p:blipFill>
        <p:spPr>
          <a:xfrm>
            <a:off x="457200" y="1847880"/>
            <a:ext cx="82296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es and Sinu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respiratory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and warm 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es separated by sept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u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ings in facial b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en sku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in spe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muc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yn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opharyn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yngopharyn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yn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s laryngopharynx to trache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air and food to proper passagew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and Function of the Lower Respiratory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s and bronch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 tran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0:36:43Z</dcterms:created>
  <dc:creator>Thomas Dunn</dc:creator>
  <dc:description/>
  <dc:language>en-US</dc:language>
  <cp:lastModifiedBy>Abdualrahman Alshehry</cp:lastModifiedBy>
  <dcterms:modified xsi:type="dcterms:W3CDTF">2016-02-10T04:01:18Z</dcterms:modified>
  <cp:revision>8</cp:revision>
  <dc:subject/>
  <dc:title>Slide 1</dc:title>
</cp:coreProperties>
</file>