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8DF-4025-48B2-9B8E-D4FAB307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01E-0C0D-4A4A-B8E9-B2949F8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1FA-68CF-4CA4-B19A-2908784A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7B3-3D33-40C8-A16A-873CE09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92CD-A801-4B75-92ED-1CB3EFD2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733F-D9AC-4EC8-A60D-AB13124B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4D29-93F8-490A-8F8F-DB3370E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7BC9-8147-4A34-9AB4-3E0A6488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59CF-D130-4FEB-85D1-E9CCF1E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B2C-EE78-467A-9013-DBE0DA05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C10-6E8A-4291-8A42-5808104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66B-FC7F-4A7C-BCB2-DD6632A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3E6D-455A-4FA5-903A-2040842A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5BB-DB3C-4332-BC8F-42104F14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73B-04AD-467B-B37C-2D388B70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8A6-D873-4C6E-95C3-4089F84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8617-43EB-480D-8343-9FA740CF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21C-D0FE-429E-9DEF-BF3138A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CED-3D76-43AF-AFB9-5229230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C52-FE75-40F2-AA6A-A67C99F4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712-852E-4374-B3D3-2EE0FE87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7F5-E408-4B9B-B82C-7624CC9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3DB-320D-46D7-BD08-DF07978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BB6-C3A0-480A-B86B-8397D86A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2AF-190D-4AEE-8D63-7795FFCDD9D4}" type="datetime">
              <a:rPr b="0" lang="en-US" sz="8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175-D8F7-4694-94D0-BCF87B69D73B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70A-2EB1-4CEC-B258-97B380E9F899}" type="datetime">
              <a:rPr b="0" lang="en-US" sz="800" spc="-1" strike="noStrike">
                <a:solidFill>
                  <a:srgbClr val="595959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DFA0-BE8C-40F0-A0B3-30913CE974DD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6404040"/>
            <a:ext cx="9153360" cy="457200"/>
          </a:xfrm>
          <a:prstGeom prst="rect">
            <a:avLst/>
          </a:prstGeom>
          <a:solidFill>
            <a:srgbClr val="f25822"/>
          </a:solidFill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404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404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Medical-Surgical Nursing Car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Fourth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Karen M. Burke | Elaine L. Mohn-Brown | Linda E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2286000" y="2951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piratory System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2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respiratory system, showing the lungs, the mediastinum, and layers of the visceral and parietal pleura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trick Watson, Pearson Education.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9" name="Picture 3" descr="AAGQUSX0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d by mediastinu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elastic connective tiss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d into lobes which are further divided into seg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and Alveol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divides into right and left mainstem bronch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continue to branch and get smaller (bronchioles) and end as alveol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moves through passageways to alveoli where gas exchange occu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3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al tissue of the lungs, including the respiratory bronchioles and alveoli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arson Education.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5" name="Picture 3" descr="AAGQUSZ0"/>
          <p:cNvPicPr/>
          <p:nvPr/>
        </p:nvPicPr>
        <p:blipFill>
          <a:blip r:embed="rId1"/>
          <a:stretch/>
        </p:blipFill>
        <p:spPr>
          <a:xfrm>
            <a:off x="2076480" y="1143000"/>
            <a:ext cx="493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irc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rom body tissues, via right heart, to lu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vei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ated blood to left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apillary net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layered membrane that covers lung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lungs out to chest wal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 Cage and Intercostal Mus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ung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pairs rib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stal muscles are between rib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with process of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d into inspiration and ex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is 12–20 breaths per min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s 1–1.5 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 contracts and flatt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stal muscles contr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size of chest cav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stretch and volume incr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lungs slightly less than atmospher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air to rush 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s 2 to 3 sec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s rel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 ri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s desc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rec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chest cavity increases, compressing alveol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in lungs higher than atmospheric causes gases to flow out of the lung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utcome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tructure and functions of the respiratory tra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mechanics of respir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 and appropriately document a focused assessment of the upper and lower respiratory systems, demonstrating sensitivity and respect for individual concerns, values, and preferenc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Affecting Respi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enter of the br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receptors in the brain, aortic arch, and carotid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tension of alveo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hanges Associated with A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ilage that connects ribs to sternum and spinal cord calcif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-posterior diameter of chest increa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muscles wea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 and laryngeal reflexes less effecti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Changes Associated with A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of lungs decrea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 less elast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er patient at greater risk for developing respiratory infec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mplaint or existing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r duration of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maintain A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 congestion, nosebl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e throat, difficulty swa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voice 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breathing, orthopn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on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cough frequency, duration, productive or unprodu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amount, color, and consist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inf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s or influenz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chronic lung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exposure to chemicals, smoke, asbes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ive da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previous respiratory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es to medication or environmental aller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obacco, chewing tobacco, marijuana, cocaine, injected drugs, or 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state of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respiratory rate and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nasal fl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ccessory muscles for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for hoarseness in patient's spe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mucosa of nose, mouth, and oropharyn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neck, position of trach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 anterior/posterior diameter of ch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lips for nodules, chest for tenderness or sw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e breath sounds, note absence or presence and 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adventitious breath s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 or crack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and tissue specime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at or nose sw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speci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and sensi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 s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fast s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utcome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ppropriate nursing care and teaching for patients undergoing diagnostic tests and procedures related to the respiratory syst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diagnostic test results, recognizing and communicating abnormal or unexpected findings within the interprofessional tea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1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boratory Tests and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6243480" y="6095880"/>
            <a:ext cx="29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ed on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Table 21-1a.jpg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1 (continued)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boratory Tests and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Picture 2" descr="Table 21-1b.jpg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techn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–perfusion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ontrast used remember to ask about allergies, especially iodine and seafoo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2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6243480" y="6095880"/>
            <a:ext cx="29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ontinued on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Table 21-2a.jpg"/>
          <p:cNvPicPr/>
          <p:nvPr/>
        </p:nvPicPr>
        <p:blipFill>
          <a:blip r:embed="rId1"/>
          <a:stretch/>
        </p:blipFill>
        <p:spPr>
          <a:xfrm>
            <a:off x="457200" y="2084400"/>
            <a:ext cx="82296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1-2 (continued)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 Studi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9" name="Picture 3" descr="Table 21-2b.jpg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function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ung volume and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, caffeine, and bronchodilators interfere with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 patient to stop bronchodilators 4–6 hours prior to 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 patient not to smoke or drink caffeinated drinks prior to 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9.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ship of lung volumes and capacities. Volumes shown are for an average adult male.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3" name="Picture 3" descr="AAHBXUO0"/>
          <p:cNvPicPr/>
          <p:nvPr/>
        </p:nvPicPr>
        <p:blipFill>
          <a:blip r:embed="rId1"/>
          <a:stretch/>
        </p:blipFill>
        <p:spPr>
          <a:xfrm>
            <a:off x="457200" y="1057320"/>
            <a:ext cx="8229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or indirect laryng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identify and evaluate laryngeal tum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consent form has been sig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dentures, partial plates, bridges prior to procedur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O before procedu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patient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O after procedure until gag reflex retur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optic bronch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 trachea, bronchi and bronchio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s and structural disorder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Tes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visual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optic bronchosco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tissue biops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sputum specim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foreign bod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care and teach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and Function of the Upper Respiratory Tr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moves into lung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dioxide moves out of body through upper respiratory tra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air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s, humidifies, warms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open for effective brea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1-1.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ructures of the upper respiratory system. (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e sinuses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9" name="Picture 4" descr="AAHBXUK0"/>
          <p:cNvPicPr/>
          <p:nvPr/>
        </p:nvPicPr>
        <p:blipFill>
          <a:blip r:embed="rId1"/>
          <a:stretch/>
        </p:blipFill>
        <p:spPr>
          <a:xfrm>
            <a:off x="457200" y="1847880"/>
            <a:ext cx="82296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s and Sinu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respiratory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and warm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es separated by sept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u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ings in facial b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en sku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in spee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mu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yn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yngopharyn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yn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laryngopharynx to trach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air and food to proper passagew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and Function of the Lower Respiratory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s and bronch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bdualrahman Alshehry</cp:lastModifiedBy>
  <dcterms:modified xsi:type="dcterms:W3CDTF">2016-02-10T04:01:18Z</dcterms:modified>
  <cp:revision>8</cp:revision>
  <dc:subject/>
  <dc:title>Slide 1</dc:title>
</cp:coreProperties>
</file>