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926-1520-4CDA-B3AF-46B2A25D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047-9158-4F5E-A6EF-CD2305B5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7C1-616F-469B-AD53-71E5E2ED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07E-EECB-4AB9-8033-C674CEAE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1245-672D-49EA-B21B-C41065D0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68B6-EC48-40E9-BD01-C51943BA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221B-7F77-4EE8-A31E-CAA1F34E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009B-9307-4B8A-831A-0BFC477D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97D0-4900-4153-AF01-1F61F2EA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0AF4-E345-4AB0-80A8-3EA4CC27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B14B-B651-44EE-A30D-A66AB2B8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47F-11A5-458E-A1E9-B28D5A45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690C-49B9-4445-9E8C-DA4FFF9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6F68-B7FE-460E-A735-F8C2A582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94F6-5447-47B7-88D0-E0E0BEBD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F7BB-456F-4AAD-BB6B-D6821499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6DB2-9FA4-4CD4-8C9C-5C54DB8B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5AF6-4920-48F9-92FC-D2BE65EE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59A5-E831-46A0-9656-2F2F0BC7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DC0A6-FCCE-4C23-BFB7-1756BCAC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52860-5C4E-4EF9-8169-D9B2D73E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7C3CB-FC1F-4BFF-BB70-5C9D1DBF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F96-F10E-448C-B441-738AAF3E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4B568-C0C6-46B8-B157-929AA76E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06A3-F40E-41BF-A5CF-40E07D9F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BDBB-FFBC-43AE-8AE6-89B9BA1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4B6C-9196-428E-97CF-AACC560E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01CE5-C965-4AEE-926B-66EB6FB4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D1638-0DDA-4119-A5F2-DF297597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051C3-11EA-4443-BE11-09FF208D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4BBB5-3AB8-4AF3-A60A-33D62CC6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D6905-0552-40C3-A2A4-929C1B5E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F84AA-AB77-4030-AEB3-18C91AE1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DE5-1954-4BD1-BA65-9A029101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FF001-F7FC-4748-AD3E-B52CBF15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C9CCD-B425-43A6-A9FD-3289F130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1A63A-4401-4B4E-9A07-9D6AD4A7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EDCA-CCE1-4947-B913-2CA6E83D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ECDA2-36E3-4C7B-845C-2807783D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BD649-DA5F-493B-9FCD-9780178F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F7A7D-E254-4292-9B19-CAD082C2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8C3A9-8A42-4BD0-AEE9-24D1B7FE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BB16A-5159-4611-8396-E959C8D3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A3144-FB16-42FE-BEB9-8E4E9F54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424-E4E2-4F11-9F90-93418A0E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01943-B85E-49AE-A912-7AD043EF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78CC4-C4F3-4574-A304-4D793A93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8863C-F6FB-411B-A60F-F5561EA0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68290-5E7B-46CE-AFA8-6C774952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619FE-85B0-4516-A97B-5C1E3B32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448F6-129B-45E5-A649-3DA70535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631AF-B988-4112-99D9-DFA68B29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0970A-F03A-4B2F-B218-30EF5C30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C2DDC-3913-4DA7-BCA2-8F6C098F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5210E-9259-43B1-ADEE-605F11DA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C4B-3EB0-4B18-8AC0-AE59458F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E8CDF-9209-4148-B866-17B03250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7D25B-19E9-46B2-8EE2-BE7EF3FC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7D8AE-3E08-41FF-BBE5-E69AAF08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47745-DF3F-4E5C-A346-EB92D650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8EEB0-A6F9-43ED-9954-2630FC32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D27BB-CB09-4CB0-AA94-F8DFB84E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CD5C7-2029-4A8A-8723-0CC31536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3FF2A-E746-4260-966E-6FB1C96F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A7D9F-648A-4EFA-B9E6-CF718301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13561-B444-4454-841F-8DE67882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F84-AB21-45AD-A593-F9E4A0FB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9AE29-A8D2-4A20-B45F-4FD889DA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44220-C40B-494F-B7F8-2E6EA3A9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6595E-99E3-4945-82B3-27ED5638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DCC1F-67E7-4ED3-B28B-A8AFCB9C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D50F2-42E6-4C6E-BC3A-3DA143F2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35EBA-BAAD-404B-B17A-2DCD0B4F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879DD-EA9B-4C93-8B8C-74FC03C4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FCE30-B328-406A-A2A6-7E9F8B59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C898A-D71E-4079-9250-7B8734D5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0D94B-1BA5-4255-96D8-2BA76D1A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FE7-82AC-4EAA-9B50-571D429F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0690F-2EEF-4DF4-A0B3-6CB471F9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87FD3-CB53-4368-8103-5C32B6DE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D60D-F13D-4FEF-B483-5D1C2CAA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D2A47-2F24-44BE-8ED9-6DAF3421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ECE7F-0397-4EDE-A47C-95FF35BE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876D7-797A-4F5E-BD5A-6FBB77A5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85B32-1A0B-4176-A586-60D48365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42379-BA06-4EC9-8CED-AC80EBAD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3454C-9A5C-4F61-8701-AEFDC795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F7B7F-AA02-48C1-B523-A1AAACD2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46F-ADFA-47BD-99AB-64131EB2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EC1F9-AD4E-4850-8869-4D7DB4B3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52C51-5B31-45E1-BD96-170FCB95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72487-8558-4ADD-B963-6F44265D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C7299-F8A3-4228-B51D-0A70CECD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399A4-3E01-4334-8BA2-C5CD4A76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9FC47-C14E-4D91-8CDD-252DFB6B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3B393-017E-4A73-B33F-C85371D4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D68C-FB8C-40BA-AF86-00024E6F9B2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0" y="6404040"/>
            <a:ext cx="9153360" cy="457200"/>
          </a:xfrm>
          <a:prstGeom prst="rect">
            <a:avLst/>
          </a:prstGeom>
          <a:solidFill>
            <a:srgbClr val="f25822"/>
          </a:solidFill>
          <a:ln w="9360">
            <a:solidFill>
              <a:srgbClr val="f25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404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404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Medical-Surgical Nursing Car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Fourth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Karen M. Burke | Elaine L. Mohn-Brown | Linda E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AB6A-AB95-4C12-9BA6-804854611CC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7"/>
          <p:cNvSpPr/>
          <p:nvPr/>
        </p:nvSpPr>
        <p:spPr>
          <a:xfrm>
            <a:off x="-19080" y="1371600"/>
            <a:ext cx="9163080" cy="1440"/>
          </a:xfrm>
          <a:prstGeom prst="line">
            <a:avLst/>
          </a:prstGeom>
          <a:ln w="9360">
            <a:solidFill>
              <a:srgbClr val="f25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8D3B-2B0C-48D5-9D82-A7E985B773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F167-5173-4AE5-B3EA-A95074208A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D5F7-DCFD-4BD9-892C-FABE6ACA2B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7662-E2D5-4FDE-89D1-2287A4479BCB}" type="slidenum">
              <a:rPr b="0" lang="en-US" sz="1000" spc="-1" strike="noStrike">
                <a:solidFill>
                  <a:srgbClr val="63705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493E-159B-40B0-AF50-913A1754E7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F896-B744-4C5F-8C55-EE4738BE12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ring for Patients With Upper Respiratory Disorders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nus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lammation of mucous membranes of sinus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ually caused by bacterial inf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ually follows URI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yngitis and tonsil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 inflammation of the throat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ually viral but may be bacteria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roup A beta-hemolytic Streptococcus (strep throat) most common cause of bacterial form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yngitis and tonsil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nsillit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 inflammation of the tonsil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be caused by streptococcal infection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ectious, may be spread by droplet nuclei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ysphag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fficulty swallowing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piglott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l emergenc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for signs of respiratory distr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sal flaring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tlessnes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idor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of accessory muscl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xygen saturatio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piglott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n't insert nasal or oral airw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cause spasm and airway obstructio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sotracheal intubation may be necessary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yng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lammation of larynx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ange in vo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re, scratchy thro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y, harsh coug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tic tes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roat swab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BC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est x-r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sal swab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T sca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luenz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early immunizatio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al infec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biotic treatmen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for up to 10 day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 no longer contagious after 24 hours of antibiotic therapy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d up to 2 weeks for sinusiti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hinit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ongestants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histamin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pical nasal steroid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haled steroid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re thro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arm saltwater gargl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roat lozeng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ild analgesic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ug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tussiv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ystemic mucolytic agents (guaifenesin)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arning Outcom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scribe common disorders affecting the upper respiratory tract, their manifestations, and potential impact on the patient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fely administer medications and treatments ordered for patients with upper respiratory disorder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plementary therap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rbal remed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romatherap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rgical interven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rrig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ndoscopic sinus surger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nsillectom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ioritizing nursing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intain airway, breathing, res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lth promo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requent hand was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arn of antibiotic misu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termine effect of URI on patient's lif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dentify risk factors for compl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termine whether problem will require medical treatment or self-care appropriat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dentifying potential compl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igh or continuing fev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ange in mental status, hear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effective breathing patter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respiratory rate and patter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uscultate lung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ce activiti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levate head of bed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effective airway clearan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effectiveness of cough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te whether cough is productive or nonproductive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uscultate lung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sturbed sleep patter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 sleep patter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lace in semi-Fowler's or Fowler's positio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vide antipyretics and analgesic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ugh suppressant at nigh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mpaired verbal communic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ncourage patient to rest voice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alternative method to communicate, such as a writing pad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fort measur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ozenges, gargle, or spray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ncourage patient to quit smoking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aging nursing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minding patient to cough, deep breathe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valua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ility to manage sympto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cu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ments, understanding of teac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inuity of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ncourage res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equate hydr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and washing after coug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 exposure to crow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 physical or psychologic str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vention for influenz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accine for high-risk group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inuity of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scuss OTC medications for relief of sympto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ist patient to identify possible allergens for allergic rhinit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ess importance of completing entire course if on antibioti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ach complications of influenza and UR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arning Outcom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lan and provide appropriate individualized nursing care for patients with upper respiratory disorders, showing consideration for expressed values, preferences, and need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technology to identify evidence-based guidelines and document care for patients with upper respiratory system disorder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rtussi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hooping cough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, highly contagiou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ection with </a:t>
            </a:r>
            <a:r>
              <a:rPr b="0" i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ordetella pertuss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ymptoms of URI 7–10 days after exposu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ollowed by disruptive cough that may end with audible whoop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ults may present with simple, prolonged cough or typical pattern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sopharyngeal secretions cultu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lood tests for antibod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ven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mmuniz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rythromyc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aditional antibiotic of cho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duc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piratory isolation measur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phylactic antibiotic therapy for all household contac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portable disea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5822"/>
                </a:solidFill>
                <a:latin typeface="Times New Roman"/>
                <a:ea typeface="Times New Roman"/>
              </a:rPr>
              <a:t>Upper Respiratory Trauma or Obstruction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pistaxi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seble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be caused by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aum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ying of membran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bstance abu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inety percent arise from vascular area in anterior nasal septu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sterior noseble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ertens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bet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inch toward septum for 5–10 minut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struct patient to spit out bloo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f pressure doesn't control bleeding, further interventions may be necessary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s and nasal pack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pical vasoconstricto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erior packing left in place 24–72 hou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s and nasal pack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sterior packing left in place up to 5 day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ncomfortable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pplemental oxygen given with posterior pack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rge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utery procedur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cab must be left undisturbed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ioritizing nursing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duce anxiety and maintain airw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lth promo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duce inciden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agement of simple noseblee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multaneous with implementing interven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arning Outcom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vide evidence-based teaching and instructions to ensure continuity of care for patients with upper respiratory system disorder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xiet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for aspir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valua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ditional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cu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ime, measures required to control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inuity of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 strenuous exercise for days or week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 not blow the nose forcefull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 heavy lif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neeze with mouth ope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ubricate nares with petroleum jelly or bacitracin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humidifi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sal Polyp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nign growths on mucous lining inside no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ually bilatera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be asymptomatic or resolve spontaneousl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ge polyps may cause obstruction, rhinorrhea, loss of smel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sal Polyp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eat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pical corticosteroid nasal spray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rger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lypectomy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stoperative care instruc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asures to reduce risk of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ce, cold compress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 blowing nose for 24–48 hours after removal of packing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 straining, coughing, strenuous exercise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ifestations and possible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sal Trauma or Deviated Septum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racture (broken nose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st commonly broken bone of the fa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ne or both sides of no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welling can obstruct airway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ft tissue damage nearly always accompanies nasal fracture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viated nasal septu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eptal cartilage bulges to one sid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intain patent airway and prevent deformity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f CSF leak suspected, CT scan perform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re complex fractures may need surgery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hinoplas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rgical reconstruction of the no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eptoplasty or submucosal resection (SMR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rrects devi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irway manage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rol of bleeding, pain and swell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lth promo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vide necessary teac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in, swelling, bleeding, difficulty breathing, deformities, ecchymosis and crepitu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pper Respiratory Infections and Inflamm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st self-limi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 long-term care facilities can spread rapidl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rol sprea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for serious problems in older adul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effective airway clearan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for inf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valua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sition of septum, appearance of no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cu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structions for follow-up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inuity of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ce packs for 20 minutes 4 times/d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levate head of b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 with CSF leak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t with head elevated and monitor for infectio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yngeal Obstruction or Traum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fe-threatening emergenc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rrowest part of upper airwa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rtial or full obstr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bstruction can be caused by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yngospasm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scles of the larynx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yngeal edem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pirated food or foreign objec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auma to larynx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ifest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ug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ok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agg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fficulty breat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of accessory musc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ido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ifest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welling impairs airw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bcutaneous emphysem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ange in vo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ysphag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ido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moptys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ug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X-rays, diagnostic tests, or ultrasound to locate obstr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sertion of endotracheal tub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or laryngeal edema due to anaphylaxis, epinephrine giv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losely monitor patients at risk for laryngeal obstruction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ction airway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 prepared for endotracheal intubation or tracheotomy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 prepared to initiate CPR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ach prevention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bstructive Sleep Apne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mporary absence of breathing during slee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fact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besit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ge neck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of alcohol or sedativ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pper airway obstructed as muscles relax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pse during inspir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all in oxygen satur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ads to fragmented sleep and disruption of normal sleep cycl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hin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lammation of nasal cavit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yp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 viral rhiniti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ergic rhiniti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ifest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oud snor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requent nighttime wak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aytime sleepin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dach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rritabilit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s in sleep laborato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ight loss prescrib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ict avoidance of alcohol, hypnotic medic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sitive pressure air compress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PAP therapy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iPAP therap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utoPAP therap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rge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vulopalatopharyngoplasty (UPPP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ocus on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of respiratory equip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ance or correction of risk facto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yngeal Canc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fact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longed use of tobacco and alcoho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or nutri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ccupational exposu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n affected nearly four times more than wom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nign tum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mon in patients who chronically shout, project, or vocalize in very high or low ton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oarseness, breathy vo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lignant tum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ukoplak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rythroplak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OX 22-7   </a:t>
            </a: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ifestations of Laryngeal Canc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602" name="Picture 2" descr="Box 22-7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lignant tum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sions of true vocal cords, glottis more comm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praglottic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ange in voice primary manifest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umor prevents complete closure of vocal cords during speech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bglottic tumors least comm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tic tes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yngoscop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T sca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RI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edle biops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rium swallow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adi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eatment of choice if localiz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emotherap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fore surgery or in combin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rge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ype determined by size, site, and invasiveness of tumo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rcinoma 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 situ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d vocal polyps treated with laser on outpatient bas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piratory syncytial viru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mon virus among infants and young childre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ually mild "cold" in adults, unless immunocompromis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lder adults may present with pneumonia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rge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acheostom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tal laryngectom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ntire larynx removed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rmal speech los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rmanent tracheostomy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dified or radical neck diss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f cervical lymph nodes contain cancer cell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ioritizing nursing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intain patent airw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lth promo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vent smok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arly warning signs of laryngeal canc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bjective data from patient vita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ymptoms not until advanced stag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for impaired airway clearan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for airway obstructio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d packs as ordered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for impaired airway clearan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ithhold food until gag reflex has returned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mpaired verbal communic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vide alternative ways to communicate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fer to speech therapis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mbalanced nutrition: less than body require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riev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aging nursing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mportance of responding promptly to patient's call, supporting head and neck, and reporting respiratory distress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valua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ffectiveness of interven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cu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te patient's, family's respons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inuity of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oice rest for benign tumo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acheostomy ca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ment for discharg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luenz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agious viral respiratory disea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de of transmiss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irborne drople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rect contac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ABLE 22-1   </a:t>
            </a: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ifestations and Course of Rhinitis and Influenza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89" name="Picture 2" descr="Table 22-1.jpg"/>
          <p:cNvPicPr/>
          <p:nvPr/>
        </p:nvPicPr>
        <p:blipFill>
          <a:blip r:embed="rId1"/>
          <a:stretch/>
        </p:blipFill>
        <p:spPr>
          <a:xfrm>
            <a:off x="457200" y="1409760"/>
            <a:ext cx="8229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0:36:43Z</dcterms:created>
  <dc:creator>Thomas Dunn</dc:creator>
  <dc:description/>
  <dc:language>en-US</dc:language>
  <cp:lastModifiedBy>Abdualrahman Alshehry</cp:lastModifiedBy>
  <dcterms:modified xsi:type="dcterms:W3CDTF">2016-02-10T04:13:14Z</dcterms:modified>
  <cp:revision>12</cp:revision>
  <dc:subject/>
  <dc:title>Slide 1</dc:title>
</cp:coreProperties>
</file>