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556-309C-4D1D-98FF-7D097EE7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A23-DD96-4395-B81B-34D5D32B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A9F-FE8A-4912-8FDC-DB19D341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D34-4131-4343-99B8-0744A1D2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75C3-8929-4BE7-9EB1-7DC733BC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A49E-6D17-4BD7-AC78-7862AB3E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1EE6-8E43-4506-9C6A-F0E64167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6517-176E-4145-88F7-4F8699B2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751B-F36E-462E-ACCC-33185E3C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7E4C-1556-46E7-B30E-323BCD09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C641-38F6-4B5C-AF9B-DC176589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9FD-6A5F-4BE0-B03A-5DBB8A28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DABA-7A45-4F26-91E9-A89E824E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80DE-B8F1-4C04-A784-783C3A6E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7538-E199-4FD2-BD30-C5DDA6C6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45F9-9F13-44FE-AADE-70A5408F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FFBA-28B9-43ED-A9F9-35BAC96A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450A-BF3B-473F-A50C-25E13EBB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5411-4EFA-473B-9813-CD947CC6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1B48-E6E3-4FD5-977D-2B8CCCD1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72C17-DB21-409E-A514-D0A17779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54E0D-718B-4659-ACDE-0C1EC31D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BD4-BF47-4048-99E7-82F891F6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94EF4-4715-458B-9D8E-BB4C2BE8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534AC-97B3-4F18-AD97-293A5749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74A12-9EF5-4438-AEE2-C061242B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A6F1-5748-46DC-929E-89ED0476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ADEB9-F8D1-45DD-B04A-633EF68D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4B807-97B9-41A3-81C1-43B26593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3FB39-E478-4B34-A09B-2E48AAF7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5B8D-CC30-4DE2-BBAD-0E19E76E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14909-0E7B-4382-89D5-EA36A7AE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6282D-E9CA-4156-8238-0435FA1B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4A1-E1E1-4B35-8286-D1976095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4A8B1-D570-4737-96A6-1B59DD41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D8907-9873-4941-A466-7A441F28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231A8-470E-47C3-9319-0FBB6ED4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2EA1B-3675-4CF1-A3A2-2304C33A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9F90B-BF52-4E3B-9040-0CCF224E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7C139-C071-4C66-BF10-3FE012C5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C5E60-53C7-4184-8FD5-F4C2AB56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2F680-1132-4718-BC51-749812E0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B96C1-71B7-4A03-97C4-C56CAE11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B3B16-AADF-45EF-9F5E-9EE346B9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E50-AEC6-4E65-9DF8-F51435FB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6F173-E5D3-4888-B544-0C1077F4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71DD1-F32B-4BF8-B998-1E747088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81F47-7ECE-45E8-B4F4-CCEB6DD4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A17C1-E067-47DC-9582-FD1C2D89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8705C-A8F0-4AB6-9095-0343B478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DEB0A-A2BE-46EC-B046-6DBD65EE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38547-4C6E-43D5-9A1C-E529D90B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D2C7C-61D4-4EAC-807F-F71312BA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7B412-BEB3-4AB3-9206-45DC62C0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087F5-EA2E-458E-BAF0-D9BC092D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DC9-E36C-406A-8F97-680E7928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565CC-0D5B-4D11-B07D-FC3442F3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F4708-CF55-44AB-8EDE-2CFEE771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36E98-3885-426D-977D-878544E8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8C89A-1A73-4B29-8654-7C078481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6D5B5-A337-4101-9E46-5D1D3B3A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93678-8766-411A-9DD1-57FBAC5C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C8FF9-6E26-4A6C-888F-6A3C67AB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010E2-60FF-4201-BDBB-6F8E974A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B95F0-8224-4148-AFCE-04A56949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2E7E1-E767-48E9-A4DC-A71AECAB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093-AFB2-4B4E-ADEB-ECBE3E6F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787E9-0300-441C-9741-05955EE8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0174A-E8C8-4D89-AFD9-F1EEB3F4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45793-EC7F-4F04-98B6-5BE2AAF8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91AEB-A325-42A8-9B4C-9AF32EE1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029FE-D0CD-4FCF-90B2-C3268AFE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7A52D-9F29-494B-9BA1-22D2691C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E4DC9-3753-4144-953E-7181D17F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182C0-1233-4CB6-9D97-4962AA16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73B85-5EC5-419D-86BF-C8828A10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5A474-DE76-49FF-B579-B894ED41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6B3-69B3-44A1-9923-2F02095D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31664-3D34-444F-890D-4EE5F0DF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ED999-3C23-4458-B737-81598AFC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5ABA2-3445-4931-86E4-5632506C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DD76B-09D8-41F0-9AA7-460AEE8A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A4F2A-3ABB-43E1-BFD3-CD32DC92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DC0F2-0585-4E1C-BBDD-14F4FC73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4BCF7-C865-413C-A6FE-44537356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97584-4FB1-4FF5-9DD2-49E0B3AB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9C333-092E-42FB-92FC-8165EA4C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70507-8713-40D4-BDFF-AB38515D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989-ABA1-4185-A3D4-7E82571B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71E10-B8E5-4FBC-A6DC-067B7188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68965-72E5-403A-B253-B5285FFD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3D594-E81C-4E9B-ADB6-011F18E7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AAE7B-7A29-4693-85FF-7E103745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0EB18-FB5C-41A5-97B2-ED02998F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903F2-1F6C-4E7F-9B22-B447B509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53A89-21AE-495B-BB66-33457693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DFFD-E5B0-492E-A276-88BC341787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0" y="6404040"/>
            <a:ext cx="9153360" cy="457200"/>
          </a:xfrm>
          <a:prstGeom prst="rect">
            <a:avLst/>
          </a:prstGeom>
          <a:solidFill>
            <a:srgbClr val="f25822"/>
          </a:solidFill>
          <a:ln w="9360">
            <a:solidFill>
              <a:srgbClr val="f25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404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404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Medical-Surgical Nursing Car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Fourth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Karen M. Burke | Elaine L. Mohn-Brown | Linda E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4D8B-914E-488C-8672-D5C7A58DBF8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7"/>
          <p:cNvSpPr/>
          <p:nvPr/>
        </p:nvSpPr>
        <p:spPr>
          <a:xfrm>
            <a:off x="-19080" y="1371600"/>
            <a:ext cx="9163080" cy="1440"/>
          </a:xfrm>
          <a:prstGeom prst="line">
            <a:avLst/>
          </a:prstGeom>
          <a:ln w="9360">
            <a:solidFill>
              <a:srgbClr val="f25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C133-8600-4BD2-B7C6-25A81FA2D81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964D-C8E2-4394-A676-8498DEFAD9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A668-8223-4D8A-B3A9-541DBEA99C4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ED80-4710-4F2C-947C-B3019E66832F}" type="slidenum">
              <a:rPr b="0" lang="en-US" sz="1000" spc="-1" strike="noStrike">
                <a:solidFill>
                  <a:srgbClr val="63705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C114-CDE0-470B-B181-A0F916B51AD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24E6-3ACD-42B5-A85E-AEE7EFB601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ring for Patients With Upper Respiratory Disorders</a:t>
            </a: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nus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lammation of mucous membranes of sinus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ually caused by bacterial inf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ually follows URI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aryngitis and tonsil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cute inflammation of the throat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ually viral but may be bacteria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roup A beta-hemolytic Streptococcus (strep throat) most common cause of bacterial form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aryngitis and tonsil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nsillit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cute inflammation of the tonsil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be caused by streptococcal infection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ectious, may be spread by droplet nuclei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ysphag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fficulty swallowing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piglott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l emergenc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 for signs of respiratory distr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sal flaring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tlessnes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ridor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of accessory muscl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xygen saturation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piglott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n't insert nasal or oral airwa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cause spasm and airway obstruction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sotracheal intubation may be necessary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ryng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lammation of larynx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ange in vo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re, scratchy thro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y, harsh coug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tic tes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roat swab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BC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est x-ra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sal swab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T sca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luenz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Yearly immunization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al infec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biotic treatment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for up to 10 day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 no longer contagious after 24 hours of antibiotic therapy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d up to 2 weeks for sinusiti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hinit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ongestants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histamin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pical nasal steroid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haled steroid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re thro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arm saltwater gargl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roat lozeng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ild analgesic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ug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tussiv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ystemic mucolytic agents (guaifenesin)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earning Outcom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scribe common disorders affecting the upper respiratory tract, their manifestations, and potential impact on the patient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afely administer medications and treatments ordered for patients with upper respiratory disorder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plementary therap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rbal remedi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romatherap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rgical interven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rrig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ndoscopic sinus surger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nsillectom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ioritizing nursing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intain airway, breathing, res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alth promo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requent hand was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arn of antibiotic misu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termine effect of URI on patient's lif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dentify risk factors for complic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termine whether problem will require medical treatment or self-care appropriat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dentifying potential compl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igh or continuing feve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ange in mental status, hear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effective breathing patter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 respiratory rate and pattern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uscultate lung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ce activiti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levate head of bed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effective airway clearan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 effectiveness of cough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te whether cough is productive or nonproductive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uscultate lung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sturbed sleep patter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 sleep pattern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lace in semi-Fowler's or Fowler's position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vide antipyretics and analgesic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ugh suppressant at night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mpaired verbal communic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ncourage patient to rest voice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alternative method to communicate, such as a writing pad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fort measur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ozenges, gargle, or spray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ncourage patient to quit smoking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aging nursing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minding patient to cough, deep breathe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valua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bility to manage sympto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cu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ments, understanding of teac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inuity of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ncourage res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equate hydr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and washing after coug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void exposure to crow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void physical or psychologic str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vention for influenz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Vaccine for high-risk group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inuity of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scuss OTC medications for relief of sympto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ist patient to identify possible allergens for allergic rhinit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ress importance of completing entire course if on antibiotic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ach complications of influenza and UR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earning Outcom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lan and provide appropriate individualized nursing care for patients with upper respiratory disorders, showing consideration for expressed values, preferences, and need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technology to identify evidence-based guidelines and document care for patients with upper respiratory system disorder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ertussi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hooping cough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cute, highly contagiou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ection with </a:t>
            </a:r>
            <a:r>
              <a:rPr b="0" i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ordetella pertuss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ymptoms of URI 7–10 days after exposu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ollowed by disruptive cough that may end with audible whoop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ults may present with simple, prolonged cough or typical pattern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sopharyngeal secretions cultu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lood tests for antibod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ven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mmuniz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rythromyci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raditional antibiotic of cho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duc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piratory isolation measur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phylactic antibiotic therapy for all household contac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portable disea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5822"/>
                </a:solidFill>
                <a:latin typeface="Times New Roman"/>
                <a:ea typeface="Times New Roman"/>
              </a:rPr>
              <a:t>Upper Respiratory Trauma or Obstruction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pistaxi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seble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be caused by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raum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ying of membran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bstance abu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inety percent arise from vascular area in anterior nasal septu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sterior noseble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pertens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bet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inch toward septum for 5–10 minut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struct patient to spit out bloo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f pressure doesn't control bleeding, further interventions may be necessary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tions and nasal pack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pical vasoconstricto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erior packing left in place 24–72 hou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tions and nasal pack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sterior packing left in place up to 5 day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ncomfortable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pplemental oxygen given with posterior pack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rge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utery procedur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cab must be left undisturbed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ioritizing nursing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duce anxiety and maintain airwa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alth promo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duce inciden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agement of simple noseblee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multaneous with implementing interven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earning Outcom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vide evidence-based teaching and instructions to ensure continuity of care for patients with upper respiratory system disorder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xiet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for aspir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valua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ditional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cu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ime, measures required to control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inuity of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void strenuous exercise for days or week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 not blow the nose forcefull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 heavy lif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neeze with mouth ope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ubricate nares with petroleum jelly or bacitracin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humidifie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sal Polyp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nign growths on mucous lining inside no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ually bilatera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be asymptomatic or resolve spontaneousl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rge polyps may cause obstruction, rhinorrhea, loss of smel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sal Polyp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reat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pical corticosteroid nasal spray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rger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lypectomy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stoperative care instruc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asures to reduce risk of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ce, cold compresse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void blowing nose for 24–48 hours after removal of packing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void straining, coughing, strenuous exercise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ifestations and possible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sal Trauma or Deviated Septum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racture (broken nose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st commonly broken bone of the fa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ne or both sides of no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welling can obstruct airway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ft tissue damage nearly always accompanies nasal fracture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viated nasal septu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eptal cartilage bulges to one sid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intain patent airway and prevent deformity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f CSF leak suspected, CT scan perform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re complex fractures may need surgery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hinoplas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rgical reconstruction of the no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eptoplasty or submucosal resection (SMR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rrects devi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irway manage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rol of bleeding, pain and swell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alth promo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vide necessary teac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in, swelling, bleeding, difficulty breathing, deformities, ecchymosis and crepitu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pper Respiratory Infections and Inflamm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st self-limi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 long-term care facilities can spread rapidl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rol sprea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for serious problems in older adul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effective airway clearan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for inf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valua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sition of septum, appearance of no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cu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structions for follow-up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inuity of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ce packs for 20 minutes 4 times/da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levate head of b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 with CSF leak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t with head elevated and monitor for infection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ryngeal Obstruction or Traum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fe-threatening emergenc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rrowest part of upper airwa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rtial or full obstr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bstruction can be caused by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ryngospasm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scles of the larynx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ryngeal edem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pirated food or foreign objec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rauma to larynx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ifest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ug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ok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agg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fficulty breat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of accessory musc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rido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ifest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welling impairs airwa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bcutaneous emphysem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ange in vo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ysphag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rido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moptys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ug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X-rays, diagnostic tests, or ultrasound to locate obstr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sertion of endotracheal tub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or laryngeal edema due to anaphylaxis, epinephrine giv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losely monitor patients at risk for laryngeal obstruction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ction airway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 prepared for endotracheal intubation or tracheotomy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 prepared to initiate CPR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ach prevention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bstructive Sleep Apne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mporary absence of breathing during slee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fact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besit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rge neck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of alcohol or sedativ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pper airway obstructed as muscles relax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pse during inspir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all in oxygen satur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eads to fragmented sleep and disruption of normal sleep cycl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hin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lammation of nasal caviti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yp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cute viral rhiniti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ergic rhiniti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ifest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oud snor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requent nighttime wak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aytime sleepin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adach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rritabilit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s in sleep laborato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eight loss prescrib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rict avoidance of alcohol, hypnotic medic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sitive pressure air compress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PAP therapy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iPAP therap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utoPAP therap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rge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vulopalatopharyngoplasty (UPPP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ocus on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of respiratory equip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voidance or correction of risk facto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ryngeal Canc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fact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longed use of tobacco and alcoho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or nutri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ccupational exposur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n affected nearly four times more than wom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nign tum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mon in patients who chronically shout, project, or vocalize in very high or low ton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oarseness, breathy vo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lignant tum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eukoplak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rythroplak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OX 22-7   </a:t>
            </a: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ifestations of Laryngeal Canc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602" name="Picture 2" descr="Box 22-7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lignant tum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esions of true vocal cords, glottis more comm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praglottic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ange in voice primary manifest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umor prevents complete closure of vocal cords during speech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bglottic tumors least comm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tic tes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ryngoscop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T sca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RI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edle biops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rium swallow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adi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reatment of choice if localiz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emotherap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fore surgery or in combin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rge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ype determined by size, site, and invasiveness of tumo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rcinoma 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 situ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d vocal polyps treated with laser on outpatient bas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piratory syncytial viru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mon virus among infants and young childre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ually mild "cold" in adults, unless immunocompromis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lder adults may present with pneumonia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laborative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rge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racheostom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tal laryngectom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ntire larynx removed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rmal speech lost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ermanent tracheostomy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dified or radical neck diss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f cervical lymph nodes contain cancer cell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ioritizing nursing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intain patent airwa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alth promo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vent smok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arly warning signs of laryngeal cance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bjective data from patient vita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ymptoms not until advanced stag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for impaired airway clearan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 for airway obstruction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ld packs as ordered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for impaired airway clearan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ithhold food until gag reflex has returned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mpaired verbal communic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vide alternative ways to communicate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fer to speech therapist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ing, planning, and imple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mbalanced nutrition: less than body require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riev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aging nursing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mportance of responding promptly to patient's call, supporting head and neck, and reporting respiratory distress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valua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ffectiveness of interven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cume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te patient's, family's respons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inuity of c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Voice rest for benign tumo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racheostomy car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ment for discharg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hophysiology and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luenz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agious viral respiratory disea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de of transmiss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irborne droplet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rect contact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ABLE 22-1   </a:t>
            </a: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nifestations and Course of Rhinitis and Influenza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89" name="Picture 2" descr="Table 22-1.jpg"/>
          <p:cNvPicPr/>
          <p:nvPr/>
        </p:nvPicPr>
        <p:blipFill>
          <a:blip r:embed="rId1"/>
          <a:stretch/>
        </p:blipFill>
        <p:spPr>
          <a:xfrm>
            <a:off x="457200" y="1409760"/>
            <a:ext cx="8229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0:36:43Z</dcterms:created>
  <dc:creator>Thomas Dunn</dc:creator>
  <dc:description/>
  <dc:language>en-US</dc:language>
  <cp:lastModifiedBy>Abdualrahman Alshehry</cp:lastModifiedBy>
  <dcterms:modified xsi:type="dcterms:W3CDTF">2016-02-10T04:13:14Z</dcterms:modified>
  <cp:revision>12</cp:revision>
  <dc:subject/>
  <dc:title>Slide 1</dc:title>
</cp:coreProperties>
</file>