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5A8-15EC-4565-8B8B-F18C7C4C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781-56D6-4A56-8D43-165A1754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FF645-314D-4499-AD5B-06EC9C85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0B543-C78A-4ACE-97CD-D52D803F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44BE3-5B8C-4751-80C6-15D43837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0C105-670C-495C-B114-BCF1F7A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E2A88-4B51-41DF-9945-8823B4EE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F3712-DC8C-486B-B5FD-A0732CD0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FB500-5591-4C06-B4AF-3C10CEDB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9EDFC-BFCF-40DE-9E17-676B6C2B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0354E-6867-47DD-84DD-45909EC1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C10-B29C-495D-9769-CE17F9CF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F08-12F2-4B44-9194-EC5D3974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74E8-CC15-483C-9A54-1DD06846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9B98-B611-43A2-9938-C1801647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F813-5853-4AAE-857E-04C27A2A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68E4-AA0E-4C3C-BB74-D573BDBB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0642-34B8-4CEA-BDA6-ADB02DCB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E1FE-B60C-4DA8-9CD9-5B837D7C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13AA-9E57-4775-8740-8339481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BA6-14E4-4D07-BCF9-8D50DC0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4D51-0694-4F2A-BD78-8FF767E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AF2D-6570-4562-9230-4EA8A66D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ED49-B391-45D7-A357-799A3B83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0793-A5A1-4B41-B05B-46AC2D30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3BC7-0352-4326-93B2-0029282B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82043-7697-42DE-BF92-33CD4373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C44B6-1884-4FEB-92E3-E5C57C00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98DDF-E265-47FB-9BB6-5C702C36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BE4E-68F0-4730-974D-0D655CE1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4496-5353-43CB-8BD0-8CDD1BB8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7EC-391F-418C-97E3-31804E2E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2B6B-8327-4EA4-A604-BC8604CC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3935-1CE6-48CC-AD00-6B50BF63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A0C7-583D-429A-BA2D-10205FBE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E97A-B10D-4BFE-B898-07B42631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7528-094C-452A-8D4E-7BF052C4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4AC5-9E03-41E4-81F0-0C291276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DA5B-8818-413F-A7DB-3738CF27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20323-CD2B-4A07-93F5-ACD038D8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98DA-0C42-40F8-AC18-BA8F4B7D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57DB-F727-476D-AFAE-B231E0C5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7D3-EC09-41A5-BBA4-317023C4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00E13-B66A-48D5-84A6-14E09B1B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0539-38CF-4637-B47A-22A8D670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7F6B5-FA18-48E6-96C8-EAD24BD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4EBA8-DCCF-46B3-AA85-09E44C0C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E4084-BF4F-4FF9-A3E8-92CB8291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ECE94-FC10-4490-9BB8-88CCA706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97766-876D-4B31-9532-361ECFBB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025B-71A7-442D-8247-9130B4AF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0209A-7564-463C-AC86-3BA241C5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7551B-EA48-4837-ACAD-2C42049B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A4C7-8312-46AE-A86F-4A418EE9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BB6EE-722F-4878-BBFA-64A45C46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ED4C2-D047-458F-B2C4-4CEF444F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0269D-7F99-414E-9202-1D255A8D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5CE62-BDDD-445F-A219-BA58D40A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EDA5C-7220-4941-A5A0-A72F5762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540A5-0DAD-4891-855E-82BC8F5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BF05-1E85-4521-9857-E7049EE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D9FA9-AEBA-4A78-B963-91A092B8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56D33-E35C-4A8D-A99F-67755496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941EA-93E9-4808-9EA5-03B09C5DB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6F2-75CA-4D6A-BA05-EC533BA6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3233-0467-4D3A-9BAE-4AC92A53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9E773-80FE-465C-9273-69B50605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0ED2-C68F-40E9-9D87-B1ACFA3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FF8AB-ED05-44DC-8B6B-47D7FE4D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A9773-D52E-4075-8A1C-FCB6400F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1935-D5D3-44C9-BC77-99DC7256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BE4B8-741E-44F6-AAF8-E6ED1DA3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62428-E6A6-493D-926A-6968561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F24F1-C54F-475F-A717-3ED915D6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B33F-D552-4A89-9752-FCE73DB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A50-FCB4-42FA-BA05-F2F6A997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065EC-6423-4288-924D-9A6E4DD2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1F4A1-4B07-4F62-83DD-F42B89DA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6EE5C-5FF1-497B-B181-D9F60D2D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6AA31-F077-4339-AFFF-DA655E9D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0BD03-0411-42A2-92A5-9F360433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19F98-C23F-484B-B777-3314DF47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98773-407D-4910-98E8-FD4336FA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7E39-DAAE-4C02-8D52-0D97CFE0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C79AB-8D04-4291-86F5-EAFCF377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1C0B3-57BF-470B-B166-C7AFF60A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81C-31EB-4F7B-8CD7-866A9E46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A38AE-EC7D-4DC5-89A2-72FA40F6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45EF6-EF3E-4934-9941-417D65F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2DD54-FB19-49BA-ADA7-E844BE91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21161-D17F-4AE4-913E-B675A5A2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7CDFB-49F9-447D-816E-2537EBD2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999A2-74CC-4EB4-AD25-A6E99EA0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56B04-598D-401B-8D48-35E1CF18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650C9-2E09-4846-BF39-0374232B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C36E0-5465-462C-82BD-E154CF22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8948B-6639-4E7B-BDED-23A12CC2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669F-404B-4D35-B8D6-65D194D6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09480" y="152280"/>
            <a:ext cx="109728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D3B35-DD9B-44A5-AF5D-99C4D0FA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5A58B-2BD3-4209-8715-6DF74617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03FB63-4A6D-42FB-8FA1-41BD0453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A5A06-DC18-45FD-8E37-DF3D7CC4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09480" y="3783600"/>
            <a:ext cx="10972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905D8-6260-4740-84A8-88515698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32320" y="121896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948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32320" y="3783600"/>
            <a:ext cx="5354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1E1EA-6456-45DD-8831-612C0290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1964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029800" y="121896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0948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431964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8029800" y="3783600"/>
            <a:ext cx="35330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59F07-F14D-4D2A-A951-8DA20EFF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A2DFE-4161-486F-86D6-8605F500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75965-F409-42EE-952B-70AC7EEA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21CC2-F31A-4208-BD69-DB491896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B375-C557-49E6-99CC-8A858280341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1206360" y="3648240"/>
            <a:ext cx="975384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1219320" y="5048280"/>
            <a:ext cx="975348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206360" y="3648240"/>
            <a:ext cx="30492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1219320" y="5048280"/>
            <a:ext cx="30456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620720" y="6354360"/>
            <a:ext cx="1625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FAAA-5DDD-4D70-A58B-F4AEF24E8E3E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1219320" y="2819520"/>
            <a:ext cx="97534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219320" y="2819520"/>
            <a:ext cx="30456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8534520" y="6354360"/>
            <a:ext cx="3047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865320" y="6354360"/>
            <a:ext cx="4632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427040" y="6354360"/>
            <a:ext cx="2027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02BB-21AF-4C61-A6EB-BE6A4DA59D1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10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9393-E6F7-4C62-B435-33EDD399A35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12401640" y="11160"/>
            <a:ext cx="1854000" cy="6846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 Light"/>
                <a:ea typeface="Calibri"/>
              </a:rPr>
              <a:t>Edit the text with your own short phrases</a:t>
            </a:r>
            <a:r>
              <a:rPr b="0" lang="en-US" sz="1600" spc="-1" strike="noStrike">
                <a:solidFill>
                  <a:srgbClr val="7f7f7f"/>
                </a:solidFill>
                <a:latin typeface="Calibri Light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 Light"/>
                <a:ea typeface="Calibri"/>
              </a:rPr>
              <a:t>The animation is already done for you; just copy and paste the slide into your existing presentation</a:t>
            </a:r>
            <a:r>
              <a:rPr b="0" lang="en-US" sz="1600" spc="-1" strike="noStrike">
                <a:solidFill>
                  <a:srgbClr val="7f7f7f"/>
                </a:solidFill>
                <a:latin typeface="Calibri Light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A4A5-F716-44B0-8472-3C5FF638A1D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1"/>
          <p:cNvSpPr/>
          <p:nvPr/>
        </p:nvSpPr>
        <p:spPr>
          <a:xfrm>
            <a:off x="823752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12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0DB4-A228-49DF-8C49-E3E42FE3D4F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609480" y="500040"/>
            <a:ext cx="24300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C2EF-44FA-4D20-A24E-8DD86F61F8D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0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Isosceles Triangle 11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2"/>
          <p:cNvSpPr/>
          <p:nvPr/>
        </p:nvSpPr>
        <p:spPr>
          <a:xfrm>
            <a:off x="874224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7203-5B74-46F0-AA8A-9E30A43C9E3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traight Connector 27"/>
          <p:cNvSpPr/>
          <p:nvPr/>
        </p:nvSpPr>
        <p:spPr>
          <a:xfrm>
            <a:off x="609480" y="635328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8"/>
          <p:cNvSpPr/>
          <p:nvPr/>
        </p:nvSpPr>
        <p:spPr>
          <a:xfrm>
            <a:off x="609480" y="1143000"/>
            <a:ext cx="109728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Isosceles Triangle 9"/>
          <p:cNvSpPr/>
          <p:nvPr/>
        </p:nvSpPr>
        <p:spPr>
          <a:xfrm rot="5400000">
            <a:off x="590400" y="6446520"/>
            <a:ext cx="190440" cy="1620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09480" y="1218960"/>
            <a:ext cx="10972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8534520" y="6356520"/>
            <a:ext cx="3052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3865680" y="6356520"/>
            <a:ext cx="467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17560" y="6356520"/>
            <a:ext cx="264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195B-EEB7-4FD7-A651-DE670302D8A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60020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DIGESTION OF DNA WITH RESTRICTION ENZYM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estriction Fragment Length Polymorphism (RFLP)-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609480" y="1828800"/>
            <a:ext cx="883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2e2e"/>
                </a:solidFill>
                <a:latin typeface="NexusSans"/>
              </a:rPr>
              <a:t>technique in </a:t>
            </a:r>
            <a:r>
              <a:rPr b="0" lang="en-US" sz="1800" spc="-1" strike="noStrike">
                <a:solidFill>
                  <a:srgbClr val="0c7dbb"/>
                </a:solidFill>
                <a:latin typeface="NexusSans"/>
              </a:rPr>
              <a:t>molecular biology</a:t>
            </a:r>
            <a:r>
              <a:rPr b="0" lang="en-US" sz="1800" spc="-1" strike="noStrike">
                <a:solidFill>
                  <a:srgbClr val="2e2e2e"/>
                </a:solidFill>
                <a:latin typeface="NexusSans"/>
              </a:rPr>
              <a:t> to differentiate minor </a:t>
            </a:r>
            <a:r>
              <a:rPr b="0" lang="en-US" sz="1800" spc="-1" strike="noStrike">
                <a:solidFill>
                  <a:srgbClr val="0c7dbb"/>
                </a:solidFill>
                <a:latin typeface="NexusSans"/>
              </a:rPr>
              <a:t>nucleotide</a:t>
            </a:r>
            <a:r>
              <a:rPr b="0" lang="en-US" sz="1800" spc="-1" strike="noStrike">
                <a:solidFill>
                  <a:srgbClr val="2e2e2e"/>
                </a:solidFill>
                <a:latin typeface="NexusSans"/>
              </a:rPr>
              <a:t> sequence variations in homologous fragments of </a:t>
            </a:r>
            <a:r>
              <a:rPr b="0" lang="en-US" sz="1800" spc="-1" strike="noStrike">
                <a:solidFill>
                  <a:srgbClr val="0c7dbb"/>
                </a:solidFill>
                <a:latin typeface="NexusSans"/>
              </a:rPr>
              <a:t>DNA</a:t>
            </a:r>
            <a:r>
              <a:rPr b="0" lang="en-US" sz="1800" spc="-1" strike="noStrike">
                <a:solidFill>
                  <a:srgbClr val="2e2e2e"/>
                </a:solidFill>
                <a:latin typeface="NexusSans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chnique relies on the specificity of restriction endonucleases, which are highly sequence-specific and cut the double-stranded DNA only at their recognition s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https://www.thermofisher.com/content/dam/LifeTech/migration/images/sequencing/capillary-electrophoresis-sequencing-fragment-analysis/data.par.45593.image.rflp.gif"/>
          <p:cNvPicPr/>
          <p:nvPr/>
        </p:nvPicPr>
        <p:blipFill>
          <a:blip r:embed="rId1"/>
          <a:stretch/>
        </p:blipFill>
        <p:spPr>
          <a:xfrm>
            <a:off x="658800" y="4127400"/>
            <a:ext cx="944640" cy="99396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10"/>
          <p:cNvSpPr/>
          <p:nvPr/>
        </p:nvSpPr>
        <p:spPr>
          <a:xfrm>
            <a:off x="1584360" y="4275000"/>
            <a:ext cx="1046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DNA Extra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7" descr="https://www.thermofisher.com/content/dam/LifeTech/migration/images/sequencing/capillary-electrophoresis-sequencing-fragment-analysis/data.par.45593.image.rflp.gif"/>
          <p:cNvPicPr/>
          <p:nvPr/>
        </p:nvPicPr>
        <p:blipFill>
          <a:blip r:embed="rId2"/>
          <a:stretch/>
        </p:blipFill>
        <p:spPr>
          <a:xfrm>
            <a:off x="2639880" y="4065480"/>
            <a:ext cx="1047960" cy="1103400"/>
          </a:xfrm>
          <a:prstGeom prst="rect">
            <a:avLst/>
          </a:prstGeom>
          <a:ln w="0">
            <a:noFill/>
          </a:ln>
        </p:spPr>
      </p:pic>
      <p:cxnSp>
        <p:nvCxnSpPr>
          <p:cNvPr id="449" name="Straight Arrow Connector 8"/>
          <p:cNvCxnSpPr/>
          <p:nvPr/>
        </p:nvCxnSpPr>
        <p:spPr>
          <a:xfrm>
            <a:off x="1584000" y="4617720"/>
            <a:ext cx="819720" cy="10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450" name="Text Box 15"/>
          <p:cNvSpPr/>
          <p:nvPr/>
        </p:nvSpPr>
        <p:spPr>
          <a:xfrm>
            <a:off x="4629240" y="4214880"/>
            <a:ext cx="104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PCR  for the region that you want to do the study 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0" descr="https://www.thermofisher.com/content/dam/LifeTech/migration/images/sequencing/capillary-electrophoresis-sequencing-fragment-analysis/data.par.45593.image.rflp.gif"/>
          <p:cNvPicPr/>
          <p:nvPr/>
        </p:nvPicPr>
        <p:blipFill>
          <a:blip r:embed="rId3"/>
          <a:stretch/>
        </p:blipFill>
        <p:spPr>
          <a:xfrm>
            <a:off x="5675400" y="4084560"/>
            <a:ext cx="1384200" cy="1127160"/>
          </a:xfrm>
          <a:prstGeom prst="rect">
            <a:avLst/>
          </a:prstGeom>
          <a:ln w="0">
            <a:noFill/>
          </a:ln>
        </p:spPr>
      </p:pic>
      <p:cxnSp>
        <p:nvCxnSpPr>
          <p:cNvPr id="452" name="Straight Arrow Connector 11"/>
          <p:cNvCxnSpPr/>
          <p:nvPr/>
        </p:nvCxnSpPr>
        <p:spPr>
          <a:xfrm>
            <a:off x="3809880" y="4601880"/>
            <a:ext cx="820080" cy="10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453" name="Straight Arrow Connector 12"/>
          <p:cNvCxnSpPr/>
          <p:nvPr/>
        </p:nvCxnSpPr>
        <p:spPr>
          <a:xfrm>
            <a:off x="7238880" y="4647960"/>
            <a:ext cx="820080" cy="10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454" name="Text Box 15"/>
          <p:cNvSpPr/>
          <p:nvPr/>
        </p:nvSpPr>
        <p:spPr>
          <a:xfrm>
            <a:off x="8013600" y="4341960"/>
            <a:ext cx="10479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Incubation of the DNA with 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Straight Arrow Connector 14"/>
          <p:cNvCxnSpPr/>
          <p:nvPr/>
        </p:nvCxnSpPr>
        <p:spPr>
          <a:xfrm>
            <a:off x="9115200" y="4638240"/>
            <a:ext cx="819720" cy="10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456" name="Text Box 15"/>
          <p:cNvSpPr/>
          <p:nvPr/>
        </p:nvSpPr>
        <p:spPr>
          <a:xfrm>
            <a:off x="10017000" y="4329000"/>
            <a:ext cx="1047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garose gel to visualized your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estriction Fragment Length Polymorphism (RFLP)-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58" name="Picture 2" descr="Image result for rflp"/>
          <p:cNvPicPr/>
          <p:nvPr/>
        </p:nvPicPr>
        <p:blipFill>
          <a:blip r:embed="rId1"/>
          <a:stretch/>
        </p:blipFill>
        <p:spPr>
          <a:xfrm>
            <a:off x="1866960" y="1523880"/>
            <a:ext cx="84582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ookman Old Style"/>
              </a:rPr>
              <a:t>Restriction Fragment Length Polymorphism (RFLP)-Examp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09480" y="1219320"/>
            <a:ext cx="10972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garose gel electrophores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do you think these samples (normal or abnormal)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Arrow: Right 3"/>
          <p:cNvSpPr/>
          <p:nvPr/>
        </p:nvSpPr>
        <p:spPr>
          <a:xfrm>
            <a:off x="31680" y="3078000"/>
            <a:ext cx="1949400" cy="12193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9fb8cd"/>
          </a:solidFill>
          <a:ln w="19080">
            <a:solidFill>
              <a:srgbClr val="748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Image result for rflp"/>
          <p:cNvPicPr/>
          <p:nvPr/>
        </p:nvPicPr>
        <p:blipFill>
          <a:blip r:embed="rId1"/>
          <a:srcRect l="6835" t="47729" r="63534" b="1999"/>
          <a:stretch/>
        </p:blipFill>
        <p:spPr>
          <a:xfrm>
            <a:off x="4648320" y="2125800"/>
            <a:ext cx="3644640" cy="4344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Image result for rflp"/>
          <p:cNvPicPr/>
          <p:nvPr/>
        </p:nvPicPr>
        <p:blipFill>
          <a:blip r:embed="rId2"/>
          <a:srcRect l="20078" t="11136" r="67236" b="67810"/>
          <a:stretch/>
        </p:blipFill>
        <p:spPr>
          <a:xfrm>
            <a:off x="5921280" y="2895480"/>
            <a:ext cx="1096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are restriction enzymes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22440" y="19810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e enzymes that have the ability to cleave the sugar phosphate backbones in double stranded DNA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at specific restriction sit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nd naturally in a wide variety of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prokaryo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Rectangle 1"/>
          <p:cNvSpPr/>
          <p:nvPr/>
        </p:nvSpPr>
        <p:spPr>
          <a:xfrm>
            <a:off x="4284360" y="122868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sciss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5" descr="Image result for restriction enzymes"/>
          <p:cNvPicPr/>
          <p:nvPr/>
        </p:nvPicPr>
        <p:blipFill>
          <a:blip r:embed="rId1"/>
          <a:stretch/>
        </p:blipFill>
        <p:spPr>
          <a:xfrm>
            <a:off x="2590920" y="5029200"/>
            <a:ext cx="758196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iological Role In bacteri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62120" y="1600200"/>
            <a:ext cx="94485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st bacteria use Restriction Enzymes as a defense against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Gill Sans MT"/>
              </a:rPr>
              <a:t>bacteriophag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riction enzymes prevent the replication of the phage by cleaving its DNA at specific sit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y do not cleave the host DNA as the restriction sites are methyla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1199880"/>
            <a:ext cx="10972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Bookman Old Style"/>
              </a:rPr>
              <a:t>How Restriction Enzyme cut the DNA?</a:t>
            </a: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striction fragments can be blunt ended or sticky end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743200" y="198072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’ G A A T T C 3’        5’ G A T A T C 3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’ C T T A A G 5’        3’ C T A T A G 5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icky Ends                   Blunt E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Line 11"/>
          <p:cNvSpPr/>
          <p:nvPr/>
        </p:nvSpPr>
        <p:spPr>
          <a:xfrm>
            <a:off x="388620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"/>
          <p:cNvSpPr/>
          <p:nvPr/>
        </p:nvSpPr>
        <p:spPr>
          <a:xfrm>
            <a:off x="3886200" y="2819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>
            <a:off x="525780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391520" y="2438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"/>
          <p:cNvSpPr/>
          <p:nvPr/>
        </p:nvSpPr>
        <p:spPr>
          <a:xfrm>
            <a:off x="1981080" y="4336920"/>
            <a:ext cx="975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r" rtl="1"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y ends or blunt ends can be used to join DNA frag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 rtl="1">
              <a:lnSpc>
                <a:spcPct val="2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y ends are more cohesive compared to blunt e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xample of Restriction Enzym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30" name="Picture 32" descr="Image result for restriction enzymes examples"/>
          <p:cNvPicPr/>
          <p:nvPr/>
        </p:nvPicPr>
        <p:blipFill>
          <a:blip r:embed="rId1"/>
          <a:stretch/>
        </p:blipFill>
        <p:spPr>
          <a:xfrm>
            <a:off x="6400800" y="485640"/>
            <a:ext cx="5486400" cy="60184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4"/>
          <p:cNvSpPr/>
          <p:nvPr/>
        </p:nvSpPr>
        <p:spPr>
          <a:xfrm>
            <a:off x="914400" y="2417760"/>
            <a:ext cx="434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300 RE have been isolated and the nomenclature depends on the organism from which they are derived e.g. Bam HI from Bacillus amyloliquefaciens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10972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echanism of Ac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99840"/>
            <a:ext cx="1173456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riction Endonuclease scan the length of the DNA 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inds to the DNA molecule when it recognizes a specific sequence an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kes one cut in each of the sugar phosphate backbones of the double helix – by hydrolyzing the phoshphodiester bon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pecifically,the bond between the 3’ O atom and the P atom is brok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 of Restriction Enzym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 Enzymes can be isolated from bacteria and then used to generate a restriction map. This can provide useful information in characterizing a DNA molecul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" name="Picture 7" descr="ch12f27"/>
          <p:cNvPicPr/>
          <p:nvPr/>
        </p:nvPicPr>
        <p:blipFill>
          <a:blip r:embed="rId1"/>
          <a:stretch/>
        </p:blipFill>
        <p:spPr>
          <a:xfrm>
            <a:off x="7162920" y="1014480"/>
            <a:ext cx="4038480" cy="53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Uses….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208440" y="224424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 enzymes are most widely used in recombinant DNA technology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(gene cloning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9" name="Picture 10" descr="ch7f8"/>
          <p:cNvPicPr/>
          <p:nvPr/>
        </p:nvPicPr>
        <p:blipFill>
          <a:blip r:embed="rId1"/>
          <a:stretch/>
        </p:blipFill>
        <p:spPr>
          <a:xfrm>
            <a:off x="6421320" y="1600200"/>
            <a:ext cx="35402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Uses….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2" name="Picture 4" descr="ch5fu2"/>
          <p:cNvPicPr/>
          <p:nvPr/>
        </p:nvPicPr>
        <p:blipFill>
          <a:blip r:embed="rId1"/>
          <a:stretch/>
        </p:blipFill>
        <p:spPr>
          <a:xfrm>
            <a:off x="2666880" y="2743200"/>
            <a:ext cx="6019920" cy="22431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7"/>
          <p:cNvSpPr/>
          <p:nvPr/>
        </p:nvSpPr>
        <p:spPr>
          <a:xfrm>
            <a:off x="2057400" y="15238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 Fragment Length Polymorphism is a tool to study variations among individuals &amp; among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7T18:14:33Z</dcterms:created>
  <dc:creator>FIRAZ</dc:creator>
  <dc:description/>
  <dc:language>en-US</dc:language>
  <cp:lastModifiedBy>first first</cp:lastModifiedBy>
  <dcterms:modified xsi:type="dcterms:W3CDTF">2017-04-15T20:44:55Z</dcterms:modified>
  <cp:revision>52</cp:revision>
  <dc:subject/>
  <dc:title>restrii</dc:title>
</cp:coreProperties>
</file>