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8A7-278C-4727-85F4-E342AB75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D2E-AD18-4D5B-8D31-BE3C1025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54433-6151-4D5E-878B-5B8E2D6C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BB6A8-0FD1-427B-9DEA-A96558A6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7FD15-F270-4F12-8679-736B1470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563A5-19A1-49B6-B7BE-364882D1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C6E12-5B14-4FEF-BD23-7DCBA8F2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0DAB2-9981-434C-97C9-970754EC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B44D8-2817-449C-B989-C0679443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3B18B-C050-4058-B235-66581DC7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51674-D036-4D9A-A79E-973F5D4D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9E4-7F0E-4616-8D6D-4CDF2920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FCCA-2775-4098-BAF3-A10DE2A9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303C-BA34-480B-A27B-3D490B97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1CA7-DBA7-4D93-8F65-2B5A5FC3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F28E-27E3-455F-9E2D-4A154095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B9F8-92DC-4F3E-87F7-4FC3B4A2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C88F-4FD0-45B8-AFAF-EC2D5D15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9B55-C1E6-4D6B-886B-B436B2B6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7600-4056-4E08-A607-4164387C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462C-C959-4EF8-9969-2A426DA0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34CB-B03E-4050-9FBC-54F7E622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02F5-A744-4D33-92F8-FF94A492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65BF-061D-48BD-91F1-4ED46609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7435-A138-4EC5-A746-2830720C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BB14-48F1-442E-B438-A8E37B41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7F619-5C70-418F-AD9D-FE48C957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ACDB8-3017-4BE1-9980-309FF279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59A43-3C85-4CAE-9CA1-E07C5B8B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F2A68-C1A0-4F0F-B5CC-7EEB1163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A930C-704E-4B46-8C37-5FFA6289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EAB4-41CD-475A-98FA-63C91FC9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8D1A9-B99B-4F43-A886-15F4E90E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22D6A-DBC5-4420-93D0-5EC0CBC9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D5288-1F40-41C2-A7A5-E3217930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209F0-5BE5-42BC-93DA-22B6EE56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C3C8A-37C9-4A62-80CB-DC6CCBB3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07D69-F79A-40F5-A441-2B78A12B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BE11D-2FE8-4111-BD2C-A3BB5921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E5C99-C1C8-4900-9735-AF21EC79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65E93-EC73-4D50-B88C-8EDDA90E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2E566-EAD5-43E5-833D-0F291A9B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844-D94B-4EA8-A78F-0754C032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F5B94-82DC-436D-BA4C-1ADF238F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48EE2-C703-4513-8121-DCF3DFF7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BBD7F-55A4-4F72-AEFF-47BF2FA8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EDFC9-FF15-472A-B385-EE4F70A4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7F592-462F-4E77-B279-7650C5B1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7A491-B29E-4DAB-BFD5-9B5FF02E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11463-CE59-469B-8A21-C030022C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87C42-5993-40B0-9EDA-66563686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4E83D-13A1-4FC7-8321-F7BB8DF0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BD242-2EC2-44AF-8866-B45EBE7D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240-FA1D-4C9A-BE6C-6543A206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35269-6D89-4282-B9E8-DAAD8CE1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53CCA-30C5-481E-AAE0-BDF2EC03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60BFF-6072-468F-87BA-60416BB9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BEB30-EF40-415B-B41D-464C7C0A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A22F9-991B-426A-8086-57BE4602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4EA9A-6958-489A-845A-F1AEBDE5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30263-1279-453E-BA40-2AA987C5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CD6B2-6025-4EFC-B346-08328066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04CED-4AF6-4CEE-8E13-A9506D40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23928-FC0A-483A-8DFD-10F8D302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E087-E0AE-4FA7-AF21-5A823197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CC7FC-55BE-43F4-A619-93B2EC20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79F58-D3BF-483B-B4DE-40A963CC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A2E9D-A9A0-4642-B38A-5F14CA12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91D88-8FD0-43B6-BF94-2EE1A9F2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324E0-9386-4DA2-9145-728B12F3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2D3FA-975D-48B6-9C43-1EC15332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3EAE7-FDA4-4EF7-B394-6146F71F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0138D-A92E-43F3-BB17-8A6C3416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E6EFD-8251-4DC8-A7EA-C721AAF3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6E001-1896-4166-AB7C-82D8ED56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3ED-4371-4BAE-83F5-37E9A7FC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DB687-0B7A-4424-8DE4-72D18008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268CA-EDE8-4AE2-A4B3-ADC697D4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58275-1C03-4AC3-BB8C-6FB93E3C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B4DBB-9158-4782-AB57-59EE213A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51C18-428C-41BC-9A46-5A8B08D8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80A1B-1C2E-4C3C-9872-49A2DD2C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9665F-3117-4D14-AC2E-D6BE1B13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9BCE9-FA1E-4EC8-9010-E2BD9FD9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661F2-183A-4DB9-9CAA-28C1A849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41BCE-EA0B-44AE-9373-68388306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800-B8BF-43FB-A4BF-A66594E7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F885D-9C43-4415-8874-45217C1E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C2E5F-88F4-445E-A61C-6E07306C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D945B-5F28-4F17-B6D9-5A38FF12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EF5E4-2581-4AD0-93E4-5DC29DAC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7A71B-A2BE-4BA4-B0C1-861392FA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B3D56-2635-4184-86B2-F44ADC52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2BF64-31BE-453C-8E94-9830826A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7C6F1-80E7-42B0-852F-DF96D289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8DA9C-8EA0-4A5D-A882-C8E71358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34C73-4152-4675-8AF2-3AF845F8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AFB-09F5-455C-8B1A-4F76F756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C7947-30B8-47AC-87E6-6E8564D9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27C3D-DD25-4542-9757-F73B93FC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E8B4A-8B7B-48BA-8CEE-097ED28A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F8066-BE57-4F8D-8D73-827F010D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F0514-7122-456A-B46A-A8D8DF20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FDF53-35FF-472E-B4D6-F5DBF26E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CB76A-D7D6-4D50-9612-50783CCC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E2FC0-716C-4523-9351-3905A835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E60E7-88B2-460D-A8BB-AF827748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1FE56-FBB1-4D52-BAC5-2A328FD1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C860-0E01-49C8-A3F7-D8E773CAD8C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1206360" y="3648240"/>
            <a:ext cx="975384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1219320" y="5048280"/>
            <a:ext cx="975348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1206360" y="3648240"/>
            <a:ext cx="30492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1219320" y="5048280"/>
            <a:ext cx="30456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8534520" y="6354360"/>
            <a:ext cx="3047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865320" y="6354360"/>
            <a:ext cx="4632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620720" y="6354360"/>
            <a:ext cx="1625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9DE4-105C-4E9D-B5AF-9BF4619DD6B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219320" y="2819520"/>
            <a:ext cx="975348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219320" y="2819520"/>
            <a:ext cx="30456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8534520" y="6354360"/>
            <a:ext cx="3047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865320" y="6354360"/>
            <a:ext cx="4632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427040" y="6354360"/>
            <a:ext cx="2027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3104-B38D-46E0-A126-A0588BA4E23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sosceles Triangle 10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1A35-B761-468F-8024-F3A0D646F0C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sosceles Triangle 11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12401640" y="11160"/>
            <a:ext cx="1854000" cy="6846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 Light"/>
                <a:ea typeface="Calibri"/>
              </a:rPr>
              <a:t>Edit the text with your own short phrases</a:t>
            </a:r>
            <a:r>
              <a:rPr b="0" lang="en-US" sz="1600" spc="-1" strike="noStrike">
                <a:solidFill>
                  <a:srgbClr val="7f7f7f"/>
                </a:solidFill>
                <a:latin typeface="Calibri Light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 Light"/>
                <a:ea typeface="Calibri"/>
              </a:rPr>
              <a:t>The animation is already done for you; just copy and paste the slide into your existing presentation</a:t>
            </a:r>
            <a:r>
              <a:rPr b="0" lang="en-US" sz="1600" spc="-1" strike="noStrike">
                <a:solidFill>
                  <a:srgbClr val="7f7f7f"/>
                </a:solidFill>
                <a:latin typeface="Calibri Light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BB17-8739-4A44-BEC8-59FEF526D43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11"/>
          <p:cNvSpPr/>
          <p:nvPr/>
        </p:nvSpPr>
        <p:spPr>
          <a:xfrm>
            <a:off x="823752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Isosceles Triangle 12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DD42-2972-4C6D-A608-ECF2452AC87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Isosceles Triangle 11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609480" y="500040"/>
            <a:ext cx="24300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9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0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1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2598-17D3-4A0F-AA52-5629B0CCC78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Isosceles Triangle 11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2"/>
          <p:cNvSpPr/>
          <p:nvPr/>
        </p:nvSpPr>
        <p:spPr>
          <a:xfrm>
            <a:off x="874224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2531-AF25-488A-B00F-6C3034CB239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1E74-7C8E-432A-BC57-63B62F865B4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600200" y="3809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DIGESTION OF DNA WITH RESTRICTION ENZYM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Restriction Fragment Length Polymorphism (RFLP)-Examp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609480" y="1828800"/>
            <a:ext cx="883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2e2e"/>
                </a:solidFill>
                <a:latin typeface="NexusSans"/>
              </a:rPr>
              <a:t>technique in </a:t>
            </a:r>
            <a:r>
              <a:rPr b="0" lang="en-US" sz="1800" spc="-1" strike="noStrike">
                <a:solidFill>
                  <a:srgbClr val="0c7dbb"/>
                </a:solidFill>
                <a:latin typeface="NexusSans"/>
              </a:rPr>
              <a:t>molecular biology</a:t>
            </a:r>
            <a:r>
              <a:rPr b="0" lang="en-US" sz="1800" spc="-1" strike="noStrike">
                <a:solidFill>
                  <a:srgbClr val="2e2e2e"/>
                </a:solidFill>
                <a:latin typeface="NexusSans"/>
              </a:rPr>
              <a:t> to differentiate minor </a:t>
            </a:r>
            <a:r>
              <a:rPr b="0" lang="en-US" sz="1800" spc="-1" strike="noStrike">
                <a:solidFill>
                  <a:srgbClr val="0c7dbb"/>
                </a:solidFill>
                <a:latin typeface="NexusSans"/>
              </a:rPr>
              <a:t>nucleotide</a:t>
            </a:r>
            <a:r>
              <a:rPr b="0" lang="en-US" sz="1800" spc="-1" strike="noStrike">
                <a:solidFill>
                  <a:srgbClr val="2e2e2e"/>
                </a:solidFill>
                <a:latin typeface="NexusSans"/>
              </a:rPr>
              <a:t> sequence variations in homologous fragments of </a:t>
            </a:r>
            <a:r>
              <a:rPr b="0" lang="en-US" sz="1800" spc="-1" strike="noStrike">
                <a:solidFill>
                  <a:srgbClr val="0c7dbb"/>
                </a:solidFill>
                <a:latin typeface="NexusSans"/>
              </a:rPr>
              <a:t>DNA</a:t>
            </a:r>
            <a:r>
              <a:rPr b="0" lang="en-US" sz="1800" spc="-1" strike="noStrike">
                <a:solidFill>
                  <a:srgbClr val="2e2e2e"/>
                </a:solidFill>
                <a:latin typeface="NexusSans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chnique relies on the specificity of restriction endonucleases, which are highly sequence-specific and cut the double-stranded DNA only at their recognition si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https://www.thermofisher.com/content/dam/LifeTech/migration/images/sequencing/capillary-electrophoresis-sequencing-fragment-analysis/data.par.45593.image.rflp.gif"/>
          <p:cNvPicPr/>
          <p:nvPr/>
        </p:nvPicPr>
        <p:blipFill>
          <a:blip r:embed="rId1"/>
          <a:stretch/>
        </p:blipFill>
        <p:spPr>
          <a:xfrm>
            <a:off x="658800" y="4127400"/>
            <a:ext cx="944640" cy="99396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10"/>
          <p:cNvSpPr/>
          <p:nvPr/>
        </p:nvSpPr>
        <p:spPr>
          <a:xfrm>
            <a:off x="1584360" y="4275000"/>
            <a:ext cx="1046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DNA Extra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7" descr="https://www.thermofisher.com/content/dam/LifeTech/migration/images/sequencing/capillary-electrophoresis-sequencing-fragment-analysis/data.par.45593.image.rflp.gif"/>
          <p:cNvPicPr/>
          <p:nvPr/>
        </p:nvPicPr>
        <p:blipFill>
          <a:blip r:embed="rId2"/>
          <a:stretch/>
        </p:blipFill>
        <p:spPr>
          <a:xfrm>
            <a:off x="2639880" y="4065480"/>
            <a:ext cx="1047960" cy="1103400"/>
          </a:xfrm>
          <a:prstGeom prst="rect">
            <a:avLst/>
          </a:prstGeom>
          <a:ln w="0">
            <a:noFill/>
          </a:ln>
        </p:spPr>
      </p:pic>
      <p:cxnSp>
        <p:nvCxnSpPr>
          <p:cNvPr id="449" name="Straight Arrow Connector 8"/>
          <p:cNvCxnSpPr/>
          <p:nvPr/>
        </p:nvCxnSpPr>
        <p:spPr>
          <a:xfrm>
            <a:off x="1584000" y="4617720"/>
            <a:ext cx="819720" cy="10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triangle" w="med"/>
          </a:ln>
        </p:spPr>
      </p:cxnSp>
      <p:sp>
        <p:nvSpPr>
          <p:cNvPr id="450" name="Text Box 15"/>
          <p:cNvSpPr/>
          <p:nvPr/>
        </p:nvSpPr>
        <p:spPr>
          <a:xfrm>
            <a:off x="4629240" y="4214880"/>
            <a:ext cx="104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PCR  for the region that you want to do the study 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10" descr="https://www.thermofisher.com/content/dam/LifeTech/migration/images/sequencing/capillary-electrophoresis-sequencing-fragment-analysis/data.par.45593.image.rflp.gif"/>
          <p:cNvPicPr/>
          <p:nvPr/>
        </p:nvPicPr>
        <p:blipFill>
          <a:blip r:embed="rId3"/>
          <a:stretch/>
        </p:blipFill>
        <p:spPr>
          <a:xfrm>
            <a:off x="5675400" y="4084560"/>
            <a:ext cx="1384200" cy="1127160"/>
          </a:xfrm>
          <a:prstGeom prst="rect">
            <a:avLst/>
          </a:prstGeom>
          <a:ln w="0">
            <a:noFill/>
          </a:ln>
        </p:spPr>
      </p:pic>
      <p:cxnSp>
        <p:nvCxnSpPr>
          <p:cNvPr id="452" name="Straight Arrow Connector 11"/>
          <p:cNvCxnSpPr/>
          <p:nvPr/>
        </p:nvCxnSpPr>
        <p:spPr>
          <a:xfrm>
            <a:off x="3809880" y="4601880"/>
            <a:ext cx="820080" cy="10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453" name="Straight Arrow Connector 12"/>
          <p:cNvCxnSpPr/>
          <p:nvPr/>
        </p:nvCxnSpPr>
        <p:spPr>
          <a:xfrm>
            <a:off x="7238880" y="4647960"/>
            <a:ext cx="820080" cy="10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triangle" w="med"/>
          </a:ln>
        </p:spPr>
      </p:cxnSp>
      <p:sp>
        <p:nvSpPr>
          <p:cNvPr id="454" name="Text Box 15"/>
          <p:cNvSpPr/>
          <p:nvPr/>
        </p:nvSpPr>
        <p:spPr>
          <a:xfrm>
            <a:off x="8013600" y="4341960"/>
            <a:ext cx="10479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Incubation of the DNA with 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Straight Arrow Connector 14"/>
          <p:cNvCxnSpPr/>
          <p:nvPr/>
        </p:nvCxnSpPr>
        <p:spPr>
          <a:xfrm>
            <a:off x="9115200" y="4638240"/>
            <a:ext cx="819720" cy="10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triangle" w="med"/>
          </a:ln>
        </p:spPr>
      </p:cxnSp>
      <p:sp>
        <p:nvSpPr>
          <p:cNvPr id="456" name="Text Box 15"/>
          <p:cNvSpPr/>
          <p:nvPr/>
        </p:nvSpPr>
        <p:spPr>
          <a:xfrm>
            <a:off x="10017000" y="4329000"/>
            <a:ext cx="10479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Agarose gel to visualized your 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Restriction Fragment Length Polymorphism (RFLP)-Examp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58" name="Picture 2" descr="Image result for rflp"/>
          <p:cNvPicPr/>
          <p:nvPr/>
        </p:nvPicPr>
        <p:blipFill>
          <a:blip r:embed="rId1"/>
          <a:stretch/>
        </p:blipFill>
        <p:spPr>
          <a:xfrm>
            <a:off x="1866960" y="1523880"/>
            <a:ext cx="8458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Restriction Fragment Length Polymorphism (RFLP)-Examp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09480" y="1219320"/>
            <a:ext cx="1097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garose gel electrophor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do you think these samples (normal or abnormal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Arrow: Right 3"/>
          <p:cNvSpPr/>
          <p:nvPr/>
        </p:nvSpPr>
        <p:spPr>
          <a:xfrm>
            <a:off x="31680" y="3078000"/>
            <a:ext cx="1949400" cy="12193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9fb8cd"/>
          </a:solidFill>
          <a:ln w="19080">
            <a:solidFill>
              <a:srgbClr val="748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4" descr="Image result for rflp"/>
          <p:cNvPicPr/>
          <p:nvPr/>
        </p:nvPicPr>
        <p:blipFill>
          <a:blip r:embed="rId1"/>
          <a:srcRect l="6835" t="47729" r="63534" b="1999"/>
          <a:stretch/>
        </p:blipFill>
        <p:spPr>
          <a:xfrm>
            <a:off x="4648320" y="2125800"/>
            <a:ext cx="3644640" cy="43448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Image result for rflp"/>
          <p:cNvPicPr/>
          <p:nvPr/>
        </p:nvPicPr>
        <p:blipFill>
          <a:blip r:embed="rId2"/>
          <a:srcRect l="20078" t="11136" r="67236" b="67810"/>
          <a:stretch/>
        </p:blipFill>
        <p:spPr>
          <a:xfrm>
            <a:off x="5921280" y="2895480"/>
            <a:ext cx="1096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are restriction enzymes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22440" y="19810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e enzymes that have the ability to cleave the sugar phosphate backbones in double stranded DNA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at specific restriction sit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nd naturally in a wide variety of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prokaryo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Rectangle 1"/>
          <p:cNvSpPr/>
          <p:nvPr/>
        </p:nvSpPr>
        <p:spPr>
          <a:xfrm>
            <a:off x="4284360" y="122868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sciss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5" descr="Image result for restriction enzymes"/>
          <p:cNvPicPr/>
          <p:nvPr/>
        </p:nvPicPr>
        <p:blipFill>
          <a:blip r:embed="rId1"/>
          <a:stretch/>
        </p:blipFill>
        <p:spPr>
          <a:xfrm>
            <a:off x="2590920" y="5029200"/>
            <a:ext cx="758196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8108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iological Role In bacteri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762120" y="1600200"/>
            <a:ext cx="94485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st bacteria use Restriction Enzymes as a defense against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bacteriophag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triction enzymes prevent the replication of the phage by cleaving its DNA at specific sit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y do not cleave the host DNA as the restriction sites are methyla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119988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Bookman Old Style"/>
              </a:rPr>
              <a:t>How Restriction Enzyme cut the DNA?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striction fragments can be blunt ended or sticky ende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743200" y="198072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’ G A A T T C 3’        5’ G A T A T C 3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’ C T T A A G 5’        3’ C T A T A G 5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icky Ends                   Blunt E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Line 11"/>
          <p:cNvSpPr/>
          <p:nvPr/>
        </p:nvSpPr>
        <p:spPr>
          <a:xfrm>
            <a:off x="388620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"/>
          <p:cNvSpPr/>
          <p:nvPr/>
        </p:nvSpPr>
        <p:spPr>
          <a:xfrm>
            <a:off x="3886200" y="2819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3"/>
          <p:cNvSpPr/>
          <p:nvPr/>
        </p:nvSpPr>
        <p:spPr>
          <a:xfrm>
            <a:off x="525780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4"/>
          <p:cNvSpPr/>
          <p:nvPr/>
        </p:nvSpPr>
        <p:spPr>
          <a:xfrm>
            <a:off x="7391520" y="2438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"/>
          <p:cNvSpPr/>
          <p:nvPr/>
        </p:nvSpPr>
        <p:spPr>
          <a:xfrm>
            <a:off x="1981080" y="4336920"/>
            <a:ext cx="975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2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y ends or blunt ends can be used to join DNA frag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2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y ends are more cohesive compared to blunt e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 of Restriction Enzym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30" name="Picture 32" descr="Image result for restriction enzymes examples"/>
          <p:cNvPicPr/>
          <p:nvPr/>
        </p:nvPicPr>
        <p:blipFill>
          <a:blip r:embed="rId1"/>
          <a:stretch/>
        </p:blipFill>
        <p:spPr>
          <a:xfrm>
            <a:off x="6400800" y="485640"/>
            <a:ext cx="5486400" cy="601848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4"/>
          <p:cNvSpPr/>
          <p:nvPr/>
        </p:nvSpPr>
        <p:spPr>
          <a:xfrm>
            <a:off x="914400" y="241776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300 RE have been isolated and the nomenclature depends on the organism from which they are derived e.g. Bam HI from Bacillus amyloliquefaciens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echanism of A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4920" y="1599840"/>
            <a:ext cx="11734560" cy="35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triction Endonuclease scan the length of the DNA 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inds to the DNA molecule when it recognizes a specific sequence an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kes one cut in each of the sugar phosphate backbones of the double helix – by hydrolyzing the phoshphodiester bon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pecifically,the bond between the 3’ O atom and the P atom is brok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ses of Restriction Enzym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880" y="199188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triction Enzymes can be isolated from bacteria and then used to generate a restriction map. This can provide useful information in characterizing a DNA molecu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6" name="Picture 7" descr="ch12f27"/>
          <p:cNvPicPr/>
          <p:nvPr/>
        </p:nvPicPr>
        <p:blipFill>
          <a:blip r:embed="rId1"/>
          <a:stretch/>
        </p:blipFill>
        <p:spPr>
          <a:xfrm>
            <a:off x="7162920" y="1014480"/>
            <a:ext cx="4038480" cy="53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10972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ses…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208440" y="2244240"/>
            <a:ext cx="63248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triction enzymes are most widely used in recombinant DNA technology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(gene cloning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9" name="Picture 10" descr="ch7f8"/>
          <p:cNvPicPr/>
          <p:nvPr/>
        </p:nvPicPr>
        <p:blipFill>
          <a:blip r:embed="rId1"/>
          <a:stretch/>
        </p:blipFill>
        <p:spPr>
          <a:xfrm>
            <a:off x="6421320" y="1600200"/>
            <a:ext cx="35402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Uses….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2" name="Picture 4" descr="ch5fu2"/>
          <p:cNvPicPr/>
          <p:nvPr/>
        </p:nvPicPr>
        <p:blipFill>
          <a:blip r:embed="rId1"/>
          <a:stretch/>
        </p:blipFill>
        <p:spPr>
          <a:xfrm>
            <a:off x="2666880" y="2743200"/>
            <a:ext cx="6019920" cy="224316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7"/>
          <p:cNvSpPr/>
          <p:nvPr/>
        </p:nvSpPr>
        <p:spPr>
          <a:xfrm>
            <a:off x="2057400" y="15238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ion Fragment Length Polymorphism is a tool to study variations among individuals &amp; among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18:14:33Z</dcterms:created>
  <dc:creator>FIRAZ</dc:creator>
  <dc:description/>
  <dc:language>en-US</dc:language>
  <cp:lastModifiedBy>first first</cp:lastModifiedBy>
  <dcterms:modified xsi:type="dcterms:W3CDTF">2017-04-15T20:44:55Z</dcterms:modified>
  <cp:revision>52</cp:revision>
  <dc:subject/>
  <dc:title>restrii</dc:title>
</cp:coreProperties>
</file>