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2E6-B334-49A8-A712-B74F97E0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39B-577D-4D34-8197-78104342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7D1-DC26-4107-BC55-B36C7AC3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DE2-538F-477D-A726-0A39CC85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39B8-F341-46ED-AEBB-D108F88E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8DE-0B3B-4342-A9D6-E23DF317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9125-339C-4C2E-AE4C-BACB9534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CBAE-2407-44AE-9A55-2A81C801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3CF-D9AC-4ECE-B973-AAA4C4A8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DC7-7957-4C2D-BFEC-94BD2062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E75-5D94-4650-9232-879F0B83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84CE-02E0-4404-968C-C0E69389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12CC-B82E-40D9-86D1-A70920B280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3640" y="259920"/>
            <a:ext cx="2592360" cy="993960"/>
          </a:xfrm>
          <a:prstGeom prst="rect">
            <a:avLst/>
          </a:prstGeom>
          <a:solidFill>
            <a:srgbClr val="bbe0e3"/>
          </a:solidFill>
          <a:ln w="38160">
            <a:solidFill>
              <a:srgbClr val="0707f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</a:rPr>
              <a:t>الـزواحـ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105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حلقات في درع السلحف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1520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6130800" cy="1143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707f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mipine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– نصفي القضي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657600" cy="3560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932360" y="1768320"/>
            <a:ext cx="38163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ipin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– نصفي القضي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1550880"/>
            <a:ext cx="4032360" cy="4032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ipen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– نصفي القضي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3899160" cy="2946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36576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81064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3970440" cy="1143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707f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حركة في الزواح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4430520" cy="5399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132000" y="6093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b40000"/>
                </a:solidFill>
                <a:latin typeface="Arial"/>
              </a:rPr>
              <a:t>الثدي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4724280"/>
            <a:ext cx="86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b40000"/>
                </a:solidFill>
                <a:latin typeface="Arial"/>
              </a:rPr>
              <a:t>زواحف بحرية منقرض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6360" y="335772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b40000"/>
                </a:solidFill>
                <a:latin typeface="Arial"/>
              </a:rPr>
              <a:t>التماسيح والأف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6360" y="1989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b40000"/>
                </a:solidFill>
                <a:latin typeface="Arial"/>
              </a:rPr>
              <a:t>السلاح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700360" y="1268280"/>
            <a:ext cx="4430520" cy="5467320"/>
            <a:chOff x="2700360" y="1268280"/>
            <a:chExt cx="4430520" cy="546732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2700360" y="1268280"/>
              <a:ext cx="4430520" cy="53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132000" y="609300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الثديي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59280" y="4724280"/>
              <a:ext cx="863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زواحف بحرية منقرض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16360" y="3357720"/>
              <a:ext cx="86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التماسيح والأفاع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16360" y="198900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السلاح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987640" y="260280"/>
            <a:ext cx="3529080" cy="993960"/>
          </a:xfrm>
          <a:prstGeom prst="rect">
            <a:avLst/>
          </a:prstGeom>
          <a:solidFill>
            <a:srgbClr val="bbe0e3"/>
          </a:solidFill>
          <a:ln w="38160">
            <a:solidFill>
              <a:srgbClr val="070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</a:rPr>
              <a:t>تشكيل الجماج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076720" y="1916280"/>
            <a:ext cx="2786040" cy="1914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3311640" cy="2392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427640" y="4437000"/>
            <a:ext cx="3352680" cy="1535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V="1">
            <a:off x="6227640" y="2349000"/>
            <a:ext cx="505080" cy="358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443640" y="4941360"/>
            <a:ext cx="504720" cy="358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1708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7680" y="1484280"/>
            <a:ext cx="8157960" cy="4759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16360" y="260280"/>
            <a:ext cx="3960720" cy="993960"/>
          </a:xfrm>
          <a:prstGeom prst="rect">
            <a:avLst/>
          </a:prstGeom>
          <a:solidFill>
            <a:srgbClr val="bbe0e3"/>
          </a:solidFill>
          <a:ln w="38160">
            <a:solidFill>
              <a:srgbClr val="070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</a:rPr>
              <a:t>بيضة الـزواحـ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1240" y="1778040"/>
            <a:ext cx="8920080" cy="3887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916360" y="260280"/>
            <a:ext cx="3960720" cy="993960"/>
          </a:xfrm>
          <a:prstGeom prst="rect">
            <a:avLst/>
          </a:prstGeom>
          <a:solidFill>
            <a:srgbClr val="bbe0e3"/>
          </a:solidFill>
          <a:ln w="38160">
            <a:solidFill>
              <a:srgbClr val="070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</a:rPr>
              <a:t>جـلـد الـزواحـ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caledev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3753000" cy="527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367080" cy="140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79640" y="260280"/>
            <a:ext cx="5832360" cy="993960"/>
          </a:xfrm>
          <a:prstGeom prst="rect">
            <a:avLst/>
          </a:prstGeom>
          <a:solidFill>
            <a:srgbClr val="bbe0e3"/>
          </a:solidFill>
          <a:ln w="38160">
            <a:solidFill>
              <a:srgbClr val="070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</a:rPr>
              <a:t>حقائق في جلد الـزواحـ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3816360" cy="295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9640" y="260280"/>
            <a:ext cx="5832360" cy="993960"/>
          </a:xfrm>
          <a:prstGeom prst="rect">
            <a:avLst/>
          </a:prstGeom>
          <a:solidFill>
            <a:srgbClr val="bbe0e3"/>
          </a:solidFill>
          <a:ln w="38160">
            <a:solidFill>
              <a:srgbClr val="070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</a:rPr>
              <a:t>في جلد : تقشر وانسلا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في الجلد: التقشر والإنسلا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35004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في الجلد: التقشر والإنسلا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556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في الجلد: التقشر والإنسلا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4720" y="1479600"/>
            <a:ext cx="70563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4402080" cy="1143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707f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حلقات في درع السلحف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8:07:35Z</dcterms:created>
  <dc:creator>خالد</dc:creator>
  <dc:description/>
  <dc:language>en-US</dc:language>
  <cp:lastModifiedBy>خالد</cp:lastModifiedBy>
  <dcterms:modified xsi:type="dcterms:W3CDTF">2014-02-24T06:19:43Z</dcterms:modified>
  <cp:revision>9</cp:revision>
  <dc:subject/>
  <dc:title>الزواحف</dc:title>
</cp:coreProperties>
</file>