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A32-A2DA-4F3D-8FB9-65DA1DFA2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9BD-33F8-427B-9A05-69B723CE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B189-07FB-4D92-AC3C-A7276E23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5C0-BF41-43AF-A8AE-25A8CE68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CEF-54E2-4A65-B2C0-30B9C474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5718-7945-4B46-95DA-E7820B1A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373-A9B9-4E3B-8804-D75BE1485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520-8E7B-451D-829E-B5F57122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39D6-E6BB-4CBD-8FCD-C0E8AB0B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B0B-60A3-495F-8665-E728F97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B811-4856-4158-B235-39ECA96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EA81-B9A8-46D4-9651-974A2F28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3CFAE-E098-4AFD-B6AC-6FDB64B390D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3640" y="259920"/>
            <a:ext cx="259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47640" y="1484280"/>
            <a:ext cx="6105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حلقات في درع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152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9280" y="259920"/>
            <a:ext cx="61308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emipines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3657600" cy="3560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1768320"/>
            <a:ext cx="3816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p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4032360" cy="403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716360" y="155736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mipe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– نصفي القضي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3280" y="2060640"/>
            <a:ext cx="3899160" cy="2946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26920" y="2133720"/>
            <a:ext cx="365760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81064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23640" y="333000"/>
            <a:ext cx="397044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حركة في الزو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430520" cy="5399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132000" y="6093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ثدي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59280" y="4724280"/>
            <a:ext cx="86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زواحف بحرية منقرض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6360" y="3357720"/>
            <a:ext cx="8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تماسيح والأف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16360" y="1989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b40000"/>
                </a:solidFill>
                <a:latin typeface="Arial"/>
              </a:rPr>
              <a:t>السلاح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700360" y="1268280"/>
            <a:ext cx="4430520" cy="5467320"/>
            <a:chOff x="2700360" y="1268280"/>
            <a:chExt cx="4430520" cy="5467320"/>
          </a:xfrm>
        </p:grpSpPr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2700360" y="1268280"/>
              <a:ext cx="443052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3132000" y="6093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ثدي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280" y="4724280"/>
              <a:ext cx="8632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زواحف بحرية منقرض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916360" y="3357720"/>
              <a:ext cx="86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تماسيح والأفاع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16360" y="198900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b40000"/>
                  </a:solidFill>
                  <a:latin typeface="Arial"/>
                </a:rPr>
                <a:t>السلاح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987640" y="260280"/>
            <a:ext cx="352908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تشكيل الجماج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076720" y="1916280"/>
            <a:ext cx="2786040" cy="191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3311640" cy="2392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27640" y="4437000"/>
            <a:ext cx="3352680" cy="1535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 flipV="1">
            <a:off x="6227640" y="2349000"/>
            <a:ext cx="50508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6443640" y="4941360"/>
            <a:ext cx="504720" cy="358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1708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7680" y="1484280"/>
            <a:ext cx="8157960" cy="4759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916360" y="260280"/>
            <a:ext cx="396072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بيضة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1240" y="1778040"/>
            <a:ext cx="8920080" cy="3887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916360" y="260280"/>
            <a:ext cx="396072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جـلـد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caledev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3753000" cy="527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367080" cy="140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260280"/>
            <a:ext cx="583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حقائق في جلد الـزواحـ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11280" y="2276640"/>
            <a:ext cx="3816360" cy="2952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88000" y="227664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79640" y="260280"/>
            <a:ext cx="5832360" cy="993960"/>
          </a:xfrm>
          <a:prstGeom prst="rect">
            <a:avLst/>
          </a:prstGeom>
          <a:solidFill>
            <a:srgbClr val="bbe0e3"/>
          </a:solidFill>
          <a:ln w="38160">
            <a:solidFill>
              <a:srgbClr val="0707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0000"/>
                </a:solidFill>
                <a:latin typeface="Arial"/>
              </a:rPr>
              <a:t>في جلد : تقشر وانسلا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35004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556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الجلد: التقشر والإنسلا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4720" y="1479600"/>
            <a:ext cx="705636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95640" y="188640"/>
            <a:ext cx="440208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707f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حلقات في درع السلحف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08000" y="15573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9T08:07:35Z</dcterms:created>
  <dc:creator>خالد</dc:creator>
  <dc:description/>
  <dc:language>en-US</dc:language>
  <cp:lastModifiedBy>خالد</cp:lastModifiedBy>
  <dcterms:modified xsi:type="dcterms:W3CDTF">2014-02-24T06:19:43Z</dcterms:modified>
  <cp:revision>9</cp:revision>
  <dc:subject/>
  <dc:title>الزواحف</dc:title>
</cp:coreProperties>
</file>