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4AC-3887-4319-AA9B-0F82125E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CF0-EC60-41DD-B4B1-DA90322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915-8262-4065-982E-40F3687A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935-5A0F-40D9-8DAE-041A1B83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13CC-5554-4416-BC74-F6C4AE7F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DBC3-F621-4555-AB87-A2191C91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1B3F-2EDE-413D-8C66-0F5482B8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8C09-D8BB-4036-A402-45D3724F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329F-465E-48C7-9B89-7DDDE746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AF76-D2E1-4735-90D1-EE66F177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4F58-3B9B-48DF-B306-A07BF08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C79-32C4-464F-B62D-CEFA4B77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A32-3714-43BB-82A8-BB7C31D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3BCC-166A-43B8-AE79-49E2DC2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186-3A82-4EE7-A2D8-724A9AD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6A04-C9EA-41FC-BBFE-87EA06D0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2F44-3A6D-4718-A3DA-942FB2B0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F65-802D-460F-9899-72AE64DD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C56-CC0A-485D-AB2B-A7BC1CA3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EC1-3E7F-41F5-A3E1-A9BA1F7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BC0-EC1F-44ED-B731-639A4F83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1A8-3F1E-46BB-BE91-19FF7D97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323-063F-4ECC-9983-9B65197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B02-562C-453E-BCD4-FCD4206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1F4-9D00-4792-9CAA-A66A0D9E7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666D-E790-4B6A-B522-5D2E35D79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ouse Dissecti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35200"/>
            <a:ext cx="5302440" cy="4862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27280" y="40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od Dissec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30520" y="1068480"/>
            <a:ext cx="5433840" cy="5600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27280" y="185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igestiv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09840" y="907920"/>
            <a:ext cx="4324320" cy="5715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50560" y="765000"/>
            <a:ext cx="8641800" cy="5832360"/>
            <a:chOff x="250560" y="765000"/>
            <a:chExt cx="8641800" cy="5832360"/>
          </a:xfrm>
        </p:grpSpPr>
        <p:pic>
          <p:nvPicPr>
            <p:cNvPr id="105" name="Picture 4" descr=""/>
            <p:cNvPicPr/>
            <p:nvPr/>
          </p:nvPicPr>
          <p:blipFill>
            <a:blip r:embed="rId1"/>
            <a:stretch/>
          </p:blipFill>
          <p:spPr>
            <a:xfrm rot="5400000">
              <a:off x="1655280" y="-639720"/>
              <a:ext cx="5832360" cy="8641800"/>
            </a:xfrm>
            <a:prstGeom prst="rect">
              <a:avLst/>
            </a:prstGeom>
            <a:ln w="28440">
              <a:solidFill>
                <a:srgbClr val="0000ff"/>
              </a:solidFill>
              <a:miter/>
            </a:ln>
          </p:spPr>
        </p:pic>
        <p:sp>
          <p:nvSpPr>
            <p:cNvPr id="106" name=""/>
            <p:cNvSpPr/>
            <p:nvPr/>
          </p:nvSpPr>
          <p:spPr>
            <a:xfrm>
              <a:off x="7589160" y="882360"/>
              <a:ext cx="727920" cy="6807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276720" y="11592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11640" y="571680"/>
            <a:ext cx="8208360" cy="6119280"/>
            <a:chOff x="611640" y="571680"/>
            <a:chExt cx="8208360" cy="611928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 rot="5400000">
              <a:off x="1656000" y="-472680"/>
              <a:ext cx="6119280" cy="8208360"/>
            </a:xfrm>
            <a:prstGeom prst="rect">
              <a:avLst/>
            </a:prstGeom>
            <a:ln w="28440">
              <a:solidFill>
                <a:srgbClr val="ff00ff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 rot="5400000">
              <a:off x="7530120" y="829800"/>
              <a:ext cx="921240" cy="68976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64000" y="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19:25Z</dcterms:created>
  <dc:creator>khale</dc:creator>
  <dc:description/>
  <dc:language>en-US</dc:language>
  <cp:lastModifiedBy>khale</cp:lastModifiedBy>
  <dcterms:modified xsi:type="dcterms:W3CDTF">2014-07-06T23:02:52Z</dcterms:modified>
  <cp:revision>19</cp:revision>
  <dc:subject/>
  <dc:title>Mouse Dissection</dc:title>
</cp:coreProperties>
</file>