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52C-2F69-4CC9-AD67-4E7D75FF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173-D58A-4EE0-90A2-7EF4BD4D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485-D158-4198-9382-A529ED75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378-E88A-4615-A092-70403DB3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9B39-BA94-4AA1-BD83-EF945F61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C639-6A73-418A-BE3D-5791B7AB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E84C-CF29-4789-B919-BF2A32D8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6EE9-6195-4F59-A8C1-01F58034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8329-1504-4610-BA68-75E5A08F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121F-77C4-4417-980A-F3FEE280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9B86-8A55-4787-908E-CAA4D43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35D-B552-4616-B215-667A87EC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E751-98C6-4C6B-B66F-85482E7F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525-8305-40E8-AB82-85DFAA45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F603-03DE-426D-AA48-32A10A48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8C1-69EF-47C6-989C-3ED9640E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E31-8FB4-414D-93AF-16A2F8E6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C16-27DF-41EC-8DE3-49F5BE34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A1C-FCA1-46DA-8361-A4ADC66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C38-AE64-496B-8FA9-6BD3F81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984-0E6E-4449-8F9C-273743A2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EED-7BF8-4EED-9DD6-D5BEC8C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004-D2C8-472B-8127-275C212C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E99-9676-4EB6-A3B0-812F6A2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49E3-AD70-4B54-94E4-7711BD1BD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FD31-3A6D-4E40-B026-50B39B4BE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ouse Dissec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35200"/>
            <a:ext cx="5302440" cy="4862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27280" y="40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od Dissec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30520" y="1068480"/>
            <a:ext cx="5433840" cy="5600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27280" y="185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igestiv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09840" y="907920"/>
            <a:ext cx="4324320" cy="5715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50560" y="765000"/>
            <a:ext cx="8641800" cy="5832360"/>
            <a:chOff x="250560" y="765000"/>
            <a:chExt cx="8641800" cy="5832360"/>
          </a:xfrm>
        </p:grpSpPr>
        <p:pic>
          <p:nvPicPr>
            <p:cNvPr id="105" name="Picture 4" descr=""/>
            <p:cNvPicPr/>
            <p:nvPr/>
          </p:nvPicPr>
          <p:blipFill>
            <a:blip r:embed="rId1"/>
            <a:stretch/>
          </p:blipFill>
          <p:spPr>
            <a:xfrm rot="5400000">
              <a:off x="1655280" y="-639720"/>
              <a:ext cx="5832360" cy="8641800"/>
            </a:xfrm>
            <a:prstGeom prst="rect">
              <a:avLst/>
            </a:prstGeom>
            <a:ln w="28440">
              <a:solidFill>
                <a:srgbClr val="0000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7589160" y="882360"/>
              <a:ext cx="727920" cy="6807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276720" y="11592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11640" y="571680"/>
            <a:ext cx="8208360" cy="6119280"/>
            <a:chOff x="611640" y="571680"/>
            <a:chExt cx="8208360" cy="611928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 rot="5400000">
              <a:off x="1656000" y="-472680"/>
              <a:ext cx="6119280" cy="8208360"/>
            </a:xfrm>
            <a:prstGeom prst="rect">
              <a:avLst/>
            </a:prstGeom>
            <a:ln w="28440">
              <a:solidFill>
                <a:srgbClr val="ff00ff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 rot="5400000">
              <a:off x="7530120" y="829800"/>
              <a:ext cx="921240" cy="68976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64000" y="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9:25Z</dcterms:created>
  <dc:creator>khale</dc:creator>
  <dc:description/>
  <dc:language>en-US</dc:language>
  <cp:lastModifiedBy>khale</cp:lastModifiedBy>
  <dcterms:modified xsi:type="dcterms:W3CDTF">2014-07-06T23:02:52Z</dcterms:modified>
  <cp:revision>19</cp:revision>
  <dc:subject/>
  <dc:title>Mouse Dissection</dc:title>
</cp:coreProperties>
</file>