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BC7-4D51-46D8-AFA0-02926D31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EC6-1E85-4E40-9F67-07A2BAA8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DE6-66C5-4A4C-A81D-2888CBDE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301-1E67-4D83-8195-FB6A8AEB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A80-0486-4FF5-92FC-C9F3B91E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87C-2AD5-4CA3-81B7-51B83835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262-EDB4-4A95-AF70-A57A786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5C7-3A5C-4981-891D-490AE4B0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289-704C-4C55-A761-0E2A5F3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038-8767-42A9-A609-0B4A6D3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4C9-8493-4DE0-92B8-3E98B48E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F4F-FF85-4DFA-B408-C4DF68C4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222C-BECE-4DF6-BE9A-D2176B2DB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23: P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587-AD83-4FCA-BC69-AC571B9C1F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numerable combinations of motion available to the mature, normal subject in meeting the demands of life have been acquired through a well-established developmental pattern and many learning situations requiring physical effort and sk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71D-E445-411A-BE06-F86F5358F4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mal neuromuscular mechanism becomes integrated and efficient at subconscious level without awareness of individual muscle action, reflex activity, and a multitude of other neurophysiological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D4B-A6A7-4E51-B513-75B5CDA92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ccur in relation to coordination, strength, rate of movement, and endurance, but these variations do not prevent adequate response to the ordinary demands of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FED-E02F-4976-A977-C43289A93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ent neuromuscular mechanism - due to faulty development, trauma, or disease of the nervous or the musculoskeletal systems – is inadequate to meet the demand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10C-C4A0-44CC-8701-84C82CC1C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encies present themselves in terms of limitation of movement as evidenced by weakness, incoordination, adaptive shortening or immobility of joints, muscle spasm, or spastic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D94-BBB9-4EDD-8813-D765FDDFF9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demands placed by the physical therapist have a facilitating effect upon the patient’s neuromuscular mechanis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ilitating effect is the means used by the physical therapist to reverse the limitations of the pati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F27-C0D8-4739-AB15-FF5FE9354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diagonal and spiral in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429000"/>
            <a:ext cx="411480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3428640"/>
            <a:ext cx="4114800" cy="2133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429000"/>
            <a:ext cx="4114800" cy="2133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429000"/>
            <a:ext cx="4114800" cy="2133720"/>
          </a:xfrm>
          <a:custGeom>
            <a:avLst/>
            <a:gdLst/>
            <a:ahLst/>
            <a:rect l="l" t="t" r="r" b="b"/>
            <a:pathLst>
              <a:path w="2592" h="1344">
                <a:moveTo>
                  <a:pt x="0" y="0"/>
                </a:moveTo>
                <a:cubicBezTo>
                  <a:pt x="52" y="72"/>
                  <a:pt x="104" y="144"/>
                  <a:pt x="192" y="192"/>
                </a:cubicBezTo>
                <a:cubicBezTo>
                  <a:pt x="280" y="240"/>
                  <a:pt x="408" y="256"/>
                  <a:pt x="528" y="288"/>
                </a:cubicBezTo>
                <a:cubicBezTo>
                  <a:pt x="648" y="320"/>
                  <a:pt x="784" y="320"/>
                  <a:pt x="912" y="384"/>
                </a:cubicBezTo>
                <a:cubicBezTo>
                  <a:pt x="1040" y="448"/>
                  <a:pt x="1184" y="584"/>
                  <a:pt x="1296" y="672"/>
                </a:cubicBezTo>
                <a:cubicBezTo>
                  <a:pt x="1408" y="760"/>
                  <a:pt x="1488" y="856"/>
                  <a:pt x="1584" y="912"/>
                </a:cubicBezTo>
                <a:cubicBezTo>
                  <a:pt x="1680" y="968"/>
                  <a:pt x="1752" y="976"/>
                  <a:pt x="1872" y="1008"/>
                </a:cubicBezTo>
                <a:cubicBezTo>
                  <a:pt x="1992" y="1040"/>
                  <a:pt x="2184" y="1048"/>
                  <a:pt x="2304" y="1104"/>
                </a:cubicBezTo>
                <a:cubicBezTo>
                  <a:pt x="2424" y="1160"/>
                  <a:pt x="2544" y="1304"/>
                  <a:pt x="2592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429000"/>
            <a:ext cx="4114800" cy="2133720"/>
          </a:xfrm>
          <a:custGeom>
            <a:avLst/>
            <a:gdLst/>
            <a:ahLst/>
            <a:rect l="l" t="t" r="r" b="b"/>
            <a:pathLst>
              <a:path w="2592" h="1344">
                <a:moveTo>
                  <a:pt x="0" y="1344"/>
                </a:moveTo>
                <a:cubicBezTo>
                  <a:pt x="68" y="1276"/>
                  <a:pt x="136" y="1208"/>
                  <a:pt x="240" y="1152"/>
                </a:cubicBezTo>
                <a:cubicBezTo>
                  <a:pt x="344" y="1096"/>
                  <a:pt x="488" y="1056"/>
                  <a:pt x="624" y="1008"/>
                </a:cubicBezTo>
                <a:cubicBezTo>
                  <a:pt x="760" y="960"/>
                  <a:pt x="944" y="920"/>
                  <a:pt x="1056" y="864"/>
                </a:cubicBezTo>
                <a:cubicBezTo>
                  <a:pt x="1168" y="808"/>
                  <a:pt x="1216" y="736"/>
                  <a:pt x="1296" y="672"/>
                </a:cubicBezTo>
                <a:cubicBezTo>
                  <a:pt x="1376" y="608"/>
                  <a:pt x="1440" y="528"/>
                  <a:pt x="1536" y="480"/>
                </a:cubicBezTo>
                <a:cubicBezTo>
                  <a:pt x="1632" y="432"/>
                  <a:pt x="1760" y="416"/>
                  <a:pt x="1872" y="384"/>
                </a:cubicBezTo>
                <a:cubicBezTo>
                  <a:pt x="1984" y="352"/>
                  <a:pt x="2088" y="352"/>
                  <a:pt x="2208" y="288"/>
                </a:cubicBezTo>
                <a:cubicBezTo>
                  <a:pt x="2328" y="224"/>
                  <a:pt x="2528" y="48"/>
                  <a:pt x="25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6E7-B999-4F17-B66F-C965CFCCA7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used to place specific demands in order to secure a desired respon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used as means of accelerating the learning process as well as improving strength and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17D-F06B-4431-93A0-7A0B031E43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d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E. Voss, M.K. Ionta, B.J. Myer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rioceptive Neuromuscular Facilitation: Patterns and Techn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arper &amp; Row Publishers Inc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FDC-E782-45D1-9116-B1DC020C8E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ive Neuromuscular Facil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ive Facilitation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muscular Rehabil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457-4577-428C-AFF1-BDE4E880A1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tor: a clinical neurophysiologist named Herman Kabat, M.D.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D0C-8A0B-4990-BE34-B63FF8718C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ion means: 1) the promotion or hastening of any natural process; the reverse of inhibition; 2) specifically, the effect produced in nerve tissue by the passage of an impulse; the resistance of the nerve is diminished so that a second application of the stimulus evokes the reaction more easil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D3D-0992-4BE9-BEC9-833130498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ive means: receiving stimulation within the tissues of the bod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muscular: pertains to the nerves and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E12-1A1E-4298-A6D7-272C410F10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F may be defined as: methods of promoting or hastening the response of the neuromuscular mechanism through stimulation of the propriocepto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291-8239-4850-AC75-7740EBBBFF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similar to normal functional patterns of motions because they are related to normal responses of the neuromuscular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0D3-9099-4F5C-A1DC-0E269D2019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mal neuromuscular mechanism is capable of a wide range of motor activities within the limits of the anatomical structure, the developmental level, and inherent and previously learned neuromuscular respons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FE4-5E70-405D-BF9C-4A228A8247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8:51:06Z</dcterms:created>
  <dc:creator>Ahmad H. Al-Ghadir</dc:creator>
  <dc:description/>
  <dc:language>en-US</dc:language>
  <cp:lastModifiedBy>Ahmad Alghadir</cp:lastModifiedBy>
  <dcterms:modified xsi:type="dcterms:W3CDTF">2008-06-03T13:59:09Z</dcterms:modified>
  <cp:revision>11</cp:revision>
  <dc:subject/>
  <dc:title>PNF</dc:title>
</cp:coreProperties>
</file>