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D653-3E35-41A7-9555-7DA1A6C2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0E22-77E6-45A9-9798-6521F49B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2AE-411D-4A1A-B077-16065BEB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6C7-CCD5-47AE-8F5B-EE0D72B2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4B2-3DDC-4457-A35B-F616A0D1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3E4A-4F10-418A-855A-1399A764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2AA3-3C88-48FA-9657-27D20771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21B-15DA-43CC-9A6F-750ABA7F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8026-FE16-4562-B9C2-9027174C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972-4DD3-4885-8E52-C89E9D33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BBA9-3D4F-4740-8585-F0E74201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26C-800D-4756-82EE-42FA317E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29F1-7B07-4306-82CB-E58B167D5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lghadir@hotmail.com" TargetMode="External"/><Relationship Id="rId2" Type="http://schemas.openxmlformats.org/officeDocument/2006/relationships/hyperlink" Target="mailto:alghadir@ksu.edu.s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S 323: PN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mad Alghadir, M.S. Ph.D. P.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m: 20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lghadir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lghadir@ksu.edu.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438-2D9F-44FE-B5DB-EE93D6A916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numerable combinations of motion available to the mature, normal subject in meeting the demands of life have been acquired through a well-established developmental pattern and many learning situations requiring physical effort and sk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881-2644-4D66-8C76-19ACA6EBE0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rmal neuromuscular mechanism becomes integrated and efficient at subconscious level without awareness of individual muscle action, reflex activity, and a multitude of other neurophysiological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05AC-BDD9-409E-8430-B8D5EC1473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s occur in relation to coordination, strength, rate of movement, and endurance, but these variations do not prevent adequate response to the ordinary demands of lif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193-EE94-4F32-8F7A-F60A22AEB9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cient neuromuscular mechanism - due to faulty development, trauma, or disease of the nervous or the musculoskeletal systems – is inadequate to meet the demands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C59-45FA-4348-AD4A-E275FB8423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ciencies present themselves in terms of limitation of movement as evidenced by weakness, incoordination, adaptive shortening or immobility of joints, muscle spasm, or spastici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758-DD03-4FDF-BE30-D8109E9129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demands placed by the physical therapist have a facilitating effect upon the patient’s neuromuscular mechanis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ilitating effect is the means used by the physical therapist to reverse the limitations of the pati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128-C15F-4DCE-B3EB-06F9A97E60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of PNF are diagonal and spiral in charac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3429000"/>
            <a:ext cx="4114800" cy="213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514600" y="3428640"/>
            <a:ext cx="4114800" cy="21337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3429000"/>
            <a:ext cx="4114800" cy="21337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3429000"/>
            <a:ext cx="4114800" cy="2133720"/>
          </a:xfrm>
          <a:custGeom>
            <a:avLst/>
            <a:gdLst/>
            <a:ahLst/>
            <a:rect l="l" t="t" r="r" b="b"/>
            <a:pathLst>
              <a:path w="2592" h="1344">
                <a:moveTo>
                  <a:pt x="0" y="0"/>
                </a:moveTo>
                <a:cubicBezTo>
                  <a:pt x="52" y="72"/>
                  <a:pt x="104" y="144"/>
                  <a:pt x="192" y="192"/>
                </a:cubicBezTo>
                <a:cubicBezTo>
                  <a:pt x="280" y="240"/>
                  <a:pt x="408" y="256"/>
                  <a:pt x="528" y="288"/>
                </a:cubicBezTo>
                <a:cubicBezTo>
                  <a:pt x="648" y="320"/>
                  <a:pt x="784" y="320"/>
                  <a:pt x="912" y="384"/>
                </a:cubicBezTo>
                <a:cubicBezTo>
                  <a:pt x="1040" y="448"/>
                  <a:pt x="1184" y="584"/>
                  <a:pt x="1296" y="672"/>
                </a:cubicBezTo>
                <a:cubicBezTo>
                  <a:pt x="1408" y="760"/>
                  <a:pt x="1488" y="856"/>
                  <a:pt x="1584" y="912"/>
                </a:cubicBezTo>
                <a:cubicBezTo>
                  <a:pt x="1680" y="968"/>
                  <a:pt x="1752" y="976"/>
                  <a:pt x="1872" y="1008"/>
                </a:cubicBezTo>
                <a:cubicBezTo>
                  <a:pt x="1992" y="1040"/>
                  <a:pt x="2184" y="1048"/>
                  <a:pt x="2304" y="1104"/>
                </a:cubicBezTo>
                <a:cubicBezTo>
                  <a:pt x="2424" y="1160"/>
                  <a:pt x="2544" y="1304"/>
                  <a:pt x="2592" y="1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429000"/>
            <a:ext cx="4114800" cy="2133720"/>
          </a:xfrm>
          <a:custGeom>
            <a:avLst/>
            <a:gdLst/>
            <a:ahLst/>
            <a:rect l="l" t="t" r="r" b="b"/>
            <a:pathLst>
              <a:path w="2592" h="1344">
                <a:moveTo>
                  <a:pt x="0" y="1344"/>
                </a:moveTo>
                <a:cubicBezTo>
                  <a:pt x="68" y="1276"/>
                  <a:pt x="136" y="1208"/>
                  <a:pt x="240" y="1152"/>
                </a:cubicBezTo>
                <a:cubicBezTo>
                  <a:pt x="344" y="1096"/>
                  <a:pt x="488" y="1056"/>
                  <a:pt x="624" y="1008"/>
                </a:cubicBezTo>
                <a:cubicBezTo>
                  <a:pt x="760" y="960"/>
                  <a:pt x="944" y="920"/>
                  <a:pt x="1056" y="864"/>
                </a:cubicBezTo>
                <a:cubicBezTo>
                  <a:pt x="1168" y="808"/>
                  <a:pt x="1216" y="736"/>
                  <a:pt x="1296" y="672"/>
                </a:cubicBezTo>
                <a:cubicBezTo>
                  <a:pt x="1376" y="608"/>
                  <a:pt x="1440" y="528"/>
                  <a:pt x="1536" y="480"/>
                </a:cubicBezTo>
                <a:cubicBezTo>
                  <a:pt x="1632" y="432"/>
                  <a:pt x="1760" y="416"/>
                  <a:pt x="1872" y="384"/>
                </a:cubicBezTo>
                <a:cubicBezTo>
                  <a:pt x="1984" y="352"/>
                  <a:pt x="2088" y="352"/>
                  <a:pt x="2208" y="288"/>
                </a:cubicBezTo>
                <a:cubicBezTo>
                  <a:pt x="2328" y="224"/>
                  <a:pt x="2528" y="48"/>
                  <a:pt x="25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537A-13D0-4916-B4FF-396B97A92E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of PNF are used to place specific demands in order to secure a desired respon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of PNF are used as means of accelerating the learning process as well as improving strength and ba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C64-5B25-4EF1-A025-3B2C01F540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d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E. Voss, M.K. Ionta, B.J. Myer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rioceptive Neuromuscular Facilitation: Patterns and Techniq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arper &amp; Row Publishers Inc.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 198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619-CF79-4931-AB62-6768012ED9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oceptive Neuromuscular Facili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oceptive Facilitation Techniq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muscular Rehabili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760-5782-4979-BC5D-246310CCAC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tor: a clinical neurophysiologist named Herman Kabat, M.D.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28A-2C24-4D65-85F3-2F78EB4F0A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ion means: 1) the promotion or hastening of any natural process; the reverse of inhibition; 2) specifically, the effect produced in nerve tissue by the passage of an impulse; the resistance of the nerve is diminished so that a second application of the stimulus evokes the reaction more easil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CC00-3C09-4FCA-85F2-C3615479F0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oceptive means: receiving stimulation within the tissues of the bod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muscular: pertains to the nerves and mus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44A-D625-4CCD-B425-E0B9F1769A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NF may be defined as: methods of promoting or hastening the response of the neuromuscular mechanism through stimulation of the propriocepto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7BA-CEEE-4D3B-A43E-A755AEC212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of PNF are similar to normal functional patterns of motions because they are related to normal responses of the neuromuscular mech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EB5-4494-4723-96E0-4E13C0C8C7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rmal neuromuscular mechanism is capable of a wide range of motor activities within the limits of the anatomical structure, the developmental level, and inherent and previously learned neuromuscular respons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mad Alghadir M.S. Ph.D. P.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BDD3-D245-450C-80D4-5761D8B02C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08:51:06Z</dcterms:created>
  <dc:creator>Ahmad H. Al-Ghadir</dc:creator>
  <dc:description/>
  <dc:language>en-US</dc:language>
  <cp:lastModifiedBy>Ahmad Alghadir</cp:lastModifiedBy>
  <dcterms:modified xsi:type="dcterms:W3CDTF">2008-06-03T13:59:09Z</dcterms:modified>
  <cp:revision>11</cp:revision>
  <dc:subject/>
  <dc:title>PNF</dc:title>
</cp:coreProperties>
</file>