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51F4-D248-42F8-96C5-559FCAF10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AB14-653C-4721-AB5A-7120BEEB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CC14-1B5B-431C-8803-FCA38A280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D064-2829-4F00-9A7E-A960CE9F0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962F-4D3B-4FE3-931C-4D267769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0F9C-B690-4089-A9C4-D4CBBDA2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E3CF-21A0-4782-B6D0-C9BFADC3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219E-AE77-4905-9BD6-30A3677D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A114-9A21-45EB-AE5B-DF5CC15E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A5B3-3EC6-4D42-9A9B-D842FFB3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1D23-CF36-42A9-B693-EF2CD21C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98ED-4E27-46EC-B29D-07E5C96B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6E3B-BF24-4DBB-B104-18B82764F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lghadir@hotmail.com" TargetMode="External"/><Relationship Id="rId2" Type="http://schemas.openxmlformats.org/officeDocument/2006/relationships/hyperlink" Target="mailto:alghadir@ksu.edu.sa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S 332: Clinical Neur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hmad Alghadir, M.S. Ph.D. P.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m: 20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alghadir@hotmai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lghadir@ksu.edu.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id top-down vs. rigid down-top hierarchy (e.g. reflex, vision, loss of sensory feedback, neural activity at spinal level, different reactions to one stimulus, loss of motor memor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r flexible motor contr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commands proceed in both descending and ascending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sed-loop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“a control system employing feedback, a reference of correctness, computation of error, and subsequent correction in order to maintain a desired state of the environm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dback sources to monitor movement: visual, vestibular, proprioceptive, and tactile inpu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ro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ing of constant states such as posture and balanc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of slow movements or those requiring a high degree of accurac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of new motor task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nsation with other sensory systems e.g. Romberg t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-loop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ll movements are controlled by closed-loop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reotypical movements e.g. ga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, short duration movements, which do not allow sufficient time for feedback to occu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of error-detection mechanis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originates centrally from a motor program, which is a memory or preprogrammed pattern of information for coordinated movem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idity vs. reli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ity: “if the tool accurately measures the parameter of performance being examined, it is said to have validit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-rater reliability: “consistency of results obtained by an examiner over repeat trial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-rater reliability: “consistency of results obtained by multiple examiner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ative vs. quantit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s can be qualitative, focusing on a subjective estimation of performance, or quantitative, using objective measur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MN and LMN syndr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600200"/>
          <a:ext cx="8229600" cy="4683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9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M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loc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on cau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A, tumors, trauma, 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uma, metabolic di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bution of abnormali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s, ipsi-contra-late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mental, ipsilate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ntary move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lysis or pare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ly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57200" y="1600200"/>
          <a:ext cx="8229600" cy="4643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0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M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cle t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otatic refle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eractive or exagger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d or ab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aneous refle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normalities (Babinski sig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d or ab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cle bul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ight atrophy due to dis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nounced atrophy 70-8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. Flex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M “is an important element of functional movem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ations restrict the normal action of muscles as well as the biomechanical alignment of body part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standing immobilization results in contracture, a fixed resistance resulting from fibrosis of tissues surrounding a j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ility, side to side compari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mmended tex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B. O’sullivan, T.J. Schmitz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hysical Rehabilitation: Assessment and Treat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.A. Davis Company.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. 199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.L. Braddom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hysical Medicine &amp; Rehabili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.B. Saunders Company.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. 199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“amount of joint motion obtained with unassisted voluntary joint motio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uenced by muscle strength and coord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niome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AROM without pai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M is not necess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esence of pain (when appears, how sever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ment of associated joints or substitu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use of limitation if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“amount of joint motion available when an examiner moves the joint through the range without assistance from the pati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lay: “small amount of joint motion that occurs at the end range and is not under voluntary control”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M &gt; AR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niome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cause of limitation if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648320" y="1981080"/>
          <a:ext cx="4038480" cy="391968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ctile struct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e struct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f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“characteristic feel each specific joint has at the end ROM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, firm, or h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capsule, ligaments, muscle tension, soft tissue approximation, or joint surf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or Control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or control evolves from a complex set of neurologic and mechanical processes that govern posture and movem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x patterns: genetically predeterm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or skills: learned through interaction and exploration of the environment and required practice and exper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ory feedback is required to shape and guide the development of the motor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or program: “a set of commands that, when initiated, results in the production of a coordinated movement sequenc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or plan: “combination of several motor programs into an action strateg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or subprogram: smaller subroutine of coordinated muscle 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or memory: “involves the storage of motor programs or subprograms and includes information on how the movement felt (sense of effort), movement components, and movement outco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allows for continued access of this information for repeat performance or modification of existing patterns of movem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s of CNS command hierarch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ociation cortex: “organize sensory information and elaborate the overall motor pla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orimotor cortex: “shape and define the specific motor programs and initiate command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tem and spinal cord: “executes the commands, translating them into the final muscle ac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evels vary depending upon the specific task execute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3:20:46Z</dcterms:created>
  <dc:creator>Ahmad H. Al-Ghadir</dc:creator>
  <dc:description/>
  <dc:language>en-US</dc:language>
  <cp:lastModifiedBy>Ahmad Alghadir</cp:lastModifiedBy>
  <dcterms:modified xsi:type="dcterms:W3CDTF">2008-06-03T13:47:26Z</dcterms:modified>
  <cp:revision>26</cp:revision>
  <dc:subject/>
  <dc:title>RHS 332: Clinical Neurology</dc:title>
</cp:coreProperties>
</file>