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BC-DA50-4CCE-8E2D-A2BD1EB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7B-F591-45E8-8FA1-0D60409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4B7-42F4-47C9-A2D1-1E8B1EF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2D0-8086-4E0F-A047-A4A3AA2A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C16-695F-4811-A740-9969EC89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515-E50F-4AE1-858B-DCDB1F8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1C8-886D-4B07-BD77-49289C7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118-D057-42A4-A926-9FF9DE1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F8E-FF15-4DCA-8E83-EC62A617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176-9BA0-4C96-9A1A-1BC74540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F1E-AE06-4D21-9DC1-D16E6DD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92D-8C49-40CA-9EA8-27045D8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5797-3D93-4D3A-9AC9-B7BB68E4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id top-down vs. rigid down-top hierarchy (e.g. reflex, vision, loss of sensory feedback, neural activity at spinal level, different reactions to one stimulus, loss of motor memo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r flexible motor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ommands proceed in both descending and ascending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d-loo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 control system employing feedback, a reference of correctness, computation of error, and subsequent correction in order to maintain a desired state of the environ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ources to monitor movement: visual, vestibular, proprioceptive, and tactile inp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r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of constant states such as posture and bal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slow movements or those requiring a high degree of accurac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f new motor task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nsation with other sensory systems e.g. Romber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-loo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movements are controlled by closed-loop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ical movements e.g. g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, short duration movements, which do not allow sufficient time for feedback to occu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error-detection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riginates centrally from a motor program, which is a memory or preprogrammed pattern of information for coordinated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vs.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ity: “if the tool accurately measures the parameter of performance being examined, it is said to have valid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rater reliability: “consistency of results obtained by an examiner over repeat trial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rater reliability: “consistency of results obtained by multiple examin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vs.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s can be qualitative, focusing on a subjective estimation of performance, or quantitative, using objective meas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N and LMN 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68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lo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a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A, tumors, trauma,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uma, metabolic di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 of abnormal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, ipsi-contra-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l, ipsi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m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sis or pare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tatic refle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 or exagger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 or 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aneous refle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ities (Babinski sig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d or ab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bu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atrophy due to dis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ced atrophy 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 “is an important element of functional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 restrict the normal action of muscles as well as the biomechanical alignment of body par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standing immobilization results in contracture, a fixed resistance resulting from fibrosis of tissues surrounding a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, side to sid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mount of joint motion obtained with unassisted voluntary joint mo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muscle strength and coord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ROM without pai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M is not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pain (when appears, how sev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ssociated joints or substitu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of limitation if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amount of joint motion available when an examiner moves the joint through the range without assistance from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lay: “small amount of joint motion that occurs at the end range and is not under voluntary control”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M &gt; A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cause of limitation if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8320" y="1981080"/>
          <a:ext cx="4038480" cy="3919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le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stru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“characteristic feel each specific joint has at the end RO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, firm, or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capsule, ligaments, muscle tension, soft tissue approximation, or joint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Control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ontrol evolves from a complex set of neurologic and mechanical processes that govern posture and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patterns: genetically pre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skills: learned through interaction and exploration of the environment and required practice and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feedback is required to shape and guide the development of the moto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program: “a set of commands that, when initiated, results in the production of a coordinated movement sequ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plan: “combination of several motor programs into an action strateg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subprogram: smaller subroutine of coordinated muscl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memory: “involves the storage of motor programs or subprograms and includes information on how the movement felt (sense of effort), movement components, and movement outc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llows for continued access of this information for repeat performance or modification of existing patterns of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CNS command hierarch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cortex: “organize sensory information and elaborate the overall motor pla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imotor cortex: “shape and define the specific motor programs and initiate comman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 and spinal cord: “executes the commands, translating them into the final muscle ac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evels vary depending upon the specific task execu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20:46Z</dcterms:created>
  <dc:creator>Ahmad H. Al-Ghadir</dc:creator>
  <dc:description/>
  <dc:language>en-US</dc:language>
  <cp:lastModifiedBy>Ahmad Alghadir</cp:lastModifiedBy>
  <dcterms:modified xsi:type="dcterms:W3CDTF">2008-06-03T13:47:26Z</dcterms:modified>
  <cp:revision>26</cp:revision>
  <dc:subject/>
  <dc:title>RHS 332: Clinical Neurology</dc:title>
</cp:coreProperties>
</file>