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D88E-37FD-4967-9E1B-F6C18F540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B530-44A3-4F97-A22C-CE54020C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7D75-919B-4D99-A7BE-B6E2D9DE0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B876-1B50-417B-9DCF-3C6C27386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C3F0-D424-4D6C-9C26-00D63F5F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DA40-711E-4154-B616-99C56DFE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9C09-6841-4520-8A02-D5C771BE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36E2-52C3-454A-87D2-EC2D48E6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FFD0-FF04-472B-AFB9-801DE2B8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82C7-42A3-4D2D-B217-2541B4A4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2C4E-366F-4D6F-A953-7C5EA199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BCD6-6731-4EE4-BC88-B73E97C7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F452-9863-4C5D-8CAF-BA66B3A5F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lghadir@hotmail.com" TargetMode="External"/><Relationship Id="rId2" Type="http://schemas.openxmlformats.org/officeDocument/2006/relationships/hyperlink" Target="mailto:alghadir@ksu.edu.sa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S 332: Clinical Neur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hmad Alghadir, M.S. Ph.D. P.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m: 20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alghadir@hotmai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lghadir@ksu.edu.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 of rigid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gwheel rigidity: “ratchetlike response to passive movement characterized by an alternate letting go and increasing resistance to movem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pipe rigidity: “constant resistance to movem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accid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“absence of muscle ton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MN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nal or cerebral shock (temporary stat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ypertonic stat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sensitivity and hyperextens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sto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“hyperkinetic movement disorder characterized by impaired or disordered tone, and sustained and twisting involuntary movement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erited (idiopathic), neurodegenerative disorders (basal gangli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 of dyston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cle contractions may be slow or rapid, and are repetitive and patterne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ne fluctuate in an unpredictable manner from low to high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Tonal assessment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s affecting tone: position, stress, anxiety, volitional effort, medications, temperature, level of arousal and alertness, bladder state, fever, and inf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observ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normal posturing (abnormal synergies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pasticity or rigid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absence of spontaneous movemen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laccid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untary movemen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yston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ying the speed of move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pasticity (clasp-knife reflex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dden stretch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pasticity (clonu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de to side comparison in cases of localized or unilateral dys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scale to evaluate to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– no response (flaccidit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– decreased response (hypotoni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– normal respon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– exaggerated response (mild to moderate hypertoni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– sustained response (severe hypertoni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d Ashworth scale to evaluate spasticity: (see table 8-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dulum test: normal and hypotonic limb swings for several oscillations, hypertonic limb resists swing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op arm test: normal limb falls momentarily then catches and maintains the position, hypotonic limb falls abruptly, hypertonic limb demonstrates delay and resistance to fal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mmended tex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.B. O’sullivan, T.J. Schmitz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hysical Rehabilitation: Assessment and Treat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.A. Davis Company.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. 199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.L. Braddom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hysical Medicine &amp; Rehabili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.B. Saunders Company.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. 199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I. Muscle str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table 8-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V. Refle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ficial cutaneous reflexes: (see table 8-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ep tendon reflexes: (see table 8-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.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“stability produced on each side of a vertical axi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enter of mass (COM) is maintained over the base of support (BOS)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s of balance control system: safety and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s of balance control syst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ory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ory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culoskeletal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Sensory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Visual syst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cts the relative orientation of the body parts and the orientation of the body with reference to the environment.” (visual propriocep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ys information about the organization of the external environm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ly guided mov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ssess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 acuity: Snellen eye ch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temporal hemianopsia: optic chiasm le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Somatosensory inpu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aneous sensations (touch and pressure) from body parts in contact with the support sur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and muscle propriocep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ct the relative orientation and movement of body parts and orientation of the support surfac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ssess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ory examination of trunk and extrem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t and ankle are critical in assessing somatosensory contribution to ba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Vestibular syst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cts angular and linear acceleration and deceleration forces acting on the hea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cts the orientation of the head with reference to gra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ilizes gaze during head movements (vestibulo-ocular reflex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ssess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any test: nystagmu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stibular system lesion. “Nystagmus: rhythmic, oscillatory movement of the eye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or Control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Sensory inte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sensory inputs contribute to the sense of equilibr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e of equilibrium: “sense of the position of the COM in relation to the support surfac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ese inputs are redundant, stable balance can be maintained in the absence of vision, on unstable surfaces, or in sensory conflict situa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more than one sensory system is deficient however, lack of balance control will be evid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le support surface, normal vis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matosensory inpu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le support surface, absent vis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matosensory inpu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urbed support surface, normal vis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isual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urbed support surface, absent vis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stibular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linical Test for Sensory Interaction in Balance (CTSIB): (see figure 8-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“Each condition is maintained for 30 second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Scor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in the amount and direction of postural sway” (1=minimal, 2=mild, 3=moderate, 4=fal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in balance (stopwatch, 30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Nausea and dizzi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ynamic posturography (e.g. balance maste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Musculoskeletal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s of stability (LOS): “maximum angle from vertical that can be tolerated without a loss of balanc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shner: LOS=12° in anteroposterior direction, LOS=16° in medial-lateral dir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culoskeletal responses to disturbance of COM to preserve bal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osynaptic reflex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ural synergies (functional reflex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librium re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the LOS are reached with a COM disturbance, the magnitude of the postural response increase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) Postural syner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kle strate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shifting the COM forward and back by rotating the body as a relatively rigid mass about the ankle joint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cle activation pattern: distal to proxi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ed with small disturbances of COM within 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p strate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shifts in the COM by flexing or extending at the hip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cle activation pattern: proximal to dis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ed with larger disturbances of COM within 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ping strate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gns the BOS under the COM by using rapid steps in the direction of the displacing forc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cited when the limits of stability are reached in response to fast, large postural perturba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ed when “ankle or hip strategies are no longer sufficient to maintain balanc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. T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“resistance of muscle to passive elongation or stretch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Tonal abnormalities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tonia: “state of increased tone above normal resting levels.” (spasticity and rigid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onia: “state of decreased tone below normal resting levels.” (flaccid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stonia: “impaired or distorted tonicit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ural synergies can function in either a feedback mode (as a reaction to a specific stimulus) or in a feedforward mode (in preparation for voluntary movement which requires a balance adjustment)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) Equilibrium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compensatory reaction involving automatic movements of the limbs and trunk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response elicits postural synergies. As LOS are reached, compensatory trunk, arm, and head movements ar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s influencing postural synergies and equilibrium rea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 experi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available sensory inpu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parameters of the disturbing stimul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 position at the time of imba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 of musculoskeletal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M, tone, and str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es to perturb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 of static balance (maintenance of postur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 of dynamic balance (balance during weight shifting or movemen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Responses to perturb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ural stress t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”Measure of motor responses to specified weight disturbances during standing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”Weights (equal to 1.5%, 3%, and 4% of body weight) are applied through a pulley system to a waist belt which is, in turn, attached to the pati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ed and unexpected perturb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es and reactions might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 and nor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 but limi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 but inappropriate for the particular sit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nor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Assessment of static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ble limb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limb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ndem (heel-toe posit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Assessment of dynamic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ing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l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three-point scale: absent, impaired, and pre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balance grades: see table 8-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in balance (stopwatch, 30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 posturograph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st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velocity-dependent increase in tone or resistance of muscle to passive stretch causing stiff movements with exaggerated tendon je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er stretch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ronger resi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s influencing motor control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gn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ous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 of spastic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p-knife reflex: an initial high resistance followed by a sudden relaxation or letting go of a spastic muscle in response to a stretch refle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nus: cyclic hyperactivity of antagonistic muscles occurring at a regular frequency in response to sustained stretch to a spastic mus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stem lesions: (see figure 7-4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erebrate: sustained contraction (spasticity) of extensor muscles in the upper and lower limbs as a result of a brainstem lesion between the red nucleus and vestibular nuclei (subthalamus to midpo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rticate: sustained contraction (spasticity) of extensors in the lower limbs and flexors in the upper limbs as a result of a brainstem lesion above the red nucle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gid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stiffness or inability to bend or be b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rigidity, resistance is uniformly increased in both agonist and antagonist muscles, rendering body parts stiff and immoveabl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of the velocity of a stretch stimulu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inson’s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3:20:46Z</dcterms:created>
  <dc:creator>Ahmad H. Al-Ghadir</dc:creator>
  <dc:description/>
  <dc:language>en-US</dc:language>
  <cp:lastModifiedBy>Ahmad Alghadir</cp:lastModifiedBy>
  <dcterms:modified xsi:type="dcterms:W3CDTF">2008-06-03T13:48:35Z</dcterms:modified>
  <cp:revision>66</cp:revision>
  <dc:subject/>
  <dc:title>RHS 332: Clinical Neurology</dc:title>
</cp:coreProperties>
</file>