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559-DE5A-4F60-BB38-17FD4F40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007-0345-44A5-AF07-AC2B71DD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799-7061-4FCF-92BE-1A59DC8D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7FF-5C77-42FF-84AE-45B83228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4BB-1E9F-4FAA-BE3A-D807158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EE5-06CB-4BF5-9671-0462DB63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271-75E6-482D-BF87-878BB27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2EB-D0FA-478D-97A0-9480956E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D28-0F63-412A-ADF0-883FB116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D56-C9C3-4C55-9825-0E56D89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3C7-82C8-4DD2-BF5A-65505D2E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6F3-D84C-4F97-BCCC-3641C0BB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3146-3E51-4A2F-A2E6-CFC40AEC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rigid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wheel rigidity: “ratchetlike response to passive movement characterized by an alternate letting go and increasing resistance to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pipe rigidity: “constant resistance to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cc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bsence of muscle to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MN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al or cerebral shock (temporary sta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ertonic st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sensitivity and hyperexten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sto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hyperkinetic movement disorder characterized by impaired or disordered tone, and sustained and twisting involuntary movemen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ited (idiopathic), neurodegenerative disorders (basal gangl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dysto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contractions may be slow or rapid, and are repetitive and pattern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e fluctuate in an unpredictable manner from low to hig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Tonal assessment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one: position, stress, anxiety, volitional effort, medications, temperature, level of arousal and alertness, bladder state, fever, and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observ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 posturing (abnormal synergie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sticity or rigid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bsence of spontaneous movem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ccid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 movem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yst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the speed of mov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sticity (clasp-knife refle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stret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sticity (clon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to side comparison in cases of localized or unilateral dys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scale to evaluate t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– no response (flaccidit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decreased response (hypoton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– normal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– exaggerated response (mild to moderate hyperton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– sustained response (severe hyperton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Ashworth scale to evaluate spasticity: (see table 8-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ulum test: normal and hypotonic limb swings for several oscillations, hypertonic limb resists sw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arm test: normal limb falls momentarily then catches and maintains the position, hypotonic limb falls abruptly, hypertonic limb demonstrates delay and resistance to fa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Muscle str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able 8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. Refl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ficial cutaneous reflexes: (see table 8-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tendon reflexes: (see table 8-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.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stability produced on each side of a vertical ax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er of mass (COM) is maintained over the base of support (BOS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of balance control system: safety and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of balance control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oskeletal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ensory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Visual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s the relative orientation of the body parts and the orientation of the body with reference to the environment.” (visual proprioce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s information about the organization of the external environ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ly guided mov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acuity: Snellen eye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emporal hemianopsia: optic chiasm le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omatosensory in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aneous sensations (touch and pressure) from body parts in contact with the support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nd muscle proprio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the relative orientation and movement of body parts and orientation of the support surfa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examination of trunk and extrem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 and ankle are critical in assessing somatosensory contribution to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Vestibular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s angular and linear acceleration and deceleration forces acting on the hea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s the orientation of the head with reference to gra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s gaze during head movements (vestibulo-ocular refle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ny test: nystagmu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stibular system lesion. “Nystagmus: rhythmic, oscillatory movement of the ey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 Contro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ensory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ensory inputs contribute to the sense of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equilibrium: “sense of the position of the COM in relation to the support surfa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se inputs are redundant, stable balance can be maintained in the absence of vision, on unstable surfaces, or in sensory conflict situa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ore than one sensory system is deficient however, lack of balance control will be evid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support surface, normal vi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atosensory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support surface, absent vi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atosensory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ed support surface, normal vi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sual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ed support surface, absent vi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stib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inical Test for Sensory Interaction in Balance (CTSIB): (see figure 8-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“Each condition is maintained for 30 secon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co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amount and direction of postural sway” (1=minimal, 2=mild, 3=moderate, 4=fal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 balance (stopwatch, 30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Nausea and dizz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ynamic posturography (e.g. balance mas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Musculoskeleta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f stability (LOS): “maximum angle from vertical that can be tolerated without a loss of bal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hner: LOS=12° in anteroposterior direction, LOS=16° in medial-lateral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oskeletal responses to disturbance of COM to preserve bal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synaptic refle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ral synergies (functional reflex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LOS are reached with a COM disturbance, the magnitude of the postural response increas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) Postural syner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le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shifting the COM forward and back by rotating the body as a relatively rigid mass about the ankle join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activation pattern: distal to prox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d with small disturbances of COM within 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shifts in the COM by flexing or extending at the hip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activation pattern: proximal to dis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d with larger disturbances of COM within 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ing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gns the BOS under the COM by using rapid steps in the direction of the displacing for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cited when the limits of stability are reached in response to fast, large postural perturba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d when “ankle or hip strategies are no longer sufficient to maintain bal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resistance of muscle to passive elongation or stretc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Tonal abnormalities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onia: “state of increased tone above normal resting levels.” (spasticity and rigid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onia: “state of decreased tone below normal resting levels.” (flaccid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tonia: “impaired or distorted tonic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ral synergies can function in either a feedback mode (as a reaction to a specific stimulus) or in a feedforward mode (in preparation for voluntary movement which requires a balance adjustment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) Equilibrium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mpensatory reaction involving automatic movements of the limbs and trun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response elicits postural synergies. As LOS are reached, compensatory trunk, arm, and head movements ar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postural synergies and equilibrium re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exper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available sensory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arameters of the disturbing stim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osition at the time of im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musculoskeletal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, tone,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s to perturb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static balance (maintenance of post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dynamic balance (balance during weight shifting or movem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Responses to perturb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ral stress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”Measure of motor responses to specified weight disturbances during stand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”Weights (equal to 1.5%, 3%, and 4% of body weight) are applied through a pulley system to a waist belt which is, in turn, attached to the pati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and unexpected perturb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and reactions might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and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but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but inappropriate for the particular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ssessment of static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limb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limb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dem (heel-toe posi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ssessment of dynamic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ing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three-point scale: absent, impaired, and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balance grades: see table 8-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in balance (stopwatch, 30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osturogra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velocity-dependent increase in tone or resistance of muscle to passive stretch causing stiff movements with exaggerated tendon je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er stret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onger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influencing motor contro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spasti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p-knife reflex: an initial high resistance followed by a sudden relaxation or letting go of a spastic muscle in response to a stretch ref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nus: cyclic hyperactivity of antagonistic muscles occurring at a regular frequency in response to sustained stretch to a spastic mus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em lesions: (see figure 7-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rebrate: sustained contraction (spasticity) of extensor muscles in the upper and lower limbs as a result of a brainstem lesion between the red nucleus and vestibular nuclei (subthalamus to midp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rticate: sustained contraction (spasticity) of extensors in the lower limbs and flexors in the upper limbs as a result of a brainstem lesion above the red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stiffness or inability to bend or be b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igidity, resistance is uniformly increased in both agonist and antagonist muscles, rendering body parts stiff and immoveab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f the velocity of a stretch stimulu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son’s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20:46Z</dcterms:created>
  <dc:creator>Ahmad H. Al-Ghadir</dc:creator>
  <dc:description/>
  <dc:language>en-US</dc:language>
  <cp:lastModifiedBy>Ahmad Alghadir</cp:lastModifiedBy>
  <dcterms:modified xsi:type="dcterms:W3CDTF">2008-06-03T13:48:35Z</dcterms:modified>
  <cp:revision>66</cp:revision>
  <dc:subject/>
  <dc:title>RHS 332: Clinical Neurology</dc:title>
</cp:coreProperties>
</file>