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4C8-D75D-42A8-ADDC-D4736C52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1F8-7541-4D0F-A342-6EF32986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372-422E-447F-A066-94405001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6F0-70F8-47B1-B05F-83827968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456-7EF6-473E-8D5A-0B460322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37C-9C54-4461-ADD2-C9E61059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0A3-3991-4C02-9B9E-2A6AB47E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EB9-26F4-470C-A8A1-6E06210E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30C-8E5C-41B9-A38E-83A3B0B7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0CB-0E82-44C8-9227-97B81D90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A45-C6B9-498E-9FDB-9468A8EF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361-3A64-4376-A138-061A5C55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16CD-DC8B-48B3-AC74-0BCD49184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lghadir@hotmail.com" TargetMode="External"/><Relationship Id="rId2" Type="http://schemas.openxmlformats.org/officeDocument/2006/relationships/hyperlink" Target="mailto:alghadir@ksu.edu.s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S 332: Clinical Neu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mad Alghadir, M.S. Ph.D. P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: 2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lghadir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ghadir@ksu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deviation from normal in the way an individual performs a task or activity, usually as the result of impairment” (e.g. inability to bath independent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ies of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function: “sensory-motor skills necessary for the performance of usual daily activit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ADL: “tasks concerned with daily self-care, such as feeding, dressing, hygiene, and physical mobil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al ADL: “advanced skills considered vital to an individual’s independent living in the community, including managing personal affairs, cooking and shopping, and home cho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function: “ability to use mental and affective resources effectively in response to the requirements of a particular situ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function: “intellectual or cognitive abilities of an individual, including initiative, attention, concentration, memory, problem solving, and judg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ive function: “mental and emotional skills and coping strategies needed to perform everyday tasks and stresses, as well as the more traumatic events each person encounters over the course of a lifetime; includes such factors as self-esteem, body image, anxiety, depression, and the ability to cope with chang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function: “ability to interact successfully with others in the performance of social roles and obligations; includes social interactions, roles, and network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clinically meaningful, impairments must be linked to functional limitations in a cause-and-effect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inability to perform social roles typical of independent adults, taking into account age, sex, social, and cultural facto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ility is characterized by a discordance between the actual performance of an individual in a particular role and the expectations of the community regarding what is “normal” for an adul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ed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B. O’sullivan, T.J. Schmitz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Rehabilitation: Assessment and 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.A. Davis Company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L. Braddom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edicine &amp; Rehabil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.B. Saunders Company.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i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social disadvantage for a given individual of impairment, functional limitation, or disabil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gative value placed by others on an impairment, functional limitation, or disability makes a person handicapp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ig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restr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disease and impairments, but different functional limi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ing differently, but not handica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instr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-based assessment: “assessment of a particular skill based on observation of an actual attempt, as opposed to acceptance of a self-report of skill leve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should be similar to the actual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may be biased by fati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ppropriate safety preca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dministered assessment: “survey or series of questions constructed to be answered directly by the respondent without additional input or direc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between person’s habitual performance and capacity to perform a task (NO vs. N/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a time-frame reference (short- vs. long-term objectiv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ment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ependence, difficulty, and endu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e: “state requiring some level of human assista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: “hybrid term that suggests that an activity poses an extra burden for an individual, regardless of dependence leve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urance: “energy consumption required to complete a functional task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s of descriptive terms should be clear to all others using the medical rec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able 11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imed assess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vs.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ment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 scale (dichotomous or categorical scale): see table 11-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tool format in which a description of various tasks is simply scored dichotomously (e.g., present or absent; completed or not completed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 or letter-grade scale (ordinal scale): M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scheme that rates observations in terms of the relationship between items (e.g., less than, equal to, or greater than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r additive scale: see table 11-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to grading a specific series of skills by awarding points for each task or activity; totals the score as a percentage of 100 or as a frac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or linear analog scale (continues scale):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rating designed to capture a subject’s judgment of his or her position on a continuum. A line is presented horizontally or vertically on paper, with the endpoints anchored with descriptive words representing the extremes in terms of the parameter of intere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scribe the patient’s problem in functional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lan treatment to eliminate or reduce the problems iden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easure the progress of these treatments towards the desired functional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by WHO: “a state of complete physical, mental, and social well-being, and not merely the absence of diseas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used to define h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s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is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ure 11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pathologic condition of the body that presents a group of characteristic signs and symptoms that sets the condition apart as abnorma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signs: directly observable or measurable changes in an individual’s organs or systems as a result of pathology or disease (e.g. elevated blood pressu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: “subjective reactions to the changes experienced by an individual as a result of pathology or disease” (e.g. dizzin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medical conditions that are not labels for a single pathologic entity, but clusters of signs and symptoms (e.g. AI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any loss or abnormality of anatomic, physiologic, or psychologic structure or function; the natural consequence of pathology or disease” (e.g. loss of RO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festation of pathology o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or perma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20:46Z</dcterms:created>
  <dc:creator>Ahmad H. Al-Ghadir</dc:creator>
  <dc:description/>
  <dc:language>en-US</dc:language>
  <cp:lastModifiedBy>Ahmad Alghadir</cp:lastModifiedBy>
  <dcterms:modified xsi:type="dcterms:W3CDTF">2008-06-03T13:52:31Z</dcterms:modified>
  <cp:revision>86</cp:revision>
  <dc:subject/>
  <dc:title>RHS 332: Clinical Neurology</dc:title>
</cp:coreProperties>
</file>