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2AC-B650-4805-9732-EF922995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987-02CF-4E37-BF85-BCFD631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14-28C9-4F06-9585-6F920D4E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49B-1188-416E-8ECF-24FEB91B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1CD-F3F9-4DDF-9E72-FEEF8B6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05B-23FF-48A0-AB81-4EEC2970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AF6-8319-41B5-B5CC-60C5612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126-6764-45D1-BACD-D8C9F3A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4B7-FA10-4DE3-AC23-A3C8CB3D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152-6028-4084-9467-52DFDA5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BCE-1037-4F0C-AA1F-6EF6493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8CB-3CE7-4DBF-A56F-26C86BE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0D6-3139-40F3-AE51-6E43D23B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deviation from normal in the way an individual performs a task or activity, usually as the result of impairment” (e.g. inability to bath independent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unction: “sensory-motor skills necessary for the performance of usual daily activit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DL: “tasks concerned with daily self-care, such as feeding, dressing, hygiene, and physical mo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l ADL: “advanced skills considered vital to an individual’s independent living in the community, including managing personal affairs, cooking and shopping, and home cho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function: “ability to use mental and affective resources effectively in response to the requirements of a particular situ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function: “intellectual or cognitive abilities of an individual, including initiative, attention, concentration, memory, problem solving, and judg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function: “mental and emotional skills and coping strategies needed to perform everyday tasks and stresses, as well as the more traumatic events each person encounters over the course of a lifetime; includes such factors as self-esteem, body image, anxiety, depression, and the ability to cope with chang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function: “ability to interact successfully with others in the performance of social roles and obligations; includes social interactions, roles, and network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linically meaningful, impairments must be linked to functional limitations in a cause-and-effec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inability to perform social roles typical of independent adults, taking into account age, sex, social, and cultural facto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ility is characterized by a discordance between the actual performance of an individual in a particular role and the expectations of the community regarding what is “normal” for an adul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i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social disadvantage for a given individual of impairment, functional limitation, or disa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value placed by others on an impairment, functional limitation, or disability makes a person handicapp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i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restr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isease and impairments, but different functional limi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ing differently, but not handic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-based assessment: “assessment of a particular skill based on observation of an actual attempt, as opposed to acceptance of a self-report of skill leve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should be similar to the actu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may be biased by fati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ppropriate safety preca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dministered assessment: “survey or series of questions constructed to be answered directly by the respondent without additional input or dire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person’s habitual performance and capacity to perform a task (NO vs. N/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 time-frame reference (short- vs. long-term objectiv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pendence, difficulty, and endu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: “state requiring some level of human assist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: “hybrid term that suggests that an activity poses an extra burden for an individual, regardless of dependence leve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ance: “energy consumption required to complete a functional tas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s of descriptive terms should be clear to all others using the medical rec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able 11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imed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vs.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 scale (dichotomous or categorical scale): see table 11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tool format in which a description of various tasks is simply scored dichotomously (e.g., present or absent; completed or not completed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 or letter-grade scale (ordinal scale): M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cheme that rates observations in terms of the relationship between items (e.g., less than, equal to, or greater than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r additive scale: see table 11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grading a specific series of skills by awarding points for each task or activity; totals the score as a percentage of 100 or as a fra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or linear analog scale (continues scale):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ating designed to capture a subject’s judgment of his or her position on a continuum. A line is presented horizontally or vertically on paper, with the endpoints anchored with descriptive words representing the extremes in terms of the parameter of inter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scribe the patient’s problem in functional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lan treatment to eliminate or reduce the problems ide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easure the progress of these treatments towards the desired function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by WHO: “a state of complete physical, mental, and social well-being, and not merely the absence of disea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used to define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 11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pathologic condition of the body that presents a group of characteristic signs and symptoms that sets the condition apart as abnorm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igns: directly observable or measurable changes in an individual’s organs or systems as a result of pathology or disease (e.g. elevated blood press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: “subjective reactions to the changes experienced by an individual as a result of pathology or disease” (e.g. dizzin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medical conditions that are not labels for a single pathologic entity, but clusters of signs and symptoms (e.g. AI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ny loss or abnormality of anatomic, physiologic, or psychologic structure or function; the natural consequence of pathology or disease” (e.g. loss of R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ation of pathology 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or perma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52:31Z</dcterms:modified>
  <cp:revision>86</cp:revision>
  <dc:subject/>
  <dc:title>RHS 332: Clinical Neurology</dc:title>
</cp:coreProperties>
</file>