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1A02-20AE-49C7-933B-0EA82F7ED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A9B4-A41B-4B37-9CCD-93E94793E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857A-4F06-4CE7-A34D-647AA35A8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9B03-B530-4B30-B62E-31E095641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0E8A-D08D-40D0-90C3-0F2A8FA3D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9FD0-5977-4351-8DBC-72A9AB256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898F-8910-446B-A9DA-89E9BE018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41F8-7DE7-4258-8350-AA8E5F908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A492-DE4C-440C-B44E-B9BA31705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194C-A421-434E-AFF0-3E6A34A73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75CB-80A5-4643-9D66-88F398681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A274-F250-42D2-BAF5-01715977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A4541-3F7F-4CFF-8803-846643F6A8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alghadir@hotmail.com" TargetMode="External"/><Relationship Id="rId2" Type="http://schemas.openxmlformats.org/officeDocument/2006/relationships/hyperlink" Target="mailto:alghadir@ksu.edu.sa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HS 332: Clinical Neur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hmad Alghadir, M.S. Ph.D. P.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om: 207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alghadir@hotmail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lghadir@ksu.edu.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poses of sensory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the level of sensory feedback affecting movement (including influence of sensory deficits on performance of functional activities)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a basis for initiating a program of desensitization (use of tactile stimuli to decrease hypersensitivity) or sensory retraining (learning the sensation of a movement or sensory stimuli)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the need for instruction in techniques to compensate for the sensory loss, such as use of visual cues during movement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re patient safety and prevent secondary complications (e.g. prevention of burns during application of heating modalities, prevention of ulcers, and so forth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te goals and plan for appropriate therapeutic intervention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determine, over a period of time, the effects of rehabilitation, or surgical or medical management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ification of the sensory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assification according to the fun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pathic syst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sible for protection by warning or defending the organism against potential harm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rned with unpleasant sens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reme changes in tempera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pleasant light touch sensations such as itching and ting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icritic syst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rt a controlling function over the protopathic system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rned with highly discriminative sens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lization of cutaneous stimul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-point discrimin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tle changes in tempera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 recogni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assification according to the type or location of the recepto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ficial (exteroceptive) sens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rocepto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n and subcutaneous tiss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n, temperature, pressure, and light tou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ep (proprioceptive) sens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riocepto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cles, tendons, ligaments, fascia, and joi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bration: “ability to perceive a rapidly oscillating or vibratory stimuli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e of position: “awareness of the position of joints at rest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e of movement (kinesthesia): “awareness of movement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ommended tex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.B. O’sullivan, T.J. Schmitz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hysical Rehabilitation: Assessment and Treat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F.A. Davis Company.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d. 199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.L. Braddom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hysical Medicine &amp; Rehabilit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.B. Saunders Company.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d. 199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d (cortical) sens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ctile local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-point discrimin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lateral simultaneous stimu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gnition of tex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reognosis: “ability to recognize the form of objects by touch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ognosis: “ability to recognize weight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esthesia: “recognition of numbers, letters, or symbols traced on the skin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assification according to the system by which sensations are mediat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erolateral spinothalamic syst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cioceptive information (pai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mal information (temperatur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udely localized tou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ck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xual sens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rsal column medial lemniscal syst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s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b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riminative tou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e of posi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e of mov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ification of the sensory recep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chanoreceptors: respond to mechanical de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moreceptors: respond to changes in tempera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cioceptors: respond to noxious stimuli (pai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moreceptors: respond to chemical substances (taste, smell, oxygen levels, and carbon dioxide concentratio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tic receptors: respond to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intensities of stimuli to any type of receptor may be perceived as pain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erolateral spinothalamic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erior (ventral) spinothalamic tract: crudely localized tou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eral spinothalamic tract: pain and tempera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bers originate from the dorsal root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ross to the opposite anterolateral segment of the white matter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cend in the anterior (ventral) and lateral white column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rminate at all levels of the lower brainstem and the thalam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ow conducting fibers, small diameter, and less myelin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ated primarily by mechanoreceptors, thermoreceptors, and nociocep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rned with non-discriminative sens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d with the DCML system, the ALST system is cruder and more primi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ory signals transmitted by this system do not require discrete localization of signal source or precise graduations in intensity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use pattern of termination results in only crude abilities to localize the source of a stimulus on the body surface, and poor intensity discrimination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sory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969920" y="228600"/>
            <a:ext cx="4878720" cy="6000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rsal column medial lemniscal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bers originate from the dorsal root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nter the dorsal colum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cend to the medulla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ynapse with the dorsal column nuclei (nuclei gracilis and nuclei cuneatus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ross to the opposite sid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ss up to the thalamus through the medial lemniscus pathwa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rminate in the ventral posterolateral thalamu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ird-order neurons project to the somatosensory corte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 conducting fibers, large diameter, and greater myelin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ated primarily by specialized mechanorecep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rned with discriminative sens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ory modalities that require fine graduations of intensity and precise localization on the body surface are mediated by this system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969920" y="228600"/>
            <a:ext cx="4878720" cy="6000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guidelines for sensory assess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esting procedure consists of two components: (1) application of the stimulus and (2) patient response to the stimulu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 gathered from sensory assessment should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ype of sensation affected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quantity of involvement or body surface areas affected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gree of involvement (e.g., absent, impaired, delayed responses, hyperesthesia, and so forth)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uperficial (exteroceptive) sensations are usually assessed first, inasmuch as they consist of more primitive responses, followed by the deep (proprioceptive), and then combined (cortical) sensa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 test indicates impairment of the superficial responses, it is likely that some impairment of the more discriminative (deep and combined) sensations also will be noted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pplication of stimuli should be applied in a random, unpredictable manner with variation in timing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ill improve accuracy of the test results by avoiding a consistent pattern of application, which might provide the patient with “clues” to the correct respons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ing the close relationship between sensory input and motor output, sensory deficits influence motor performance and result in significant functional impair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fore, sensory assessment should be conducted prior to motor, functional, and coordination assess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knowledge of the patient’s cognitive status and hearing and visual acuity is required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atient should be in a comfortable, relaxed position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luding the patient’s vision during the testing should be used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r tissue or callused areas are generally less sensitive and will demonstrate a diminished response to sensory stimuli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are usually carried out in a distal to proximal direction to save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should be performed following the main peripheral nerves and the dermat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rmatomes: “cutaneous areas that correspond to the spinal segments that provide their innervation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495680" y="0"/>
            <a:ext cx="464832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523880" y="990720"/>
            <a:ext cx="6201000" cy="468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6400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376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ing protoc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ficial sens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: large-headed pin (one sharp end and one dull end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se: sharp, dull, or unable to t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erat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: two test tubes (hot water and crushed ic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se: hot, cold, or unable to t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s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: firm pressure using therapist’s thumb or fingert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se: yes or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tou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: tissue or piece of cott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se: yes or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ysfunction may happen at any point within the sensory syst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p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pheral ner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inal c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cle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ory tra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ins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lam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ory corte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ep sens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br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: vibrating tuning f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se: vibrating or non-vibra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e of posi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: initial, mid-, or terminal PR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se: describe verbally the position of the joint or duplicate the position of the joint with the opposite extrem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e of move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: initial, mid-, or terminal PR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e of move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: initial, mid-, or terminal PR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se: describe verbally the direction of movement or duplicate the movement with the opposite extremity, while the extremity is in mo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d sens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ctile localiz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: touch stimulus using therapist’s fingert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se: identify the location of the stimulus (distance between the location of the stimulus and the site indicated by the patient should be recoded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-point discrimin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: two touch stimuli applied simultaneously using therapist’s fingerti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se: one or two stimuli (record the smallest distance between the two stimuli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254720" cy="482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089480" cy="495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6840720" cy="520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lateral simultaneous stimul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: simultaneous touch stimulus applied on opposite sides of the body using therapist’s fingerti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se: yes or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gnition of text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: various textures (silk and wool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se: identify textures by name (silk and wool) or by texture (smooth and rough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gnoses that generally demonstrate some level of sensory impair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 aging pro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ease or injury to the peripheral ner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ease or injury to the spinal c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d disease or inju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mipleg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sclero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ct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reognos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: small objects of different size and shape (coins, keys, pens, … etc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se: name the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ognos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: small objects of the same size but of graduated we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se: heavier or ligh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esthes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: letters, numbers, or designs traced on the palm of the patient’s hand using the eraser end of a penc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se: identify verbally the figures dra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 in sensory fun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 in response to tactile stimul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 in response to vibratory stimul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reased two-point discrimin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reased kinesthetic aware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ations in the perception of p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impair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ural insta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ggerated body s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de-based ga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lance probl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dency to drop items held in the h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y in recognizing body positions in sp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y in executing appropriate motor responses during some functional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ability to safely accomplish some functional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y in learning new motor ski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31T05:03:37Z</dcterms:created>
  <dc:creator>Ahmad H. Al-Ghadir</dc:creator>
  <dc:description/>
  <dc:language>en-US</dc:language>
  <cp:lastModifiedBy>Ahmad Alghadir</cp:lastModifiedBy>
  <dcterms:modified xsi:type="dcterms:W3CDTF">2008-06-03T13:52:34Z</dcterms:modified>
  <cp:revision>45</cp:revision>
  <dc:subject/>
  <dc:title>RHS 332: Clinical Neurology</dc:title>
</cp:coreProperties>
</file>