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4F2-C0D1-4CF8-A6F5-DDFAF48C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A44-B2A5-4DF6-8C37-F6AEA68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51A-F138-40B0-9B4B-4799773C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531-90C0-49E3-845B-CFF9FA5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F1B-8DE7-4389-B9F5-9120E093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09C-25CA-4715-92E9-4E9A0EE6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3C3-655F-4E7E-8B73-D1EE3F7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E19-D770-477F-940C-116D81A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F8F-8A9E-4ADB-926B-A00BE6D1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8B1-5F41-4FD5-83C1-9354997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272-7D2F-4448-AB81-81F0621A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01F-384A-4328-B6CF-4949480B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0865-0036-4E38-BCCF-978647C37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sensor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level of sensory feedback affecting movement (including influence of sensory deficits on performance of functional activities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basis for initiating a program of desensitization (use of tactile stimuli to decrease hypersensitivity) or sensory retraining (learning the sensation of a movement or sensory stimuli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eed for instruction in techniques to compensate for the sensory loss, such as use of visual cues during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re patient safety and prevent secondary complications (e.g. prevention of burns during application of heating modalities, prevention of ulcers, and so fort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goals and plan for appropriate therapeutic interven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termine, over a period of time, the effects of rehabilitation, or surgical or medical manag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the sens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according to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ath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protection by warning or defending the organism against potential har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unpleasant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hanges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easant light touch sensations such as itching and tin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rit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t a controlling function over the protopathic syst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highly discriminative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zation of cutaneous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le changes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recog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according to the type or location of the re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ficial (exteroceptive)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o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and subcutaneous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, temperature, pressure, and light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(proprioceptive)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, tendons, ligaments, fascia, and j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: “ability to perceive a rapidly oscillating or vibratory stimul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position: “awareness of the position of joints at r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 (kinesthesia): “awareness of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(cortical)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 loc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simultaneous st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tex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gnosis: “ability to recognize the form of objects by touc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gnosis: “ability to recognize we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esthesia: “recognition of numbers, letters, or symbols traced on the sk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according to the system by which sensations are medi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olateral spinothalam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ioceptive information (pa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ormation (tempera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dely localized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sen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sal column medial lemnisca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ve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the sensory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oreceptors: respond to mechanical de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receptors: respond to changes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ioceptors: respond to noxious stimuli (pa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oreceptors: respond to chemical substances (taste, smell, oxygen levels, and carbon dioxide concent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ic receptors: respond to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tensities of stimuli to any type of receptor may be perceived as pa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olateral spinothalam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 (ventral) spinothalamic tract: crudely localized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al spinothalamic tract: pain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originate from the dorsal roo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oss to the opposite anterolateral segment of the white mat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cend in the anterior (ventral) and lateral white colum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inate at all levels of the lower brainstem and the thal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onducting fibers, small diameter, and less myel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primarily by mechanoreceptors, thermoreceptors, and nocio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non-discriminative sen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the DCML system, the ALST system is cruder and more prim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signals transmitted by this system do not require discrete localization of signal source or precise graduations in intens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 pattern of termination results in only crude abilities to localize the source of a stimulus on the body surface, and poor intensity discrimin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69920" y="228600"/>
            <a:ext cx="4878720" cy="600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sal column medial lemnis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originate from the dorsal roo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ter the dorsal colum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cend to the medull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apse with the dorsal column nuclei (nuclei gracilis and nuclei cuneatu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oss to the opposite sid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ss up to the thalamus through the medial lemniscus pathw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inate in the ventral posterolateral thalam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rd-order neurons project to the somatosensory co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conducting fibers, large diameter, and greater myel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primarily by specialized mechano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discriminative sen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modalities that require fine graduations of intensity and precise localization on the body surface are mediated by this syst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69920" y="228600"/>
            <a:ext cx="4878720" cy="600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for sensory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sting procedure consists of two components: (1) application of the stimulus and (2) patient response to the stimulu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thered from sensory assessment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sensation affec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ntity of involvement or body surface areas affec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gree of involvement (e.g., absent, impaired, delayed responses, hyperesthesia, and so forth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erficial (exteroceptive) sensations are usually assessed first, inasmuch as they consist of more primitive responses, followed by the deep (proprioceptive), and then combined (cortical) sensa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est indicates impairment of the superficial responses, it is likely that some impairment of the more discriminative (deep and combined) sensations also will be no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stimuli should be applied in a random, unpredictable manner with variation in tim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improve accuracy of the test results by avoiding a consistent pattern of application, which might provide the patient with “clues” to the correct respon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the close relationship between sensory input and motor output, sensory deficits influence motor performance and result in significant functional impai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sensory assessment should be conducted prior to motor, functional, and coordination assess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knowledge of the patient’s cognitive status and hearing and visual acuity is requir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 should be in a comfortable, relaxed posi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ding the patient’s vision during the testing should be us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 tissue or callused areas are generally less sensitive and will demonstrate a diminished response to sensory stimul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are usually carried out in a distal to proximal direction to s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should be performed following the main peripheral nerves and the dermat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es: “cutaneous areas that correspond to the spinal segments that provide their innerv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201000" cy="46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76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ficial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large-headed pin (one sharp end and one dull e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sharp, dull, or unable to t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wo test tubes (hot water and crushed 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hot, cold, or unable to t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firm pressure using therapist’s thumb or finge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yes 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tou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issue or piece of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yes 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function may happen at any point within the senso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n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l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l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co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vibrating tuning f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vibrating or non-vibr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pos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initial, mid-, or terminal P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describe verbally the position of the joint or duplicate the position of the joint with the opposite extrem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initial, mid-, or terminal P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initial, mid-, or terminal P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describe verbally the direction of movement or duplicate the movement with the opposite extremity, while the extremity is in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 loc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ouch stimulus using therapist’s finge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identify the location of the stimulus (distance between the location of the stimulus and the site indicated by the patient should be reco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discr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wo touch stimuli applied simultaneously using therapist’s fingert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one or two stimuli (record the smallest distance between the two stimul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54720" cy="482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9480" cy="495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840720" cy="520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simultaneous stim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simultaneous touch stimulus applied on opposite sides of the body using therapist’s fingert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yes o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tex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various textures (silk and woo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identify textures by name (silk and wool) or by texture (smooth and roug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that generally demonstrate some level of sensory impair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g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or injury to the peripheral ner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or injury to the spinal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disease or inj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ple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cle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gn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small objects of different size and shape (coins, keys, pens, …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name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gn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small objects of the same size but of graduated 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heavier or li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esthe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letters, numbers, or designs traced on the palm of the patient’s hand using the eraser end of a p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identify verbally the figures dra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sensor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response to tactile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response to vibratory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two-point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kinesthetic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 in the perception of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impair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ins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ed body s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-based g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drop items held in the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recognizing body positions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executing appropriate motor responses during some functional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safely accomplish some functional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learning new motor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5:03:37Z</dcterms:created>
  <dc:creator>Ahmad H. Al-Ghadir</dc:creator>
  <dc:description/>
  <dc:language>en-US</dc:language>
  <cp:lastModifiedBy>Ahmad Alghadir</cp:lastModifiedBy>
  <dcterms:modified xsi:type="dcterms:W3CDTF">2008-06-03T13:52:34Z</dcterms:modified>
  <cp:revision>45</cp:revision>
  <dc:subject/>
  <dc:title>RHS 332: Clinical Neurology</dc:title>
</cp:coreProperties>
</file>