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BD1ED-71AC-4992-B7A5-F93C63BCA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6C4D3-6350-473F-AA40-946C0170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80805-A674-4367-97D3-2E9A50689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79D37-B0C9-46B3-912F-BD3CBEA0C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517A-4F62-4DFC-A24C-2CD01FFBC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08B60-7DA6-4790-97A4-803484927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CA63-C3FD-4802-A97E-88244C71F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2E027-1E47-4A2C-A873-942317AE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2F04-E115-4589-AE40-403F3CF97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F2F6-C485-437F-96E1-77B70CC27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68FD2-825C-4A4D-8233-4CDC8610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E40D7-C60F-44EB-9C6C-2A7710B68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FAA7-42C0-4D9E-B74D-8AA9F3543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lghadir@hotmail.com" TargetMode="External"/><Relationship Id="rId2" Type="http://schemas.openxmlformats.org/officeDocument/2006/relationships/hyperlink" Target="mailto:alghadir@ksu.edu.s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HS 332: Clinical Neur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2209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mad Alghadir, M.S. Ph.D. P.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2071</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aalghadir@hotmail.co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alghadir@ksu.edu.s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erebellum compares the commands for movement transmitted from the motor cortex with the actual motor performance of the body seg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s occurs by a comparison of information received from the cortex with that obtained from peripheral feedback mechanis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ovements deviate from the intended command, the cerebellum sends corrective signals to the cortex.</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features of cerebellar dysfun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onia and hyporeflexi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metr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isturbance in the ability to judge the distance or range of a move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metria = underestim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metria = overesti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diadochokines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mpaired ability to perform rapid alternating moveme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voluntary oscillatory movement resulting from alternate contractions of opposing muscle group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ion (kinetic) vs. resting (static) trem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decomposi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vement performed in a sequence of component parts rather than as a single, smooth activ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ders of ga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base suppor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teady, irregular, staggering, and deviated gait patter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 initiation of forward progression of lower extrem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in slowing down the forward progression of the lower extremity once initia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x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erm used to describe uncoordinated movement that results from the combined influence of cerebellar dysfunction (especially dysmetria and decomposition of movement) on gait, posture, and patterns of mov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arthria (scanning speech):</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isorder of the motor component of speech articul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ch pattern is slow, slurred, hesitant, with prolonged syllables and inappropriate paus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selection and grammar remain int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stagm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ound phenomen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sence of a check reflex; when resistance to an isometric contraction is suddenly removed, the body segment moves forcibly in the direction in which effort was focus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then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eneralized muscle weakness associated with cerebellar les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in initiating, stopping, or changing the direction, speed, or force of voluntary move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tex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B. O’sullivan, T.J. Schmitz, </a:t>
            </a:r>
            <a:r>
              <a:rPr b="0" lang="en-US" sz="3200" spc="-1" strike="noStrike" u="sng">
                <a:solidFill>
                  <a:srgbClr val="000000"/>
                </a:solidFill>
                <a:uFillTx/>
                <a:latin typeface="Arial"/>
              </a:rPr>
              <a:t>Physical Rehabilitation: Assessment and Treatment</a:t>
            </a:r>
            <a:r>
              <a:rPr b="0" lang="en-US" sz="3200" spc="-1" strike="noStrike">
                <a:solidFill>
                  <a:srgbClr val="000000"/>
                </a:solidFill>
                <a:latin typeface="Arial"/>
              </a:rPr>
              <a:t>, F.A. Davis Company. 3</a:t>
            </a:r>
            <a:r>
              <a:rPr b="0" lang="en-US" sz="3200" spc="-1" strike="noStrike" baseline="30000">
                <a:solidFill>
                  <a:srgbClr val="000000"/>
                </a:solidFill>
                <a:latin typeface="Arial"/>
              </a:rPr>
              <a:t>rd</a:t>
            </a:r>
            <a:r>
              <a:rPr b="0" lang="en-US" sz="3200" spc="-1" strike="noStrike">
                <a:solidFill>
                  <a:srgbClr val="000000"/>
                </a:solidFill>
                <a:latin typeface="Arial"/>
              </a:rPr>
              <a:t> ed. 199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L. Braddom, </a:t>
            </a:r>
            <a:r>
              <a:rPr b="0" lang="en-US" sz="3200" spc="-1" strike="noStrike" u="sng">
                <a:solidFill>
                  <a:srgbClr val="000000"/>
                </a:solidFill>
                <a:uFillTx/>
                <a:latin typeface="Arial"/>
              </a:rPr>
              <a:t>Physical Medicine &amp; Rehabilitation</a:t>
            </a:r>
            <a:r>
              <a:rPr b="0" lang="en-US" sz="3200" spc="-1" strike="noStrike">
                <a:solidFill>
                  <a:srgbClr val="000000"/>
                </a:solidFill>
                <a:latin typeface="Arial"/>
              </a:rPr>
              <a:t>, W.B. Saunders Company. 1</a:t>
            </a:r>
            <a:r>
              <a:rPr b="0" lang="en-US" sz="3200" spc="-1" strike="noStrike" baseline="30000">
                <a:solidFill>
                  <a:srgbClr val="000000"/>
                </a:solidFill>
                <a:latin typeface="Arial"/>
              </a:rPr>
              <a:t>st</a:t>
            </a:r>
            <a:r>
              <a:rPr b="0" lang="en-US" sz="3200" spc="-1" strike="noStrike">
                <a:solidFill>
                  <a:srgbClr val="000000"/>
                </a:solidFill>
                <a:latin typeface="Arial"/>
              </a:rPr>
              <a:t> ed. 1996.</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al gangli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am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date nucle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us pallid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a nig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halamic nucle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itiation and regulation of gross intentional movemen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ility to accomplish automatic movements and postural adjustmen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effect on motor cortex and posterior fossa brainstem to maintain normal background muscle 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and perceptual func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s produ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ness of mov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untary mov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urbance of muscle t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nished postural reac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features of basal ganglia dysfunc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ykines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normally slow movemen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creased arm swing; slow, shuffling gait; difficulty initiating or changing direction of movement; lack of facial expression; or difficulty stopping a movement once begu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id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toni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ing trem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ines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ability to initiate movement; seen in the late stages of parkinsonism.”</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d with fixed postur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remendous amount of mental concentration and effort is required to perform even the simplest motor activ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ea (choreiform movement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voluntary, rapid, irregular, jerky movements; clinical feature of Huntington’s diseas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tosis (athetoid movement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low, involuntary, writhing, twisting, “wormlike” movements; clinical feature of cerebral pals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eoathetosi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ea + athet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ballismu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udden, jerky, forceful, wild, flailing, motions of one side of the bod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ults from a lesion of the contralateral subthalamic nucle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rsal column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te proprioceptive input from joint and muscle recep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s pro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and balance deficits that are less characteristic than those produced by other CNS lesions due to compensation from visual feedback. Thus, these deficits are exaggerated in dark or with closed ey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ion Assessment</a:t>
            </a: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features of dorsal columns dysfun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metria: visual feedback reduces the manifestations of dysmetri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d movements: because visually guided movements are more accurate when the speed is reduc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ders of gai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ba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ven step length.</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lateral displac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ing feet during amb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vancing leg may be lifted too high and then dropped abruptly with an audible impa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coordinated movement with ag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strengt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d reaction tim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flexibil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y pos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ired bala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ion test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observation of functional activities guides the therapist in test sele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assessment of motor and sensory functions improves valid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hension, fear, and fatigu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reliabil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s of coordination tes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ss vs. fine motor activit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quilibrium vs. equilibrium tes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tests focus on assessment of movement in four are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ternate or reciprocal motion, which tests the ability to reverse movement between opposing muscle group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vement composition, or synergy, which involves movement control achieved by muscle groups acting togeth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vement accuracy, which assesses the ability to gauge or to judge distance and speed of voluntary movem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xation or limb holding, which tests the ability to hold the position of an individual limb or limb seg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1387440" y="0"/>
            <a:ext cx="6369120" cy="685800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 test result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ry sc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d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tape record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ability to execute smooth, accurate, controlled move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80880" y="7920"/>
            <a:ext cx="8382240" cy="684216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instruments for coordination assessmen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bsen-Taylor Hand Function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hand function using seven functional activities: writing; stacking; card turning; simulated feeding; picking up small objects; picking up large, lightweight objects; and picking up large, heavy objects.</a:t>
            </a:r>
            <a:endParaRPr b="0" lang="en-US" sz="3200" spc="-1" strike="noStrike">
              <a:solidFill>
                <a:srgbClr val="000000"/>
              </a:solidFill>
              <a:latin typeface="Arial"/>
            </a:endParaRPr>
          </a:p>
        </p:txBody>
      </p:sp>
      <p:pic>
        <p:nvPicPr>
          <p:cNvPr id="125" name="" descr=""/>
          <p:cNvPicPr/>
          <p:nvPr/>
        </p:nvPicPr>
        <p:blipFill>
          <a:blip r:embed="rId1"/>
          <a:stretch/>
        </p:blipFill>
        <p:spPr>
          <a:xfrm>
            <a:off x="5867280" y="5243400"/>
            <a:ext cx="3276720" cy="161460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nesota Rate of Manipulation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es hand dexterity in five operations: placing, turning, displacing, one-hand turning and placing, and two-hand turning and placing.</a:t>
            </a:r>
            <a:endParaRPr b="0" lang="en-US" sz="3200" spc="-1" strike="noStrike">
              <a:solidFill>
                <a:srgbClr val="000000"/>
              </a:solidFill>
              <a:latin typeface="Arial"/>
            </a:endParaRPr>
          </a:p>
        </p:txBody>
      </p:sp>
      <p:pic>
        <p:nvPicPr>
          <p:cNvPr id="128" name="" descr=""/>
          <p:cNvPicPr/>
          <p:nvPr/>
        </p:nvPicPr>
        <p:blipFill>
          <a:blip r:embed="rId1"/>
          <a:stretch/>
        </p:blipFill>
        <p:spPr>
          <a:xfrm>
            <a:off x="5867280" y="4303800"/>
            <a:ext cx="3276720" cy="255420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Peg board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es hand dexterity using a test board, pins, washers, and collars. Subtests include prehension and assembly using right, left, and both hands.</a:t>
            </a:r>
            <a:endParaRPr b="0" lang="en-US" sz="3200" spc="-1" strike="noStrike">
              <a:solidFill>
                <a:srgbClr val="000000"/>
              </a:solidFill>
              <a:latin typeface="Arial"/>
            </a:endParaRPr>
          </a:p>
        </p:txBody>
      </p:sp>
      <p:pic>
        <p:nvPicPr>
          <p:cNvPr id="131" name="" descr=""/>
          <p:cNvPicPr/>
          <p:nvPr/>
        </p:nvPicPr>
        <p:blipFill>
          <a:blip r:embed="rId1"/>
          <a:stretch/>
        </p:blipFill>
        <p:spPr>
          <a:xfrm>
            <a:off x="5867280" y="4467240"/>
            <a:ext cx="3276720" cy="239076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wford Small Parts Dexterity Tes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es hand dexterity using a test board, screwdriver, tweezers, pins, screws, and collars.</a:t>
            </a:r>
            <a:endParaRPr b="0" lang="en-US" sz="3200" spc="-1" strike="noStrike">
              <a:solidFill>
                <a:srgbClr val="000000"/>
              </a:solidFill>
              <a:latin typeface="Arial"/>
            </a:endParaRPr>
          </a:p>
        </p:txBody>
      </p:sp>
      <p:pic>
        <p:nvPicPr>
          <p:cNvPr id="134" name="" descr=""/>
          <p:cNvPicPr/>
          <p:nvPr/>
        </p:nvPicPr>
        <p:blipFill>
          <a:blip r:embed="rId1"/>
          <a:stretch/>
        </p:blipFill>
        <p:spPr>
          <a:xfrm>
            <a:off x="5867280" y="4448160"/>
            <a:ext cx="3276720" cy="2409840"/>
          </a:xfrm>
          <a:prstGeom prst="rect">
            <a:avLst/>
          </a:prstGeom>
          <a:ln w="0">
            <a:noFill/>
          </a:ln>
        </p:spPr>
      </p:pic>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d movements are characterized b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ropriate speed, distance, direction, rhythm, and muscle tens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ppropriate synergist influenc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asy reversal between opposing muscle group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oximal fixation to allow distal motion or maintenance of a post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rdination (coordination deficit): “abnormal motor function characterized by awkward, extraneous, uneven, or inaccurate m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deficits are often related to, and indicative of, CNS involvement including cerebellum, basal ganglia, and dorsal colum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diagnoses that typically demonstrate coordination defici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sclerosi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ral pals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bellar tumor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sonism: elderly; degeneration of basal ganglia; bradykinesia, rigidity, resting tremor, and impairments of posture, balance, and ga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ton’s disease: inherited; adults; fatal; degeneration of basal ganglia and cerebral cortex; dementia, chorea, and disturbances of tone, posture, and gai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enham’s chorea: infectious; children; self-limiting; rheumatic fever; chorea, disturbances of balance and gait, and impairments of speech and memo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rebellu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unc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of motor activit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le tone.</a:t>
            </a:r>
            <a:endParaRPr b="0" lang="en-US" sz="3200" spc="-1" strike="noStrike">
              <a:solidFill>
                <a:srgbClr val="000000"/>
              </a:solidFill>
              <a:latin typeface="Arial"/>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ons produ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rdina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ired balan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muscle 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mad Alghadir M.S. Ph.D. P.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05:03:37Z</dcterms:created>
  <dc:creator>Ahmad H. Al-Ghadir</dc:creator>
  <dc:description/>
  <dc:language>en-US</dc:language>
  <cp:lastModifiedBy>Ahmad Alghadir</cp:lastModifiedBy>
  <dcterms:modified xsi:type="dcterms:W3CDTF">2008-06-03T13:53:01Z</dcterms:modified>
  <cp:revision>88</cp:revision>
  <dc:subject/>
  <dc:title>RHS 332: Clinical Neurology</dc:title>
</cp:coreProperties>
</file>