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F2E-FD29-46C4-8502-446728E9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256-2730-4D7A-BCD6-8AA01806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8D1-213F-424A-BCA3-40332FAB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839-3C68-4A4C-A11E-0314FE4D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BC8-C1C7-46DE-8FB9-C6A15D29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377-A3D6-46AB-8443-496EA35C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05B-BD52-4AAC-97CD-CFDB9145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9D3-017A-4E27-8A72-FF266888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52F-887F-426F-9C4D-673B1F5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B28-274F-4AE5-901C-3AA12DD4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5A2-8C2C-48A2-984D-713BA3C5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E61-115E-455E-8D70-DEDFF5E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0235-7548-4E42-B9AC-5DEB732C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32: Clinical Ne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ed blood cholesterol and lip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ive alcohol consum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ent ischemic atta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in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dis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st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phys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(focal infarction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reversible neuronal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umbra (surrounding ischemic area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versible metabolic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al edema: begins within hours of the insul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ches a maximum by about 4 day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sides graduall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appears by 3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al edem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vation of intracranial press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dal shift of brai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ath (most common cause of death in acute strok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of stroke result from a restriction of cerebral blood flow (CBF) greater than 8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symptoms of stroke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cation of the ischemic proces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the ischemic are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 and functions of the structures involv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ailability of collateral blood flow” (rapidity of the occlus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al aspect of frontal and parietal 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teral aspect of frontal, parietal, temporal, and occipital 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al aspect of temporal and occipital 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regulatory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e a constant rate of CBF through the brain (50-60 ml / 100 g of brain tissue / m) (17% of cardiac out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ncentration of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crease in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decrease i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CBF / decrease in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increase i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constri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CB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H: fall in pH (increased acidity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CBF / rise in pH (increased alkalinity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constri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CB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ressure: fall in press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CBF / rise in press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constri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CB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viscosity: increase in viscos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CBF / decrease in viscos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constri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CB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function of brain tissue: increase in fun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 CBF / decrease in fun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soconstri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rease CB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syndr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 stro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 proximal to anterior communicating arte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imal defic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 distal to anterior communicating arte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lateral hemiparesis and cortical sensory loss with greater involvement of the lower extremity than upper extrem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ed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B. O’sullivan, T.J. Schmitz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Rehabilitation: Assessment an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.A. Davis Company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L. Braddo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edicine &amp; Rehabil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.B. Saunders Company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nd behavioral impair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lateral negl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tin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axia: “inability to perform purposeful movements” (corpus callos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aphia: “loss of the ability to write” (corpus callos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A stro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lateral hemiparesis or hemiplegia and sensory deficit of the face, arm, and leg, with the face and arm more involved than the le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conjugate gaze to the opposite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lateral homonymous hemianop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lateral negl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h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90840" y="0"/>
            <a:ext cx="59641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66214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 stro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agnosia: inability to recognize familiar objects vis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opagnosia: inability to recognize 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lateral homonymous hemianop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ical blindness (bilateral infar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anesthesia: contralateral sensory loss (thalam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lamic sensory syndrome: contralateral unpleasant hemibody sensation (thalam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ing tremor (basal gangl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tosis (basal gangl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ballismus (subthalamic nucle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lateral hemiplegia (cerebral pedunc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A stro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ssive infar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xture of ACA and MCA st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 stro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essive occipital headac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of the above + cerebellar symptoms + cranial nerve abnorm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ovascular accident (CVA): “sudden, focal neurologic deficit resulting from ischemic or hemorrhagic lesions in the brai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cits: sensory, motor (hemiplegia or hemiparesis), functional, coordination, mental, and language impair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cation and extent of the lesion and the amount of collateral blood flow determine the severity of neurologic defici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 (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cause of adult disabil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,000 new victims each yea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die during the acute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survivors, 35% have severe dis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strokes occur in persons under the age of 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s have a 30% greater incidence of stroke than fe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al thrombosis (blood clot)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chem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ar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al embolism (foreign body)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chem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ar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rrhage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chemia and mechanical inju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ar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pt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morrh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rosclerosis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ow blood strea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mbos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lu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chem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herothrombotic brain infarction (ABI, 57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rosclerosis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nos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erten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pt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morrh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rosclerosis: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aknes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ptu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morrh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5:03:37Z</dcterms:created>
  <dc:creator>Ahmad H. Al-Ghadir</dc:creator>
  <dc:description/>
  <dc:language>en-US</dc:language>
  <cp:lastModifiedBy>Ahmad Alghadir</cp:lastModifiedBy>
  <dcterms:modified xsi:type="dcterms:W3CDTF">2008-06-03T13:53:18Z</dcterms:modified>
  <cp:revision>108</cp:revision>
  <dc:subject/>
  <dc:title>RHS 332: Clinical Neurology</dc:title>
</cp:coreProperties>
</file>