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6B7-5D52-4815-99D0-94EA4FA0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E1E-B666-4D56-A695-FB6CECF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CC5-72F4-48A2-9F16-6D823D5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1B7-E656-4362-9F99-56387B35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CDA-4C10-4F3A-97C8-58B37B04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40D-2332-4461-972D-4571F8B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340-115C-4A0E-B654-C56914CC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DFD-F87E-424A-A65A-03A1EBCB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94A-C302-465F-90D2-FCC5C9B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F7A-B4CB-4B40-B53E-018FAA0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347-E774-4217-8A66-E66C62E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03B-BE2E-4A32-9DD5-779EA8C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C57-5514-4822-BC74-57FDAD57C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ed blood cholesterol and 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alcohol con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ent ischemic att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(focal infarctio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reversible neuronal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umbra (surrounding ischemic area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ersible metabol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dema: begins within hours of the insul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hes a maximum by about 4 day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sides gradual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appears by 3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de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vation of intracranial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dal shift of brai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 (most common cause of death in acute strok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 stroke result from a restriction of cerebral blood flow (CBF) greater than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symptoms of strok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of the ischemic proces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ischemic are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and functions of the structures involv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ailability of collateral blood flow” (rapidity of the occlus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l aspect of frontal and parie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teral aspect of frontal, parietal, temporal, and occipi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l aspect of temporal and occipi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regulator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e a constant rate of CBF through the brain (50-60 ml / 100 g of brain tissue / m) (17% of cardiac out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ncentration of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in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ecrease i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increase i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H: fall in pH (increased acidit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rise in pH (increased alkalinit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: fall in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rise in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iscosity: increase in viscos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viscos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unction of brain tissue: increase in 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proximal to anterior communicating arte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imal defic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distal to anterior communicating arte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aresis and cortical sensory loss with greater involvement of the lower extremity than upper extrem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behavioral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lateral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axia: “inability to perform purposeful movements” (corpus callos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phia: “loss of the ability to write” (corpus callos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aresis or hemiplegia and sensory deficit of the face, arm, and leg, with the face and arm more involved than the le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njugate gaze to the opposite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omonymous hemiano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lateral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h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41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66214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agnosia: inability to recognize familiar objects vi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pagnosia: inability to recognize 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omonymous hemiano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ical blindness (bilateral infar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anesthesia: contralateral sensory loss (thalam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lamic sensory syndrome: contralateral unpleasant hemibody sensation (thalam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ng tremor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tosis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ballismus (subthalamic nucle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legia (cerebral pedunc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ive infar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xture of ACA and MCA 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essive occipital headac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f the above + cerebellar symptoms + cranial nerve abnorm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ovascular accident (CVA): “sudden, focal neurologic deficit resulting from ischemic or hemorrhagic lesions in the bra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ts: sensory, motor (hemiplegia or hemiparesis), functional, coordination, mental, and language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and extent of the lesion and the amount of collateral blood flow determine the severity of neurologic defici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 (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cause of adult disa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new victims each y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die during the acute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survivors, 35% have severe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strokes occur in persons under the age of 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s have a 30% greater incidence of stroke than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thrombosis (blood clot)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mbolism (foreign body)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rrhage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and mechanical inju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ow blood strea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mbo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herothrombotic brain infarction (ABI, 57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no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erten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k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5:03:37Z</dcterms:created>
  <dc:creator>Ahmad H. Al-Ghadir</dc:creator>
  <dc:description/>
  <dc:language>en-US</dc:language>
  <cp:lastModifiedBy>Ahmad Alghadir</cp:lastModifiedBy>
  <dcterms:modified xsi:type="dcterms:W3CDTF">2008-06-03T13:53:18Z</dcterms:modified>
  <cp:revision>108</cp:revision>
  <dc:subject/>
  <dc:title>RHS 332: Clinical Neurology</dc:title>
</cp:coreProperties>
</file>