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C0F8-994F-4921-85F0-63319A9B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566-395E-4A06-82BE-8ED23A0C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D27-90B9-4CAE-8F81-829C523D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9C0-8717-4CE8-B03F-03A0BBDE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F639-71D1-4385-B1B2-E2A741F5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ACD6-3D2F-4370-8669-430B6306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3E98-5B57-435F-A2F6-6A185130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D8E7-17B1-41DC-9C72-3869AEEB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47F5-C45E-4940-9EA8-A560C4BB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765E-3A2A-4D54-AC52-4DCEB5CC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2B1F-C1A0-4344-B2F2-6EAFB7EC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065-EED6-4344-B2A5-143FD1AD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97E2-C827-4145-B053-01E6681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179F-D841-4548-8620-5CE6126D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0108-AE70-4091-ACAF-65C2E9AE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0548-8ADF-48C0-8BF6-5C391D6C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BADB-270C-42E2-81FF-031493E4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C74F-AD59-4741-AC59-84FED164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23EE-586D-4769-B029-CCB1A3AD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2B20-C0CF-4FCB-9BDF-6EDA7432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7108C-A002-4DCB-8DB1-BAC48761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CC5B-4C50-46AB-86D0-12DEFF3B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017-5336-4E5E-99CA-E7E15FE4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EEB2-DD8D-44CD-9501-C0082B72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4A004-83EF-4654-BC6F-6D53925E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2F7FA-ED71-41DD-A6A6-7DBC2A9B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AFC6-78FD-4D6A-8305-EA185109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4224-E5B4-4FB7-A19F-5D623EE7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4D097-B4FF-4C30-ABBD-AD43DC6A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C1F30-C667-436A-BD58-C7D4C3E5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152F-F9C6-41A7-8B2B-A6B22FD4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18EC-65B6-4E68-BDE2-75F51D93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3E51D-51BE-4A08-9721-B5E83CDC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5DF-6AE8-49CA-98B8-244EB0DF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7878B-DD68-4245-A892-8FB10A77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E5DCC-982A-4978-872E-03CAEBDF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75754-8A0C-4DA9-B335-81B03778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C7D3-D237-4939-880C-45E11392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2A6A3-E8A9-4F3C-9192-D091E434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945CB-12DA-449A-A1FF-A1775217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5B4CD-DFD7-4545-89FF-BC79A945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3AED-2403-4F07-8A91-94450685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2D983-059E-4B96-A144-9E358D38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216-C655-499D-8082-092AA924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A03-1077-48CC-A660-F95FBA36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79A-8EA6-48E0-8D41-6B104EFF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C8B-86EA-4D17-88BE-9A3153F1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36B-40C5-48E0-8CA1-564DD7ED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8553-3A27-467D-86A7-01F968DFD3C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FB6A-80D5-4E02-A1DF-36E0C1991845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D355-43BA-4FCE-A37A-9384003C7B8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2FA0-E3AA-4DC6-8579-B87545A4333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-118080" y="2409840"/>
            <a:ext cx="951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Arial"/>
              </a:rPr>
              <a:t>Role of Salivary Glands and Stomac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Arial"/>
              </a:rPr>
              <a:t>in Dig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1047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Salivary α-Amyla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20574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ts digestive action on the polysaccharides is of little significance because of the short time during which the enzyme can act on the food in the mouth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livary amylase is inactivated by the acidity of stomach (The enzyme is inactivated at pH 4.0 or les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7394760" y="1676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Salivary α-Amyla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22093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livary α-amylase does not hydrolyze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α(1,6) glycosidic bond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The branch points of starch and glycogen)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livary α-amylase cannot act on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β(1,4) glycosidic bonds of cellulo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6632640" y="16192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895320"/>
            <a:ext cx="84582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Digestion of Carbohydrates in the Mouth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5" descr="07_010.jpg"/>
          <p:cNvPicPr/>
          <p:nvPr/>
        </p:nvPicPr>
        <p:blipFill>
          <a:blip r:embed="rId1"/>
          <a:srcRect l="20809" t="0" r="18558" b="63843"/>
          <a:stretch/>
        </p:blipFill>
        <p:spPr>
          <a:xfrm>
            <a:off x="1295280" y="2362320"/>
            <a:ext cx="6875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1047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Lingual Lipa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520" y="22093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ecreted by the dorsal surface of the tongue (Ebner’s glands)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s in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omach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for the digestion of TA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duce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tty acid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noacylglycerol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ts role is of little significance in adult human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047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Role of Stomach in Diges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28600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o further digestion of carbohydrat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pid digestion begins by lingual and gastric lipas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tein digestion begins by pepsin and renn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Lingual and Gastric Lipases</a:t>
            </a:r>
            <a:br>
              <a:rPr sz="4000"/>
            </a:b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(Acid-Stable Lipases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19051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ubstrate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AG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molecules, containing medium- and short-chain fatty acids; such as found in milk fat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end products are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monoacylglycerols and fatty acid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role of both lipases in lipid digestion is of little significance in adult hum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The lipids in the stomach is not yet emulsified. Emulsification occurs in duodenum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Lingual and Gastric Lipas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Content Placeholder 4" descr="15_002.jpg"/>
          <p:cNvPicPr/>
          <p:nvPr/>
        </p:nvPicPr>
        <p:blipFill>
          <a:blip r:embed="rId1"/>
          <a:srcRect l="45984" t="58340" r="7125" b="15624"/>
          <a:stretch/>
        </p:blipFill>
        <p:spPr>
          <a:xfrm>
            <a:off x="838080" y="1828800"/>
            <a:ext cx="7823160" cy="33526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4185360" y="3325680"/>
            <a:ext cx="1306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Lip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297440" y="5334120"/>
            <a:ext cx="72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Target substrate for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acid-stable lipase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is TAG contain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1 – C – O and R3 – C – O  as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short- or medium-chain fatty aci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 rot="16200000">
            <a:off x="1730160" y="58734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 rot="16200000">
            <a:off x="1811520" y="5902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1832400" y="5730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0"/>
          <p:cNvSpPr/>
          <p:nvPr/>
        </p:nvSpPr>
        <p:spPr>
          <a:xfrm rot="16200000">
            <a:off x="3454560" y="5902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 rot="16200000">
            <a:off x="3411720" y="5905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3478680" y="571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7547040" y="1287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Lingual and Gastric Lipas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22860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y are important 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eonates and infant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or the digestion of TAG of mil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y are also important 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tients with pancreatic insufficiency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where there is absence of pancreatic lip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7547040" y="15238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Digestion of Lipids in Stomach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Content Placeholder 4" descr="15_002.jpg"/>
          <p:cNvPicPr/>
          <p:nvPr/>
        </p:nvPicPr>
        <p:blipFill>
          <a:blip r:embed="rId1"/>
          <a:srcRect l="9809" t="1420" r="58043" b="60891"/>
          <a:stretch/>
        </p:blipFill>
        <p:spPr>
          <a:xfrm>
            <a:off x="5060880" y="1981080"/>
            <a:ext cx="3930840" cy="40388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98280" y="2514600"/>
            <a:ext cx="50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In adults,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no significant eff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because of lack of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emul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that occurs in duode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80640" y="4221000"/>
            <a:ext cx="404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In neonates and infan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digestion of milk TAG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production of short-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medium-chain fatty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Peps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18288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ecreted by chief cells of stomach as inactive proenzyme, pepsinoge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ated by HCl and autocatalytically by peps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-stable, endopeptid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ubstrate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natured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dietary protein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by HCl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d product: Smaller polypeptid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Objectives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600" y="2239560"/>
            <a:ext cx="86868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nstantia"/>
              </a:rPr>
              <a:t>Understand the principle and importance of digestion of dietary foodstuff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nstantia"/>
              </a:rPr>
              <a:t>Understand the role of salivary glands in diges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spcAft>
                <a:spcPts val="18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nstantia"/>
              </a:rPr>
              <a:t>Understand the role of stomach in diges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Renn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16002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ecreted by chief cells of stomach in neonates and infan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ubstrate: Casein of milk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 the presence of calcium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d product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acasein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with the formation of milk clot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ffect: It prevents rapid passage of milk from stomach, allowing more time for action of pepsin on milk protei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c0000"/>
                </a:solidFill>
                <a:latin typeface="Impact"/>
                <a:ea typeface="Times New Roman"/>
              </a:rPr>
              <a:t>Digestion of Dietary Proteins in Stomach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Content Placeholder 4" descr="19_004.jpg"/>
          <p:cNvPicPr/>
          <p:nvPr/>
        </p:nvPicPr>
        <p:blipFill>
          <a:blip r:embed="rId1"/>
          <a:srcRect l="20809" t="0" r="18558" b="67909"/>
          <a:stretch/>
        </p:blipFill>
        <p:spPr>
          <a:xfrm>
            <a:off x="4648320" y="1935000"/>
            <a:ext cx="4378320" cy="39322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7571880" y="51879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&amp; Ren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246600" y="2233440"/>
            <a:ext cx="428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H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Denature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Activates pep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eps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Cleaves proteins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poly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Renn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Formation of milk c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c0000"/>
                </a:solidFill>
                <a:latin typeface="Impact"/>
                <a:ea typeface="Times New Roman"/>
              </a:rPr>
              <a:t>Take Home Messag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28600" y="2073960"/>
            <a:ext cx="87631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8520" indent="-398520"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Digestion involves both mechanical and enzymatic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Digestion makes dietary foodstuffs readily absorbable by the digestive 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Salivary α-amylase is of limited, but initial effect on digestion of starch and glycogen in the m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Salivary α-amylase converts starch and glycogen mainly into short oligo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c0000"/>
                </a:solidFill>
                <a:latin typeface="Impact"/>
                <a:ea typeface="Times New Roman"/>
              </a:rPr>
              <a:t>Take Home Messag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228600" y="1611000"/>
            <a:ext cx="861048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Limited digestion of TAG begins in the stomach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both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lingual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 and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gastric lip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producing 2-monoacylglycerols and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Digestion of proteins begins in the stomach by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pep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producing smaller polypept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In neonates and infants, digestion of milk occurs in stomach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Acid-stable lipases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for digestion of milk f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Rennin and peps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for digestion of milk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321680" y="12952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c0000"/>
                </a:solidFill>
                <a:latin typeface="Impact"/>
                <a:ea typeface="Times New Roman"/>
              </a:rPr>
              <a:t>Referenc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2342880"/>
            <a:ext cx="731520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ppincott’s Illustrated reviews: Biochemistry 6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edition, Chapters 7 &amp; 15, Pages 83-90 and 173-180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42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Background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600" y="2315880"/>
            <a:ext cx="861048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ost of dietary foodstuffs are ingested in the form that cannot be readily absorbed from the digestive tract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gestion: The breakdown of the naturally occurring foodstuffs into smaller, easily absorbable form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360" y="1047600"/>
            <a:ext cx="232416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Digestion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09480" y="24382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echanical effect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e.g., mastic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zymatic effect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Digestive enzymes (hydrolase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047600"/>
            <a:ext cx="61722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End Products of Digestion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2437920"/>
            <a:ext cx="81536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bohydrates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onosaccharid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iacylglycerols (TAG)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atty acid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&amp; monoacylglycerol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teins 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4" name="Straight Arrow Connector 4"/>
          <p:cNvCxnSpPr/>
          <p:nvPr/>
        </p:nvCxnSpPr>
        <p:spPr>
          <a:xfrm>
            <a:off x="3962160" y="2819520"/>
            <a:ext cx="106740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257440" y="3731760"/>
            <a:ext cx="1067400" cy="2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6" name="Straight Arrow Connector 7"/>
          <p:cNvCxnSpPr/>
          <p:nvPr/>
        </p:nvCxnSpPr>
        <p:spPr>
          <a:xfrm>
            <a:off x="2819160" y="5194440"/>
            <a:ext cx="106740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1047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0000"/>
                </a:solidFill>
                <a:latin typeface="Impact"/>
                <a:ea typeface="Times New Roman"/>
              </a:rPr>
              <a:t>Role of Salivary Glands in Diges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9120" y="2285640"/>
            <a:ext cx="81536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07360" indent="-207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y secrete saliv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liv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s as lubrica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ntains salivary α-amylas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ntains lingual lipas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1047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Salivary α-Amyla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22093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ecreted by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otid gland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ptimum pH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6 – 6.8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ubstrate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arch and glycoge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on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drolysis of α(1,4) glycosidic bond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ducts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ort oligosaccharid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Hydrolysis of α(1,4) Glycosidic Bond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Content Placeholder 4" descr="07_008.jpg"/>
          <p:cNvPicPr/>
          <p:nvPr/>
        </p:nvPicPr>
        <p:blipFill>
          <a:blip r:embed="rId1"/>
          <a:srcRect l="9809" t="2785" r="11148" b="19095"/>
          <a:stretch/>
        </p:blipFill>
        <p:spPr>
          <a:xfrm>
            <a:off x="1752480" y="1981080"/>
            <a:ext cx="589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2895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Effect of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α</a:t>
            </a: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-Amylase on Glycoge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Content Placeholder 5" descr="07_009.jpg"/>
          <p:cNvPicPr/>
          <p:nvPr/>
        </p:nvPicPr>
        <p:blipFill>
          <a:blip r:embed="rId1"/>
          <a:srcRect l="23053" t="2783" r="27548" b="13889"/>
          <a:stretch/>
        </p:blipFill>
        <p:spPr>
          <a:xfrm>
            <a:off x="4799160" y="990720"/>
            <a:ext cx="4344840" cy="5715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93600" y="2743200"/>
            <a:ext cx="52578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ydrolysi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α(1,4) glycosidic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bc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duc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xture of short oligosaccharides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both branched &amp; unbranc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ccharides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altose and  isomalt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2:43:02Z</dcterms:created>
  <dc:creator>f92145</dc:creator>
  <dc:description/>
  <dc:language>en-US</dc:language>
  <cp:lastModifiedBy>Khalid Akkour</cp:lastModifiedBy>
  <dcterms:modified xsi:type="dcterms:W3CDTF">2016-11-28T04:18:55Z</dcterms:modified>
  <cp:revision>123</cp:revision>
  <dc:subject/>
  <dc:title>Slide 1</dc:title>
</cp:coreProperties>
</file>