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1BA-DB8F-488B-8198-0EB4E2A1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442-B834-426C-950F-3756558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2C0-CBA0-45BA-981E-8267AF38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E5D-BABF-4BF9-83DB-20469224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946-F4EE-4D66-8A70-481EC520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6C17-704A-43FE-8141-CE54D3CF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9319-2683-459F-B0FB-7771ACF1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F5F-F285-4A4D-AFB1-5822C2E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805E-B70D-4024-8FC8-5C0A187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0C22-DA7B-4919-95F0-19854D4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399D-D1B9-436C-92F0-E629A92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17B-2891-4B6B-B6B9-2202294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E86E-CC4E-42A5-BBEE-FA90E7E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8B2-A995-4AA7-959E-8AC1B3E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7E3A-1360-46E0-959A-B08AADB1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5254-4940-4D76-8318-F5160F3D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5E0-0A88-4EBD-8D48-8541105A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BF5A-FCC3-415B-BEC3-770ADD6A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DFF3-DE42-4213-837D-C80B4BD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588A-27E9-45A6-B1A8-56D9C2E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B1D6-FC5E-4EFA-AA5F-978FF25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3250-E60B-4210-8907-6CB280F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4F6-7D1E-4867-BFC2-F6A247F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F67E-1128-4FFC-A3D5-3351D9C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4B98-2E73-4D2D-9EE1-83BA91D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F400-DF52-4584-9FCF-CDB0AE19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A472-E5A7-4045-A2F6-38D4665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9FE7-623E-4A7E-8702-25BB9E7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8E80-E253-42EE-B7B9-DE9A0152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E070-C9C3-4D45-B768-A35A86D7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6B26B-18BE-4A38-837C-ED3200FF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48FF-29B8-49B7-BBB5-DC79F57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D46C-C7B8-49CA-8E6A-654FB7BD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B9C-83B2-4F3F-AD6C-81472797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EE6F-E427-44DE-ADED-DC3CA31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7287-F697-4DF8-B365-B04774D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7952-C6DC-4DB3-AA62-A8456344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7557-328B-4E85-9822-1C14AEB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D5B1-D611-4114-9109-0DDBE49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35F1-F659-46D3-A45F-22C09F1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8D1C-E17A-4965-A2CB-0B1C0FE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A5E9-D7E3-4F95-B8C1-66DC215A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FC3E-C8FD-479A-A2EF-D9A8D860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AFD-3904-45FF-AAFE-3D7B5E3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CDA-AEA8-42C1-AFC5-D1061E1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B66-5020-4E08-8638-03E68794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C46-9062-4A3D-88C8-D296F5A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CAC-6E8F-427A-BC52-0BEDB703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40F-77DC-49D8-8CED-1992C7C73E4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6D5-FA8D-41C8-8003-549E0CC6820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8C1-BA81-4FD6-BA22-BC83740F26E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DAA-61D5-43DE-89D2-EA75D54B721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-118080" y="2409840"/>
            <a:ext cx="951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Arial"/>
              </a:rPr>
              <a:t>Role of Salivary Glands and Stom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Arial"/>
              </a:rPr>
              <a:t>in Di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ts digestive action on the polysaccharides is of little significance because of the short time during which the enzyme can act on the food in the mouth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amylase is inactivated by the acidity of stomach (The enzyme is inactivated at pH 4.0 or les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7394760" y="1676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α-amylase does not hydrolyze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(1,6) glycosidic bo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branch points of starch and glycogen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α-amylase cannot act on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β(1,4) glycosidic bonds of cellulo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632640" y="1619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895320"/>
            <a:ext cx="84582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Digestion of Carbohydrates in the Mout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5" descr="07_010.jpg"/>
          <p:cNvPicPr/>
          <p:nvPr/>
        </p:nvPicPr>
        <p:blipFill>
          <a:blip r:embed="rId1"/>
          <a:srcRect l="20809" t="0" r="18558" b="63843"/>
          <a:stretch/>
        </p:blipFill>
        <p:spPr>
          <a:xfrm>
            <a:off x="1295280" y="2362320"/>
            <a:ext cx="6875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Lingual Lip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520" y="22093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the dorsal surface of the tongue (Ebner’s glands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s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omach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for the digestion of TA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e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tty acid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acylglycero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ts role is of little significance in adult human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ole of Stomach in Diges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286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 further digestion of carbohydrat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 digestion begins by lingual and gastric lipas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tein digestion begins by pepsin and renn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br>
              <a:rPr sz="4000"/>
            </a:b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(Acid-Stable Lipases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051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G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molecules, containing medium- and short-chain fatty acids; such as found in milk fa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end products are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monoacylglycerols and fatty aci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role of both lipases in lipid digestion is of little significance in adult hu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 lipids in the stomach is not yet emulsified. Emulsification occurs in duodenum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Content Placeholder 4" descr="15_002.jpg"/>
          <p:cNvPicPr/>
          <p:nvPr/>
        </p:nvPicPr>
        <p:blipFill>
          <a:blip r:embed="rId1"/>
          <a:srcRect l="45984" t="58340" r="7125" b="15624"/>
          <a:stretch/>
        </p:blipFill>
        <p:spPr>
          <a:xfrm>
            <a:off x="838080" y="1828800"/>
            <a:ext cx="7823160" cy="33526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4185360" y="3325680"/>
            <a:ext cx="1306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Lip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297440" y="5334120"/>
            <a:ext cx="72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Target substrate for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acid-stable lipase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is TAG contain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1 – C – O and R3 – C – O  as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hort- or medium-chain fatty ac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 rot="16200000">
            <a:off x="1730160" y="5873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 rot="16200000">
            <a:off x="1811520" y="590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832400" y="5730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 rot="16200000">
            <a:off x="3454560" y="590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 rot="16200000">
            <a:off x="3411720" y="5905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3478680" y="571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7547040" y="1287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2286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are important 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onates and infant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or the digestion of TAG of mil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are also important 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pancreatic insufficiency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where there is absence of pancreatic lip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547040" y="1523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 of Lipids in Stom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Content Placeholder 4" descr="15_002.jpg"/>
          <p:cNvPicPr/>
          <p:nvPr/>
        </p:nvPicPr>
        <p:blipFill>
          <a:blip r:embed="rId1"/>
          <a:srcRect l="9809" t="1420" r="58043" b="60891"/>
          <a:stretch/>
        </p:blipFill>
        <p:spPr>
          <a:xfrm>
            <a:off x="5060880" y="1981080"/>
            <a:ext cx="3930840" cy="40388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98280" y="2514600"/>
            <a:ext cx="50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n adults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no significant 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because of lack of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mul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that occurs in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80640" y="4221000"/>
            <a:ext cx="40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n neonates and infa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digestion of milk TA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roduction of short-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medium-chain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Peps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8288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chief cells of stomach as inactive proenzyme, pepsinog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ated by HCl and autocatalytically by peps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-stable, endopeptid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natured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dietary protei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y HCl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d product: Smaller polypept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bjectiv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2239560"/>
            <a:ext cx="86868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principle and importance of digestion of dietary foodstuff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role of salivary glands in diges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role of stomach in diges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enn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chief cells of stomach in neonates and infa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Casein of milk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 the presence of calcium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d product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acasein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with the formation of milk clo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ffect: It prevents rapid passage of milk from stomach, allowing more time for action of pepsin on milk protei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 of Dietary Proteins in Stomach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4" descr="19_004.jpg"/>
          <p:cNvPicPr/>
          <p:nvPr/>
        </p:nvPicPr>
        <p:blipFill>
          <a:blip r:embed="rId1"/>
          <a:srcRect l="20809" t="0" r="18558" b="67909"/>
          <a:stretch/>
        </p:blipFill>
        <p:spPr>
          <a:xfrm>
            <a:off x="4648320" y="1935000"/>
            <a:ext cx="4378320" cy="3932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7571880" y="5187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&amp; Ren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46600" y="2233440"/>
            <a:ext cx="428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H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Denature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ctivates pep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ep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leaves proteins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oly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nn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Formation of milk c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Take Hom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28600" y="2073960"/>
            <a:ext cx="87631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involves both mechanical and enzymatic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makes dietary foodstuffs readily absorbable by the digestive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Salivary α-amylase is of limited, but initial effect on digestion of starch and glycogen in the 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Salivary α-amylase converts starch and glycogen mainly into short olig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Take Hom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228600" y="1611000"/>
            <a:ext cx="86104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Limited digestion of TAG begins in the stoma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both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lingual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gastric lip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producing 2-monoacylglycerols and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of proteins begins in the stomach by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ep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producing smaller polypept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In neonates and infants, digestion of milk occurs in stomach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Acid-stable lipase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for digestion of milk f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Rennin and peps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for digestion of milk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321680" y="1295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Referenc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342880"/>
            <a:ext cx="73152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pincott’s Illustrated reviews: Biochemistry 6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edition, Chapters 7 &amp; 15, Pages 83-90 and 173-18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42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Background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2315880"/>
            <a:ext cx="861048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st of dietary foodstuffs are ingested in the form that cannot be readily absorbed from the digestive trac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gestion: The breakdown of the naturally occurring foodstuffs into smaller, easily absorbable form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1047600"/>
            <a:ext cx="23241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480" y="2438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chanical effect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e.g., mast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zymatic effect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Digestive enzymes (hydrolase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047600"/>
            <a:ext cx="61722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End Products of Diges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243792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hydrates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nosacchar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iacylglycerols (TAG)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tty acid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&amp; monoacylglycero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eins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4"/>
          <p:cNvCxnSpPr/>
          <p:nvPr/>
        </p:nvCxnSpPr>
        <p:spPr>
          <a:xfrm>
            <a:off x="3962160" y="2819520"/>
            <a:ext cx="106740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257440" y="3731760"/>
            <a:ext cx="106740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6" name="Straight Arrow Connector 7"/>
          <p:cNvCxnSpPr/>
          <p:nvPr/>
        </p:nvCxnSpPr>
        <p:spPr>
          <a:xfrm>
            <a:off x="2819160" y="5194440"/>
            <a:ext cx="106740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ole of Salivary Glands in Diges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22856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secrete sal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s as lubrica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ntains salivary α-amylas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ntains lingual lip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otid gla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timum pH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6 – 6.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arch and glycoge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lysis of α(1,4) glycosidic bo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ts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 oligosacchar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Hydrolysis of α(1,4) Glycosidic Bo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Content Placeholder 4" descr="07_008.jpg"/>
          <p:cNvPicPr/>
          <p:nvPr/>
        </p:nvPicPr>
        <p:blipFill>
          <a:blip r:embed="rId1"/>
          <a:srcRect l="9809" t="2785" r="11148" b="19095"/>
          <a:stretch/>
        </p:blipFill>
        <p:spPr>
          <a:xfrm>
            <a:off x="1752480" y="1981080"/>
            <a:ext cx="589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2895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Effect of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-Amylase on Glycoge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5" descr="07_009.jpg"/>
          <p:cNvPicPr/>
          <p:nvPr/>
        </p:nvPicPr>
        <p:blipFill>
          <a:blip r:embed="rId1"/>
          <a:srcRect l="23053" t="2783" r="27548" b="13889"/>
          <a:stretch/>
        </p:blipFill>
        <p:spPr>
          <a:xfrm>
            <a:off x="4799160" y="990720"/>
            <a:ext cx="4344840" cy="5715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93600" y="2743200"/>
            <a:ext cx="52578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drolysi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(1,4) glycosidic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xture of short oligosaccharides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both branched &amp; unbranc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ccharides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ltose and  isomal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43:02Z</dcterms:created>
  <dc:creator>f92145</dc:creator>
  <dc:description/>
  <dc:language>en-US</dc:language>
  <cp:lastModifiedBy>Khalid Akkour</cp:lastModifiedBy>
  <dcterms:modified xsi:type="dcterms:W3CDTF">2016-11-28T04:18:55Z</dcterms:modified>
  <cp:revision>123</cp:revision>
  <dc:subject/>
  <dc:title>Slide 1</dc:title>
</cp:coreProperties>
</file>