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16F4-E9D3-4758-BF7B-568DAF78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C3F1-EBF6-4D44-8978-CA0A806F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A0FE-769E-4EBA-819F-9B6701CAF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3988-1905-4D1B-B3F1-5C8574B44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3F44-E8DB-45EB-AFA0-E4FBB52A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B1FD-E777-4020-9180-0BF9A6E8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8948-72DD-4937-98CD-5C3D8A09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0E0A-A650-45C1-9655-280A76E5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A0DE-58EC-4AC5-ABD4-B61780D4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9709-97CF-46DE-9167-CFBF649C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5B27-6855-49C0-B474-9426AC90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C0FD-619E-4B1B-95C7-3E02232D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1663-F03E-4FF4-AFF3-39286202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187B-9AF9-4F36-A459-00528DA4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892E-F73C-4250-BDA7-FA17CB63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FF33-903D-4E7F-98AB-6F615CC1D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CF78-78F9-4A9C-AA9F-798F57A63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E4CA-E9F4-4019-9B94-9138C01E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B179-2844-486F-BF76-2C4CAC7C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5C10-F0A2-4F7B-AC81-B5BE0A72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FBD9-66B8-466D-BF3C-581A5CB0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4092-B4E7-4F5E-8D65-149F8E76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FFD7-7CE4-4994-B01A-F14D9066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2442-2C75-4ACB-9659-CBB24C81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educatcarhou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CF23-F865-4A23-8223-CC92283C38F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educatcarhou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cec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7D39-A898-4912-A504-9C098BFCC705}" type="slidenum">
              <a:rPr b="0" lang="ar-SA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5c"/>
                </a:solidFill>
                <a:latin typeface="Tahoma"/>
                <a:cs typeface="Tahoma"/>
              </a:rPr>
              <a:t>تجربة ريجيو إميليا </a:t>
            </a:r>
            <a:endParaRPr b="1" lang="en-US" sz="2000" spc="-1" strike="noStrike">
              <a:solidFill>
                <a:srgbClr val="f7cc17"/>
              </a:solidFill>
              <a:latin typeface="Arial"/>
            </a:endParaRPr>
          </a:p>
        </p:txBody>
      </p:sp>
      <p:pic>
        <p:nvPicPr>
          <p:cNvPr id="85" name="عنصر نائب للصورة 6" descr="314489_120201294748341_4250584_n.jpg"/>
          <p:cNvPicPr/>
          <p:nvPr/>
        </p:nvPicPr>
        <p:blipFill>
          <a:blip r:embed="rId1"/>
          <a:srcRect l="0" t="12501" r="0" b="1250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d9d9d9"/>
                </a:solidFill>
                <a:latin typeface="Tahoma"/>
              </a:rPr>
              <a:t>الأطفال كباحثين صغار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دور المعلم 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920" y="1600200"/>
            <a:ext cx="8664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SA" sz="2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ar-SA" sz="2200" spc="-1" strike="noStrike">
                <a:solidFill>
                  <a:srgbClr val="ffffff"/>
                </a:solidFill>
                <a:latin typeface="Tahoma"/>
              </a:rPr>
              <a:t>تهيئة البيئة وتوفير الأدوات اللازمة للنشاط، ثم حث الأطفال ومساعدتهم على التعرف عليها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200" spc="-1" strike="noStrike">
                <a:solidFill>
                  <a:srgbClr val="ffffff"/>
                </a:solidFill>
                <a:latin typeface="Tahoma"/>
              </a:rPr>
              <a:t>- ترك الحرية للطفل للتعبير عن المفهوم بالطريقة التي يحب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200" spc="-1" strike="noStrike">
                <a:solidFill>
                  <a:srgbClr val="ffffff"/>
                </a:solidFill>
                <a:latin typeface="Tahoma"/>
              </a:rPr>
              <a:t>- تقسيم الأطفال إلى مجموعات لا تتعدى كل مجموعة </a:t>
            </a:r>
            <a:r>
              <a:rPr b="1" lang="ar-SA" sz="22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200" spc="-1" strike="noStrike">
                <a:solidFill>
                  <a:srgbClr val="ffffff"/>
                </a:solidFill>
                <a:latin typeface="Tahoma"/>
              </a:rPr>
              <a:t> أطفال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200" spc="-1" strike="noStrike">
                <a:solidFill>
                  <a:srgbClr val="ffffff"/>
                </a:solidFill>
                <a:latin typeface="Tahoma"/>
              </a:rPr>
              <a:t>- عرض أعمال الأطفال ودعمها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200" spc="-1" strike="noStrike">
                <a:solidFill>
                  <a:srgbClr val="ffffff"/>
                </a:solidFill>
                <a:latin typeface="Tahoma"/>
              </a:rPr>
              <a:t>- معلمو روجيو امليو شركاء ومتعاونين في التعليم مع الآباء والأطفال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Tahoma"/>
              </a:rPr>
              <a:t>يبقى الأطفال مع نفس المعلم ومجموعة الأطفال لمدة </a:t>
            </a:r>
            <a:r>
              <a:rPr b="1" lang="ar-SA" sz="2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200" spc="-1" strike="noStrike">
                <a:solidFill>
                  <a:srgbClr val="ffffff"/>
                </a:solidFill>
                <a:latin typeface="Tahoma"/>
              </a:rPr>
              <a:t> سنوات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Tahoma"/>
              </a:rPr>
              <a:t>يضم هذا المنهج الآن </a:t>
            </a:r>
            <a:r>
              <a:rPr b="1" lang="ar-SA" sz="2200" spc="-1" strike="noStrike">
                <a:solidFill>
                  <a:srgbClr val="ff0000"/>
                </a:solidFill>
                <a:latin typeface="Tahoma"/>
              </a:rPr>
              <a:t>21</a:t>
            </a:r>
            <a:r>
              <a:rPr b="1" lang="ar-SA" sz="2200" spc="-1" strike="noStrike">
                <a:solidFill>
                  <a:srgbClr val="ff0000"/>
                </a:solidFill>
                <a:latin typeface="Tahoma"/>
              </a:rPr>
              <a:t> مدرسة للأطفال من عمر </a:t>
            </a:r>
            <a:r>
              <a:rPr b="1" lang="ar-SA" sz="22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ar-SA" sz="22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1" lang="ar-SA" sz="22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1" lang="ar-SA" sz="2200" spc="-1" strike="noStrike">
                <a:solidFill>
                  <a:srgbClr val="ff0000"/>
                </a:solidFill>
                <a:latin typeface="Tahoma"/>
              </a:rPr>
              <a:t> سنوات،ومراكز للرضع من عمر </a:t>
            </a:r>
            <a:r>
              <a:rPr b="1" lang="ar-SA" sz="22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ar-SA" sz="2200" spc="-1" strike="noStrike">
                <a:solidFill>
                  <a:srgbClr val="ff0000"/>
                </a:solidFill>
                <a:latin typeface="Tahoma"/>
              </a:rPr>
              <a:t> شهور وحتى </a:t>
            </a:r>
            <a:r>
              <a:rPr b="1" lang="ar-SA" sz="22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ar-SA" sz="2200" spc="-1" strike="noStrike">
                <a:solidFill>
                  <a:srgbClr val="ff0000"/>
                </a:solidFill>
                <a:latin typeface="Tahoma"/>
              </a:rPr>
              <a:t> سنوات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d9d9d9"/>
                </a:solidFill>
                <a:latin typeface="Arial"/>
              </a:rPr>
              <a:t>3</a:t>
            </a:r>
            <a:r>
              <a:rPr b="1" lang="ar-SA" sz="4400" spc="-1" strike="noStrike">
                <a:solidFill>
                  <a:srgbClr val="d9d9d9"/>
                </a:solidFill>
                <a:latin typeface="Arial"/>
              </a:rPr>
              <a:t>- طريقة المشروع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600200"/>
            <a:ext cx="844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d9d9d9"/>
                </a:solidFill>
                <a:latin typeface="Tahoma"/>
              </a:rPr>
              <a:t>الهدف : هو مساعدة الأطفال على استكشاف بيئتهم والتعرف عليها من خلال مشروع بشكل موضوع يختاره الأطفال أو المربين أو معا صغيرا أو كبيرا يقومون بالبحث و بجمع معلومات من مصادر مختلفة ثم ينظموها ثم يعبرون عنها بلغات مختلفة بمساعدة المعلمين والمربون بعد مناقشة التربويون والتفكير والتخطيط لطرق توسع وتطور الموضوع ، </a:t>
            </a:r>
            <a:r>
              <a:rPr b="0" lang="ar-SA" sz="2100" spc="-1" strike="noStrike" u="sng">
                <a:solidFill>
                  <a:srgbClr val="d9d9d9"/>
                </a:solidFill>
                <a:uFillTx/>
                <a:latin typeface="Tahoma"/>
              </a:rPr>
              <a:t>التشجيع والتوثيق </a:t>
            </a:r>
            <a:r>
              <a:rPr b="1" lang="ar-SA" sz="2100" spc="-1" strike="noStrike" u="sng">
                <a:solidFill>
                  <a:srgbClr val="d9d9d9"/>
                </a:solidFill>
                <a:uFillTx/>
                <a:latin typeface="Tahoma"/>
              </a:rPr>
              <a:t>والمناقشة </a:t>
            </a:r>
            <a:r>
              <a:rPr b="1" lang="ar-SA" sz="2100" spc="-1" strike="noStrike">
                <a:solidFill>
                  <a:srgbClr val="d9d9d9"/>
                </a:solidFill>
                <a:latin typeface="Tahoma"/>
              </a:rPr>
              <a:t>. </a:t>
            </a:r>
            <a:br>
              <a:rPr sz="2000"/>
            </a:b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92d050"/>
                </a:solidFill>
                <a:uFillTx/>
                <a:latin typeface="Tahoma"/>
              </a:rPr>
              <a:t>بالختام</a:t>
            </a:r>
            <a:r>
              <a:rPr b="1" lang="ar-SA" sz="2000" spc="-1" strike="noStrike">
                <a:solidFill>
                  <a:srgbClr val="92d050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92d050"/>
                </a:solidFill>
                <a:latin typeface="Tahoma"/>
              </a:rPr>
              <a:t>: تنظم المدرسة نشاطا ختاميا بحضور أهالي المدينة </a:t>
            </a:r>
            <a:r>
              <a:rPr b="0" lang="ar-SA" sz="2000" spc="-1" strike="noStrike">
                <a:solidFill>
                  <a:srgbClr val="a3a3a3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11280" y="69228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</a:rPr>
              <a:t>التوثيق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:</a:t>
            </a:r>
            <a:br>
              <a:rPr sz="4000"/>
            </a:b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d9d9d9"/>
                </a:solidFill>
                <a:latin typeface="Tahoma"/>
              </a:rPr>
              <a:t>-  الكاميرات الفيديو والتصويرية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spcBef>
                <a:spcPts val="700"/>
              </a:spcBef>
              <a:buClr>
                <a:srgbClr val="ff9900"/>
              </a:buClr>
              <a:buSzPct val="7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d9d9d9"/>
                </a:solidFill>
                <a:latin typeface="Tahoma"/>
              </a:rPr>
              <a:t>آلات التسجيل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spcBef>
                <a:spcPts val="700"/>
              </a:spcBef>
              <a:buClr>
                <a:srgbClr val="ff9900"/>
              </a:buClr>
              <a:buSzPct val="7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d9d9d9"/>
                </a:solidFill>
                <a:latin typeface="Tahoma"/>
              </a:rPr>
              <a:t>بروتفليو الطف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11280" y="69228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</a:rPr>
              <a:t>مادة التوثيق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:</a:t>
            </a:r>
            <a:br>
              <a:rPr sz="4000"/>
            </a:b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d9d9d9"/>
                </a:solidFill>
                <a:latin typeface="Tahoma"/>
              </a:rPr>
              <a:t>كافة نشاطات الأطفال ، المشاريع ،</a:t>
            </a:r>
            <a:r>
              <a:rPr b="0" lang="ar-SA" sz="2800" spc="-1" strike="noStrike">
                <a:solidFill>
                  <a:srgbClr val="d9d9d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720" indent="-2365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d9d9d9"/>
                </a:solidFill>
                <a:latin typeface="Tahoma"/>
              </a:rPr>
              <a:t>عمليات التواصل بين الأطفال وبينهم وبين المعلمين لبناء المعرف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720" indent="-2365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d9d9d9"/>
                </a:solidFill>
                <a:latin typeface="Tahoma"/>
              </a:rPr>
              <a:t>الإنتاجات ، توثيق الحوارات ، الإحتفالات ، الإجابات .</a:t>
            </a:r>
            <a:r>
              <a:rPr b="0" lang="ar-SA" sz="2800" spc="-1" strike="noStrike">
                <a:solidFill>
                  <a:srgbClr val="d9d9d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4360" y="907560"/>
            <a:ext cx="7991280" cy="46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ahoma"/>
              </a:rPr>
              <a:t>هي تجربة نوعية مميزة في رياض الأطفال ظهرت في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ahoma"/>
              </a:rPr>
              <a:t>بلدة ريجيو أمليا في شمال ايطاليا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أسست من قبل  لوريس مالغوزي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Majalla UI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Majalla UI"/>
              </a:rPr>
              <a:t>Loris Malaguzzi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Majalla UI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ahoma"/>
              </a:rPr>
              <a:t>تعتبر أفضل تجربة رياض الأطفال في العالم(مجلة نيوز ويك الأمريكية – </a:t>
            </a:r>
            <a:r>
              <a:rPr b="0" lang="ar-SA" sz="2800" spc="-1" strike="noStrike">
                <a:solidFill>
                  <a:srgbClr val="ff0000"/>
                </a:solidFill>
                <a:latin typeface="Tahoma"/>
              </a:rPr>
              <a:t>1991</a:t>
            </a:r>
            <a:r>
              <a:rPr b="0" lang="ar-SA" sz="2800" spc="-1" strike="noStrike">
                <a:solidFill>
                  <a:srgbClr val="ff0000"/>
                </a:solidFill>
                <a:latin typeface="Tahoma"/>
              </a:rPr>
              <a:t>)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9d9d9"/>
                </a:solidFill>
                <a:latin typeface="Tahoma"/>
              </a:rPr>
              <a:t>تتميز بتطبيقها المتكامل لعدد من النظريات التربو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9d9d9"/>
                </a:solidFill>
                <a:latin typeface="Tahoma"/>
              </a:rPr>
              <a:t>الحديثة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ahoma"/>
              </a:rPr>
              <a:t>تتمحور بشكل خاص حول نظرية فايجوتسكي ونظرية بياجي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79640" y="234900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2f2f2"/>
                </a:solidFill>
                <a:latin typeface="Arial"/>
              </a:rPr>
              <a:t>تكوين وعمل الجهاز التربوي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68000" y="981000"/>
            <a:ext cx="82184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d9d9d9"/>
                </a:solidFill>
                <a:uFillTx/>
                <a:latin typeface="Arial"/>
              </a:rPr>
              <a:t>يتميز الجهاز التربوي في مدارس ريجيو أمليا بالنظا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d9d9d9"/>
                </a:solidFill>
                <a:uFillTx/>
                <a:latin typeface="Arial"/>
              </a:rPr>
              <a:t> التعاوني الجماعي ويتكون من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d9d9d9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d9d9d9"/>
                </a:solidFill>
                <a:latin typeface="Arial"/>
              </a:rPr>
              <a:t>- المعلمون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معلمتان لكل صف ، تستمران مع الاطفال لمدة 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 سنوات ، تنتقلان معهم من صف لأعلى ، يتحق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بذلك تعارف بين الاطفال بعضهم البعض ، وبين المعلم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 والأطفال من جهه أخرى ، يساعدهم ذلك الاستمرار على الامان والبناء ، تكون المعلمة اكثر قدرة على مساعدتهم في النمو ، يقوم المعلمون بتوثيق عملهم اليومي ، مما يساعد في تمكينهم من التخطيط للمنهج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68000" y="476280"/>
            <a:ext cx="82184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2f2f2"/>
                </a:solidFill>
                <a:latin typeface="Tahoma"/>
              </a:rPr>
              <a:t>2</a:t>
            </a:r>
            <a:r>
              <a:rPr b="0" lang="ar-SA" sz="2800" spc="-1" strike="noStrike">
                <a:solidFill>
                  <a:srgbClr val="f2f2f2"/>
                </a:solidFill>
                <a:latin typeface="Tahoma"/>
              </a:rPr>
              <a:t>- المنسقة التربوي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ahoma"/>
              </a:rPr>
              <a:t>تعمل مع الأطفال والمعلمين والأهالي والمجتمع المحلي 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ahoma"/>
              </a:rPr>
              <a:t>ويكون دورها مع المعلمين بمساعدتهم في تصميم مشاريع جديدة وتدريبهم اثناء الخدمة </a:t>
            </a: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2f2f2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f2f2f2"/>
                </a:solidFill>
                <a:latin typeface="Tahoma"/>
              </a:rPr>
              <a:t>- مدير المشغل </a:t>
            </a:r>
            <a:r>
              <a:rPr b="0" lang="ar-SA" sz="28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ahoma"/>
              </a:rPr>
              <a:t> وهو المسؤول عن ادارة المشغل ومساعدة الاطفال على اتقان لغات التعبير المختلفة وحفظ اعمالهم وانتاجهم وتوثيق نموهم وتطورهم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640" y="54936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تنظيم البيئة 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94920" y="2349000"/>
            <a:ext cx="8002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d9d9d9"/>
                </a:solidFill>
                <a:latin typeface="Tahoma"/>
              </a:rPr>
              <a:t>* عملية التفاعل كطريقة للتعلم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ahoma"/>
              </a:rPr>
              <a:t>تقسم الغرفة لأركان تستوعب مجموعات صغيرة من الأطفا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ahoma"/>
              </a:rPr>
              <a:t>في وقت واحد تتنقل المعلمة لتسهل تفاعلها معهم .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71640" y="428760"/>
            <a:ext cx="7634160" cy="61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d9d9d9"/>
                </a:solidFill>
                <a:latin typeface="Tahoma"/>
              </a:rPr>
              <a:t>تشجيع التعبير بلغات مختلف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ahoma"/>
              </a:rPr>
              <a:t>يرون بان الأطفال لهم قدرة على التعبير بلغات مختلفة كاللغة والفنون بأنواعها واللعب التمثيلي وغيرها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ahoma"/>
              </a:rPr>
              <a:t>لذلك يجب أن تؤمن البيئة التربوية وسائل ومواد متنوعة في غرفة الصف ، في المشغل العام في المدرسة ، في المشاغل المصغرة في الصفوف نفسها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d9d9d9"/>
                </a:solidFill>
                <a:latin typeface="Tahoma"/>
              </a:rPr>
              <a:t>* تشجيع البحث والاستكشاف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ahoma"/>
              </a:rPr>
              <a:t>بتجهيز الوسائل السمعية البصرية والكتب المتنوعة من موسوعات ومجلات وكتب وأجهزة كومبيوت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68360" y="101736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9d9d9"/>
                </a:solidFill>
                <a:latin typeface="Tahoma"/>
              </a:rPr>
              <a:t>التعبير عن البيئة والثقافة الايطالية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ahoma"/>
              </a:rPr>
              <a:t>تتميز هذه المدارس بالبيئة الهندسية والنباتات والتماثيل المعبرة عن البيئة الفنية الايطالي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11280" y="62028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d9d9d9"/>
                </a:solidFill>
                <a:latin typeface="Arial"/>
              </a:rPr>
              <a:t>يتميز البرنامج </a:t>
            </a:r>
            <a:br>
              <a:rPr sz="4000"/>
            </a:b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39640" y="1600200"/>
            <a:ext cx="83757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عدم وجود جدول زمني أو منهج خاص تلتزم به المدرسة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ahoma"/>
              </a:rPr>
              <a:t>اختيار موضوعات بناءً على خصائص الأطفال وميوله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يتسم هذا البرنامج بالإدارة المفتوحة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ahoma"/>
              </a:rPr>
              <a:t>البعد عن التلقين، وجعل الدور الأكبر للطفل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لتعاون بين الطفل والمعلم والأهل باعتبارهم شركاء في العملية التعليمية، إضافة إلى المجتم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ahoma"/>
              </a:rPr>
              <a:t>إتاحة الفرصة للطفل لتنمية القدرات المستقلة في التفكير والتفاعل الاجتماعي مع الآخرين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يسمح للأطفال بدخول البرنامج من جميع البيئات الاجتماعية الثقافية والتعليمية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ahoma"/>
              </a:rPr>
              <a:t>يتم إعطاء أطفال التربية الخاصة فرصة للتسجيل في المدرس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0:13:00Z</dcterms:created>
  <dc:creator>ام يزيد</dc:creator>
  <dc:description/>
  <dc:language>en-US</dc:language>
  <cp:lastModifiedBy>aroma.faiz@yahoo.com</cp:lastModifiedBy>
  <dcterms:modified xsi:type="dcterms:W3CDTF">2014-03-09T17:57:54Z</dcterms:modified>
  <cp:revision>113</cp:revision>
  <dc:subject/>
  <dc:title>تجربة ريجيو اميليا</dc:title>
</cp:coreProperties>
</file>