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F98-E1C0-4677-8383-BCC99EA6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C56-975B-4880-AA49-E0C87536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7D0-46FD-471F-8ADD-8B5DE757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A42-C7E2-491C-89F9-B5BE3E6B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9A9E-CCE6-45A7-BFDE-7905F100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84F25-D67A-4EBC-8EBC-0FEBB37E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7C93-EE47-41B3-ABFC-B0D86D1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368-2874-4FAA-A096-4340F65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1503-C046-4144-A6D8-F55F0D87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184B-31E0-40AD-A2E4-445E6A2A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17CC-69F7-4CA3-9802-8C1907BF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BFA-38A9-4EFD-BE50-86BFDE1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587F-1C87-4C35-B4C4-E860A87B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B32EE-87B0-4F32-9812-F173919D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9A2D-4E8B-4BD5-8E70-3D2FA202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3271-5D8E-4B1F-851D-C7A66389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A930-48D7-4251-B690-1BD4E2109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D73-A9AD-415A-92A4-9F87BDD0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B2E-393B-47C3-817C-A40A6125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F41A-70E8-4B5D-9F27-7BE71FAE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F5D7-B314-4385-962C-A099395F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548-4BCF-4BC1-87F2-5928E38A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DCA0-1BA6-4A8F-B07A-6E58BAF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6DE-6BDC-4D92-996B-F7F0437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EDF7-EC97-4F3C-80C6-8BA4DD06601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 rtl="1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5C5-9966-4DE7-A77D-F69E54EEE0D6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5c"/>
                </a:solidFill>
                <a:latin typeface="Tahoma"/>
                <a:cs typeface="Tahoma"/>
              </a:rPr>
              <a:t>تجربة ريجيو إميليا </a:t>
            </a:r>
            <a:endParaRPr b="1" lang="en-US" sz="20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85" name="عنصر نائب للصورة 6" descr="314489_120201294748341_4250584_n.jpg"/>
          <p:cNvPicPr/>
          <p:nvPr/>
        </p:nvPicPr>
        <p:blipFill>
          <a:blip r:embed="rId1"/>
          <a:srcRect l="0" t="12501" r="0" b="1250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9d9d9"/>
                </a:solidFill>
                <a:latin typeface="Tahoma"/>
              </a:rPr>
              <a:t>الأطفال كباحثين صغار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دور المعلم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50920" y="1600200"/>
            <a:ext cx="866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تهيئة البيئة وتوفير الأدوات اللازمة للنشاط، ثم حث الأطفال ومساعدتهم على التعرف عليها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ترك الحرية للطفل للتعبير عن المفهوم بالطريقة التي يحب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تقسيم الأطفال إلى مجموعات لا تتعدى كل مجموعة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 أطفال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عرض أعمال الأطفال ودعمها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- معلمو روجيو امليو شركاء ومتعاونين في التعليم مع الآباء والأطفال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يبقى الأطفال مع نفس المعلم ومجموعة الأطفال لمدة 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ffff"/>
                </a:solidFill>
                <a:latin typeface="Tahoma"/>
              </a:rPr>
              <a:t> سنوات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يضم هذا المنهج الآن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21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مدرسة للأطفال من عمر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سنوات،ومراكز للرضع من عمر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شهور وحتى 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2200" spc="-1" strike="noStrike">
                <a:solidFill>
                  <a:srgbClr val="ff0000"/>
                </a:solidFill>
                <a:latin typeface="Tahoma"/>
              </a:rPr>
              <a:t> سنوات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9d9d9"/>
                </a:solidFill>
                <a:latin typeface="Arial"/>
              </a:rPr>
              <a:t>3</a:t>
            </a:r>
            <a:r>
              <a:rPr b="1" lang="ar-SA" sz="4400" spc="-1" strike="noStrike">
                <a:solidFill>
                  <a:srgbClr val="d9d9d9"/>
                </a:solidFill>
                <a:latin typeface="Arial"/>
              </a:rPr>
              <a:t>- طريقة المشروع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60020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d9d9d9"/>
                </a:solidFill>
                <a:latin typeface="Tahoma"/>
              </a:rPr>
              <a:t>الهدف : هو مساعدة الأطفال على استكشاف بيئتهم والتعرف عليها من خلال مشروع بشكل موضوع يختاره الأطفال أو المربين أو معا صغيرا أو كبيرا يقومون بالبحث و بجمع معلومات من مصادر مختلفة ثم ينظموها ثم يعبرون عنها بلغات مختلفة بمساعدة المعلمين والمربون بعد مناقشة التربويون والتفكير والتخطيط لطرق توسع وتطور الموضوع ، </a:t>
            </a:r>
            <a:r>
              <a:rPr b="0" lang="ar-SA" sz="2100" spc="-1" strike="noStrike" u="sng">
                <a:solidFill>
                  <a:srgbClr val="d9d9d9"/>
                </a:solidFill>
                <a:uFillTx/>
                <a:latin typeface="Tahoma"/>
              </a:rPr>
              <a:t>التشجيع والتوثيق </a:t>
            </a:r>
            <a:r>
              <a:rPr b="1" lang="ar-SA" sz="2100" spc="-1" strike="noStrike" u="sng">
                <a:solidFill>
                  <a:srgbClr val="d9d9d9"/>
                </a:solidFill>
                <a:uFillTx/>
                <a:latin typeface="Tahoma"/>
              </a:rPr>
              <a:t>والمناقشة </a:t>
            </a:r>
            <a:r>
              <a:rPr b="1" lang="ar-SA" sz="2100" spc="-1" strike="noStrike">
                <a:solidFill>
                  <a:srgbClr val="d9d9d9"/>
                </a:solidFill>
                <a:latin typeface="Tahoma"/>
              </a:rPr>
              <a:t>. </a:t>
            </a:r>
            <a:br>
              <a:rPr sz="2000"/>
            </a:b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92d050"/>
                </a:solidFill>
                <a:uFillTx/>
                <a:latin typeface="Tahoma"/>
              </a:rPr>
              <a:t>بالختام</a:t>
            </a:r>
            <a:r>
              <a:rPr b="1" lang="ar-SA" sz="2000" spc="-1" strike="noStrike">
                <a:solidFill>
                  <a:srgbClr val="92d05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92d050"/>
                </a:solidFill>
                <a:latin typeface="Tahoma"/>
              </a:rPr>
              <a:t>: تنظم المدرسة نشاطا ختاميا بحضور أهالي المدينة </a:t>
            </a:r>
            <a:r>
              <a:rPr b="0" lang="ar-SA" sz="2000" spc="-1" strike="noStrike">
                <a:solidFill>
                  <a:srgbClr val="a3a3a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التوثيق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-  الكاميرات الفيديو والتصوير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آلات التسجي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بروتفليو الطف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1280" y="69228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0000"/>
                </a:solidFill>
                <a:uFillTx/>
                <a:latin typeface="Arial"/>
              </a:rPr>
              <a:t>مادة التوثيق </a:t>
            </a:r>
            <a:r>
              <a:rPr b="1" lang="ar-SA" sz="4000" spc="-1" strike="noStrike">
                <a:solidFill>
                  <a:srgbClr val="ff0000"/>
                </a:solidFill>
                <a:latin typeface="Arial"/>
              </a:rPr>
              <a:t>: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كافة نشاطات الأطفال ، المشاريع ،</a:t>
            </a: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عمليات التواصل بين الأطفال وبينهم وبين المعلمين لبناء المعرفة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720" indent="-2365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الإنتاجات ، توثيق الحوارات ، الإحتفالات ، الإجابات .</a:t>
            </a: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4360" y="907560"/>
            <a:ext cx="799128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هي تجربة نوعية مميزة في رياض الأطفال ظهرت ف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بلدة ريجيو أمليا في شمال ايطالي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أسست من قبل  لوريس مالغوزي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Loris Malaguzz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عتبر أفضل تجربة رياض الأطفال في العالم(مجلة نيوز ويك الأمريكية –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1991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)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تتميز بتطبيقها المتكامل لعدد من النظريات الترب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d9d9d9"/>
                </a:solidFill>
                <a:latin typeface="Tahoma"/>
              </a:rPr>
              <a:t>الحديث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تمحور بشكل خاص حول نظرية فايجوتسكي ونظرية بياجي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9640" y="234900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2f2f2"/>
                </a:solidFill>
                <a:latin typeface="Arial"/>
              </a:rPr>
              <a:t>تكوين وعمل الجهاز التربو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000" y="981000"/>
            <a:ext cx="8218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d9d9d9"/>
                </a:solidFill>
                <a:uFillTx/>
                <a:latin typeface="Arial"/>
              </a:rPr>
              <a:t>يتميز الجهاز التربوي في مدارس ريجيو أمليا بالنظا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d9d9d9"/>
                </a:solidFill>
                <a:uFillTx/>
                <a:latin typeface="Arial"/>
              </a:rPr>
              <a:t> التعاوني الجماعي ويتكون م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d9d9d9"/>
                </a:solidFill>
                <a:latin typeface="Arial"/>
              </a:rPr>
              <a:t>- المعلمون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معلمتان لكل صف ، تستمران مع الاطفال لمدة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سنوات ، تنتقلان معهم من صف لأعلى ، يتحق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بذلك تعارف بين الاطفال بعضهم البعض ، وبين المعلم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 والأطفال من جهه أخرى ، يساعدهم ذلك الاستمرار على الامان والبناء ، تكون المعلمة اكثر قدرة على مساعدتهم في النمو ، يقوم المعلمون بتوثيق عملهم اليومي ، مما يساعد في تمكينهم من التخطيط للمنهج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000" y="476280"/>
            <a:ext cx="821844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- المنسقة التربوي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تعمل مع الأطفال والمعلمين والأهالي والمجتمع المحلي 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ويكون دورها مع المعلمين بمساعدتهم في تصميم مشاريع جديدة وتدريبهم اثناء الخدمة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f2f2f2"/>
                </a:solidFill>
                <a:latin typeface="Tahoma"/>
              </a:rPr>
              <a:t>- مدير المشغل </a:t>
            </a: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</a:rPr>
              <a:t> وهو المسؤول عن ادارة المشغل ومساعدة الاطفال على اتقان لغات التعبير المختلفة وحفظ اعمالهم وانتاجهم وتوثيق نموهم وتطورهم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54936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نظيم البيئة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4920" y="2349000"/>
            <a:ext cx="8002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9d9d9"/>
                </a:solidFill>
                <a:latin typeface="Tahoma"/>
              </a:rPr>
              <a:t>* عملية التفاعل كطريقة للتعلم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تقسم الغرفة لأركان تستوعب مجموعات صغيرة من الأطفا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في وقت واحد تتنقل المعلمة لتسهل تفاعلها معهم .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71640" y="428760"/>
            <a:ext cx="763416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تشجيع التعبير بلغات مختلفة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يرون بان الأطفال لهم قدرة على التعبير بلغات مختلفة كاللغة والفنون بأنواعها واللعب التمثيلي وغير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لذلك يجب أن تؤمن البيئة التربوية وسائل ومواد متنوعة في غرفة الصف ، في المشغل العام في المدرسة ، في المشاغل المصغرة في الصفوف نفسها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d9d9d9"/>
                </a:solidFill>
                <a:latin typeface="Tahoma"/>
              </a:rPr>
              <a:t>* تشجيع البحث والاستكشاف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</a:rPr>
              <a:t>بتجهيز الوسائل السمعية البصرية والكتب المتنوعة من موسوعات ومجلات وكتب وأجهزة كومبيوت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360" y="101736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9d9d9"/>
                </a:solidFill>
                <a:latin typeface="Tahoma"/>
              </a:rPr>
              <a:t>التعبير عن البيئة والثقافة الايطالية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تتميز هذه المدارس بالبيئة الهندسية والنباتات والتماثيل المعبرة عن البيئة الفنية الايطال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9d9d9"/>
                </a:solidFill>
                <a:latin typeface="Arial"/>
              </a:rPr>
              <a:t>يتميز البرنامج </a:t>
            </a:r>
            <a:br>
              <a:rPr sz="4000"/>
            </a:b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39640" y="1600200"/>
            <a:ext cx="8375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عدم وجود جدول زمني أو منهج خاص تلتزم به المدرس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اختيار موضوعات بناءً على خصائص الأطفال وميوله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تسم هذا البرنامج بالإدارة المفتوح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البعد عن التلقين، وجعل الدور الأكبر للطف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تعاون بين الطفل والمعلم والأهل باعتبارهم شركاء في العملية التعليمية، إضافة إلى المجتم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إتاحة الفرصة للطفل لتنمية القدرات المستقلة في التفكير والتفاعل الاجتماعي مع الآخرين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سمح للأطفال بدخول البرنامج من جميع البيئات الاجتماعية الثقافية والتعليمية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يتم إعطاء أطفال التربية الخاصة فرصة للتسجيل في المدرس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826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0:13:00Z</dcterms:created>
  <dc:creator>ام يزيد</dc:creator>
  <dc:description/>
  <dc:language>en-US</dc:language>
  <cp:lastModifiedBy>aroma.faiz@yahoo.com</cp:lastModifiedBy>
  <dcterms:modified xsi:type="dcterms:W3CDTF">2014-03-09T17:57:54Z</dcterms:modified>
  <cp:revision>113</cp:revision>
  <dc:subject/>
  <dc:title>تجربة ريجيو اميليا</dc:title>
</cp:coreProperties>
</file>