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3.jpeg" ContentType="image/jpe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193-062C-4D5F-868A-03572037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27A-47AC-4305-B190-846FC68E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73C-19B6-4E86-89D3-44835A07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0B3-3617-4869-AFF4-2087EAB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9AA-1162-4FA1-81D2-F1D92101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43D-8DA6-4808-94CA-4DA2EA54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209-C8AE-4AC1-AF18-67DBCC70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997-FF67-44EE-A9AB-5E2CFAB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A41-BC33-47DC-94D0-59EB49D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725-C9B7-4999-931B-66C67402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38EE-2E69-4586-8E3A-F6CD48B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189-4163-4B91-82A9-44AA3928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5A86-3ED2-4D57-B8F7-0916F0AF175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451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Calibri Light"/>
              </a:rPr>
              <a:t>اتجاه ريجيو إميليا</a:t>
            </a:r>
            <a:r>
              <a:rPr b="0" lang="ar-SA" sz="9600" spc="-1" strike="noStrike">
                <a:solidFill>
                  <a:srgbClr val="000000"/>
                </a:solidFill>
                <a:latin typeface="Calibri Light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560" y="2276280"/>
            <a:ext cx="662148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Reggio Emillia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99640" y="2276640"/>
            <a:ext cx="73868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</a:t>
            </a:r>
            <a:r>
              <a:rPr b="0" lang="ar-SA" sz="2800" spc="-1" strike="noStrike">
                <a:solidFill>
                  <a:srgbClr val="cc00ff"/>
                </a:solidFill>
                <a:latin typeface="Calibri"/>
              </a:rPr>
              <a:t>مدير المشغل ( الورشة)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( الإدارة , حفظ اعمال الأطفال و انتاجهم لتوثيق تطورهم و نموه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33000"/>
            <a:ext cx="77724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2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.تنظيم البيئة  : تنظم البيئة لتحقق 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5</a:t>
            </a:r>
            <a:r>
              <a:rPr b="0" lang="ar-SA" sz="3600" spc="-1" strike="noStrike" u="sng">
                <a:solidFill>
                  <a:srgbClr val="33cc33"/>
                </a:solidFill>
                <a:uFillTx/>
                <a:latin typeface="Arial"/>
              </a:rPr>
              <a:t> اهداف و ه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عملية التفاعل طريقة للتعل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الغرف مقسمة لأركان تستوعب كل منها مجموعة صغيرة من الأطفال في وقت واحد و تسهم ف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طفل مع الطف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معلمة مع الطفل(تركز المعلمة على محتوى العمل والأطفال مع اهتمام اقل بالروتين اليومي وطاعة القواع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فاعل المعلمة و الطفل و الأهالي و مؤسسات البيئة من خلال (غرف للأهالي و الزوار مفتوحة , و المشغل محاط بجدار من الزجاج ليتمكن الزوار من رؤية ما يدور بالداخل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تشجيع التعبير بلغات مختلف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: ( اللغة , الفنون ,اللعب التمثيلي ) من خلال توفير مطبخ و غرفة طعام و وسائل و مواد متنوعة بكميات وافرة في غرفة الصفو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lang="ar-SA" sz="2400" spc="-1" strike="noStrike">
                <a:solidFill>
                  <a:srgbClr val="33cc33"/>
                </a:solidFill>
                <a:latin typeface="Arial"/>
              </a:rPr>
              <a:t>تشجيع البحث و الاكتشاف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توفير وسائل سمعية و بصرية و كتب منوعة و الموسوعات و كمبيوتر في كل غرفة صف )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0880" indent="-200880" algn="r" rtl="1">
              <a:lnSpc>
                <a:spcPct val="80000"/>
              </a:lnSpc>
              <a:spcBef>
                <a:spcPts val="10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2060640"/>
            <a:ext cx="8034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33cc33"/>
                </a:solidFill>
                <a:latin typeface="Calibri"/>
              </a:rPr>
              <a:t> .</a:t>
            </a:r>
            <a:r>
              <a:rPr b="0" lang="ar-SA" sz="2800" spc="-1" strike="noStrike">
                <a:solidFill>
                  <a:srgbClr val="0563c1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التعبير عن الثقافة و البيئة الإيطال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7e6e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من خلال البنية الهندسية للمدرسة , العناية بجمال المكان ,النباتات , الأشكال الطينية  المرتبطة بالفن الإيطالي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33cc33"/>
                </a:solidFill>
                <a:latin typeface="Arial"/>
              </a:rPr>
              <a:t> . اعتبار المحيط امتداد لغرفة الصف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e7e6e6"/>
                </a:solidFill>
                <a:latin typeface="Arial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المدرسة منفتحة على الأشخاص و على البيئة المحيطة بها و على المدينة بكام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331640" y="1773360"/>
            <a:ext cx="7592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e7e6e6"/>
                </a:solidFill>
                <a:uFillTx/>
                <a:latin typeface="Calibri"/>
              </a:rPr>
              <a:t>3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. طريقة المشروع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هدف المدرسة لتعرف الأطفال على بيئتهم  و يتم ذلك بشكل اساسي من خلال طريقة المشروع فيختار الأطفال و المعلمة موضوع معين صغير او كبير ( ورقة شجر او متحف المدينة ) يمتد لفترة قصيرة أو طوي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نبثق موضوعات المشروع مباشرة من الاطفال ويتم توجيهها ببساطة من قبل الراشدي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2d050"/>
                </a:solidFill>
                <a:uFillTx/>
                <a:latin typeface="Calibri"/>
              </a:rPr>
              <a:t>بالختام</a:t>
            </a:r>
            <a:r>
              <a:rPr b="0" lang="ar-SA" sz="2400" spc="-1" strike="noStrike">
                <a:solidFill>
                  <a:srgbClr val="92d050"/>
                </a:solidFill>
                <a:latin typeface="Calibri"/>
              </a:rPr>
              <a:t> : تنظم المدرسة نشاطا ختاميا بحضور أهالي المدينة </a:t>
            </a:r>
            <a:r>
              <a:rPr b="0" lang="ar-SA" sz="2400" spc="-1" strike="noStrike">
                <a:solidFill>
                  <a:srgbClr val="a3a3a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buSzPct val="1388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0240" indent="-2102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Baby_with_hammer"/>
          <p:cNvPicPr/>
          <p:nvPr/>
        </p:nvPicPr>
        <p:blipFill>
          <a:blip r:embed="rId4"/>
          <a:stretch/>
        </p:blipFill>
        <p:spPr>
          <a:xfrm>
            <a:off x="539640" y="404640"/>
            <a:ext cx="23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جمعو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معلومات متنوعة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كتوبة او مصورة و ينظمونها ثم يعبرون عنها بطرق مختلفة و ادوات متنوعة , يعطي المعلمون الأطفال وقت كافي لتتبلور الفكرة و ينفذونها , دور التربويون و المعلمون مناقشة الأفكار و الخيارات و امكانية تطوير العمل من خلال اضافة مواد او توفير ادوات او انشطة  , وبعد الانتهاء من العمل يقيم الأطفال و المعلمون و التربويون نشاط ختامي يدعى له الأهالي و اهل المدينة لمشاهدة ما توصل له الأطفال من معارف و ما اكتسبوه من تعلم معبرين عنها بلغاتهم المختلفة لاسيما الفنية منها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شروع ينبغي أن يشمل العديد من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المفاهي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رياضية والفنية واللغوية والاجتماع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8920" y="549000"/>
            <a:ext cx="8496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563c1"/>
                </a:solidFill>
                <a:uFillTx/>
                <a:latin typeface="Calibri"/>
              </a:rPr>
              <a:t>4</a:t>
            </a:r>
            <a:r>
              <a:rPr b="0" lang="ar-SA" sz="3600" spc="-1" strike="noStrike" u="sng">
                <a:solidFill>
                  <a:srgbClr val="0563c1"/>
                </a:solidFill>
                <a:uFillTx/>
                <a:latin typeface="Calibri"/>
              </a:rPr>
              <a:t> . </a:t>
            </a:r>
            <a:r>
              <a:rPr b="0" lang="ar-SA" sz="2800" spc="-1" strike="noStrike" u="sng">
                <a:solidFill>
                  <a:srgbClr val="0563c1"/>
                </a:solidFill>
                <a:uFillTx/>
                <a:latin typeface="Calibri"/>
              </a:rPr>
              <a:t>التوثيق :</a:t>
            </a:r>
            <a:r>
              <a:rPr b="0" lang="ar-SA" sz="2800" spc="-1" strike="noStrike" u="sng">
                <a:solidFill>
                  <a:srgbClr val="e7e6e6"/>
                </a:solidFill>
                <a:uFillTx/>
                <a:latin typeface="Calibri"/>
              </a:rPr>
              <a:t>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وثيق نشاطات الأطفال و انتاجهم و استخدامه لتعزيز عملية التعل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وسائل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 الكاميرا التصويرية , كاميرا الفيديو , آلة التسجيل و الكتابة , انتاج الأطفال انفسهم  ) و تحفظ هذه الوثائق في المشغل و تعلق بشكل منظم على جدران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مادة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احتفالات , مناسبات , مشاريع الأطفال , مراحل تعلم الأطفال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80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d9a78"/>
                </a:solidFill>
                <a:latin typeface="Calibri"/>
              </a:rPr>
              <a:t>استخدام التوثيق</a:t>
            </a: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تعزيز التعلم , ترسيخ فكرة او تطويرها , استرجاع مشاريع قاموا بها  , تقييم الأنشطة و المناهج من قبل المعلمين و التربويين , تطوير طرق التعلم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39280" y="980640"/>
            <a:ext cx="820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3399"/>
                </a:solidFill>
                <a:uFillTx/>
                <a:latin typeface="Calibri"/>
              </a:rPr>
              <a:t>5</a:t>
            </a:r>
            <a:r>
              <a:rPr b="0" lang="ar-SA" sz="2800" spc="-1" strike="noStrike" u="sng">
                <a:solidFill>
                  <a:srgbClr val="ff3399"/>
                </a:solidFill>
                <a:uFillTx/>
                <a:latin typeface="Calibri"/>
              </a:rPr>
              <a:t> . تنظيم عمل الأطفال كمجموعات صغي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ظيم عمل الأطفال و نشاطاتهم في مجموعات صغيرة لا تتعد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طفال , ( ربط اعضاء المجموعة , تبادل الآراء , التفكير كمجموعة , التواصل , التنظيم الذاتي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تعلم الأطفال من خلال عنصرين : علاقتهم بالآخرين , و خبراتهم الحس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800080"/>
                </a:solidFill>
                <a:uFillTx/>
                <a:latin typeface="Calibri"/>
              </a:rPr>
              <a:t>6</a:t>
            </a:r>
            <a:r>
              <a:rPr b="0" lang="ar-SA" sz="2800" spc="-1" strike="noStrike" u="sng">
                <a:solidFill>
                  <a:srgbClr val="800080"/>
                </a:solidFill>
                <a:uFillTx/>
                <a:latin typeface="Calibri"/>
              </a:rPr>
              <a:t>. الإدارة المجتمع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تبع ادارة هذه المدارس للبلدية  و تشرف عليها دائرة التربية و تتفرع منها ادارات فرعية و لجان خاصة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800080"/>
                </a:solidFill>
                <a:uFillTx/>
                <a:latin typeface="Calibri Light"/>
              </a:rPr>
              <a:t>المبادئ الأساسية لتجربة ريجيو ايميليا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87640" y="1196640"/>
            <a:ext cx="3809880" cy="544500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txBody>
          <a:bodyPr anchor="t">
            <a:normAutofit fontScale="94000"/>
          </a:bodyPr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ar-SA" sz="20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صورة الطف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cc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محب للاستطلا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cc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محب للتح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بحث.... تشجيع التفك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اجتماعي ( يتعلم من خلال التفاعل مع الآخر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الفريقي – مجموعات صغي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مع المعلم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عمل مع الكبار ( الأهالي وأفراد المجتم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c00ff"/>
                </a:solidFill>
                <a:latin typeface="Calibri"/>
              </a:rPr>
              <a:t>يتعلم باستعادة وإعادة زيارة وقراءة الخب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حوار الشف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توث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SzPct val="15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تعبير بلغات مختلف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4560" indent="-21456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280" y="1341000"/>
            <a:ext cx="380988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219240" indent="-219240"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0000"/>
                </a:solidFill>
                <a:uFillTx/>
                <a:latin typeface="Calibri"/>
              </a:rPr>
              <a:t>الإطار الثقافي والاجتماع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نظام مفتوح على البيئ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شاريع من البيئة والثقاف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ثقافة في المدرس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90000"/>
              </a:lnSpc>
              <a:spcBef>
                <a:spcPts val="1001"/>
              </a:spcBef>
              <a:buClr>
                <a:srgbClr val="e7e6e6"/>
              </a:buClr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شركاء ثلاث في العملية التعليم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84360" y="3860640"/>
            <a:ext cx="3809880" cy="2087640"/>
          </a:xfrm>
          <a:prstGeom prst="rect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3399"/>
                </a:solidFill>
                <a:uFillTx/>
                <a:latin typeface="Times New Roman (Arabic)"/>
              </a:rPr>
              <a:t>البحث المستم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مشاريع الأطف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بحوث المعلمين والتربوي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الثقافة في المدرس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e7e6e6"/>
              </a:buClr>
              <a:buSzPct val="8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</a:rPr>
              <a:t>مشاركة أفراد المجتمع المح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ffff"/>
                </a:solidFill>
                <a:uFillTx/>
                <a:latin typeface="Calibri Light"/>
              </a:rPr>
              <a:t>المحاور الرئيسة التي سوف تتناولها المحاضرة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قد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ادئ الأساسية لتجربة ريجيو إميلي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خصائص( عناصر تجربة ريجيو اميليا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ag61_copy"/>
          <p:cNvPicPr/>
          <p:nvPr/>
        </p:nvPicPr>
        <p:blipFill>
          <a:blip r:embed="rId5"/>
          <a:stretch/>
        </p:blipFill>
        <p:spPr>
          <a:xfrm>
            <a:off x="250920" y="4869000"/>
            <a:ext cx="8569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86920" y="549360"/>
            <a:ext cx="741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عد انتهاء الحرب العالمية الثانية بدأت تجربة نوعية مميزة في رياض الأطفال و صنفت كأفضل تجربة رياض اطفال في العالم و اجريت دراسات لبحث مكوناتها و ابعادها للاستفادة منها , </a:t>
            </a: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فماذا يميز هذه التجرب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تطبيقها المتكامل و بتوليفة مبدعة ووعي كامل لعدد من النظريات التربوية الحديثة يضاف الى ذلك البحوث المستمرة التي يقوم بها المعلمون وفريق العمل داخل هذه المدارس مما يكفل لفلسفة المدارس بالاستمرا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تتمحور بشكل خاص حول عدد من النظريات من أبرزها نظرية بياجيه وفايجوتسكي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سس التربوي لوريز ملاجوزي بعد الحرب العالمية الثانية مجموعة مدارس للأطفال تديرها بلدية المدينة و تمولها عائلات متحفزة لتوفير تربية متقدمة لأطفال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كان مالاجوزي متأثرا ومؤمنا بأفكار بياجيه حول النمو العقلي للطفل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70"/>
          <p:cNvPicPr/>
          <p:nvPr/>
        </p:nvPicPr>
        <p:blipFill>
          <a:blip r:embed="rId6"/>
          <a:stretch/>
        </p:blipFill>
        <p:spPr>
          <a:xfrm>
            <a:off x="179280" y="189000"/>
            <a:ext cx="95904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رغم تشابه مدارس ريجيو ايمليا لبعض المدارس الأخرى في العالم ..الا ان هناك </a:t>
            </a: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Calibri Light"/>
              </a:rPr>
              <a:t> نقاط تميزها عن غيرها وتجعلها متفردة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رغم انها تحتوي على كثير من مفاهيم وأفكار العلماء بياجيه وفيجوتسكي الا ان البحوث مستمرة والفلسفة في نمو مستم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 استخدام الفنون المتنوعة ولكل مدرسة أتيليه (ورشة فن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 المشاريع التي تبحث في العمق موضوع ما تتم بناء على التفاوض بين المعلمة والأطفا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7477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563c1"/>
                </a:solidFill>
                <a:uFillTx/>
                <a:latin typeface="Calibri Light"/>
              </a:rPr>
              <a:t>الطفل والمعلمة في تجربة ريجيو اميليا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3520" y="836640"/>
            <a:ext cx="8556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563c1"/>
                </a:solidFill>
                <a:latin typeface="Arial"/>
              </a:rPr>
              <a:t>صورة الطف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( حجر الأساس الذي تبني عليه التجربة نظريتها هو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تنظر للطفل ككائن حي اجتماعي بالدرجة الأولى ,(يتعلم من خلال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التفاعل الاجتما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ع الآخرين ضمن بيئت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563c1"/>
                </a:solidFill>
                <a:latin typeface="Arial"/>
              </a:rPr>
              <a:t>دور المدرسة / دور الراشدي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( تسعى المدرسة لدمج رفاهية الأطفال و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اجات الاجتماعية للأسر مع حقوق الأطفال الأساسية , وهذا الدمج يتطلب من الراشدين تقديم انفسهم للأطفال </a:t>
            </a: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"/>
              </a:rPr>
              <a:t>كمصاد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يمكن للأطفال ان يتوجهوا اليها عند الحاجة فمهمتهم مساعدة الأطفال ليكتشفوا بأنفسهم الإجابات عن اسئلتهم و ان يسألوا اسئلة افضل , وارتباط الأطفال ببيئة المدرسة التي هي جزء من البيئة الأوسع (المجتمع الإيطالي ) و تهدف المدرسة الى تعريف الأطفال على هذه البيئة للمشاركة في بنائ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78040" y="1827360"/>
            <a:ext cx="73879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5"/>
          <p:cNvSpPr/>
          <p:nvPr/>
        </p:nvSpPr>
        <p:spPr>
          <a:xfrm rot="8193000">
            <a:off x="2916000" y="3500280"/>
            <a:ext cx="4321080" cy="4175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1d9a7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596360" y="558972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مع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55640" y="5516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أه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84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الطف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00720" y="407664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563c1"/>
                </a:solidFill>
                <a:latin typeface="Arial"/>
                <a:cs typeface="Mudir MT"/>
              </a:rPr>
              <a:t>التعل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042920" y="0"/>
            <a:ext cx="7489800" cy="172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563c1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563c1"/>
                </a:solidFill>
                <a:latin typeface="Times New Roman"/>
              </a:rPr>
              <a:t>تحقيق التفاعل بصوره المختل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حيث أن للعملية التربوية والتعليمية ف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 مدارس ريجيو اميليا </a:t>
            </a: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e7e6e6"/>
                </a:solidFill>
                <a:latin typeface="Times New Roman"/>
              </a:rPr>
              <a:t> شرك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060640"/>
            <a:ext cx="7459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يت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حور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ام التربوي و الإداري في مدارس ريجيو اميليا حول تحقيق هدف واحد وهو ( التفاعل ) باعتباره الطريقة الأفضل لنمو الطفل و بناءة المعرفي و التعرف على البيئة و اكتشاف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90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يزته الأساسية توصف بالإدارة المفتوحة ( نظام شفاف هدفه الأول نمو الطفل و حقهم في هذا النمو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cc00ff"/>
                </a:solidFill>
                <a:uFillTx/>
                <a:latin typeface="Calibri Light"/>
              </a:rPr>
              <a:t>خصائص( عناصر تجربة ريجيو اميليا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32000" y="2636640"/>
            <a:ext cx="7386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440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 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1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  <a:ea typeface="Traditional Arabic"/>
              </a:rPr>
              <a:t>.</a:t>
            </a:r>
            <a:r>
              <a:rPr b="0" lang="ar-SA" sz="2800" spc="-1" strike="noStrike" u="sng">
                <a:solidFill>
                  <a:srgbClr val="cc00ff"/>
                </a:solidFill>
                <a:uFillTx/>
                <a:latin typeface="Calibri"/>
              </a:rPr>
              <a:t>تكوين و عمل الجهاز التربوي :</a:t>
            </a:r>
            <a:r>
              <a:rPr b="0" lang="ar-SA" sz="28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e6e6"/>
                </a:solidFill>
                <a:latin typeface="Calibri"/>
              </a:rPr>
              <a:t>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تميز بالنظام التعاوني الجماعي في ادارة المدرسة  , ويتكون من معلمين و مسئول مشغل ( ورشة) في المدرسة و منسقة تربوية لكل ثماني مدارس , و يتعاون الجميع لإنجاح العملية التربوية  وتتم بينهم اجتماعات تأخذ طابع مفتو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Accident"/>
          <p:cNvPicPr/>
          <p:nvPr/>
        </p:nvPicPr>
        <p:blipFill>
          <a:blip r:embed="rId2"/>
          <a:stretch/>
        </p:blipFill>
        <p:spPr>
          <a:xfrm>
            <a:off x="395280" y="5734080"/>
            <a:ext cx="8424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ff"/>
                </a:solidFill>
                <a:latin typeface="Arial"/>
              </a:rPr>
              <a:t>المعلمو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 نظام التعليم المتشارك بين معلمتين في ادارة كل صف , يستمرون مع نفس مجموعة الصف مدة ثلاث سنوات ,تضمن الإستمرار و البناء و التفاهم و الأمان و المعرفة الجيدة و تطوير المنهج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SzPct val="1593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cc00ff"/>
                </a:solidFill>
                <a:latin typeface="Arial"/>
              </a:rPr>
              <a:t>المنسقة التربو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تساعد في تصميم مشاريع جديدة ,تدرب المعلمين , تعمل مع الأطفال و المعلمين و الأهالي و الجماعة المحلي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20071031151956541001_pattes_010"/>
          <p:cNvPicPr/>
          <p:nvPr/>
        </p:nvPicPr>
        <p:blipFill>
          <a:blip r:embed="rId3"/>
          <a:stretch/>
        </p:blipFill>
        <p:spPr>
          <a:xfrm>
            <a:off x="0" y="189000"/>
            <a:ext cx="212076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14:52Z</dcterms:created>
  <dc:creator>Customer</dc:creator>
  <dc:description/>
  <dc:language>en-US</dc:language>
  <cp:lastModifiedBy>Lena Alkhuraiji</cp:lastModifiedBy>
  <dcterms:modified xsi:type="dcterms:W3CDTF">2017-11-21T05:09:27Z</dcterms:modified>
  <cp:revision>73</cp:revision>
  <dc:subject/>
  <dc:title>ريجيو إميليا</dc:title>
</cp:coreProperties>
</file>