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654C-3B6E-4D3D-998E-B218C3B5A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90A-690F-4EAC-8E0B-35D83D4E7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561A-0981-49BD-9E67-D51D4F63A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52E-BF37-4128-949C-CB432684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6CC-6BC6-4DA2-B513-89C7003B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6DE-B751-494B-A7E6-2FF1F140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180-B602-44D4-B8E4-7A5A179D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B30-5BC3-4CCB-933E-09843473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F6A-5C62-4F2D-8E54-0D3DFD3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9BE-8A47-47BA-A16B-8A812EAF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988-50EC-4412-945B-43DEC2F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4EB-3B43-4C18-B1BA-A36C394A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620-35F8-4A29-BE07-09E49296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42C-8420-4E6B-89E6-9440843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D93-AD94-44A3-9750-9BC4C18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6AAB-7DFB-4CFA-A68B-85DB3B7E4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Rectangle 5"/>
          <p:cNvGrpSpPr/>
          <p:nvPr/>
        </p:nvGrpSpPr>
        <p:grpSpPr>
          <a:xfrm>
            <a:off x="-60480" y="2249640"/>
            <a:ext cx="9259920" cy="4681440"/>
            <a:chOff x="-60480" y="2249640"/>
            <a:chExt cx="9259920" cy="4681440"/>
          </a:xfrm>
        </p:grpSpPr>
        <p:pic>
          <p:nvPicPr>
            <p:cNvPr id="49" name="Rectangle 5" descr=""/>
            <p:cNvPicPr/>
            <p:nvPr/>
          </p:nvPicPr>
          <p:blipFill>
            <a:blip r:embed="rId1"/>
            <a:stretch/>
          </p:blipFill>
          <p:spPr>
            <a:xfrm>
              <a:off x="-60480" y="2249640"/>
              <a:ext cx="9259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228600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Efficacy and Safety of Intracorneal Ring Segment (Intacs SK) in Keratocon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ulrahman Al-Muammar, MD, FRC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no financial interest in any of the materials presen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6629400" y="76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Subtitle 2" descr=""/>
          <p:cNvPicPr/>
          <p:nvPr/>
        </p:nvPicPr>
        <p:blipFill>
          <a:blip r:embed="rId3"/>
          <a:stretch/>
        </p:blipFill>
        <p:spPr>
          <a:xfrm>
            <a:off x="334800" y="609480"/>
            <a:ext cx="584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1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ty and effic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76680" y="14940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19" name="Chart 41" descr=""/>
          <p:cNvPicPr/>
          <p:nvPr/>
        </p:nvPicPr>
        <p:blipFill>
          <a:blip r:embed="rId3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21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segment extr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gap was noted in one ey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erf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ker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neal deposits were seen in 10 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2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320" y="1828440"/>
            <a:ext cx="89913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post-operative month 12 , there was significant improvement in UCVA, BCVA, sphere, spherical equivalent and Av K from the pre-operative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yes lost any lines of UCVA or B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acs SK implantation is safe and effective in mild, moderate and severe keratoco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33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acs SK versus Intacs regular in mild to moderate keratoco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320" y="152388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  keratoconic eyes ( I to II) treated with Intacs SK  with 12 months follow up were compared to 17 keratoconic eye (I to II) treated with Intacs regular with 12 months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39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320" y="1568520"/>
            <a:ext cx="89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219240" y="1447920"/>
            <a:ext cx="457200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4038480" y="4246560"/>
            <a:ext cx="4572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4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76680" y="1523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2"/>
          <p:cNvSpPr/>
          <p:nvPr/>
        </p:nvSpPr>
        <p:spPr>
          <a:xfrm>
            <a:off x="76320" y="1494000"/>
            <a:ext cx="899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615960" y="1541520"/>
            <a:ext cx="4560840" cy="2305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3897360" y="4191120"/>
            <a:ext cx="45608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5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76680" y="15238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228600" y="6324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4560840" cy="216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4"/>
          <a:stretch/>
        </p:blipFill>
        <p:spPr>
          <a:xfrm>
            <a:off x="3962520" y="4260960"/>
            <a:ext cx="45608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65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28600" y="6324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461880" y="1600200"/>
            <a:ext cx="456084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267080" y="4425840"/>
            <a:ext cx="4560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7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28600" y="18288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come of Intacs SK and regular in Keratoconic eyes (I to II) were comparable in terms of UCVA, cylinder, spherical equivalent and Av 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CVA was significantly better in Intacs SK group pro-operatively and post-operat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ression was noted between 6 and 12 months follow up in sphere, cylinder, SE and K readings in both groups which may indicate disease prog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ectangle 5"/>
          <p:cNvGrpSpPr/>
          <p:nvPr/>
        </p:nvGrpSpPr>
        <p:grpSpPr>
          <a:xfrm>
            <a:off x="-60480" y="2249640"/>
            <a:ext cx="9259920" cy="4681440"/>
            <a:chOff x="-60480" y="2249640"/>
            <a:chExt cx="9259920" cy="4681440"/>
          </a:xfrm>
        </p:grpSpPr>
        <p:pic>
          <p:nvPicPr>
            <p:cNvPr id="180" name="Rectangle 5" descr=""/>
            <p:cNvPicPr/>
            <p:nvPr/>
          </p:nvPicPr>
          <p:blipFill>
            <a:blip r:embed="rId1"/>
            <a:stretch/>
          </p:blipFill>
          <p:spPr>
            <a:xfrm>
              <a:off x="-60480" y="2249640"/>
              <a:ext cx="9259920" cy="46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228600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6629400" y="76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Subtitle 2" descr=""/>
          <p:cNvPicPr/>
          <p:nvPr/>
        </p:nvPicPr>
        <p:blipFill>
          <a:blip r:embed="rId3"/>
          <a:stretch/>
        </p:blipFill>
        <p:spPr>
          <a:xfrm>
            <a:off x="334800" y="609480"/>
            <a:ext cx="58467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5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Calibri"/>
              </a:rPr>
              <a:t>To examine the safety and efficacy of Intacs SK in the treatment of mild, moderate and severe keratocon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62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ospective study to evaluate the refractive and visual outcome of 25 keratoconic eyes of 20 patients  with varying severity ranging from grade I to IV on Amsler-Krumeich’s clas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yes had at least 12 months follow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yes underwent Intacs SK (thickness 210 to 450 µm)  implantations using the manufacture’s new nomogram based on corneal topography, sphere, cylinder and spherical equiva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68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surgical procedure was used in all cases using manual diss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parameters inclu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C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fest ref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ography keratometry r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up 3,6 and 12 month then every 6 mon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74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457200" y="1600200"/>
          <a:ext cx="8229600" cy="4241880"/>
        </p:xfrm>
        <a:graphic>
          <a:graphicData uri="http://schemas.openxmlformats.org/drawingml/2006/table">
            <a:tbl>
              <a:tblPr/>
              <a:tblGrid>
                <a:gridCol w="1900080"/>
                <a:gridCol w="6329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 e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57-18) AVERAGE 28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Male _ 16 Fem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ilateral _15 Unilat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7.75_3.5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6.25 _ -1.2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HERICAL EQUVEL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9.75_ 1.5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P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3.3_57.6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T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8_53.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.2-55.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81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itle 1"/>
          <p:cNvSpPr/>
          <p:nvPr/>
        </p:nvSpPr>
        <p:spPr>
          <a:xfrm>
            <a:off x="7632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76680" y="156996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86" name="Chart 6" descr=""/>
          <p:cNvPicPr/>
          <p:nvPr/>
        </p:nvPicPr>
        <p:blipFill>
          <a:blip r:embed="rId3"/>
          <a:stretch/>
        </p:blipFill>
        <p:spPr>
          <a:xfrm>
            <a:off x="96840" y="1444680"/>
            <a:ext cx="457848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4414680" y="3981600"/>
            <a:ext cx="457200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89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94" name="Chart 7" descr=""/>
          <p:cNvPicPr/>
          <p:nvPr/>
        </p:nvPicPr>
        <p:blipFill>
          <a:blip r:embed="rId3"/>
          <a:stretch/>
        </p:blipFill>
        <p:spPr>
          <a:xfrm>
            <a:off x="103320" y="1450800"/>
            <a:ext cx="4572000" cy="288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3863880" y="4008600"/>
            <a:ext cx="4572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97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6840" y="1378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6477120" y="6400800"/>
            <a:ext cx="251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hart 6" descr=""/>
          <p:cNvPicPr/>
          <p:nvPr/>
        </p:nvPicPr>
        <p:blipFill>
          <a:blip r:embed="rId3"/>
          <a:stretch/>
        </p:blipFill>
        <p:spPr>
          <a:xfrm>
            <a:off x="182520" y="1450800"/>
            <a:ext cx="4572000" cy="2730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4"/>
          <a:stretch/>
        </p:blipFill>
        <p:spPr>
          <a:xfrm>
            <a:off x="3857760" y="4308480"/>
            <a:ext cx="4578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ectangle 3"/>
          <p:cNvGrpSpPr/>
          <p:nvPr/>
        </p:nvGrpSpPr>
        <p:grpSpPr>
          <a:xfrm>
            <a:off x="-60480" y="-36360"/>
            <a:ext cx="9259920" cy="1407960"/>
            <a:chOff x="-60480" y="-36360"/>
            <a:chExt cx="9259920" cy="1407960"/>
          </a:xfrm>
        </p:grpSpPr>
        <p:pic>
          <p:nvPicPr>
            <p:cNvPr id="106" name="Rectangle 3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905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76680" y="156996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KSU_Logo_COLORED_PNGP-24.png"/>
          <p:cNvPicPr/>
          <p:nvPr/>
        </p:nvPicPr>
        <p:blipFill>
          <a:blip r:embed="rId2"/>
          <a:stretch/>
        </p:blipFill>
        <p:spPr>
          <a:xfrm>
            <a:off x="7845480" y="7308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Chart 7" descr=""/>
          <p:cNvPicPr/>
          <p:nvPr/>
        </p:nvPicPr>
        <p:blipFill>
          <a:blip r:embed="rId3"/>
          <a:stretch/>
        </p:blipFill>
        <p:spPr>
          <a:xfrm>
            <a:off x="171360" y="1450800"/>
            <a:ext cx="457200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4"/>
          <a:stretch/>
        </p:blipFill>
        <p:spPr>
          <a:xfrm>
            <a:off x="4267080" y="4067280"/>
            <a:ext cx="457848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13:19Z</dcterms:created>
  <dc:creator>Windows User</dc:creator>
  <dc:description/>
  <dc:language>en-US</dc:language>
  <cp:lastModifiedBy>Safa</cp:lastModifiedBy>
  <dcterms:modified xsi:type="dcterms:W3CDTF">2015-12-28T08:56:06Z</dcterms:modified>
  <cp:revision>111</cp:revision>
  <dc:subject/>
  <dc:title>Slide 1</dc:title>
</cp:coreProperties>
</file>