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C1A0-01FC-4DD0-8719-388FA167E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6E8-02B0-4802-820B-97B24CD0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EB5-BF1E-4DA2-963B-8FF6A7B0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9CE-F69E-4BE5-B871-0ABE805F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061-B517-4E0F-AFD0-47AEC47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7C2-8A3C-4C55-B676-57890EB4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7A3-C00E-47BF-A340-20D5C8A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276-43A1-4998-A97E-73CC458C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338-6EDD-43F8-B1C8-4033AC4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A06-85E3-489B-A94B-FE30492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9AA-063C-4E1A-B910-46A9717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DF8-4E0B-469B-A532-37AAD171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D0A-AABF-4466-8779-5C04926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C89-CDE8-4D7D-97A5-EAB9F13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588-CF95-4FAF-97D1-AC941D9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9F24-3C5D-4BF1-8ECA-4FDD73148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5"/>
          <p:cNvGrpSpPr/>
          <p:nvPr/>
        </p:nvGrpSpPr>
        <p:grpSpPr>
          <a:xfrm>
            <a:off x="-60480" y="2249640"/>
            <a:ext cx="9259920" cy="4681440"/>
            <a:chOff x="-60480" y="2249640"/>
            <a:chExt cx="9259920" cy="4681440"/>
          </a:xfrm>
        </p:grpSpPr>
        <p:pic>
          <p:nvPicPr>
            <p:cNvPr id="49" name="Rectangle 5" descr=""/>
            <p:cNvPicPr/>
            <p:nvPr/>
          </p:nvPicPr>
          <p:blipFill>
            <a:blip r:embed="rId1"/>
            <a:stretch/>
          </p:blipFill>
          <p:spPr>
            <a:xfrm>
              <a:off x="-60480" y="2249640"/>
              <a:ext cx="9259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228600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Efficacy and Safety of Intracorneal Ring Segment (Intacs SK) in Keratocon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ulrahman Al-Muammar, MD, FRC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no financial interest in any of the materials presen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6629400" y="76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Subtitle 2" descr=""/>
          <p:cNvPicPr/>
          <p:nvPr/>
        </p:nvPicPr>
        <p:blipFill>
          <a:blip r:embed="rId3"/>
          <a:stretch/>
        </p:blipFill>
        <p:spPr>
          <a:xfrm>
            <a:off x="334800" y="609480"/>
            <a:ext cx="584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1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and effic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76680" y="14940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19" name="Chart 41" descr=""/>
          <p:cNvPicPr/>
          <p:nvPr/>
        </p:nvPicPr>
        <p:blipFill>
          <a:blip r:embed="rId3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21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egment extr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gap was noted in one ey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erf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ker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neal deposits were seen in 10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2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320" y="1828440"/>
            <a:ext cx="8991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post-operative month 12 , there was significant improvement in UCVA, BCVA, sphere, spherical equivalent and Av K from the pre-operative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yes lost any lines of UCVA or B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cs SK implantation is safe and effective in mild, moderate and severe keratoco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33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acs SK versus Intacs regular in mild to moderate keratoco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320" y="152388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  keratoconic eyes ( I to II) treated with Intacs SK  with 12 months follow up were compared to 17 keratoconic eye (I to II) treated with Intacs regular with 12 months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39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320" y="15685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219240" y="1447920"/>
            <a:ext cx="45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4038480" y="4246560"/>
            <a:ext cx="4572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4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76680" y="1523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2"/>
          <p:cNvSpPr/>
          <p:nvPr/>
        </p:nvSpPr>
        <p:spPr>
          <a:xfrm>
            <a:off x="76320" y="1494000"/>
            <a:ext cx="899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615960" y="1541520"/>
            <a:ext cx="4560840" cy="230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3897360" y="4191120"/>
            <a:ext cx="45608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5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76680" y="1523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28600" y="6324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456084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4"/>
          <a:stretch/>
        </p:blipFill>
        <p:spPr>
          <a:xfrm>
            <a:off x="3962520" y="4260960"/>
            <a:ext cx="45608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65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28600" y="6324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461880" y="1600200"/>
            <a:ext cx="456084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267080" y="4425840"/>
            <a:ext cx="4560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7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come of Intacs SK and regular in Keratoconic eyes (I to II) were comparable in terms of UCVA, cylinder, spherical equivalent and Av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CVA was significantly better in Intacs SK group pro-operatively and post-op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ression was noted between 6 and 12 months follow up in sphere, cylinder, SE and K readings in both groups which may indicate disease prog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5"/>
          <p:cNvGrpSpPr/>
          <p:nvPr/>
        </p:nvGrpSpPr>
        <p:grpSpPr>
          <a:xfrm>
            <a:off x="-60480" y="2249640"/>
            <a:ext cx="9259920" cy="4681440"/>
            <a:chOff x="-60480" y="2249640"/>
            <a:chExt cx="9259920" cy="4681440"/>
          </a:xfrm>
        </p:grpSpPr>
        <p:pic>
          <p:nvPicPr>
            <p:cNvPr id="180" name="Rectangle 5" descr=""/>
            <p:cNvPicPr/>
            <p:nvPr/>
          </p:nvPicPr>
          <p:blipFill>
            <a:blip r:embed="rId1"/>
            <a:stretch/>
          </p:blipFill>
          <p:spPr>
            <a:xfrm>
              <a:off x="-60480" y="2249640"/>
              <a:ext cx="9259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228600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6629400" y="76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Subtitle 2" descr=""/>
          <p:cNvPicPr/>
          <p:nvPr/>
        </p:nvPicPr>
        <p:blipFill>
          <a:blip r:embed="rId3"/>
          <a:stretch/>
        </p:blipFill>
        <p:spPr>
          <a:xfrm>
            <a:off x="334800" y="609480"/>
            <a:ext cx="584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To examine the safety and efficacy of Intacs SK in the treatment of mild, moderate and severe keratocon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62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ospective study to evaluate the refractive and visual outcome of 25 keratoconic eyes of 20 patients  with varying severity ranging from grade I to IV on Amsler-Krumeich’s clas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yes had at least 12 months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yes underwent Intacs SK (thickness 210 to 450 µm)  implantations using the manufacture’s new nomogram based on corneal topography, sphere, cylinder and spherical e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68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surgical procedure was used in all cases using manual dis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parameters inclu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fest re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graphy keratometry r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up 3,6 and 12 month then every 6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7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57200" y="1600200"/>
          <a:ext cx="8229600" cy="4241880"/>
        </p:xfrm>
        <a:graphic>
          <a:graphicData uri="http://schemas.openxmlformats.org/drawingml/2006/table">
            <a:tbl>
              <a:tblPr/>
              <a:tblGrid>
                <a:gridCol w="1900080"/>
                <a:gridCol w="632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 e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7-18) AVERAGE 28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le _ 16 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ilateral _15 Unilat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7.75_3.5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6.25 _ -1.2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HERICAL EQUVEL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9.75_ 1.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3.3_57.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8_53.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.2-55.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81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itle 1"/>
          <p:cNvSpPr/>
          <p:nvPr/>
        </p:nvSpPr>
        <p:spPr>
          <a:xfrm>
            <a:off x="7632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76680" y="156996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86" name="Chart 6" descr=""/>
          <p:cNvPicPr/>
          <p:nvPr/>
        </p:nvPicPr>
        <p:blipFill>
          <a:blip r:embed="rId3"/>
          <a:stretch/>
        </p:blipFill>
        <p:spPr>
          <a:xfrm>
            <a:off x="96840" y="1444680"/>
            <a:ext cx="457848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4414680" y="3981600"/>
            <a:ext cx="45720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89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94" name="Chart 7" descr=""/>
          <p:cNvPicPr/>
          <p:nvPr/>
        </p:nvPicPr>
        <p:blipFill>
          <a:blip r:embed="rId3"/>
          <a:stretch/>
        </p:blipFill>
        <p:spPr>
          <a:xfrm>
            <a:off x="103320" y="1450800"/>
            <a:ext cx="4572000" cy="288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3863880" y="4008600"/>
            <a:ext cx="4572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9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6840" y="1378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6477120" y="640080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hart 6" descr=""/>
          <p:cNvPicPr/>
          <p:nvPr/>
        </p:nvPicPr>
        <p:blipFill>
          <a:blip r:embed="rId3"/>
          <a:stretch/>
        </p:blipFill>
        <p:spPr>
          <a:xfrm>
            <a:off x="182520" y="1450800"/>
            <a:ext cx="4572000" cy="273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tretch/>
        </p:blipFill>
        <p:spPr>
          <a:xfrm>
            <a:off x="3857760" y="4308480"/>
            <a:ext cx="4578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0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76680" y="156996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Chart 7" descr=""/>
          <p:cNvPicPr/>
          <p:nvPr/>
        </p:nvPicPr>
        <p:blipFill>
          <a:blip r:embed="rId3"/>
          <a:stretch/>
        </p:blipFill>
        <p:spPr>
          <a:xfrm>
            <a:off x="171360" y="1450800"/>
            <a:ext cx="457200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4578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13:19Z</dcterms:created>
  <dc:creator>Windows User</dc:creator>
  <dc:description/>
  <dc:language>en-US</dc:language>
  <cp:lastModifiedBy>Safa</cp:lastModifiedBy>
  <dcterms:modified xsi:type="dcterms:W3CDTF">2015-12-28T08:56:06Z</dcterms:modified>
  <cp:revision>111</cp:revision>
  <dc:subject/>
  <dc:title>Slide 1</dc:title>
</cp:coreProperties>
</file>