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F6B-1447-4B38-BECF-E77E6746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82C-9C0E-49A5-9B42-8E7EFE6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AC5-8E32-4769-A1B2-0EAA31B4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FA3-D1EA-4A20-A908-7999D2D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09F-E8A0-4E9E-97F0-9BBF91B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334-F830-4C7F-BAA6-B324753D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5AA-52FE-46A4-8532-62A8BE81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2AE-C5B4-4463-A20B-7C27AD3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328-1EA5-44F1-B6C0-F466A5D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AE5-E15B-4F74-9262-60A7F8E7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6B7-9572-4D6F-9B09-9FD7C879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7E2-9ED3-4996-B807-315C43C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D21-78E5-4507-B2E6-495A1478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Safety and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ace and Chapter.1 (Goets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, Bernardino Ramazzini dre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s between diseases suffered by workers and their occup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of harmful materials, irregular or unnatural movements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nature of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of inanimat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on of machines f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of new methods in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 and specializat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ty movement traces its roots to Eng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reak of fever among the children working in cotton m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d people in Manchester demand better working conditions in the fa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al sector began to grow in the US, hazardous working conditions became 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Civil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eds of the safety movement were s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y Insp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barrier safeguard pa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 safety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eau of Labor Statistics estab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w requiring safeguards for hazardous machin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’s liability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recorded safety program estab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L – 18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derick Taylor conducts first systematic st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efficiency in manufacturing –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eau of M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ated – 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 of Workers Compen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oduced – 19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cooperative study cong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ouncil of Industrial Safety 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IS changed name to National Safety Counc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Safety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pt introduced –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rms begin to purs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14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stration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M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terro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ngoing concern of safety and health professionals -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Lab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ed safe and healthy work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ay they focused too much on wage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turn the antilabor la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ng to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Safety and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 Disease in Mi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sion in a mine in WV in 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cury Poisoning in 1930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due to release of methyl mercury into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nitrate was used in hat-making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besto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bestosis or (Mesothelioma)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Accident Preven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covered with the Accident related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a long way from Industrial Revolution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 was set during the W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various specialists aros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ngineers, safety managers, industrial hygienists, occupational health nurses, and physic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v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and health alth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ly related are not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iew i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cern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injury-causing sit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cern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isease causing sit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view is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cern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zards to humans that result from sudden severe cond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se reactions to prolonged exposure to dangerous but less intense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ef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dden reaction to a severe condition, whil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 ef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 a long-term deterioration due to a prolonged exposure to a milder adverse condition (Asfah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G. Dyktor proposed the following objectives of integration (coopera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more through sharing knowledge about health problems in the work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ticularly those caused by tox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greater level of expertise in evaluating health and safety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broad database that can be used to compare health and safety problems experie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different companies in the same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accident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employee health and safety a high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Approach to Safety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orking together and drawing on their areas of expertise, S &amp; H professionals are better 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dentify, predict, control, and correct S &amp; H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 reinforces this integrated approach by requiring companies to have a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appropriate medical 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jured or il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ly examining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are exposed to tox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qualified first-aid person 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all 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Approach to Safety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mpanies may contract, while the large ones have their own sta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Hygiene Chemist and/or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ally test the work environment and th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t levels, ventilation, and noise level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Control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Engineer and Physi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adiatio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plans for accidents/decontamina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Safety Manager or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Safety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ance for American Ins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Board of Industrial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onference of Government Industrial Hygie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Industrial Hygien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Insuranc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National Standards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Occupational Medical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ociety of Testing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ociety of Mechanical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Safety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Transportation Emergency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Factors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Fire Protection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afet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afety Managemen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y of Automotive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afety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writer’s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 of Natio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itute for Standards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itute for Occupational Safety and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ntendent of Documents, US Government Printing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onsumer Product Safety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Public Health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e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, Processes, and New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v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ncepts are accurate in portraying safety and health issues. However, there is no clear line between the two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tress is a hazard can cause b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ver a prolonged period. So, i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. On the other hand, an overly stressed worker may be prone to accidents generat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v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exposure to noise levels in the range of 90 -100 decibels causes permanent damage.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dden acute exposure to impact noise can injure the hearing system. ______ (Asfah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come up with a similar example or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, Then and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fety are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US has develop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adi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early 1900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1900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dustrial accidents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7 over 3200 people were killed in mining acci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legislation and public opinion all favored managemen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protections for workers’ saf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, Then and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conditions for industrial employees have improved significa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ce of a worker being killed is less t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of what it was 60 year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eath rate from work-related injuri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. 4 per 100,000 or less than a third of the rate 50 year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, Then and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ments have been the result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mote safety and heal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eadily increa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s associated with accidents and inju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mprovements will be driven by cost effectiveness and resultant competitiveness gained from a safe and healthy work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ization of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n occu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of Hammura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ed clauses pertaining to safety and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n has caused the loss of a gentlemen’s eye, his own eye shall be caused to be lo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ptians used sl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uilding temples and pyram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eses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nsure the maintenance of a workforce sufficient to build his major project, create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medical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each worker to bathe da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mans were very concer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safety an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Philippus Aureolus looked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disease of miners/diseases of smelter workers/metallurg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eorgius Agricola emphasized the nee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lation systems in the m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5:22:35Z</dcterms:created>
  <dc:creator>Robert Morris University</dc:creator>
  <dc:description/>
  <dc:language>en-US</dc:language>
  <cp:lastModifiedBy>COMPUTER</cp:lastModifiedBy>
  <dcterms:modified xsi:type="dcterms:W3CDTF">2011-11-21T21:47:29Z</dcterms:modified>
  <cp:revision>13</cp:revision>
  <dc:subject/>
  <dc:title>Introduction to Safety and Health</dc:title>
</cp:coreProperties>
</file>