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58A-6453-409C-B58E-86946838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696-AC3D-4BB7-B437-D14C4B55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C11-E656-45CC-9B94-9F03F1CC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6CE-3EB7-4D5F-8009-B6D5EF12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0B3-7B01-41F2-8E78-40E36D8F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772-5CC6-489C-B055-740D4DDF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581-725B-45C9-95E7-1B96F94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F25-47AE-4A63-8170-39CE36C5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D87-DBD1-4294-82FB-4FD0F628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5FD-1CB1-4366-9C04-25F31630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FC1-BDA5-4478-B774-450FEE5B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B3F-A99D-4A26-BDD7-140827A8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51C1-F294-47D3-BE87-5458470E3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Safety and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ace and Chapter.1 (Goets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Before the Industri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, Bernardino Ramazzini dre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s between diseases suffered by workers and their occup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ing of harmful materials, irregular or unnatural movements of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the nature of pro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of inanimat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ion of machines fo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of new methods in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 and specialization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estones in the Safety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fety movement traces its roots to Eng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Rev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reak of fever among the children working in cotton m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d people in Manchester demand better working conditions in the fact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estones in the Safety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al sector began to grow in the US, hazardous working conditions became 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ing the Civil W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eeds of the safety movement were s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y Insp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barrier safeguard pa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86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e safety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8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reau of Labor Statistics establis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8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estones in the Safety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w requiring safeguards for hazardous machin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8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r’s liability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8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recorded safety program establis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L – 18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derick Taylor conducts first systematic stu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efficiency in manufacturing – 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reau of M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ated – 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 of Workers Compens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oduced – 19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estones in the Safety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cooperative study cong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Council of Industrial Safety 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9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CIS changed name to National Safety Counc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estones in the Safety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Safety Manag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ept introduced –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rms begin to purs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 14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stration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M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place terror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ngoing concern of safety and health professionals -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Lab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ed safe and healthy work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ay they focused too much on wages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turn the antilabor la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ng to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 Safety and Healt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ng Disease in Mi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sion in a mine in WV in 19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rcury Poisoning in 1930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apan due to release of methyl mercury into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ury nitrate was used in hat-making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bestos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bestosis or (Mesothelioma) Can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Accident Preventi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covered with the Accident related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and Health Movement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a long way from Industrial Revolution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e was set during the WW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various specialists aros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ty engineers, safety managers, industrial hygienists, occupational health nurses, and physic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vs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and health alth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sely related are not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view i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cern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injury-causing situ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cern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disease causing situ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view is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cern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zards to humans that result from sudden severe condi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al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se reactions to prolonged exposure to dangerous but less intense haz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ute eff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udden reaction to a severe condition, whil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nic eff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 a long-term deterioration due to a prolonged exposure to a milder adverse condition (Asfah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and Health Movement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G. Dyktor proposed the following objectives of integration (coopera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more through sharing knowledge about health problems in the work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ticularly those caused by toxic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greater level of expertise in evaluating health and safety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broad database that can be used to compare health and safety problems experien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different companies in the same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rage accident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employee health and safety a high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Approach to Safety and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working together and drawing on their areas of expertise, S &amp; H professionals are better 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dentify, predict, control, and correct S &amp; H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 reinforces this integrated approach by requiring companies to have a pl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ing appropriate medical trea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njured or ill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ly examining work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 are exposed to toxic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 qualified first-aid person avai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all work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Approach to Safety and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mpanies may contract, while the large ones have their own staf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Hygiene Chemist and/or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ally test the work environment and the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st levels, ventilation, and noise level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tion Control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Engineer and Physic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radiation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plans for accidents/decontamination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Safety Manager or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Safety Organ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ance for American Ins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Board of Industrial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Conference of Government Industrial Hygie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Industrial Hygiene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Insurance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National Standards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Occupational Medical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Society of Testing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Society of Mechanical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Safety Organ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Transportation Emergency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Factors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Fire Protection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afety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afety Management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y of Automotive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Safety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writer’s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 of Labor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 of National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Institute for Standards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Institute for Occupational Safety and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al Safety and Health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ntendent of Documents, US Government Printing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onsumer Product Safety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Public Health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e 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, Processes, and New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vs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concepts are accurate in portraying safety and health issues. However, there is no clear line between the two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stress is a hazard can cause bo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ver a prolonged period. So, it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. On the other hand, an overly stressed worker may be prone to accidents generat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vs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exposure to noise levels in the range of 90 -100 decibels causes permanent damage.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dden acute exposure to impact noise can injure the hearing system. ______ (Asfah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come up with a similar example or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and Health Movement, Then and 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fety are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US has develop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adi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 early 1900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ly 1900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dustrial accidents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07 over 3200 people were killed in mining acci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legislation and public opinion all favored management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few protections for workers’ saf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and Health Movement, Then and 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conditions for industrial employees have improved significa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ce of a worker being killed is less th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 of what it was 60 year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death rate from work-related injuri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x. 4 per 100,000 or less than a third of the rate 50 year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and Health Movement, Then and 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ovements have been the result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mote safety and heal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eadily increa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s associated with accidents and inju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mprovements will be driven by cost effectiveness and resultant competitiveness gained from a safe and healthy work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ization of saf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n occup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Before the Industri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of Hammurab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ed clauses pertaining to safety and h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n has caused the loss of a gentlemen’s eye, his own eye shall be caused to be los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yptians used sla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building temples and pyram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eses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nsure the maintenance of a workforce sufficient to build his major project, created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medical serv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each worker to bathe dai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Before the Industri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mans were very concer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safety and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, Philippus Aureolus looked 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monary disease of miners/diseases of smelter workers/metallurg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Georgius Agricola emphasized the need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ilation systems in the m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5:22:35Z</dcterms:created>
  <dc:creator>Robert Morris University</dc:creator>
  <dc:description/>
  <dc:language>en-US</dc:language>
  <cp:lastModifiedBy>COMPUTER</cp:lastModifiedBy>
  <dcterms:modified xsi:type="dcterms:W3CDTF">2011-11-21T21:47:29Z</dcterms:modified>
  <cp:revision>13</cp:revision>
  <dc:subject/>
  <dc:title>Introduction to Safety and Health</dc:title>
</cp:coreProperties>
</file>