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719-054B-464C-8DED-0A1506B0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39F-B21E-4E55-8CDE-1C9F7BC9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77D-A64D-4772-8F49-76472BC2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3D2-6B7C-4614-9D39-C5A46388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A63-EF6C-4B87-84EB-8876CCB9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0F3E-81CA-4387-8FBA-168FC7B9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248D-8C8D-45EA-8A60-A56777C0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78D0-993B-4430-AA3A-4ADADE0E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F057-75CF-49BE-8ACB-AB868EE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1C90-77BC-4772-8E8E-AE1CC75A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EB98-D223-413F-824F-B3FDCE7A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F38-9F11-4086-8B48-3D38C1CD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1C0E-8ED2-48A0-A234-2C37D7F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F210-C733-43FF-B389-F5EEF0B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B31F-8F52-46FB-A30E-57E5D82C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E601-8650-4927-BCD1-14796F5C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68F8-32D9-45A7-9AA3-7909FEFB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2C9-5124-44F7-8109-5380892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BF1-978B-4C29-9CEB-8D78EC0F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03A-DB91-47D3-AC91-609A1691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010-964C-4C95-BFD9-56207A4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D41-16C6-42BF-84D5-AA687588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357-5DA4-47F5-967F-47D67F3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253-E59A-4B09-B7FD-8A54CF3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www.apionet.or.jp/~yoishizu/Jpeg/ranula.JPG&amp;imgrefurl=http://www.apionet.or.jp/~yoishizu/Lec/Lec35.html&amp;h=354&amp;w=236&amp;sz=13&amp;tbnid=PczZqWvFKsimaM:&amp;tbnh=117&amp;tbnw=78&amp;hl=en&amp;start=3&amp;prev=/images%3Fq%3Dranula%26svnum%3D10%26hl%3Den%26lr%3D%26safe%3Dactiv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rmc.rochester.edu/smd/Rad/neuroimages/sialonew.jpg&amp;imgrefurl=http://www.urmc.rochester.edu/smd/Rad/orderneuro.htm&amp;h=225&amp;w=350&amp;sz=36&amp;tbnid=quZ6AvAujsytBM:&amp;tbnh=74&amp;tbnw=116&amp;hl=en&amp;start=2&amp;prev=/images%3Fq%3DSIALogram%26svnum%3D10%26hl%3Den%26lr%3D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othn.iusm.iu.edu/salivaryglandendoscopy/DH000171.jpg&amp;imgrefurl=http://othn.iusm.iu.edu/salivaryglandendoscopy/radiographic_photo_5.html&amp;h=2128&amp;w=2832&amp;sz=1297&amp;tbnid=7JvVOEbgacIVgM:&amp;tbnh=112&amp;tbnw=150&amp;hl=en&amp;start=8&amp;prev=/images%3Fq%3DSIALogram%26svnum%3D10%26hl%3Den%26lr%3D%26safe%3Dactiv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cw.asahi-u.ac.jp/~kawamata/jpg/sialo2.jpg&amp;imgrefurl=http://scw.asahi-u.ac.jp/~kawamata/teach2.html&amp;h=328&amp;w=640&amp;sz=29&amp;tbnid=uSRCcfOpEuYZGM:&amp;tbnh=69&amp;tbnw=135&amp;hl=en&amp;start=9&amp;prev=/images%3Fq%3Dsialolithiasis%26svnum%3D10%26hl%3Den%26lr%3D%26safe%3Dactive%26sa%3DN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ture.com/bdj/journal/v193/n2/images/4801491f2.jpg&amp;imgrefurl=http://www.nature.com/bdj/journal/v193/n2/fig_tab/4801491f2.htm&amp;h=305&amp;w=400&amp;sz=26&amp;tbnid=7x1HTW0Lju5IlM:&amp;tbnh=91&amp;tbnw=120&amp;hl=en&amp;start=18&amp;prev=/images%3Fq%3Dsialolithiasis%26svnum%3D10%26hl%3Den%26lr%3D%26safe%3Dactive%26sa%3D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nature.com/bdj/journal/v193/n2/images/4801491f3.jpg&amp;imgrefurl=http://www.nature.com/bdj/journal/v193/n2/fig_tab/4801491f3.htm&amp;h=207&amp;w=400&amp;sz=31&amp;tbnid=_Zs7INRWGIIJTM:&amp;tbnh=62&amp;tbnw=120&amp;hl=en&amp;start=17&amp;prev=/images%3Fq%3Dsialolithiasis%26svnum%3D10%26hl%3Den%26lr%3D%26safe%3Dactive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thn.iusm.iu.edu/salivaryglandendoscopy/DH000171.jpg&amp;imgrefurl=http://othn.iusm.iu.edu/salivaryglandendoscopy/radiographic_photo_5.html&amp;h=2128&amp;w=2832&amp;sz=1297&amp;tbnid=7JvVOEbgacIVgM:&amp;tbnh=112&amp;tbnw=150&amp;hl=en&amp;start=8&amp;prev=/images%3Fq%3DSIALogram%26svnum%3D10%26hl%3Den%26lr%3D%26safe%3Dactiv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entistry.ouhsc.edu/intranet-web/Courses/OD8502/images/msalivaryglands.JPEG&amp;imgrefurl=http://dentistry.ouhsc.edu/intranet-web/Courses/OD8502/msg.html&amp;h=201&amp;w=298&amp;sz=9&amp;tbnid=Kbng9gwvSruM2M:&amp;tbnh=74&amp;tbnw=111&amp;hl=en&amp;start=64&amp;prev=/images%3Fq%3Dsalivary%2Bglands%26start%3D60%26svnum%3D10%26hl%3Den%26lr%3D%26safe%3Dactive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merck.com/media/mmhe2/figures/fg111_1.gif&amp;imgrefurl=http://www.merck.com/mmhe/sec08/ch111/ch111a.html&amp;h=233&amp;w=210&amp;sz=8&amp;tbnid=3p4U90bqtPs7eM:&amp;tbnh=104&amp;tbnw=93&amp;hl=en&amp;start=1&amp;prev=/images%3Fq%3Dsalivary%2Bglands%26svnum%3D10%26hl%3Den%26lr%3D%26safe%3Dactive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stickler.org.uk/Images/Fig%25209%2520-%2520High%2520Arch%2520Palate.jpg&amp;imgrefurl=http://www.stickler.org.uk/professionals.htm&amp;h=542&amp;w=791&amp;sz=38&amp;tbnid=Fwn_3IzKklz1QM:&amp;tbnh=96&amp;tbnw=141&amp;hl=en&amp;start=11&amp;prev=/images%3Fq%3DPALATE%26svnum%3D10%26hl%3Den%26lr%3D%26safe%3Dactive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ntistry.leeds.ac.uk/OROFACE/PAGES/damanwr5.gif&amp;imgrefurl=http://www.dentistry.leeds.ac.uk/OROFACE/PAGES/chapt7.html&amp;h=806&amp;w=796&amp;sz=21&amp;tbnid=wwjKWNerCl7XpM:&amp;tbnh=142&amp;tbnw=140&amp;hl=en&amp;start=14&amp;prev=/images%3Fq%3Dsalivary%2Bglands%26svnum%3D10%26hl%3Den%26lr%3D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livary Gland Disease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2438280"/>
            <a:ext cx="62485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ucocel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ary to traum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0% occur in lower l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cisional biopsy usually curat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Salivary gland-Minor-Mucus retention cyst"/>
          <p:cNvPicPr/>
          <p:nvPr/>
        </p:nvPicPr>
        <p:blipFill>
          <a:blip r:embed="rId1"/>
          <a:stretch/>
        </p:blipFill>
        <p:spPr>
          <a:xfrm>
            <a:off x="1066680" y="405936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97Dec"/>
          <p:cNvPicPr/>
          <p:nvPr/>
        </p:nvPicPr>
        <p:blipFill>
          <a:blip r:embed="rId2"/>
          <a:stretch/>
        </p:blipFill>
        <p:spPr>
          <a:xfrm>
            <a:off x="5105520" y="4056120"/>
            <a:ext cx="35049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 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anul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blingual salivary gland mucoce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atment should include removal of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ublingual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Salivary gland-Sublingual-Ranula"/>
          <p:cNvPicPr/>
          <p:nvPr/>
        </p:nvPicPr>
        <p:blipFill>
          <a:blip r:embed="rId1"/>
          <a:stretch/>
        </p:blipFill>
        <p:spPr>
          <a:xfrm>
            <a:off x="914400" y="4476600"/>
            <a:ext cx="251460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ranul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4645080"/>
            <a:ext cx="2133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bstructive Disorde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structive Disorders of the 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struction to the flow of saliva via the salivary duct can occur due to the presence of salivary gland stone (Sialolith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bstruction can also secondary to the stricture (Narrowing) of the salivary gland duc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sialon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343400"/>
            <a:ext cx="3504960" cy="2236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DH0001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1143000"/>
            <a:ext cx="3429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structive Disorders of the 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alolithia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Salivary gland stone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% occur in submandibular gl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% in parotid gl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ltiple occurrence in same gland is comm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6" descr="Submandibular stone-OPG"/>
          <p:cNvPicPr/>
          <p:nvPr/>
        </p:nvPicPr>
        <p:blipFill>
          <a:blip r:embed="rId1"/>
          <a:stretch/>
        </p:blipFill>
        <p:spPr>
          <a:xfrm>
            <a:off x="2209680" y="4114800"/>
            <a:ext cx="4876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gnosi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in and sudden enlargement of gland while ea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Palpation of stone in the submandibular du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cclusal radiograph (80%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alog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Salivary gland-Pleomrphic adenoma-submandibular gld- guard-profile1"/>
          <p:cNvPicPr/>
          <p:nvPr/>
        </p:nvPicPr>
        <p:blipFill>
          <a:blip r:embed="rId1"/>
          <a:stretch/>
        </p:blipFill>
        <p:spPr>
          <a:xfrm>
            <a:off x="609480" y="4114800"/>
            <a:ext cx="3581640" cy="2347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sialo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4191120"/>
            <a:ext cx="4114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ne can be removed transorally if in the duct and easily palpa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Figure 1"/>
          <p:cNvPicPr/>
          <p:nvPr/>
        </p:nvPicPr>
        <p:blipFill>
          <a:blip r:embed="rId1"/>
          <a:stretch/>
        </p:blipFill>
        <p:spPr>
          <a:xfrm>
            <a:off x="228600" y="411480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tests2"/>
          <p:cNvPicPr/>
          <p:nvPr/>
        </p:nvPicPr>
        <p:blipFill>
          <a:blip r:embed="rId2"/>
          <a:stretch/>
        </p:blipFill>
        <p:spPr>
          <a:xfrm>
            <a:off x="3048120" y="4114800"/>
            <a:ext cx="259056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Figure 3"/>
          <p:cNvPicPr/>
          <p:nvPr/>
        </p:nvPicPr>
        <p:blipFill>
          <a:blip r:embed="rId3"/>
          <a:stretch/>
        </p:blipFill>
        <p:spPr>
          <a:xfrm>
            <a:off x="5791320" y="41148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ne can be removed transorally if in the duct and easily palpa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4801491f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938760"/>
            <a:ext cx="3276720" cy="24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4801491f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4560840"/>
            <a:ext cx="30481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stone is inside the gland and therefore damaging the gland, then the whole gland should be removed under G.A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Submandibular salivary gland-specimen"/>
          <p:cNvPicPr/>
          <p:nvPr/>
        </p:nvPicPr>
        <p:blipFill>
          <a:blip r:embed="rId1"/>
          <a:stretch/>
        </p:blipFill>
        <p:spPr>
          <a:xfrm>
            <a:off x="5029200" y="3886200"/>
            <a:ext cx="3352680" cy="25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Benign tumour-Submandibular gland"/>
          <p:cNvPicPr/>
          <p:nvPr/>
        </p:nvPicPr>
        <p:blipFill>
          <a:blip r:embed="rId2"/>
          <a:stretch/>
        </p:blipFill>
        <p:spPr>
          <a:xfrm>
            <a:off x="914400" y="3919680"/>
            <a:ext cx="34290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otid Gland -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gno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sed on histor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elling during me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imanual palpation of painful glan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0% non-radiopaq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 parotid stones are multip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alog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acces parotid"/>
          <p:cNvPicPr/>
          <p:nvPr/>
        </p:nvPicPr>
        <p:blipFill>
          <a:blip r:embed="rId1"/>
          <a:stretch/>
        </p:blipFill>
        <p:spPr>
          <a:xfrm>
            <a:off x="1066680" y="4452840"/>
            <a:ext cx="25146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lands_of_the_head"/>
          <p:cNvPicPr/>
          <p:nvPr/>
        </p:nvPicPr>
        <p:blipFill>
          <a:blip r:embed="rId1"/>
          <a:stretch/>
        </p:blipFill>
        <p:spPr>
          <a:xfrm>
            <a:off x="2209680" y="11430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 flipV="1">
            <a:off x="2286000" y="2971440"/>
            <a:ext cx="205740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68040" y="342756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ot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5334120" y="4114800"/>
            <a:ext cx="457200" cy="129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447160" y="55069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bmandibu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 flipV="1">
            <a:off x="6095880" y="3809880"/>
            <a:ext cx="60984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871680" y="383076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bling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28600" y="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ivary Glands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alogram</a:t>
            </a:r>
            <a:br>
              <a:rPr sz="3600"/>
            </a:b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Picture 9" descr="DH0001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657600"/>
            <a:ext cx="3200400" cy="2467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1"/>
          <p:cNvSpPr/>
          <p:nvPr/>
        </p:nvSpPr>
        <p:spPr>
          <a:xfrm>
            <a:off x="228600" y="17985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ialogram is a dye investigation of a salivary gland.  It is carried out to look in detail at the larger salivary glands, namely the parotid or submandibular gland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dvanced Radiographic Investigat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in and contrast-enhanced axial CT image of parotid gland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ffuse enhancement of the left parotid gland ;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ialadeniti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gsialolithiasis_fig1a"/>
          <p:cNvPicPr/>
          <p:nvPr/>
        </p:nvPicPr>
        <p:blipFill>
          <a:blip r:embed="rId1"/>
          <a:stretch/>
        </p:blipFill>
        <p:spPr>
          <a:xfrm>
            <a:off x="1523880" y="4343400"/>
            <a:ext cx="207324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gsialolithiasis_fig1b"/>
          <p:cNvPicPr/>
          <p:nvPr/>
        </p:nvPicPr>
        <p:blipFill>
          <a:blip r:embed="rId2"/>
          <a:stretch/>
        </p:blipFill>
        <p:spPr>
          <a:xfrm>
            <a:off x="5638680" y="4352760"/>
            <a:ext cx="22100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otid Gland -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reat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nes in extraglandular portion of duct can be removed transor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raglandular stones removed  from extraoral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roach by Superficial Parotidectomy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5Surg"/>
          <p:cNvPicPr/>
          <p:nvPr/>
        </p:nvPicPr>
        <p:blipFill>
          <a:blip r:embed="rId1"/>
          <a:stretch/>
        </p:blipFill>
        <p:spPr>
          <a:xfrm>
            <a:off x="4572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6Surg"/>
          <p:cNvPicPr/>
          <p:nvPr/>
        </p:nvPicPr>
        <p:blipFill>
          <a:blip r:embed="rId2"/>
          <a:stretch/>
        </p:blipFill>
        <p:spPr>
          <a:xfrm>
            <a:off x="3352680" y="4554360"/>
            <a:ext cx="25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7Surg"/>
          <p:cNvPicPr/>
          <p:nvPr/>
        </p:nvPicPr>
        <p:blipFill>
          <a:blip r:embed="rId3"/>
          <a:stretch/>
        </p:blipFill>
        <p:spPr>
          <a:xfrm>
            <a:off x="6553080" y="4572000"/>
            <a:ext cx="2100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04920" y="2514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ectious Disorde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cute Sialadeniti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Infectiou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tiolog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ral -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 Mump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iral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ute Sialadenit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n-IE" sz="3600" spc="-1" strike="noStrike">
                <a:solidFill>
                  <a:srgbClr val="ff3300"/>
                </a:solidFill>
                <a:latin typeface="Times New Roman"/>
              </a:rPr>
              <a:t>Mumps)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Acute painful parotit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Viral in aeti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Self limit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cterial 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cute Sialadenit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gns and sympto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elling, xerostomia, failure of secretion with ascending inf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taph aureus, Strep pyogenes, most common infective organis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inful swelling parotid gland, overlying skin red, shiny &amp; tense, pus from parotid du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f involving the parotid glan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Parotid Abscess"/>
          <p:cNvPicPr/>
          <p:nvPr/>
        </p:nvPicPr>
        <p:blipFill>
          <a:blip r:embed="rId1"/>
          <a:stretch/>
        </p:blipFill>
        <p:spPr>
          <a:xfrm>
            <a:off x="6019920" y="4813200"/>
            <a:ext cx="2514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cterial 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cute Sialadenit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lture pus for Sensitiv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cribe appropriate  antibiot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ortive therap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ivary stimula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cterial 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ronic Sialadeniti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ronic recurrent parotit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ccurs commonly in patients of 3-6 Years ag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aused by Strep virida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y spontaneously heal during  puber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crotizing Sialometaplasia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nign inflammatory condi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ually involves the minor salivary gland of hard pal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ll often simulate a malignant condi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efinite etiolog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3 cm  ulcer heals spontaneous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9" descr="slide45"/>
          <p:cNvPicPr/>
          <p:nvPr/>
        </p:nvPicPr>
        <p:blipFill>
          <a:blip r:embed="rId1"/>
          <a:stretch/>
        </p:blipFill>
        <p:spPr>
          <a:xfrm>
            <a:off x="3352680" y="4876920"/>
            <a:ext cx="26481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228600"/>
            <a:ext cx="8229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ivary glands - Typ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7200" y="1219320"/>
            <a:ext cx="83059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3 Major Salivary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Osaka"/>
              </a:rPr>
              <a:t>Parot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imes New Roman"/>
                <a:ea typeface="Osaka"/>
              </a:rPr>
              <a:t>Submandi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Osaka"/>
              </a:rPr>
              <a:t>Sublingual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Plus man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accessory gland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 in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lip and palat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7" descr="msalivaryg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50292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fg111_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676520"/>
            <a:ext cx="204300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Fig%25209%2520-%2520High%2520Arch%2520Pala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5181480"/>
            <a:ext cx="2057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228600" y="2362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oplastic Disorders of the Salivary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vary Gland Tumor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 % occur in parotid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-10 % occur in the sub-mandibular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% occur in sublingual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-15% occur in the minor salivary gla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nign Salivary Gland Tumor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denomas (Epitheli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omorphic adeno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nomorphic adeno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enolympho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xyphilic  adenom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 typ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97Oct"/>
          <p:cNvPicPr/>
          <p:nvPr/>
        </p:nvPicPr>
        <p:blipFill>
          <a:blip r:embed="rId1"/>
          <a:stretch/>
        </p:blipFill>
        <p:spPr>
          <a:xfrm>
            <a:off x="5257800" y="2340000"/>
            <a:ext cx="3276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omorphic Adenoma (Mixed Tumor)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85800" y="990720"/>
            <a:ext cx="533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ommonest tumour (53% - 71%) of the salivary g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Tumor is slow growing, painless, solitary, firm, smooth, moveable without nerve invol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Both mesenchymal/epithelial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Investigations include FNA, CT, M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Superficial parotidectomy is the procedure that is commonly per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11" descr="parotidec"/>
          <p:cNvPicPr/>
          <p:nvPr/>
        </p:nvPicPr>
        <p:blipFill>
          <a:blip r:embed="rId1"/>
          <a:stretch/>
        </p:blipFill>
        <p:spPr>
          <a:xfrm>
            <a:off x="6705720" y="434340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nomorphic adenoma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aracteristi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sts of a single epithelial cell type with a dense fibrous connective tissue capsul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wo typ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Basal cell ade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analicular ade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7" descr="Canalicular%2520adenoma"/>
          <p:cNvPicPr/>
          <p:nvPr/>
        </p:nvPicPr>
        <p:blipFill>
          <a:blip r:embed="rId1"/>
          <a:stretch/>
        </p:blipFill>
        <p:spPr>
          <a:xfrm>
            <a:off x="5257800" y="3795840"/>
            <a:ext cx="35053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rthins Tumor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Warthin’s tumour is also called as papillary cystadenoma lymphomatosu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6% - 1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Benign, bilateral, parotid gland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Older age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Superficial location, therefore in most cases Superficial parotidectomy is performed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Malignant potential non exist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28195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Malignant Tumou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Malignant Tumours of the Salivary Glands</a:t>
            </a: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Locally aggressive in na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Some grow along neural pathways, may access skull base and brain eventual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Also lymphatic and haematogenous spread of tum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cidence of Salivary Gland Malignancy According to Sit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lingual 70%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ubmandibular 40%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otid 20 %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Classification of Malignan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 Tumor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)  Mucoepidermoid tumor (high-grade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ii) Carcinoma in pleomorphic adenom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iv) Adenoid cyctic carci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v)  Acinic cell tum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vi) Squamous cell carci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"/>
          <p:cNvGrpSpPr/>
          <p:nvPr/>
        </p:nvGrpSpPr>
        <p:grpSpPr>
          <a:xfrm>
            <a:off x="0" y="0"/>
            <a:ext cx="8686800" cy="5769360"/>
            <a:chOff x="0" y="0"/>
            <a:chExt cx="8686800" cy="5769360"/>
          </a:xfrm>
        </p:grpSpPr>
        <p:sp>
          <p:nvSpPr>
            <p:cNvPr id="105" name="Rectangle 5"/>
            <p:cNvSpPr/>
            <p:nvPr/>
          </p:nvSpPr>
          <p:spPr>
            <a:xfrm>
              <a:off x="76320" y="87480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PROTEC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2760840" y="0"/>
              <a:ext cx="3639960" cy="52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52560"/>
                  <a:tab algn="l" pos="1905120"/>
                  <a:tab algn="l" pos="2857680"/>
                  <a:tab algn="l" pos="3809880"/>
                  <a:tab algn="l" pos="4762440"/>
                  <a:tab algn="l" pos="5715000"/>
                  <a:tab algn="l" pos="6667560"/>
                  <a:tab algn="l" pos="7620120"/>
                  <a:tab algn="l" pos="8572680"/>
                  <a:tab algn="l" pos="9524880"/>
                  <a:tab algn="l" pos="1047744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ALIVA - Fun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0" y="238680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cc"/>
                  </a:solidFill>
                  <a:latin typeface="Times New Roman"/>
                </a:rPr>
                <a:t>ALIMENT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666880" y="2306880"/>
              <a:ext cx="464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Food approval: taste,  tex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2666880" y="278424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Mast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2666880" y="373896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imes New Roman"/>
                </a:rPr>
                <a:t>Swallow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2666880" y="326160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cc"/>
                  </a:solidFill>
                  <a:latin typeface="Times New Roman"/>
                </a:rPr>
                <a:t>Diges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0" y="4137120"/>
              <a:ext cx="236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ffff"/>
                  </a:solidFill>
                  <a:latin typeface="Times New Roman"/>
                </a:rPr>
                <a:t>OTH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2590920" y="4218480"/>
              <a:ext cx="23619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cc"/>
                  </a:solidFill>
                  <a:latin typeface="Times New Roman"/>
                </a:rPr>
                <a:t>Vocalization </a:t>
              </a:r>
              <a:r>
                <a:rPr b="0" lang="en-US" sz="2400" spc="-1" strike="noStrike">
                  <a:solidFill>
                    <a:srgbClr val="99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ff"/>
                  </a:solidFill>
                  <a:latin typeface="Times New Roman"/>
                </a:rPr>
                <a:t>Excretion ?</a:t>
              </a:r>
              <a:r>
                <a:rPr b="0" lang="en-US" sz="2400" spc="-1" strike="noStrike">
                  <a:solidFill>
                    <a:srgbClr val="99ffff"/>
                  </a:solidFill>
                  <a:latin typeface="Arial"/>
                  <a:ea typeface="Arial"/>
                </a:rPr>
                <a:t>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2674800" y="61344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pithelial lubr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2674800" y="1010880"/>
              <a:ext cx="464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66880" y="1408680"/>
              <a:ext cx="46483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Times New Roman"/>
                </a:rPr>
                <a:t>For tooth: Rinsing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Times New Roman"/>
                </a:rPr>
                <a:t>Pellicle co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5029200" y="3101400"/>
              <a:ext cx="3657600" cy="2667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TERIALS </a:t>
              </a: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d60093"/>
                  </a:solidFill>
                  <a:latin typeface="Times New Roman"/>
                </a:rPr>
                <a:t>Water                        Mucins (glycoproteins)</a:t>
              </a: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80"/>
                  </a:solidFill>
                  <a:latin typeface="Times New Roman"/>
                </a:rPr>
                <a:t>Antibodies IgAs</a:t>
              </a: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Times New Roman"/>
                </a:rPr>
                <a:t>Lysozym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cc"/>
                  </a:solidFill>
                  <a:latin typeface="Times New Roman"/>
                </a:rPr>
                <a:t>Amyl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Evaluation &amp; Diagnos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f Malignan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 Tumor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History &amp; clinical examination, use TNM Classification to stage the canc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Sialography – of no 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T scans and MR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CT sialography for retromandibula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/ parapharayngeal le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cisional biopsy is </a:t>
            </a:r>
            <a:r>
              <a:rPr b="1" lang="en-IE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ntraindicat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00"/>
                </a:solidFill>
                <a:uFillTx/>
                <a:latin typeface="Times New Roman"/>
              </a:rPr>
              <a:t>FN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oepidermoid tumor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ommonest malignant tumou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50% of all salivary gland malignanc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Parotid involved in 40% - 5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75% are low grade &amp; have good prognos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1 – 5 year survival  85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High grade mucoepidermoid carcinomas invade locally, spread regionally &amp; distant metastasi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5 year survival drops 3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6" descr="lead"/>
          <p:cNvPicPr/>
          <p:nvPr/>
        </p:nvPicPr>
        <p:blipFill>
          <a:blip r:embed="rId1"/>
          <a:stretch/>
        </p:blipFill>
        <p:spPr>
          <a:xfrm>
            <a:off x="6324480" y="1670040"/>
            <a:ext cx="2438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cinoma in pleomorphic adenoma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Mixed malignant tumou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Long standing pleomorphic ade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Older age gro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Worse progn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Lymph node metastases 15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Distant metastases 3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5 year survival 40% - 5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15% year survival 2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denoid cystic carcinoma (Cylindroma)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ommonly involves submandibular (35% - 40%), only 7% of parotid malignanc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Slowly grow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Peri-neural inva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30% lymph node metastasis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50% distant metastas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- 5 year survival 75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- 10 year survival 3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- 20 year survival 13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MA3D14~1"/>
          <p:cNvPicPr/>
          <p:nvPr/>
        </p:nvPicPr>
        <p:blipFill>
          <a:blip r:embed="rId1"/>
          <a:stretch/>
        </p:blipFill>
        <p:spPr>
          <a:xfrm>
            <a:off x="5867280" y="2590920"/>
            <a:ext cx="2971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Acinic cell carcinoma</a:t>
            </a:r>
            <a:br>
              <a:rPr sz="3600"/>
            </a:b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Low gra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Slow grow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10% of malignant parotid tumou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Lymph node mets 1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Aggressive tumou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Radical parotidectomy is necessary if parotid gland is involve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Acinar cell carcinoma-Bahrani"/>
          <p:cNvPicPr/>
          <p:nvPr/>
        </p:nvPicPr>
        <p:blipFill>
          <a:blip r:embed="rId1"/>
          <a:stretch/>
        </p:blipFill>
        <p:spPr>
          <a:xfrm>
            <a:off x="6400800" y="2286000"/>
            <a:ext cx="251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Squamous cell carcinoma of Salivary gland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Infrequent occurrence 1% - 5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May have skin infilt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Total radical parotidectom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-epithelial Salivary gland Tumor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ignant lymphom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classified tum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04920" y="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Classification of th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ivary gland tumors based o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enign S.Gland tumo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(seldom recurrent)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 Adenolymphoma (Warthins Tum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ii) Oxyphilic adenoma (Oncocyto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i) Other types of Monomorphic aden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228600" y="2286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Classification of th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ivary gland tumors based o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enign S.Gland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umo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(often recurr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    Pleomorphic adenoma (mixed tum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ii)   Mucoepidermoid tumor ( low-gra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i)  Acinic cell tumor (sa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vary Gland Disease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ctional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bstructive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ectious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oplastic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damanwr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438280"/>
            <a:ext cx="3081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2666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unctional Disorde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alorrhe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Increase in saliva flow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) Psych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i) mental retard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ii) certain neurological disea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v) rab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v) mercery poiso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erostomia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Decrease in saliva flow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mps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joegrens syndrom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p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-irradiation treat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ctional Disorders of the Salivary Gland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(Sjogren</a:t>
            </a: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s Syndrome)</a:t>
            </a:r>
            <a:br>
              <a:rPr sz="3200"/>
            </a:b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Triad of dry eyes, dry mouth, dry joi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Autoimmune disor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Lymphocytic infiltration of the salivary gland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20:53:58Z</dcterms:created>
  <dc:creator>Microsoft Office User</dc:creator>
  <dc:description/>
  <dc:language>en-US</dc:language>
  <cp:lastModifiedBy>Hesham Almoallim</cp:lastModifiedBy>
  <dcterms:modified xsi:type="dcterms:W3CDTF">2015-10-02T14:06:44Z</dcterms:modified>
  <cp:revision>35</cp:revision>
  <dc:subject/>
  <dc:title>Salivary Gland Diseases</dc:title>
</cp:coreProperties>
</file>