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DCA-05DC-425A-A22F-4AA5654C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3D3-76F5-459D-945A-DB84073C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CEA0-065B-46E7-A91B-12AFF0BB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095-DC39-45E2-90C5-5791E489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BCC4-B2E9-4AE1-B9EC-976066A7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5C7F-DAFD-4252-BB8F-DA484E77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F0A9-C8D5-4D75-AD4C-CCAAE5E0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EF8D-2AF0-4080-AA79-D20C0C21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7CC5-40FD-4055-9950-AE91CB04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2F53-8D9B-495B-9A08-E085B22A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846A-552E-4D44-BB51-8A2667ED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BACC-AC43-44A0-872D-B5F842B8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32A6-5CAB-4109-8D85-9323BB9E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162A-FBBF-44E9-A93B-D3A658FC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434C-69C0-4387-AD51-38FBFFED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8026-99FF-400B-B6A2-35128510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2573-C83F-4C28-9A73-1318C7C8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7085-7806-48A6-847A-4E07CA03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973-B265-40C2-89CF-796CFB8E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D1CC-B775-4D69-B049-E1E461D7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5C5-8463-44EA-A344-7AC55A0C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3DEB-CD7C-4138-B8B5-929A93C2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AE1-A3E3-4EC4-A891-A591DF2C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258-5884-400D-8C89-ED58D971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m/imgres?imgurl=http://www.apionet.or.jp/~yoishizu/Jpeg/ranula.JPG&amp;imgrefurl=http://www.apionet.or.jp/~yoishizu/Lec/Lec35.html&amp;h=354&amp;w=236&amp;sz=13&amp;tbnid=PczZqWvFKsimaM:&amp;tbnh=117&amp;tbnw=78&amp;hl=en&amp;start=3&amp;prev=/images%3Fq%3Dranula%26svnum%3D10%26hl%3Den%26lr%3D%26safe%3Dactive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rmc.rochester.edu/smd/Rad/neuroimages/sialonew.jpg&amp;imgrefurl=http://www.urmc.rochester.edu/smd/Rad/orderneuro.htm&amp;h=225&amp;w=350&amp;sz=36&amp;tbnid=quZ6AvAujsytBM:&amp;tbnh=74&amp;tbnw=116&amp;hl=en&amp;start=2&amp;prev=/images%3Fq%3DSIALogram%26svnum%3D10%26hl%3Den%26lr%3D%26safe%3Dactiv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othn.iusm.iu.edu/salivaryglandendoscopy/DH000171.jpg&amp;imgrefurl=http://othn.iusm.iu.edu/salivaryglandendoscopy/radiographic_photo_5.html&amp;h=2128&amp;w=2832&amp;sz=1297&amp;tbnid=7JvVOEbgacIVgM:&amp;tbnh=112&amp;tbnw=150&amp;hl=en&amp;start=8&amp;prev=/images%3Fq%3DSIALogram%26svnum%3D10%26hl%3Den%26lr%3D%26safe%3Dactive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images.google.com/imgres?imgurl=http://scw.asahi-u.ac.jp/~kawamata/jpg/sialo2.jpg&amp;imgrefurl=http://scw.asahi-u.ac.jp/~kawamata/teach2.html&amp;h=328&amp;w=640&amp;sz=29&amp;tbnid=uSRCcfOpEuYZGM:&amp;tbnh=69&amp;tbnw=135&amp;hl=en&amp;start=9&amp;prev=/images%3Fq%3Dsialolithiasis%26svnum%3D10%26hl%3Den%26lr%3D%26safe%3Dactive%26sa%3DN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ature.com/bdj/journal/v193/n2/images/4801491f2.jpg&amp;imgrefurl=http://www.nature.com/bdj/journal/v193/n2/fig_tab/4801491f2.htm&amp;h=305&amp;w=400&amp;sz=26&amp;tbnid=7x1HTW0Lju5IlM:&amp;tbnh=91&amp;tbnw=120&amp;hl=en&amp;start=18&amp;prev=/images%3Fq%3Dsialolithiasis%26svnum%3D10%26hl%3Den%26lr%3D%26safe%3Dactive%26sa%3DN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www.nature.com/bdj/journal/v193/n2/images/4801491f3.jpg&amp;imgrefurl=http://www.nature.com/bdj/journal/v193/n2/fig_tab/4801491f3.htm&amp;h=207&amp;w=400&amp;sz=31&amp;tbnid=_Zs7INRWGIIJTM:&amp;tbnh=62&amp;tbnw=120&amp;hl=en&amp;start=17&amp;prev=/images%3Fq%3Dsialolithiasis%26svnum%3D10%26hl%3Den%26lr%3D%26safe%3Dactive%26sa%3DN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thn.iusm.iu.edu/salivaryglandendoscopy/DH000171.jpg&amp;imgrefurl=http://othn.iusm.iu.edu/salivaryglandendoscopy/radiographic_photo_5.html&amp;h=2128&amp;w=2832&amp;sz=1297&amp;tbnid=7JvVOEbgacIVgM:&amp;tbnh=112&amp;tbnw=150&amp;hl=en&amp;start=8&amp;prev=/images%3Fq%3DSIALogram%26svnum%3D10%26hl%3Den%26lr%3D%26safe%3Dactive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dentistry.ouhsc.edu/intranet-web/Courses/OD8502/images/msalivaryglands.JPEG&amp;imgrefurl=http://dentistry.ouhsc.edu/intranet-web/Courses/OD8502/msg.html&amp;h=201&amp;w=298&amp;sz=9&amp;tbnid=Kbng9gwvSruM2M:&amp;tbnh=74&amp;tbnw=111&amp;hl=en&amp;start=64&amp;prev=/images%3Fq%3Dsalivary%2Bglands%26start%3D60%26svnum%3D10%26hl%3Den%26lr%3D%26safe%3Dactive%26sa%3D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merck.com/media/mmhe2/figures/fg111_1.gif&amp;imgrefurl=http://www.merck.com/mmhe/sec08/ch111/ch111a.html&amp;h=233&amp;w=210&amp;sz=8&amp;tbnid=3p4U90bqtPs7eM:&amp;tbnh=104&amp;tbnw=93&amp;hl=en&amp;start=1&amp;prev=/images%3Fq%3Dsalivary%2Bglands%26svnum%3D10%26hl%3Den%26lr%3D%26safe%3Dactive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stickler.org.uk/Images/Fig%25209%2520-%2520High%2520Arch%2520Palate.jpg&amp;imgrefurl=http://www.stickler.org.uk/professionals.htm&amp;h=542&amp;w=791&amp;sz=38&amp;tbnid=Fwn_3IzKklz1QM:&amp;tbnh=96&amp;tbnw=141&amp;hl=en&amp;start=11&amp;prev=/images%3Fq%3DPALATE%26svnum%3D10%26hl%3Den%26lr%3D%26safe%3Dactive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entistry.leeds.ac.uk/OROFACE/PAGES/damanwr5.gif&amp;imgrefurl=http://www.dentistry.leeds.ac.uk/OROFACE/PAGES/chapt7.html&amp;h=806&amp;w=796&amp;sz=21&amp;tbnid=wwjKWNerCl7XpM:&amp;tbnh=142&amp;tbnw=140&amp;hl=en&amp;start=14&amp;prev=/images%3Fq%3Dsalivary%2Bglands%26svnum%3D10%26hl%3Den%26lr%3D%26safe%3Dactiv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alivary Gland Diseases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2438280"/>
            <a:ext cx="624852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52280"/>
            <a:ext cx="81532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unctional Disorders of th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alivary Gland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ucocel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ary to traum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70% occur in lower li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xcisional biopsy usually curativ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Salivary gland-Minor-Mucus retention cyst"/>
          <p:cNvPicPr/>
          <p:nvPr/>
        </p:nvPicPr>
        <p:blipFill>
          <a:blip r:embed="rId1"/>
          <a:stretch/>
        </p:blipFill>
        <p:spPr>
          <a:xfrm>
            <a:off x="1066680" y="4059360"/>
            <a:ext cx="3429000" cy="2417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97Dec"/>
          <p:cNvPicPr/>
          <p:nvPr/>
        </p:nvPicPr>
        <p:blipFill>
          <a:blip r:embed="rId2"/>
          <a:stretch/>
        </p:blipFill>
        <p:spPr>
          <a:xfrm>
            <a:off x="5105520" y="4056120"/>
            <a:ext cx="350496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unctional Disorders of the Salivary Gland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Ranula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blingual salivary gland mucocel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eatment should include removal of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Sublingual glan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Salivary gland-Sublingual-Ranula"/>
          <p:cNvPicPr/>
          <p:nvPr/>
        </p:nvPicPr>
        <p:blipFill>
          <a:blip r:embed="rId1"/>
          <a:stretch/>
        </p:blipFill>
        <p:spPr>
          <a:xfrm>
            <a:off x="914400" y="4476600"/>
            <a:ext cx="2514600" cy="1944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ranul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4645080"/>
            <a:ext cx="213336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0" y="2666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bstructive Disorders of the Salivary Glan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bstructive Disorders of the Salivary Gland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struction to the flow of saliva via the salivary duct can occur due to the presence of salivary gland stone (Sialolith)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bstruction can also secondary to the stricture (Narrowing) of the salivary gland duct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sialone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4343400"/>
            <a:ext cx="3504960" cy="2236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DH00017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1143000"/>
            <a:ext cx="34290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bstructive Disorders of the Salivary Gland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ialolithias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Salivary gland stone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2% occur in submandibular glan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6% in parotid glan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ultiple occurrence in same gland is comm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6" descr="Submandibular stone-OPG"/>
          <p:cNvPicPr/>
          <p:nvPr/>
        </p:nvPicPr>
        <p:blipFill>
          <a:blip r:embed="rId1"/>
          <a:stretch/>
        </p:blipFill>
        <p:spPr>
          <a:xfrm>
            <a:off x="2209680" y="4114800"/>
            <a:ext cx="4876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ubmandibular Gland 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alolithiasi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iagnosis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in and sudden enlargement of gland while eat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7c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Palpation of stone in the submandibular duc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cclusal radiograph (80%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alogra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Salivary gland-Pleomrphic adenoma-submandibular gld- guard-profile1"/>
          <p:cNvPicPr/>
          <p:nvPr/>
        </p:nvPicPr>
        <p:blipFill>
          <a:blip r:embed="rId1"/>
          <a:stretch/>
        </p:blipFill>
        <p:spPr>
          <a:xfrm>
            <a:off x="609480" y="4114800"/>
            <a:ext cx="3581640" cy="2347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sialo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4191120"/>
            <a:ext cx="4114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ubmandibular Gland 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alolithiasi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reatmen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one can be removed transorally if in the duct and easily palpabl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5" descr="Figure 1"/>
          <p:cNvPicPr/>
          <p:nvPr/>
        </p:nvPicPr>
        <p:blipFill>
          <a:blip r:embed="rId1"/>
          <a:stretch/>
        </p:blipFill>
        <p:spPr>
          <a:xfrm>
            <a:off x="228600" y="4114800"/>
            <a:ext cx="2590920" cy="2209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tests2"/>
          <p:cNvPicPr/>
          <p:nvPr/>
        </p:nvPicPr>
        <p:blipFill>
          <a:blip r:embed="rId2"/>
          <a:stretch/>
        </p:blipFill>
        <p:spPr>
          <a:xfrm>
            <a:off x="3048120" y="4114800"/>
            <a:ext cx="2590560" cy="220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Figure 3"/>
          <p:cNvPicPr/>
          <p:nvPr/>
        </p:nvPicPr>
        <p:blipFill>
          <a:blip r:embed="rId3"/>
          <a:stretch/>
        </p:blipFill>
        <p:spPr>
          <a:xfrm>
            <a:off x="5791320" y="4114800"/>
            <a:ext cx="2743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ubmandibular Gland 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alolithiasi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reatmen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one can be removed transorally if in the duct and easily palpabl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4801491f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938760"/>
            <a:ext cx="3276720" cy="2484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4801491f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4560840"/>
            <a:ext cx="30481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15228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ubmandibular Gland 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alolithiasi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reatme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the stone is inside the gland and therefore damaging the gland, then the whole gland should be removed under G.A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Submandibular salivary gland-specimen"/>
          <p:cNvPicPr/>
          <p:nvPr/>
        </p:nvPicPr>
        <p:blipFill>
          <a:blip r:embed="rId1"/>
          <a:stretch/>
        </p:blipFill>
        <p:spPr>
          <a:xfrm>
            <a:off x="5029200" y="3886200"/>
            <a:ext cx="3352680" cy="2519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Benign tumour-Submandibular gland"/>
          <p:cNvPicPr/>
          <p:nvPr/>
        </p:nvPicPr>
        <p:blipFill>
          <a:blip r:embed="rId2"/>
          <a:stretch/>
        </p:blipFill>
        <p:spPr>
          <a:xfrm>
            <a:off x="914400" y="3919680"/>
            <a:ext cx="342900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arotid Gland -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alolithiasi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iagnosi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ased on history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welling during mea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imanual palpation of painful glan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0% non-radiopaqu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st  parotid stones are multip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alogra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5" descr="acces parotid"/>
          <p:cNvPicPr/>
          <p:nvPr/>
        </p:nvPicPr>
        <p:blipFill>
          <a:blip r:embed="rId1"/>
          <a:stretch/>
        </p:blipFill>
        <p:spPr>
          <a:xfrm>
            <a:off x="1066680" y="4452840"/>
            <a:ext cx="251460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glands_of_the_head"/>
          <p:cNvPicPr/>
          <p:nvPr/>
        </p:nvPicPr>
        <p:blipFill>
          <a:blip r:embed="rId1"/>
          <a:stretch/>
        </p:blipFill>
        <p:spPr>
          <a:xfrm>
            <a:off x="2209680" y="1143000"/>
            <a:ext cx="4572000" cy="5181480"/>
          </a:xfrm>
          <a:prstGeom prst="rect">
            <a:avLst/>
          </a:prstGeom>
          <a:ln w="0">
            <a:noFill/>
          </a:ln>
        </p:spPr>
      </p:pic>
      <p:sp>
        <p:nvSpPr>
          <p:cNvPr id="92" name="Line 5"/>
          <p:cNvSpPr/>
          <p:nvPr/>
        </p:nvSpPr>
        <p:spPr>
          <a:xfrm flipV="1">
            <a:off x="2286000" y="2971440"/>
            <a:ext cx="205740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968040" y="3427560"/>
            <a:ext cx="123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ot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 flipH="1" flipV="1">
            <a:off x="5334120" y="4114800"/>
            <a:ext cx="457200" cy="1295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5447160" y="5506920"/>
            <a:ext cx="24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bmandibul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 flipH="1" flipV="1">
            <a:off x="6095880" y="3809880"/>
            <a:ext cx="609840" cy="152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6871680" y="3830760"/>
            <a:ext cx="182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blingu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228600" y="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livary Glands Over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ialogram</a:t>
            </a:r>
            <a:br>
              <a:rPr sz="3600"/>
            </a:b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5" name="Picture 9" descr="DH0001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3657600"/>
            <a:ext cx="3200400" cy="2467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1"/>
          <p:cNvSpPr/>
          <p:nvPr/>
        </p:nvSpPr>
        <p:spPr>
          <a:xfrm>
            <a:off x="228600" y="179856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sialogram is a dye investigation of a salivary gland.  It is carried out to look in detail at the larger salivary glands, namely the parotid or submandibular gland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dvanced Radiographic Investigation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ain and contrast-enhanced axial CT image of parotid glands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iffuse enhancement of the left parotid gland ;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sialadenitis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5" descr="gsialolithiasis_fig1a"/>
          <p:cNvPicPr/>
          <p:nvPr/>
        </p:nvPicPr>
        <p:blipFill>
          <a:blip r:embed="rId1"/>
          <a:stretch/>
        </p:blipFill>
        <p:spPr>
          <a:xfrm>
            <a:off x="1523880" y="4343400"/>
            <a:ext cx="2073240" cy="2057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gsialolithiasis_fig1b"/>
          <p:cNvPicPr/>
          <p:nvPr/>
        </p:nvPicPr>
        <p:blipFill>
          <a:blip r:embed="rId2"/>
          <a:stretch/>
        </p:blipFill>
        <p:spPr>
          <a:xfrm>
            <a:off x="5638680" y="4352760"/>
            <a:ext cx="22100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arotid Gland -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alolithiasi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Treatme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ones in extraglandular portion of duct can be removed transorall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raglandular stones removed  from extraoral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pproach by Superficial Parotidectomy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5Surg"/>
          <p:cNvPicPr/>
          <p:nvPr/>
        </p:nvPicPr>
        <p:blipFill>
          <a:blip r:embed="rId1"/>
          <a:stretch/>
        </p:blipFill>
        <p:spPr>
          <a:xfrm>
            <a:off x="457200" y="4572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6Surg"/>
          <p:cNvPicPr/>
          <p:nvPr/>
        </p:nvPicPr>
        <p:blipFill>
          <a:blip r:embed="rId2"/>
          <a:stretch/>
        </p:blipFill>
        <p:spPr>
          <a:xfrm>
            <a:off x="3352680" y="4554360"/>
            <a:ext cx="2514600" cy="2303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7Surg"/>
          <p:cNvPicPr/>
          <p:nvPr/>
        </p:nvPicPr>
        <p:blipFill>
          <a:blip r:embed="rId3"/>
          <a:stretch/>
        </p:blipFill>
        <p:spPr>
          <a:xfrm>
            <a:off x="6553080" y="4572000"/>
            <a:ext cx="2100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304920" y="2514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fectious Disorders of the Salivary Glan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cute Sialadenitis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Infectiou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tiology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ral -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 Mumps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cteria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iral-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ute Sialadeniti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lang="en-IE" sz="3600" spc="-1" strike="noStrike">
                <a:solidFill>
                  <a:srgbClr val="ff3300"/>
                </a:solidFill>
                <a:latin typeface="Times New Roman"/>
              </a:rPr>
              <a:t>Mumps)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Acute painful parotiti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00"/>
                </a:solidFill>
                <a:latin typeface="Times New Roman"/>
              </a:rPr>
              <a:t>Viral in aetiolog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Self limiti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acterial 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cute Sialadeniti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gns and symptom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welling, xerostomia, failure of secretion with ascending infec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Staph aureus, Strep pyogenes, most common infective organism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ainful swelling parotid gland, overlying skin red, shiny &amp; tense, pus from parotid duc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if involving the parotid gland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4" descr="Parotid Abscess"/>
          <p:cNvPicPr/>
          <p:nvPr/>
        </p:nvPicPr>
        <p:blipFill>
          <a:blip r:embed="rId1"/>
          <a:stretch/>
        </p:blipFill>
        <p:spPr>
          <a:xfrm>
            <a:off x="6019920" y="4813200"/>
            <a:ext cx="25146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acterial 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cute Sialadeniti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reatme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ulture pus for Sensitivi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cribe appropriate  antibioti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upportive therap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id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livary stimula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acterial 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ronic Sialadeniti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hronic recurrent parotiti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ccurs commonly in patients of 3-6 Years age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aused by Strep virida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ay spontaneously heal during  puber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ecrotizing Sialometaplasia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nign inflammatory condi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sually involves the minor salivary gland of hard palat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ll often simulate a malignant condi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definite etiolog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-3 cm  ulcer heals spontaneousl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9" descr="slide45"/>
          <p:cNvPicPr/>
          <p:nvPr/>
        </p:nvPicPr>
        <p:blipFill>
          <a:blip r:embed="rId1"/>
          <a:stretch/>
        </p:blipFill>
        <p:spPr>
          <a:xfrm>
            <a:off x="3352680" y="4876920"/>
            <a:ext cx="264816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304920" y="228600"/>
            <a:ext cx="8229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alivary glands - Typ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7200" y="1219320"/>
            <a:ext cx="830592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  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3 Major Salivary Gl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Osaka"/>
              </a:rPr>
              <a:t>Parot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ff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imes New Roman"/>
                <a:ea typeface="Osaka"/>
              </a:rPr>
              <a:t>Submandib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Osaka"/>
              </a:rPr>
              <a:t>Sublingual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  <a:ea typeface="Osak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Osaka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Osaka"/>
              </a:rPr>
              <a:t>Plus man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Osaka"/>
              </a:rPr>
              <a:t>accessory gland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Osaka"/>
              </a:rPr>
              <a:t> in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Osaka"/>
              </a:rPr>
              <a:t>lip and palatal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o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7" descr="msalivaryglan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5029200"/>
            <a:ext cx="2362320" cy="1574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fg111_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1676520"/>
            <a:ext cx="2043000" cy="2209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Fig%25209%2520-%2520High%2520Arch%2520Palat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638680" y="5181480"/>
            <a:ext cx="20574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228600" y="23623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eoplastic Disorders of the Salivary Gl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alivary Gland Tumor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 % occur in parotid glan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-10 % occur in the sub-mandibular glan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 % occur in sublingual glan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-15% occur in the minor salivary glan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enign Salivary Gland Tumor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Adenomas (Epithelial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eomorphic adenom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onomorphic adenom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enolymphom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xyphilic  adenom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ther typ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97Oct"/>
          <p:cNvPicPr/>
          <p:nvPr/>
        </p:nvPicPr>
        <p:blipFill>
          <a:blip r:embed="rId1"/>
          <a:stretch/>
        </p:blipFill>
        <p:spPr>
          <a:xfrm>
            <a:off x="5257800" y="2340000"/>
            <a:ext cx="32767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eomorphic Adenoma (Mixed Tumor)</a:t>
            </a: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85800" y="990720"/>
            <a:ext cx="5334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Commonest tumour (53% - 71%) of the salivary gla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Tumor is slow growing, painless, solitary, firm, smooth, moveable without nerve invol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Both mesenchymal/epithelial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3300"/>
                </a:solidFill>
                <a:latin typeface="Times New Roman"/>
              </a:rPr>
              <a:t>Investigations include FNA, CT, M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Superficial parotidectomy is the procedure that is commonly per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11" descr="parotidec"/>
          <p:cNvPicPr/>
          <p:nvPr/>
        </p:nvPicPr>
        <p:blipFill>
          <a:blip r:embed="rId1"/>
          <a:stretch/>
        </p:blipFill>
        <p:spPr>
          <a:xfrm>
            <a:off x="6705720" y="4343400"/>
            <a:ext cx="1904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nomorphic adenoma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haracteristic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sts of a single epithelial cell type with a dense fibrous connective tissue capsule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wo typ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Basal cell adenom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Canalicular adenom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7" descr="Canalicular%2520adenoma"/>
          <p:cNvPicPr/>
          <p:nvPr/>
        </p:nvPicPr>
        <p:blipFill>
          <a:blip r:embed="rId1"/>
          <a:stretch/>
        </p:blipFill>
        <p:spPr>
          <a:xfrm>
            <a:off x="5257800" y="3795840"/>
            <a:ext cx="350532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arthins Tumor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Warthin’s tumour is also called as papillary cystadenoma lymphomatosum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6% - 10%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Times New Roman"/>
              </a:rPr>
              <a:t>Benign, bilateral, parotid gland onl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Older age gro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Superficial location, therefore in most cases Superficial parotidectomy is performed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Times New Roman"/>
              </a:rPr>
              <a:t>Malignant potential non exist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0" y="281952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IE" sz="3600" spc="-1" strike="noStrike">
                <a:solidFill>
                  <a:srgbClr val="ffff00"/>
                </a:solidFill>
                <a:latin typeface="Times New Roman"/>
              </a:rPr>
              <a:t>Malignant Tumours of the Salivary Glan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00"/>
                </a:solidFill>
                <a:latin typeface="Times New Roman"/>
              </a:rPr>
              <a:t>Malignant Tumours of the Salivary Glands</a:t>
            </a:r>
            <a:r>
              <a:rPr b="1" lang="en-IE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Times New Roman"/>
              </a:rPr>
              <a:t>Locally aggressive in natu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Times New Roman"/>
              </a:rPr>
              <a:t>Some grow along neural pathways, may access skull base and brain eventuall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00"/>
                </a:solidFill>
                <a:latin typeface="Times New Roman"/>
              </a:rPr>
              <a:t>Also lymphatic and haematogenous spread of tumo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cidence of Salivary Gland Malignancy According to Site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blingual 70%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ubmandibular 40%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arotid 20 %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nical Classification of Malignant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alivary gland Tumor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i)  Mucoepidermoid tumor (high-grade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ii) Carcinoma in pleomorphic adenom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iv) Adenoid cyctic carcinom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v)  Acinic cell tum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vi) Squamous cell carcinom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"/>
          <p:cNvGrpSpPr/>
          <p:nvPr/>
        </p:nvGrpSpPr>
        <p:grpSpPr>
          <a:xfrm>
            <a:off x="0" y="0"/>
            <a:ext cx="8686800" cy="5769360"/>
            <a:chOff x="0" y="0"/>
            <a:chExt cx="8686800" cy="5769360"/>
          </a:xfrm>
        </p:grpSpPr>
        <p:sp>
          <p:nvSpPr>
            <p:cNvPr id="105" name="Rectangle 5"/>
            <p:cNvSpPr/>
            <p:nvPr/>
          </p:nvSpPr>
          <p:spPr>
            <a:xfrm>
              <a:off x="76320" y="874800"/>
              <a:ext cx="2666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PROTEC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2760840" y="0"/>
              <a:ext cx="3639960" cy="52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52560"/>
                  <a:tab algn="l" pos="1905120"/>
                  <a:tab algn="l" pos="2857680"/>
                  <a:tab algn="l" pos="3809880"/>
                  <a:tab algn="l" pos="4762440"/>
                  <a:tab algn="l" pos="5715000"/>
                  <a:tab algn="l" pos="6667560"/>
                  <a:tab algn="l" pos="7620120"/>
                  <a:tab algn="l" pos="8572680"/>
                  <a:tab algn="l" pos="9524880"/>
                  <a:tab algn="l" pos="1047744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SALIVA - Funct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0" y="2386800"/>
              <a:ext cx="2666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cc"/>
                  </a:solidFill>
                  <a:latin typeface="Times New Roman"/>
                </a:rPr>
                <a:t>ALIMENTA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2666880" y="2306880"/>
              <a:ext cx="4648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</a:rPr>
                <a:t>Food approval: taste,  textu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Rectangle 9"/>
            <p:cNvSpPr/>
            <p:nvPr/>
          </p:nvSpPr>
          <p:spPr>
            <a:xfrm>
              <a:off x="2666880" y="2784240"/>
              <a:ext cx="2895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ff"/>
                  </a:solidFill>
                  <a:latin typeface="Times New Roman"/>
                </a:rPr>
                <a:t>Mast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2666880" y="3738960"/>
              <a:ext cx="2895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ff"/>
                  </a:solidFill>
                  <a:latin typeface="Times New Roman"/>
                </a:rPr>
                <a:t>Swallow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Rectangle 11"/>
            <p:cNvSpPr/>
            <p:nvPr/>
          </p:nvSpPr>
          <p:spPr>
            <a:xfrm>
              <a:off x="2666880" y="3261600"/>
              <a:ext cx="2895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cc"/>
                  </a:solidFill>
                  <a:latin typeface="Times New Roman"/>
                </a:rPr>
                <a:t>Diges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0" y="4137120"/>
              <a:ext cx="2362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ffff"/>
                  </a:solidFill>
                  <a:latin typeface="Times New Roman"/>
                </a:rPr>
                <a:t>OTH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>
              <a:off x="2590920" y="4218480"/>
              <a:ext cx="236196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cc"/>
                  </a:solidFill>
                  <a:latin typeface="Times New Roman"/>
                </a:rPr>
                <a:t>Vocalization </a:t>
              </a:r>
              <a:r>
                <a:rPr b="0" lang="en-US" sz="2400" spc="-1" strike="noStrike">
                  <a:solidFill>
                    <a:srgbClr val="99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ffff"/>
                  </a:solidFill>
                  <a:latin typeface="Times New Roman"/>
                </a:rPr>
                <a:t>Excretion ?</a:t>
              </a:r>
              <a:r>
                <a:rPr b="0" lang="en-US" sz="2400" spc="-1" strike="noStrike">
                  <a:solidFill>
                    <a:srgbClr val="99ffff"/>
                  </a:solidFill>
                  <a:latin typeface="Arial"/>
                  <a:ea typeface="Arial"/>
                </a:rPr>
                <a:t>    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Rectangle 14"/>
            <p:cNvSpPr/>
            <p:nvPr/>
          </p:nvSpPr>
          <p:spPr>
            <a:xfrm>
              <a:off x="2674800" y="613440"/>
              <a:ext cx="2895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Epithelial lubr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Rectangle 15"/>
            <p:cNvSpPr/>
            <p:nvPr/>
          </p:nvSpPr>
          <p:spPr>
            <a:xfrm>
              <a:off x="2674800" y="1010880"/>
              <a:ext cx="464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2666880" y="1408680"/>
              <a:ext cx="46483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Times New Roman"/>
                </a:rPr>
                <a:t>For tooth: Rinsing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99"/>
                  </a:solidFill>
                  <a:latin typeface="Times New Roman"/>
                </a:rPr>
                <a:t>Pellicle co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5029200" y="3101400"/>
              <a:ext cx="3657600" cy="26679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TERIALS </a:t>
              </a:r>
              <a:r>
                <a:rPr b="0" lang="en-US" sz="2400" spc="-1" strike="noStrike">
                  <a:solidFill>
                    <a:srgbClr val="cc99ff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d60093"/>
                  </a:solidFill>
                  <a:latin typeface="Times New Roman"/>
                </a:rPr>
                <a:t>Water                        Mucins (glycoproteins)</a:t>
              </a:r>
              <a:r>
                <a:rPr b="0" lang="en-US" sz="2400" spc="-1" strike="noStrike">
                  <a:solidFill>
                    <a:srgbClr val="cc99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80"/>
                  </a:solidFill>
                  <a:latin typeface="Times New Roman"/>
                </a:rPr>
                <a:t>Antibodies IgAs</a:t>
              </a:r>
              <a:r>
                <a:rPr b="0" lang="en-US" sz="2400" spc="-1" strike="noStrike">
                  <a:solidFill>
                    <a:srgbClr val="cc99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00"/>
                  </a:solidFill>
                  <a:latin typeface="Times New Roman"/>
                </a:rPr>
                <a:t>Lysozym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cc"/>
                  </a:solidFill>
                  <a:latin typeface="Times New Roman"/>
                </a:rPr>
                <a:t>Amyla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00"/>
                </a:solidFill>
                <a:latin typeface="Times New Roman"/>
              </a:rPr>
              <a:t>Evaluation &amp; Diagnosi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f Malignant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alivary gland Tumor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History &amp; clinical examination, use TNM Classification to stage the canc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3300"/>
                </a:solidFill>
                <a:latin typeface="Times New Roman"/>
              </a:rPr>
              <a:t>Sialography – of no valu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CT scans and MR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CT sialography for retromandibular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/ parapharayngeal les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Times New Roman"/>
              </a:rPr>
              <a:t>Incisional biopsy is </a:t>
            </a:r>
            <a:r>
              <a:rPr b="1" lang="en-IE" sz="2400" spc="-1" strike="noStrike" u="sng">
                <a:solidFill>
                  <a:srgbClr val="ff0000"/>
                </a:solidFill>
                <a:uFillTx/>
                <a:latin typeface="Times New Roman"/>
              </a:rPr>
              <a:t>contraindicat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00"/>
                </a:solidFill>
                <a:uFillTx/>
                <a:latin typeface="Times New Roman"/>
              </a:rPr>
              <a:t>FNA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ucoepidermoid tumor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Commonest malignant tumou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50% of all salivary gland malignanc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3300"/>
                </a:solidFill>
                <a:latin typeface="Times New Roman"/>
              </a:rPr>
              <a:t>Parotid involved in 40% - 50%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75% are low grade &amp; have good prognosi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1 – 5 year survival  85%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Times New Roman"/>
              </a:rPr>
              <a:t>High grade mucoepidermoid carcinomas invade locally, spread regionally &amp; distant metastasi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5 year survival drops 30%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6" descr="lead"/>
          <p:cNvPicPr/>
          <p:nvPr/>
        </p:nvPicPr>
        <p:blipFill>
          <a:blip r:embed="rId1"/>
          <a:stretch/>
        </p:blipFill>
        <p:spPr>
          <a:xfrm>
            <a:off x="6324480" y="1670040"/>
            <a:ext cx="243864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rcinoma in pleomorphic adenoma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Mixed malignant tumou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00"/>
                </a:solidFill>
                <a:latin typeface="Times New Roman"/>
              </a:rPr>
              <a:t>Long standing pleomorphic adenom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Times New Roman"/>
              </a:rPr>
              <a:t>Older age grou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Times New Roman"/>
              </a:rPr>
              <a:t>Worse progno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00"/>
                </a:solidFill>
                <a:latin typeface="Times New Roman"/>
              </a:rPr>
              <a:t>Lymph node metastases 15%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Times New Roman"/>
              </a:rPr>
              <a:t>Distant metastases 30%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Times New Roman"/>
              </a:rPr>
              <a:t>5 year survival 40% - 50%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00"/>
                </a:solidFill>
                <a:latin typeface="Times New Roman"/>
              </a:rPr>
              <a:t>15% year survival 20%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denoid cystic carcinoma (Cylindroma)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Commonly involves submandibular (35% - 40%), only 7% of parotid malignanc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Times New Roman"/>
              </a:rPr>
              <a:t>Slowly grow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Peri-neural invas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30% lymph node metastasis,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Times New Roman"/>
              </a:rPr>
              <a:t>50% distant metastasi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- 5 year survival 75%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- 10 year survival 30%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Times New Roman"/>
              </a:rPr>
              <a:t>- 20 year survival 13%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4" descr="MA3D14~1"/>
          <p:cNvPicPr/>
          <p:nvPr/>
        </p:nvPicPr>
        <p:blipFill>
          <a:blip r:embed="rId1"/>
          <a:stretch/>
        </p:blipFill>
        <p:spPr>
          <a:xfrm>
            <a:off x="5867280" y="2590920"/>
            <a:ext cx="2971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00"/>
                </a:solidFill>
                <a:latin typeface="Times New Roman"/>
              </a:rPr>
              <a:t>Acinic cell carcinoma</a:t>
            </a:r>
            <a:br>
              <a:rPr sz="3600"/>
            </a:b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Times New Roman"/>
              </a:rPr>
              <a:t>Low gra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3300"/>
                </a:solidFill>
                <a:latin typeface="Times New Roman"/>
              </a:rPr>
              <a:t>Slow grow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00"/>
                </a:solidFill>
                <a:latin typeface="Times New Roman"/>
              </a:rPr>
              <a:t>10% of malignant parotid tumou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Times New Roman"/>
              </a:rPr>
              <a:t>Lymph node mets 10%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3300"/>
                </a:solidFill>
                <a:latin typeface="Times New Roman"/>
              </a:rPr>
              <a:t>Aggressive tumou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00"/>
                </a:solidFill>
                <a:latin typeface="Times New Roman"/>
              </a:rPr>
              <a:t>Radical parotidectomy is necessary if parotid gland is involved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4" descr="Acinar cell carcinoma-Bahrani"/>
          <p:cNvPicPr/>
          <p:nvPr/>
        </p:nvPicPr>
        <p:blipFill>
          <a:blip r:embed="rId1"/>
          <a:stretch/>
        </p:blipFill>
        <p:spPr>
          <a:xfrm>
            <a:off x="6400800" y="2286000"/>
            <a:ext cx="25146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00"/>
                </a:solidFill>
                <a:latin typeface="Times New Roman"/>
              </a:rPr>
              <a:t>Squamous cell carcinoma of Salivary gland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Times New Roman"/>
              </a:rPr>
              <a:t>Infrequent occurrence 1% - 5%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00"/>
                </a:solidFill>
                <a:latin typeface="Times New Roman"/>
              </a:rPr>
              <a:t>May have skin infiltr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Times New Roman"/>
              </a:rPr>
              <a:t>Total radical parotidectom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-epithelial Salivary gland Tumor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lignant lymphom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nclassified tumor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304920" y="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nical Classification of th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livary gland tumors based on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Recur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enign S.Gland tumor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 (seldom recurrent)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) Adenolymphoma (Warthins Tum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ii) Oxyphilic adenoma (Oncocytom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iii) Other types of Monomorphic aden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228600" y="2286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nical Classification of th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livary gland tumors based on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Recur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enign S.Gland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umor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 (often recurr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)    Pleomorphic adenoma (mixed tum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ii)   Mucoepidermoid tumor ( low-gra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iii)  Acinic cell tumor (sa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alivary Gland Diseases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unctional disorder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bstructive disorder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ectious disorder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eoplastic disorder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4" descr="damanwr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2438280"/>
            <a:ext cx="30816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26668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unctional Disorders of the Salivary Glan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unctional Disorders of th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alivary Gland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ialorrhe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Increase in saliva flow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i) Psycho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ii) mental retard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iii) certain neurological diseas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iv) rab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v) mercery poison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unctional Disorders of th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alivary Gland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Xerostomia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Decrease in saliva flow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-660240">
              <a:spcBef>
                <a:spcPts val="700"/>
              </a:spcBef>
              <a:buClr>
                <a:srgbClr val="00ffcc"/>
              </a:buClr>
              <a:buSzPct val="80000"/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mps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-660240">
              <a:spcBef>
                <a:spcPts val="700"/>
              </a:spcBef>
              <a:buClr>
                <a:srgbClr val="00ffcc"/>
              </a:buClr>
              <a:buSzPct val="80000"/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arcoido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-660240">
              <a:spcBef>
                <a:spcPts val="700"/>
              </a:spcBef>
              <a:buClr>
                <a:srgbClr val="00ffcc"/>
              </a:buClr>
              <a:buSzPct val="80000"/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joegrens syndrom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-660240">
              <a:spcBef>
                <a:spcPts val="700"/>
              </a:spcBef>
              <a:buClr>
                <a:srgbClr val="00ffcc"/>
              </a:buClr>
              <a:buSzPct val="80000"/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upu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-660240">
              <a:spcBef>
                <a:spcPts val="700"/>
              </a:spcBef>
              <a:buClr>
                <a:srgbClr val="00ffcc"/>
              </a:buClr>
              <a:buSzPct val="80000"/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t-irradiation treat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unctional Disorders of the Salivary Gland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IE" sz="3200" spc="-1" strike="noStrike">
                <a:solidFill>
                  <a:srgbClr val="ffff00"/>
                </a:solidFill>
                <a:latin typeface="Times New Roman"/>
              </a:rPr>
              <a:t>(Sjogren</a:t>
            </a:r>
            <a:r>
              <a:rPr b="1" lang="en-IE" sz="32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IE" sz="3200" spc="-1" strike="noStrike">
                <a:solidFill>
                  <a:srgbClr val="ffff00"/>
                </a:solidFill>
                <a:latin typeface="Times New Roman"/>
              </a:rPr>
              <a:t>s Syndrome)</a:t>
            </a:r>
            <a:br>
              <a:rPr sz="3200"/>
            </a:b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3300"/>
                </a:solidFill>
                <a:latin typeface="Times New Roman"/>
              </a:rPr>
              <a:t>Triad of dry eyes, dry mouth, dry joi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Times New Roman"/>
              </a:rPr>
              <a:t>Autoimmune disord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00"/>
                </a:solidFill>
                <a:latin typeface="Times New Roman"/>
              </a:rPr>
              <a:t>Lymphocytic infiltration of the salivary gland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20:53:58Z</dcterms:created>
  <dc:creator>Microsoft Office User</dc:creator>
  <dc:description/>
  <dc:language>en-US</dc:language>
  <cp:lastModifiedBy>Hesham Almoallim</cp:lastModifiedBy>
  <dcterms:modified xsi:type="dcterms:W3CDTF">2015-10-02T14:06:44Z</dcterms:modified>
  <cp:revision>35</cp:revision>
  <dc:subject/>
  <dc:title>Salivary Gland Diseases</dc:title>
</cp:coreProperties>
</file>