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803-14B0-4CEC-BBC3-85BCA05D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3C8D-B05F-4483-AD9D-BBF88144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3B7C-DE5D-4AAC-AFF4-4CE73D87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5B3-3977-479B-9FD7-11F024D9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E94-A723-497F-B6C9-CB3A0665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154-F1BD-4B59-B1D3-884266A6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0D9A-FF26-430D-BE8A-E9702F60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5110-FEFC-4DC0-B4C9-102F8CF3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DFF-5387-42BF-B936-D512C7D3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7C7-0DFD-477D-83F8-77F4762A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4136-2241-46D3-9FEF-85AD8440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895-771B-4E82-8008-0F74C601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349A-B6C2-4EB8-BA12-312D463E1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 to Chomsky, human languag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inct characteristic of the mind that belongs exclusively to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un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animal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it that belongs to all species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now a language is to know all of the following items ex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sounds/sign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word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House/, /Bait/, /Jia/, /Maison/ all have the same meaning. This means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sounds and meanings are predeterm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sounds and meanings are ran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sounds and meanings are  consist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sounds and meanings are predic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-glu, moo, meow ar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weird s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in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onomatopoeic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 inanimat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20:03:40Z</dcterms:created>
  <dc:creator>Noorchya Yahya</dc:creator>
  <dc:description/>
  <dc:language>en-US</dc:language>
  <cp:lastModifiedBy>Noorchya Yahya</cp:lastModifiedBy>
  <dcterms:modified xsi:type="dcterms:W3CDTF">2012-09-14T20:21:48Z</dcterms:modified>
  <cp:revision>2</cp:revision>
  <dc:subject/>
  <dc:title>Question 1</dc:title>
</cp:coreProperties>
</file>