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514B-A00F-4014-AA14-D3806781F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1861-327C-415A-8FAE-27E1A4C9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A4D2-DF12-4E57-8ECE-3D4A0738C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60AA-6AE5-4814-9193-58148FE58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36D0-0611-4DBC-B118-CCE69A91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E546-59E3-49F0-AAA3-882B29E3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8864-11EB-4594-A0A0-32B04615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0665-F254-434F-9466-DFC0036A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935C-DEFC-432F-95ED-CE68C6C6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87D2-FB67-48FB-B430-817FEBD5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13EB-D103-4DC3-9CAF-CB617114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5CC6-6E33-4716-8640-D2B85C38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C744-D7E5-45DD-96D9-1E9680961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rding to Chomsky, human language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stinct characteristic of the mind that belongs exclusively to huma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uncomm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animal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it that belongs to all species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know a language is to know all of the following items excep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of sounds/sign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of word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of mean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of phys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House/, /Bait/, /Jia/, /Maison/ all have the same meaning. This means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lationship between sounds and meanings are predeterm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lationship between sounds and meanings are rand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lationship between sounds and meanings are  consist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lationship between sounds and meanings are predic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-glu, moo, meow are c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weird s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inhu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onomatopoeic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 inanimate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20:03:40Z</dcterms:created>
  <dc:creator>Noorchya Yahya</dc:creator>
  <dc:description/>
  <dc:language>en-US</dc:language>
  <cp:lastModifiedBy>Noorchya Yahya</cp:lastModifiedBy>
  <dcterms:modified xsi:type="dcterms:W3CDTF">2012-09-14T20:21:48Z</dcterms:modified>
  <cp:revision>2</cp:revision>
  <dc:subject/>
  <dc:title>Question 1</dc:title>
</cp:coreProperties>
</file>